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148F-D07C-4BA7-8872-87542AB54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93A5-C9FC-4851-830E-9B8AAE4F1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E1E-A7D5-486F-80DA-0C57C5DE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26A-CC21-4BF5-9452-5FBF64D5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FFD-9E97-4301-B471-3E201D1E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4D7-4710-46AF-99F3-A1CD6F1C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39C7-1ED9-4040-A113-1C6343B0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86EF-06CD-4966-ADE0-A0462DF5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4D75-EB21-4921-8E8A-6EC71F94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BED5-6322-465D-B000-37231D5E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905E-602E-4B93-BABC-BF031207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071C-0DC1-4D73-95A1-9279F2F2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F22C-330F-4112-B9A6-36E4FB7A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B32-AC34-4643-8D9F-68D2F7A9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F6F8-C2A6-486E-B5F1-B61DE4B2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C896-353A-451E-BF30-757D3F6F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2E1E-7249-48FA-A7B7-C05BF72A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824C-C02A-40DF-A4DB-802052D6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9776-8BEC-4690-8829-CDBF674D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197-BB2F-4105-AEDE-E702DC4A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CA6-CF18-4A01-BD3A-D5E1420E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3C7-B927-4E67-B7B6-203D0076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114-C05B-4587-8230-134323EB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0CA-556B-4421-AC61-1AC9853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73F-2F9E-45E1-9B5C-282E3BB5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8C6-1C1D-45E5-990B-FA89AAB4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BED5-3083-46A3-9AA4-6778B61FB7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225F-9724-4480-AFEB-EAAEE4D501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AXIMUM FLOW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468880" y="342900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4721"/>
                </a:solidFill>
                <a:latin typeface="Garamond"/>
              </a:rPr>
              <a:t>Ford Fukerson’s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4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45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7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9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1"/>
          <p:cNvSpPr/>
          <p:nvPr/>
        </p:nvSpPr>
        <p:spPr>
          <a:xfrm>
            <a:off x="2438280" y="4724280"/>
            <a:ext cx="5867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path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2"/>
          <p:cNvSpPr/>
          <p:nvPr/>
        </p:nvSpPr>
        <p:spPr>
          <a:xfrm>
            <a:off x="2514600" y="5321160"/>
            <a:ext cx="5791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3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4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5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7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5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47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4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9"/>
          <p:cNvSpPr/>
          <p:nvPr/>
        </p:nvSpPr>
        <p:spPr>
          <a:xfrm>
            <a:off x="2438280" y="4724280"/>
            <a:ext cx="5867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5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5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6095880" y="313992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6095880" y="3124080"/>
            <a:ext cx="536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5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8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Text Box 21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6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7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8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9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0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31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32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3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4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5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6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7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2"/>
          <p:cNvSpPr/>
          <p:nvPr/>
        </p:nvSpPr>
        <p:spPr>
          <a:xfrm>
            <a:off x="2438280" y="4724280"/>
            <a:ext cx="5867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path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3"/>
          <p:cNvSpPr/>
          <p:nvPr/>
        </p:nvSpPr>
        <p:spPr>
          <a:xfrm>
            <a:off x="2514600" y="5486400"/>
            <a:ext cx="5791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55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7"/>
          <p:cNvSpPr/>
          <p:nvPr/>
        </p:nvSpPr>
        <p:spPr>
          <a:xfrm>
            <a:off x="2438280" y="4724280"/>
            <a:ext cx="5867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ny s-t pat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8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1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5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6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49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0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51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52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53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54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5"/>
          <p:cNvSpPr/>
          <p:nvPr/>
        </p:nvSpPr>
        <p:spPr>
          <a:xfrm>
            <a:off x="2438280" y="4724280"/>
            <a:ext cx="5867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path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6"/>
          <p:cNvSpPr/>
          <p:nvPr/>
        </p:nvSpPr>
        <p:spPr>
          <a:xfrm>
            <a:off x="2514600" y="5308560"/>
            <a:ext cx="5791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5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2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4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0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1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2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3"/>
          <p:cNvSpPr/>
          <p:nvPr/>
        </p:nvSpPr>
        <p:spPr>
          <a:xfrm>
            <a:off x="2438280" y="4724280"/>
            <a:ext cx="5867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s-t path in the residual network.  This flow is optim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5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4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50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51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2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3"/>
          <p:cNvSpPr/>
          <p:nvPr/>
        </p:nvSpPr>
        <p:spPr>
          <a:xfrm>
            <a:off x="2438280" y="4724280"/>
            <a:ext cx="5867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the nodes that are reachable from node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5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5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5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5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5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5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54" name="Group 3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755" name="Text Box 4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5"/>
            <p:cNvGrpSpPr/>
            <p:nvPr/>
          </p:nvGrpSpPr>
          <p:grpSpPr>
            <a:xfrm>
              <a:off x="2743200" y="1295280"/>
              <a:ext cx="5334120" cy="3200400"/>
              <a:chOff x="2743200" y="1295280"/>
              <a:chExt cx="5334120" cy="3200400"/>
            </a:xfrm>
          </p:grpSpPr>
          <p:sp>
            <p:nvSpPr>
              <p:cNvPr id="757" name="Text Box 6"/>
              <p:cNvSpPr/>
              <p:nvPr/>
            </p:nvSpPr>
            <p:spPr>
              <a:xfrm>
                <a:off x="7086600" y="1828800"/>
                <a:ext cx="53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Text Box 7"/>
              <p:cNvSpPr/>
              <p:nvPr/>
            </p:nvSpPr>
            <p:spPr>
              <a:xfrm>
                <a:off x="632628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Text Box 8"/>
              <p:cNvSpPr/>
              <p:nvPr/>
            </p:nvSpPr>
            <p:spPr>
              <a:xfrm>
                <a:off x="6095880" y="3124080"/>
                <a:ext cx="53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9"/>
              <p:cNvSpPr/>
              <p:nvPr/>
            </p:nvSpPr>
            <p:spPr>
              <a:xfrm>
                <a:off x="365760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Text Box 10"/>
              <p:cNvSpPr/>
              <p:nvPr/>
            </p:nvSpPr>
            <p:spPr>
              <a:xfrm>
                <a:off x="3276720" y="182880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Text Box 11"/>
              <p:cNvSpPr/>
              <p:nvPr/>
            </p:nvSpPr>
            <p:spPr>
              <a:xfrm>
                <a:off x="3807000" y="310824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12"/>
              <p:cNvSpPr/>
              <p:nvPr/>
            </p:nvSpPr>
            <p:spPr>
              <a:xfrm>
                <a:off x="27432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Oval 13"/>
              <p:cNvSpPr/>
              <p:nvPr/>
            </p:nvSpPr>
            <p:spPr>
              <a:xfrm>
                <a:off x="4038480" y="129528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4"/>
              <p:cNvSpPr/>
              <p:nvPr/>
            </p:nvSpPr>
            <p:spPr>
              <a:xfrm>
                <a:off x="5334120" y="27432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Oval 15"/>
              <p:cNvSpPr/>
              <p:nvPr/>
            </p:nvSpPr>
            <p:spPr>
              <a:xfrm>
                <a:off x="6248520" y="129528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Oval 16"/>
              <p:cNvSpPr/>
              <p:nvPr/>
            </p:nvSpPr>
            <p:spPr>
              <a:xfrm>
                <a:off x="4724280" y="3962520"/>
                <a:ext cx="533520" cy="533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Oval 17"/>
              <p:cNvSpPr/>
              <p:nvPr/>
            </p:nvSpPr>
            <p:spPr>
              <a:xfrm>
                <a:off x="75438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18"/>
              <p:cNvSpPr/>
              <p:nvPr/>
            </p:nvSpPr>
            <p:spPr>
              <a:xfrm>
                <a:off x="3276720" y="3048120"/>
                <a:ext cx="152388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19"/>
              <p:cNvSpPr/>
              <p:nvPr/>
            </p:nvSpPr>
            <p:spPr>
              <a:xfrm flipV="1">
                <a:off x="3048120" y="1599840"/>
                <a:ext cx="99036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20"/>
              <p:cNvSpPr/>
              <p:nvPr/>
            </p:nvSpPr>
            <p:spPr>
              <a:xfrm>
                <a:off x="3200400" y="2819520"/>
                <a:ext cx="22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21"/>
              <p:cNvSpPr/>
              <p:nvPr/>
            </p:nvSpPr>
            <p:spPr>
              <a:xfrm>
                <a:off x="4572000" y="137160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22"/>
              <p:cNvSpPr/>
              <p:nvPr/>
            </p:nvSpPr>
            <p:spPr>
              <a:xfrm>
                <a:off x="5791320" y="28195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23"/>
              <p:cNvSpPr/>
              <p:nvPr/>
            </p:nvSpPr>
            <p:spPr>
              <a:xfrm flipV="1">
                <a:off x="5181480" y="3047760"/>
                <a:ext cx="236232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24"/>
              <p:cNvSpPr/>
              <p:nvPr/>
            </p:nvSpPr>
            <p:spPr>
              <a:xfrm>
                <a:off x="6781680" y="1752480"/>
                <a:ext cx="83844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6" name="Text Box 25"/>
          <p:cNvSpPr/>
          <p:nvPr/>
        </p:nvSpPr>
        <p:spPr>
          <a:xfrm>
            <a:off x="2971800" y="4724280"/>
            <a:ext cx="4495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is the optimal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he Ford-Fulkerson Augmenting Path Algorithm for the Maximum Flow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2971800" y="4724280"/>
            <a:ext cx="4495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original network, plus reversals of the ar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4495680" y="1828800"/>
            <a:ext cx="838440" cy="9144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V="1">
            <a:off x="5791320" y="1752480"/>
            <a:ext cx="609480" cy="10670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7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2971800" y="4724280"/>
            <a:ext cx="4495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original network, and the original residual net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971800" y="4724280"/>
            <a:ext cx="4495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ny s-t path in G(x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6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7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9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6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438280" y="4660920"/>
            <a:ext cx="5867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path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2514600" y="5283360"/>
            <a:ext cx="5791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0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1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2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3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4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5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7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9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0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1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2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3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5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6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7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0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1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2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2438280" y="4724280"/>
            <a:ext cx="5867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9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0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1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2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3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4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8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9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0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2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3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5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7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8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2438280" y="4686480"/>
            <a:ext cx="5867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path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2514600" y="5283360"/>
            <a:ext cx="5791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9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1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d-Fulkerson Max 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5"/>
          <p:cNvSpPr/>
          <p:nvPr/>
        </p:nvSpPr>
        <p:spPr>
          <a:xfrm>
            <a:off x="2438280" y="4724280"/>
            <a:ext cx="5867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ny s-t pat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0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1:02:26Z</dcterms:created>
  <dc:creator>Mayank Joshi</dc:creator>
  <dc:description/>
  <dc:language>en-US</dc:language>
  <cp:lastModifiedBy>dkatsar</cp:lastModifiedBy>
  <dcterms:modified xsi:type="dcterms:W3CDTF">2021-05-20T07:47:19Z</dcterms:modified>
  <cp:revision>8</cp:revision>
  <dc:subject/>
  <dc:title>Ford Fulkerson's Algorithm</dc:title>
</cp:coreProperties>
</file>