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11A1BA-59EB-4348-9399-C9C1F425E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1EED75-CB68-4464-99E0-DE87C4764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E95-8577-4241-8498-FC94D958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0C6-134E-4BC2-A068-553ED97B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F48-173D-4363-8CF1-BB5838CF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1D1-25D7-4DA7-ADB8-408443C6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3DBD-54EC-4C6B-8929-02E3F4A1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014A-D979-4C48-BF92-FC9E151A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6E9A-56CD-477C-9447-655532EF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BA97-9824-42F8-B858-B17E2E48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5855-9B9C-4114-89CA-E7A089C0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5EF9-495E-48CC-9332-2D44DB82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7DC3-6B67-4EA9-9335-47348AA7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9B4-F181-472D-A30A-213D4482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6611-75A6-4AC5-9DC5-EBCB34ED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DE72-1D8D-4CE4-B7C3-2941B135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6479-E66C-40EB-B31F-E20C4B40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7EBA-B5C4-4DA3-A7F5-7BB52AAC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16A8-2781-42EB-B785-7ABB6454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603-571F-40CF-B28C-28A9EF7C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CF9-9B98-486C-80B3-C8746547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9AF-7446-4CCA-B55C-E5CDDE0C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FE2-629C-4495-A1ED-B8E85DEB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F6C-FACD-4D10-9031-01D0210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259-AB64-4988-B074-8BFE1C88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FA5-12D1-44B0-A9F7-67CEDA62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432480"/>
            <a:ext cx="183816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508800"/>
            <a:ext cx="487656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cc"/>
                </a:solidFill>
                <a:latin typeface="Times New Roman"/>
              </a:rPr>
              <a:t>Τμ. ΗΜΜΥ, Πανεπιστήμιο Θεσσαλία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32480"/>
            <a:ext cx="190476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2C47-8D6C-4AD6-B9A4-C1C522C56784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BCDC-EEBC-40C7-A268-BB61514B9E2C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71"/>
          <p:cNvSpPr/>
          <p:nvPr/>
        </p:nvSpPr>
        <p:spPr>
          <a:xfrm>
            <a:off x="709308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4EA9-DE38-40E7-813F-2447F655F785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7617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00400" y="396252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mitrios Katsar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581280" y="4952880"/>
            <a:ext cx="4946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193760" y="6426360"/>
            <a:ext cx="284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cture on Shortest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2133720" y="6508800"/>
            <a:ext cx="487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cc"/>
                </a:solidFill>
                <a:latin typeface="Times New Roman"/>
              </a:rPr>
              <a:t>Τμ. ΗΜΜΥ, Πανεπιστήμιο Θεσσαλία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162920" y="6432480"/>
            <a:ext cx="1904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4F07-47A8-455B-8F57-08C409DFB663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 via Matrix Produc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228600" y="129528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 we want to compute the length of the shortest path between every pair of ver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-pairs shortest path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use Bellman-Ford for all n possible destinations t, this would take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(m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now see one alternative Dynamic-Programming algorithm for this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gorithm uses the matrix representation of graphs and runs in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g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famous algorithm,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yd-Warshall 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es a different way of breaking into subproblems and runs in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you should study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2133720" y="6508800"/>
            <a:ext cx="487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cc"/>
                </a:solidFill>
                <a:latin typeface="Times New Roman"/>
              </a:rPr>
              <a:t>Τμ. ΗΜΜΥ, Πανεπιστήμιο Θεσσαλία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7162920" y="6432480"/>
            <a:ext cx="1904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095E-4DE9-4A13-B820-338132B30A80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 via Matrix Produc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228600" y="1295280"/>
            <a:ext cx="87631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weighted graph G, define the matr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= A(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[i, i]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an edge from i to j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[i, j] = len(i,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(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 and there is no edge from i to j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[i, j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[i; j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ength of the shortest path from i to j using 1 or fewer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following the basic Dynamic Programming idea, can we use this to produce a new matr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[i, j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ength of the shortest path from i to j using 2 or fewer ed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yes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[i, j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i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[i, k] + A[k, j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2133720" y="6508800"/>
            <a:ext cx="487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cc"/>
                </a:solidFill>
                <a:latin typeface="Times New Roman"/>
              </a:rPr>
              <a:t>Τμ. ΗΜΜΥ, Πανεπιστήμιο Θεσσαλία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7162920" y="6432480"/>
            <a:ext cx="1904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F912-0FB9-4B4C-B676-1D4C5F861F18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 via Matrix Produc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228600" y="11430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 what we want to do is compute a matrix produ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= A x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ept we change “*” to “+” and we change “+” to “min” in the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computing the sum of products, we compute the min of s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now want to get the shortest paths that use 4 or fewer edg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o this, we just need to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B x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using our new definition of matrix product). I.e., to get from i to j using 4 or fewer edges, we need to go from i to some intermediate node k using 2 or fewer edges, and then from k to j using 2 or fewer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o solve for all-pairs shortest paths we just need to keep squa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(log 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 Each matrix multiplication takes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 the overall running tim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g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71"/>
          <p:cNvSpPr/>
          <p:nvPr/>
        </p:nvSpPr>
        <p:spPr>
          <a:xfrm>
            <a:off x="709308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4074-6348-4AE2-BB11-B5A1EA3076CA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8120" y="198108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-pairs Shortest Paths via Floyd-Warsha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2133720" y="6508800"/>
            <a:ext cx="487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cc"/>
                </a:solidFill>
                <a:latin typeface="Times New Roman"/>
              </a:rPr>
              <a:t>Τμ. ΗΜΜΥ, Πανεπιστήμιο Θεσσαλία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7162920" y="6432480"/>
            <a:ext cx="1904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6C1A-891A-44E8-A713-9194BDA2038F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 via Floyd-Warshal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228600" y="129528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yd-Warshall algorithm shaves of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(log 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uns in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is that instead of increasing the number of edges in the path, we'll increase the set of vertices we allow as intermediate nodes in the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starting from the same base case (the shortest path that uses no intermediate nodes), we'll then go on to considering the shortest path that's allowed to use node 1 as an intermediate node, the shortest path that's allowed to use {1, 2} as intermediate nodes, and so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2133720" y="6508800"/>
            <a:ext cx="487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cc"/>
                </a:solidFill>
                <a:latin typeface="Times New Roman"/>
              </a:rPr>
              <a:t>Τμ. ΗΜΜΥ, Πανεπιστήμιο Θεσσαλία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7162920" y="6432480"/>
            <a:ext cx="1904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EAB4-7206-473F-83FF-7880CD979A8B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 via Floyd-Warshal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28600" y="129528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yd-Warshall pseudo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// After each iteration of the outside loop, A[i][j] = length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//the shortest i-&gt;j path that's allowed to use vertices in the 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//1..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 = 1 to n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each i,j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[i][j] = min( A[i][j], (A[i][k] + A[k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 you either go through node k or you don'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2133720" y="6508800"/>
            <a:ext cx="487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cc"/>
                </a:solidFill>
                <a:latin typeface="Times New Roman"/>
              </a:rPr>
              <a:t>Τμ. ΗΜΜΥ, Πανεπιστήμιο Θεσσαλία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7162920" y="6432480"/>
            <a:ext cx="1904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27D9-62A6-49A9-B7F3-0128051705A2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ijkstra’s algorith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228600" y="1371600"/>
            <a:ext cx="876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directed graph G = (V, E)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sitive edge weigh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-source shortest path 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solved using Dijkstra's algorithm in time O(mlog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uses a standard heap data-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 fancier data structure called Fibonacci heaps, one can implement Dijkstra's algorithm in O(m + n log 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71"/>
          <p:cNvSpPr/>
          <p:nvPr/>
        </p:nvSpPr>
        <p:spPr>
          <a:xfrm>
            <a:off x="709308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85B5-EF88-40DD-A5E3-E8D5765F283B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8120" y="198108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man-Ford: Dynamic programming algorithm for networks with negative arc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2133720" y="6508800"/>
            <a:ext cx="487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cc"/>
                </a:solidFill>
                <a:latin typeface="Times New Roman"/>
              </a:rPr>
              <a:t>Τμ. ΗΜΜΥ, Πανεπιστήμιο Θεσσαλία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162920" y="6432480"/>
            <a:ext cx="1904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2BEF-7DDD-41E3-A5A9-5DA43D82B7A6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-Ford algorith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228600" y="1260360"/>
            <a:ext cx="876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ynamic Programming algorithm called the Bellman-Ford algorithm for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-si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single-source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est path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assume the graph is represented a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jacency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 array of size n where entry v is the list of arcs exiting from node v (so, given a node, we can _x000c_nd all its neighbors in time proportional to the number of neighb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2133720" y="6508800"/>
            <a:ext cx="487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cc"/>
                </a:solidFill>
                <a:latin typeface="Times New Roman"/>
              </a:rPr>
              <a:t>Τμ. ΗΜΜΥ, Πανεπιστήμιο Θεσσαλία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162920" y="6432480"/>
            <a:ext cx="1904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E77A-CAB8-441B-960F-7538A66C0A9D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-Ford algorith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228600" y="35701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use Dyanamic Programming to find the shortest path from all nodes to 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of all, as usual for Dynamic Programming, let's just compute the lengths of the shortest paths first, and afterwards we can easily reconstruct the paths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483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2133720" y="6508800"/>
            <a:ext cx="487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cc"/>
                </a:solidFill>
                <a:latin typeface="Times New Roman"/>
              </a:rPr>
              <a:t>Τμ. ΗΜΜΥ, Πανεπιστήμιο Θεσσαλία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7162920" y="6432480"/>
            <a:ext cx="1904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028A-ADE6-4EBC-8AA2-424ECF63E950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-Ford algorith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228600" y="1295280"/>
            <a:ext cx="8763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for the algorithm is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node v, find the length of the shortest path to t that uses at most 1 edge, or write dow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re is no such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asy: if v = t we get 0; if (v, t)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then we get len(v, t);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just put dow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suppose for all v we have solved for length of the shortest path to t that uses i-1 or fewer edges. How can we use this to solve for the shortest path that uses i or fewer ed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shortest path from v to t that uses i or fewer edg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first go to some neighbor x of v, and then take the shortes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from x to t that uses i-1 or fewer edges, which we'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eady solved for! So, we just need to take the min over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s x of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r do we need to go?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t most i = n-1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2133720" y="6508800"/>
            <a:ext cx="487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cc"/>
                </a:solidFill>
                <a:latin typeface="Times New Roman"/>
              </a:rPr>
              <a:t>Τμ. ΗΜΜΥ, Πανεπιστήμιο Θεσσαλία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162920" y="6432480"/>
            <a:ext cx="1904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62C8-36DC-4341-B5F0-355043BF7C37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-Ford algorith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228600" y="1295280"/>
            <a:ext cx="87631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lly, here is pseudocode for th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d[v][i] to denote the length of the shortest path from v to t that uses i or fewer edges (if it exists) and infinity otherwise (“d"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"). Also, for convenience we will use a base case of i = 0 rather than i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lman-Ford pseudo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itialize d[v][0] = infinity for v != t. d[t][i]=0 for all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i=1 to n-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each v !=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[v][i] = mi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{over (v,x)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E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{(len(v,x) + d[x][i-1]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each v, output d[v][n-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2133720" y="6508800"/>
            <a:ext cx="487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cc"/>
                </a:solidFill>
                <a:latin typeface="Times New Roman"/>
              </a:rPr>
              <a:t>Τμ. ΗΜΜΥ, Πανεπιστήμιο Θεσσαλία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162920" y="6432480"/>
            <a:ext cx="1904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A059-5D7E-4BA9-B382-120E7FC9E259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lman-Ford algorith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228600" y="129528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running time? The min operation takes time proportional to the out-degree of v. So, the inner for-loop takes time proportional to the sum of the out-degrees of all the nodes, which is O(m). Therefore, the total time is O(m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have only calculated the lengths of the shortest paths; how can we reconstruct the paths themselves? One easy way is (as usual for DP) to work backwards: if you're at vertex v at distance d[v] from t, move to the neighbor x such that d[v] = d[x] + len(v; x). This allows us to reconstruct the path in time O(m + n) which is just a low-order term in the overall runn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71"/>
          <p:cNvSpPr/>
          <p:nvPr/>
        </p:nvSpPr>
        <p:spPr>
          <a:xfrm>
            <a:off x="709308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B099-9356-4339-92A6-F79AAECEA1E5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8120" y="198108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-pairs Shortest Paths via Matrix Product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1:08:37Z</dcterms:created>
  <dc:creator>Dimitrios Katsaros</dc:creator>
  <dc:description/>
  <dc:language>en-US</dc:language>
  <cp:lastModifiedBy>dkatsar</cp:lastModifiedBy>
  <dcterms:modified xsi:type="dcterms:W3CDTF">2022-05-05T06:56:33Z</dcterms:modified>
  <cp:revision>1544</cp:revision>
  <dc:subject/>
  <dc:title>Complex Networks cou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3</vt:lpwstr>
  </property>
</Properties>
</file>