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0BA5B-00D5-4065-BE67-030D13BA5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E9F1-C165-48E9-8FEC-48BA299BC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E95EA-CED4-45C8-9D96-024F14229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BEE6-2917-461C-8A4D-C28E5588F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0B61-27A8-4A4B-A437-625E7870A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1C6CC-748B-45C8-AC5F-706B8FF4E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223A-18CB-4FDD-A17C-20D3B172D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41EA6-543E-4744-8324-10BA9BE10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86678-E12C-4AE2-A3D6-5EAF99BC0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FF39-A0FB-4C91-9B0C-02BBDF250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026DE-F6E7-4886-8220-7B1C7C5DB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A6F4-9920-47B8-A86C-049EEF6D0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2400" y="152280"/>
            <a:ext cx="71568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892d5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32448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78CA-FE60-4D52-B255-3129E1971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hyperlink" Target="http://java.sun.com/docs/books/" TargetMode="External"/><Relationship Id="rId5" Type="http://schemas.openxmlformats.org/officeDocument/2006/relationships/hyperlink" Target="http://java.sun.com/docs/books/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hyperlink" Target="http://www.javasoft.com/" TargetMode="External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image" Target="../media/image7.png"/><Relationship Id="rId12" Type="http://schemas.openxmlformats.org/officeDocument/2006/relationships/hyperlink" Target="http://java.sun.com/docs/books/tutorial/networking/index.html" TargetMode="External"/><Relationship Id="rId13" Type="http://schemas.openxmlformats.org/officeDocument/2006/relationships/hyperlink" Target="http://java.sun.com/docs/books/tutorial/networking/index.html" TargetMode="External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hyperlink" Target="http://www.kathimerini.gr/" TargetMode="External"/><Relationship Id="rId9" Type="http://schemas.openxmlformats.org/officeDocument/2006/relationships/image" Target="../media/image7.png"/><Relationship Id="rId10" Type="http://schemas.openxmlformats.org/officeDocument/2006/relationships/hyperlink" Target="http://www.enet.gr/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6959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892d5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άσεις Δεδομένων και Παγκόσμιος Ιστ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γραμματιστική εργασία: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New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α βήματ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ια πρόταση για την μεθοδολογία υλοποίησης της εργασία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τασκευ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Λειτουργία κουμπιού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“Get Da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άκτηση ιστοσελίδ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3. Απόσπαση πληροφορ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4. Εισαγωγή στην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Λειτουργία κουμπιού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“Create HTM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5. Σύνθεσ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λίδ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6. Αποθήκευση σε αρχεί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9F12-ECCA-4D6F-B563-6165A01250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τασκευ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ρείτε εισαγωγικό βιβλίο γ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ρίξτε μια ματιά στη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λογική κατασκευή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στ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οντέλο διαχείριση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αρχουν 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-lin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ιβλία, πχ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 Tuto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f83bd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9f83bd"/>
                </a:solidFill>
                <a:uFillTx/>
                <a:latin typeface="Times New Roman"/>
                <a:hlinkClick r:id="rId5"/>
              </a:rPr>
              <a:t>java.sun.com/docs/book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ωδικας και συμβουλές για πάρα πολλά θέματ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ρωτήστ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τεβάστε και εγκαταστηστε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K, </a:t>
            </a:r>
            <a:r>
              <a:rPr b="0" lang="en-US" sz="2000" spc="-1" strike="noStrike" u="sng">
                <a:solidFill>
                  <a:srgbClr val="9f83bd"/>
                </a:solidFill>
                <a:uFillTx/>
                <a:latin typeface="Times New Roman"/>
                <a:hlinkClick r:id="rId8"/>
              </a:rPr>
              <a:t>www.javasof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ξοικοιωθήτε 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ήστε το περιβάλλον εργασίας, τρέξτε μια πολύ απλή εφαρμογή 5 γραμμών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hello world”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να βεβαιωθείτε οτι η εγκατάσταση δουλεύει Ο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Κατασκευάστε ένα παράθυρο με 2 κουμπι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ταν πατιέται ένα κουμπί θα πρέπει να εμφανίζει από ε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og box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ε κάποιο διαφορετικό (οποιοδήποτε) μηνυματάκ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216C-2B65-4DC3-AFC2-8E54FF351A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άκτηση ιστοσελίδ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όχος στο τέλος του βήματος αυτού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ταν πατιέται το κουμπί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t 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θα βγαίνει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og box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αλλ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ι για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mmy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ήνυμα θα περιέχει το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 κώδικα των δύο σελίδω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τον ένα κάτω από τον άλλ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αλλακτικά, εμφάνιση των σελίδων με το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ystem.out.print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ώς θα πάρουμε 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ώδικα της κάθε σελίδας από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κλάση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δέει την εφαρμογή μας με κάποια εφαρμογή που βρίσκεται σε κάποι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και «ακούει» σε κάποια πόρτ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πετύχει η σύνδεση,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ας δίνε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τα οποία μπορούμε να γράψουμε και να διαβάσουμ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τι γράφουμε το διαβάζει η άλλη εφαρμογή (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ης εφημερίδας για εμα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και ότι μας απαντάει το διαβάζουμε εμεί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ραφουμε (στέλνουμ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έ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ήνυμ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αβάζου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 respons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–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εριεχόμενο είναι μετά την κενή γραμμή, το βάζουμε σε κάποια μεταβλητή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κώδικα και επεξήγηση, κοιτάξτε το κεφάλαιο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Networking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f83bd"/>
                </a:solidFill>
                <a:uFillTx/>
                <a:latin typeface="Times New Roman"/>
                <a:hlinkClick r:id="rId12"/>
              </a:rPr>
              <a:t>http</a:t>
            </a:r>
            <a:r>
              <a:rPr b="0" lang="en-US" sz="1800" spc="-1" strike="noStrike" u="sng">
                <a:solidFill>
                  <a:srgbClr val="9f83bd"/>
                </a:solidFill>
                <a:uFillTx/>
                <a:latin typeface="Times New Roman"/>
                <a:hlinkClick r:id="rId13"/>
              </a:rPr>
              <a:t>://java.sun.com/docs/books/tutorial/networking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674E-2174-4EF1-8D50-5DB3845639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σπαση πληροφορίας-Εισαγωγή στην Β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χεδιάστε το σχήμα της ΒΔ και υλοποιήστε το με τη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-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Ρωτήστε κάποιον να σας δείξει πώς φτιάχνουμε έν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BC Data Sourc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την βάση αυτή (3 λεπτά δουλειά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BC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en DataBase Connectivity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 είναι ένας «ενδιάμεσος» που διασφαλίζει ότι ανεξάρτητα από το τι είδος ΒΔ υπάρχει από κάτω και τι δυνατότητες έχει, η εφαρμογή από πάνω μπορεί να του «μιλήσει» με τον ίδιο εννιαίο τρόπ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αντί γ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-Acces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άλετ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η εφαρμογή θα συνεχισει να δουλεύε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ό 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ώδικα, αποσπάστε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προσεκτικά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ην πληροφορία που χρειαζόμαστε (τίτλος, κτ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ML tutor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άρχουν πολλά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5-10 σελίδ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Ισως φανούν χρήσιμες οι κλάσει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String, StringBuffer, StringToken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ρησιμοποιείστε κλάσεις 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ιβλιοθήκη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για να αποθηκεύσετε τα δεδομένα αυτά στην βά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3077-43CF-43A9-8160-5D98AC7A3B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ύνθεσ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σελίδα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οφασίστε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ώς θα μοιάζει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ελίδα, τ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θα έχει και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ε ποια σημεί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θα μπαινει η πληροφορία που έχει αποθηκευτεί στην βά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Ισως βοηθήσει να φτιάξετε μ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mmy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λίδ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λύτερ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ποφύγετε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ργαλεία όπως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Pag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εισάγουν άχρησ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διαβάστε την ΒΔ σε κάποι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ω ταυτόχρονα σχηματίζετε τη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ε κάποι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ρησιμοποιέιστε την κλάσ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ingBuff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να σχηματίζετε αθροιστικά 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ν βάση πρέπει ν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ουλεύου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6036-9AF5-4CAC-85FD-99CB8D462A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οθήκευση σε αρχεί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ρησιμοποιείστ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leStream)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να γράψετε το αποτέλεσμα σ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κολουθήστε τα προτεινόμενα ονόματ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βλέπε νωρίτερα) για την βάση,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BC Data Source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αρχείο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υτό ήταν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 δουλεύει, μην μείνετε εδώ: ξαναδιαβάστε και «τακτοποιήστε» τον κώδικ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ελετήστε τα παραδείγματα των βιβλίων και το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, είναι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συντομότερο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από το να πέσετε κατευθείαν στο γράψιμο του κώδικ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25B2-9745-4FF4-A87C-F82C561CFB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89728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892d5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594880"/>
            <a:ext cx="64008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διαγραφές της εργασ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λοποίηση της εργασίας σε β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ενικά στοιχεί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φαρμογή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οσβαση σε πηγές του Ιστού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k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όσβαση σε βάση δεδομένων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 Access - JD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ppin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sing HTM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ελίδω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String, StringBuff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ράψιμο σε αρχεί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rea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 παράθυρο με δύο κουμπιά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t data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 αποσπά απο δύο εφημερίδες του Ιστού τον κύριο τίτλο, υπότιτλο, συντομη περιγραφή, 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για ολόκληρο το άρθρο και τα εισάγει στην Β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πατηθεί δύο φορές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θα εισάγει δύο φορές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ην ιδια πληροφορί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HTML: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ιαβάζει την ΒΔ και φτιάχνει με όλα τα περιεχόμενά της μ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ελίδα που σώζει σαν αρχείο στον δίσκ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ροθεσμί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αρασκευή, 23 Απριλί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C990-B998-4105-8201-9C5F3FC48A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ρχιτεκτονικ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92360" y="1700280"/>
          <a:ext cx="6265800" cy="41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626580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AB71-9C3B-4122-B266-31DB6126F9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επτομέρειε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αρχείο τη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Acces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ε την βάση θα πρέπει να λέγετ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news.mdb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BC data sourc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θα πρεπει να λέγετ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news_db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TM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αρχείο θα δημιουργείται στον φάκελ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C:\db_www”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θα ονομάζετ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temp.htm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Θα υπαρχει εν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.bat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αρχείο για να τρέχει η εφαρμογή απ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άδειγμα: javaw -classpath .\b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τεινόμεν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φημερίδω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f83bd"/>
                </a:solidFill>
                <a:uFillTx/>
                <a:latin typeface="Times New Roman"/>
                <a:hlinkClick r:id="rId8"/>
              </a:rPr>
              <a:t>www.kathimerini.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f83bd"/>
                </a:solidFill>
                <a:uFillTx/>
                <a:latin typeface="Times New Roman"/>
                <a:hlinkClick r:id="rId10"/>
              </a:rPr>
              <a:t>www.enet.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687C-9B58-40F6-B4AA-9D81953565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8197920" cy="613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4E71-850B-48B7-BB49-85D74AB3D8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8193240" cy="613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663D-B93A-439B-B5F0-86B338046A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ι δίνουμ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 τον κώδικα μέσα, και το όνομα πάν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ισταται η εφαρμογή να μπορεί να τρέχει από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ε εκτέλεση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.b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λήρεις οδηγίες εγκατάστασης / τρεξί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1 σελίδα το πολ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ύντομη περιγραφή της δομής του προγράμματος (ονόματα κλάσεων, υπευθυνότητα κάθε μιας, σχέση μεταξύ του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ναφέρετε βοήθεια που ενδεχομένως ζητήσατ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1-2 σελίδ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κτύπωση μιας ενδεικτικής εξόδου του προγράμματος (το τελικό αρχεί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κτύπωση προγράμ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ιχισμένος κώδικας με πολυ μικρο μέγεθος γραμματοσειρά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07F3-8157-4350-BDC8-A55DE9746A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40200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892d5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2594880"/>
            <a:ext cx="64008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διαγραφές της εργασ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λοποίηση της εργασίας σε β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9:29:01Z</dcterms:created>
  <dc:creator>Yannis Stavrakas</dc:creator>
  <dc:description/>
  <dc:language>en-US</dc:language>
  <cp:lastModifiedBy>Yannis Stavrakas</cp:lastModifiedBy>
  <dcterms:modified xsi:type="dcterms:W3CDTF">2004-03-25T11:52:15Z</dcterms:modified>
  <cp:revision>17</cp:revision>
  <dc:subject/>
  <dc:title>Replace With Title</dc:title>
</cp:coreProperties>
</file>