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85660-5438-42F2-90AC-4352ED42C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51639-AB58-4CF5-845D-C288A755D1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8C0C3-7066-4F5C-A5F5-1C2F28D2B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840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048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840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048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DF340-55D8-4418-AA76-0611C76ED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66680" y="470880"/>
            <a:ext cx="70106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5E224-0417-4F50-B71A-811F730400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6840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7048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6632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6840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7048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56115-AFAE-48E9-9E6B-359CDF8EB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4F502-2BE7-4F45-90CB-6E0540359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03F4C-2B9D-4A1D-8238-7E857929B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470880"/>
            <a:ext cx="70106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1FE76-B0DA-473F-A9DB-8DBD9337E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DB309-5D0E-4DBC-BF22-C76796238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AF386-E68E-40DB-903E-B6A3A21E0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58C1D-37CA-4ED7-BA8B-6FD8993A6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2400" y="152280"/>
            <a:ext cx="71568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892d5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32448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324480"/>
            <a:ext cx="609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FE78-0A6B-4692-85FD-63BD031C2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69592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892d5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Βάσεις Δεδομένων και Παγκόσμιος Ιστό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Βιβλιογραφική εργασ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89728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892d5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2594880"/>
            <a:ext cx="64008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ε τι έγκειται η εργασ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ροτεινόμενα θέ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ως ξεκινάτ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πιλογή ενός ερευνητικού θέματος που σας ενδιαφέρε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πορείτε αν έχετε κάτι στο μυαλό σας να το συζητήσουμ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..ή να επιλέξετε κάτι από την λίστα των προτεινόμενων θεμάτ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Ψάχνετε να βρείτε υλικό για το θέμα αυτ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χετική δουλειά που να έχει δημοσιευτεί σε πρακτικά συνεδρίων ή σε περιοδικ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ίναι μια καλή αρχή: δοκιμάστε κάποια μηχανή αναζήτησης, επίσης από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P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αι από τι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 page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ων συγγραφέ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πιλέγετε κάποια αντιπροσωπευτικά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και τα διαβάζετ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3-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per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ίναι ενας καλός αριθμό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8BC9B-6AF6-4F76-8B96-89D73D36B3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ι πρέπει να κάνετ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ια το θέμα που επιλέξατε θα φτιάξετε μια παρουσίαση σ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, την οποία θα κάνετε σε κάποιο από τα τελευταία μαθή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ρέπει να διαρκεί γύρω στην μισή ώρ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Υπολογίστε γύρω στις 25 διαφάνειε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ριν την παρουσίαση στο μάθημα, θα πρέπει να έχετε παραδώσε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1. Μια εκτύπωση της παρουσίασ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2. Μια αναφορα λίγων σελίδων (ενδεικτικά 3-5) που να αναφέρει τα ονόματα όσων συμμετείχαν, 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per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τα οποία βασίστηκε, και ένα κείμενο που να συνθέτει αυτά που διαβάσατε σ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p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ροθεσμία παράδοσης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 Παρασκευή, 21 Μαϊο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3EB4C-5257-4388-B1E3-ADFE752EDA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40200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892d5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2594880"/>
            <a:ext cx="64008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ε τι έγκειται η εργασ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ροτεινόμενα θέ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ερικά θέματ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ρευνητικές κατευθύνσεις στις Βάσεις Δεδομέ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ilomar report, Lowell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ιαχείρισ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ites: Arane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zeni, Mecca, Merial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ιαχείριση αλλαγών σε βάσει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D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wathe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οπωσδήποτ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abio Grandi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για κατευθύν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ization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ε Βάσεις Δεδομέ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Γιούλη Κούτρικα και Γιάννης Ιωαννίδης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A3AE8-502A-48B9-BFA6-825CBCB4F3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ερικά θέματα (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itebo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Web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κα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 Consort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ices: SOAP, WSDL, U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torial EDBT 2004, WWW Consort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έθοδοι αποθήκευση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MOD Record 31(1), 2002: “The design and performance evaluation of alternative XML storage strategie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0537F-B981-40F7-94FC-E9AEE40CD7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19:29:01Z</dcterms:created>
  <dc:creator>Yannis Stavrakas</dc:creator>
  <dc:description/>
  <dc:language>en-US</dc:language>
  <cp:lastModifiedBy>Yannis Stavrakas</cp:lastModifiedBy>
  <dcterms:modified xsi:type="dcterms:W3CDTF">2004-05-06T19:23:42Z</dcterms:modified>
  <cp:revision>27</cp:revision>
  <dc:subject/>
  <dc:title>Replace With Title</dc:title>
</cp:coreProperties>
</file>