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D6AB6-5431-4414-980A-1CEFA0F7FE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18417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6400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517200"/>
            <a:ext cx="6400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374B6-E27F-48A2-B136-2017AF379D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18417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27672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51720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351720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76E2D-1A0C-4613-AF91-0032FB557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18417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27672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27672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51720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351720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351720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498AD-3C6D-4A07-AFC8-8D1BA2CAAD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18417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18417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18417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312336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51560" y="3276720"/>
            <a:ext cx="312336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18417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066680" y="1841760"/>
            <a:ext cx="701064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18417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276720"/>
            <a:ext cx="312336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371600" y="351720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18417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EAFF9-49D1-4CDB-BAAE-9B17C8926F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18417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312336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27672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51560" y="351720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18417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27672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3517200"/>
            <a:ext cx="6400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18417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6400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371600" y="3517200"/>
            <a:ext cx="6400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18417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27672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351720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51560" y="351720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18417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35560" y="327672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99880" y="327672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371600" y="351720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35560" y="351720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699880" y="3517200"/>
            <a:ext cx="206064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18417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B71C2-4E60-49DA-97F0-8F902719FE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18417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312336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276720"/>
            <a:ext cx="312336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120E1-303E-4941-A844-AD9F9B9893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18417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73FFB-3D6D-45B0-840D-61341AC032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1841760"/>
            <a:ext cx="701064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377E6-66B9-47BD-B305-A4BDF80EC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18417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276720"/>
            <a:ext cx="312336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51720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3171C-5A16-440E-9812-1D654FE8B6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18417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312336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27672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351720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D25DA-C40F-4CCD-A8D1-AD331DABE2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18417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276720"/>
            <a:ext cx="31233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517200"/>
            <a:ext cx="6400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56455-2F7E-4E0A-B66B-71747C2022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2400" y="152280"/>
            <a:ext cx="715680" cy="6400800"/>
          </a:xfrm>
          <a:custGeom>
            <a:avLst/>
            <a:gdLst/>
            <a:ahLst/>
            <a:rect l="l" t="t" r="r" b="b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9f83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32448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52280" y="6324480"/>
            <a:ext cx="609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4EA7-5FE8-4D27-B52B-E55EF44B7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8417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SzPct val="60000"/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hyperlink" Target="mailto:ys@inf.uth.gr" TargetMode="External"/><Relationship Id="rId8" Type="http://schemas.openxmlformats.org/officeDocument/2006/relationships/image" Target="../media/image1.png"/><Relationship Id="rId9" Type="http://schemas.openxmlformats.org/officeDocument/2006/relationships/image" Target="../media/image5.png"/><Relationship Id="rId10" Type="http://schemas.openxmlformats.org/officeDocument/2006/relationships/hyperlink" Target="http://support.inf.uth.gr/cources/CE628" TargetMode="External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1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1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69592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9f83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18417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Βάσεις Δεδομένων και Παγκόσμιος Ιστό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ροκαταρκτικ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ο μάθημ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«Βάσεις δεδομένων και Παγκόσμιος Ιστός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ως οι τεχνολογίες ΒΔ ενσωματώνονται και χρησιμοποιούνται στον Ιστ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ως οι ανάγκες του Ιστού δημιουργούν νέες απαιτήσεις στις οποίες προσαρμόζονται οι Β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Κάθ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αρασκευή, 5-7 μ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ιδάσκων: Γιάννης Σταύρακ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000" spc="-1" strike="noStrike" u="sng">
                <a:solidFill>
                  <a:srgbClr val="9f83bd"/>
                </a:solidFill>
                <a:uFillTx/>
                <a:latin typeface="Times New Roman"/>
                <a:hlinkClick r:id="rId7"/>
              </a:rPr>
              <a:t>ys@inf.uth.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Ιστό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f83bd"/>
                </a:solidFill>
                <a:uFillTx/>
                <a:latin typeface="Times New Roman"/>
                <a:hlinkClick r:id="rId10"/>
              </a:rPr>
              <a:t>http://support.inf.uth.gr/cources/CE6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210FE-629C-4AC5-A5B3-3209FEDE85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Βιβλί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on the Web: From Relations to Semistructured Data and XML. Abiteboul, Buneman, and Suciu. Morgan Kaufmann,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Management Systems. Ramakrishnan, and Gehrke. McGraw-Hill, 200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Υπάρχει μεταφρασμένο και στα Ελληνικ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πίση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την ιστοσελίδα του μαθήματος θα μπορούν να βρεθούν διάφορες σχετικές δημοσιεύ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αθώς και οι διαφάνειες των παρουσιάσε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40B1D-C763-49CE-856A-A9E9C695F7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Δομή του μαθήματο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ισαγωγικά στοιχεί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Βάσεις δεδομέν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Ιστό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φαρμοσμένο μέρος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ηχανές αναζήτησης κα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tion Retrieval (I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ρχιτεκτονική και παραδείγματα εφαρμογών του Ιστού που χρησιμοποιούν Β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χετικές τεχνολογίες ανάπτυξης εφαρμογώ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ρευνητικό μέρος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νοποίηση πληροφορίας από ετερογενείς πηγέ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χεδιασμός τόπων του Ιστο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Ημιδομημένα δεδομέν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51F93-B7ED-4318-9E8C-EE32B1C02D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Υποχρεώσει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αρουσίες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Υποχρεωτικές, 3 απουσίες σημαίνουν αποτυχία (όπως ενημερώνει η γραμματεί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ια προγραμματιστική εργασί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Υλοποίηση μιας εφαρμογής σ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νώσεις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ML, Java, MS-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ερισσότερες λεπτομέρειες στην πορεία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ια ερευνητική εργασί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πιλογή ενός θέματος ανά δύο άτομ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ερικά θέματα υπάρχουν διαθέσιμα, άλλες προτάσεις ευπρόσδεκτε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ελέτη μερικών σχετικών δημοσιεύσ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αρουσίαση 15-20 λεπτων στα τελευταία 2 μαθήματ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ξετά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ρέπει να περάσετε και τις εξετάσεις και τις δυο εργασίε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0089C-C563-4E25-A8B2-92969E78D0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Διαδικαστικά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υστάσει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αρουσίες - σημαντικ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Θυμίστε τό μου αν τυχόν το ξεχάσ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ροαπαιτούμενες γνώσει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χι τόσο για το μάθημα, καλύπτονται στα εισαγωγικά στοιχεί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Ναι για την προγραμματιστική εργασία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, HTML, MS-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ρχίστε από τώρα να εξοικοιώνεστ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ρος την μέση του μαθήματος θα πρέπει να έχετε διαλέξει το θέμα της ερευνητικής εργασί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AE541-52F1-4B9C-A94A-5BE906CD34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325764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9f83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283572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Καλό εξάμηνο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19:13:34Z</dcterms:created>
  <dc:creator>Yannis Stavrakas</dc:creator>
  <dc:description/>
  <dc:language>en-US</dc:language>
  <cp:lastModifiedBy>Yannis Stavrakas</cp:lastModifiedBy>
  <dcterms:modified xsi:type="dcterms:W3CDTF">2004-02-26T12:55:41Z</dcterms:modified>
  <cp:revision>6</cp:revision>
  <dc:subject/>
  <dc:title>Replace With Title</dc:title>
</cp:coreProperties>
</file>