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7724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71720"/>
            <a:ext cx="77724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1474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7172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7172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14740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14740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7172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7172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7172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AF49C-46AF-44A9-9A29-1ACA1255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2147400"/>
            <a:ext cx="7772400" cy="31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D7F9D-AF03-4048-8D48-D7475630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7724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FBAED-BD4F-4A4F-9FED-AF162901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37926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147400"/>
            <a:ext cx="37926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57FBC-1F2A-4681-9574-CF617A96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8FEDD-1266-4CED-A4A4-A272074B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AE3A6-98D5-427F-9319-6FEAB921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2147400"/>
            <a:ext cx="37926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77172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C04D9-C5CA-4F32-BD5C-B161CDCD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147400"/>
            <a:ext cx="7772400" cy="31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37926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1474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77172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35F57-5A7F-4885-BB71-491989A7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1474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771720"/>
            <a:ext cx="77724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9C32E-8774-4569-98EB-5F911E9B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7724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771720"/>
            <a:ext cx="77724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C17DE-1A34-4393-BA5A-E48524BC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21474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77172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77172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51873-9676-4267-97F5-4AF2E063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214740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214740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77172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77172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77172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1A82A-5A7C-4E03-8478-E3325385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7724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37926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147400"/>
            <a:ext cx="37926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147400"/>
            <a:ext cx="37926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7172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37926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1474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7172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474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71720"/>
            <a:ext cx="7772400" cy="14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400"/>
            <a:ext cx="77724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42960" indent="-17136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Παρασκευή 21-05-200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l-GR" sz="1200" spc="-1" strike="noStrike">
                <a:solidFill>
                  <a:srgbClr val="000000"/>
                </a:solidFill>
                <a:latin typeface="Verdana"/>
              </a:rPr>
              <a:t>Αγγελής Κώστας, Παπαγεωργίου Κώστας, Σωμαράς Χρήστο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kedavros57" descr=""/>
          <p:cNvPicPr/>
          <p:nvPr/>
        </p:nvPicPr>
        <p:blipFill>
          <a:blip r:embed="rId4"/>
          <a:stretch/>
        </p:blipFill>
        <p:spPr>
          <a:xfrm>
            <a:off x="380880" y="228600"/>
            <a:ext cx="650880" cy="639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219320" y="228600"/>
            <a:ext cx="746748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Verdana"/>
              </a:rPr>
              <a:t>Τμήμα Μηχανικών Ηλεκτρονικών Υπολογιστών, Τηλεπικοινωνιών και Δικτύω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Μεταπτυχιακό πρόγραμμ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43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45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6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31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4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5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EEF0-C61A-4DDA-8369-5D5C2C7E442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1600200"/>
            <a:ext cx="853452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ΠΑΝΕΠΙΣΤΗΜΙΟ ΘΕΣΣΑΛΙΑ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ΤΜΗΜΑ ΜΗΧΑΝΙΚΩΝ ΗΛΕΚΤΡΟΝΙΚΩΝ ΥΠΟΛΟΓΙΣΤΩΝ, ΤΗΛΕΠΙΚΟΙΝΩΝΙΩΝ ΚΑΙ ΔΙΚΤΥΩ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ΣΥΣΤΗΜΑΤΑ ΚΑΙ ΒΑΣΕΙΣ ΠΟΛΥΜΕΣΩ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Εξατομίκευση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rsonalization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στις Βάσεις Δεδομένων και στον Παγκόσμιο Ιστ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ΑΓΓΕΛΗΣ ΚΩΝΣΤΑΝΤΙΝΟΣ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ΠΑΠΑΓΕΩΡΓΙΟΥ ΚΩΣΤΑΝΤΙΝΟ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ΣΩΜΑΡΑΣ ΧΡΗΣΤΟ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kedavros57" descr=""/>
          <p:cNvPicPr/>
          <p:nvPr/>
        </p:nvPicPr>
        <p:blipFill>
          <a:blip r:embed="rId1"/>
          <a:stretch/>
        </p:blipFill>
        <p:spPr>
          <a:xfrm>
            <a:off x="4114800" y="457200"/>
            <a:ext cx="93492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eik2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537320" cy="2540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" y="1295280"/>
            <a:ext cx="8001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llaborative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(καθορισμός ομάδων ομοϊδεατών βάσει των απόψεών τους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για τα αντικείμενα ή τις υπηρεσίες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οι απόψεις δηλώνονται με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licit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ή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plicit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τρόπο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5257800"/>
            <a:ext cx="800100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ρόταση βάσει ευκλείδειας απόσταση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συμμετοχή των βαθμολογήσεων για αντικείμενα που και οι δυο έχουν άποψη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971800"/>
            <a:ext cx="5331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352680"/>
            <a:ext cx="53316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2971800"/>
            <a:ext cx="45720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3352680"/>
            <a:ext cx="45720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2971800"/>
            <a:ext cx="45720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315200" y="3352680"/>
            <a:ext cx="45720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886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88620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4267080"/>
            <a:ext cx="5331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4572000"/>
            <a:ext cx="5331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181480" y="4191120"/>
            <a:ext cx="5335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480" y="4572000"/>
            <a:ext cx="5335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380988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2895480"/>
            <a:ext cx="304920" cy="2286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4114800"/>
            <a:ext cx="228600" cy="2286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4419720"/>
            <a:ext cx="228600" cy="2286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3124080"/>
            <a:ext cx="0" cy="15264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4343400"/>
            <a:ext cx="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924680" y="4190760"/>
            <a:ext cx="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1295280"/>
            <a:ext cx="80010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Συζήτηση περί των τεχνικών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τα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ule-based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και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ple filtering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απαιτούν λιγότερη προσπάθει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το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ent-based filtering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εριορίζει το χρήστη να λαμβάνει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ommendation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μόνο για αντικείμενα που έχει βαθμολογήσε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το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llaborative filterin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απαιτεί μεγάλη βάση πελατών για να μπορεί να έχει ικανοποιητικά αποτελέσματα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ενσωματώνει θέματα προκαταλήψεων των χρηστών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και δυσχεραίνεται η διαδικασία δημιουργίας ομοϊδεατώ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εφαρμόζεται σε ομοιογενές περιβάλλον και ομοιογενή προϊόντ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1143000"/>
            <a:ext cx="8001000" cy="43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γ. Τρόποι υλοποίησης εξατομίκευσης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Οι ενέργειες που περιλαμβάνονται αποσκοπούν στην δημιουργία εξατομικευμένων τρόπων παρουσίασης της πληροφορίας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Verdana"/>
              </a:rPr>
              <a:t>Βασικός στόχος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είναι η παραγωγή δυναμικών σελίδων ανάλογα με το προφίλ του χρήστ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0000"/>
                </a:solidFill>
                <a:uFillTx/>
                <a:latin typeface="Verdana"/>
              </a:rPr>
              <a:t>Τεχνικές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Cashing</a:t>
            </a:r>
            <a:r>
              <a:rPr b="0" lang="el-GR" sz="1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αποθήκευση και ανάκτηση σελίδων που ζητούνται πιο συχνά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Το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shing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γίνεται είτε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στον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owser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του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σε ενδιάμεσου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στι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shes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του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Σχόλιο 1: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Στις εξατομικευμένες σελίδες ο εξυπηρέτης αποστέλλει τη βασική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και το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shing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αφορά στα άλλα αρχεία που αφορούν στην εξατομίκευση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2514600"/>
            <a:ext cx="800100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Trigger monitor</a:t>
            </a:r>
            <a:r>
              <a:rPr b="0" lang="el-GR" sz="1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ενημέρωση των εξατομικευμένων σελίδων με αλλαγές που συμβαίνουν. Επανακατασκευή των ιστοσελίδων και διανομή τους στι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shes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Συμπεράσματ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Μπορούμε να έχουμε Εξατομίκευση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κατά πελάτ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κατά ομάδες πελατώ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Οι εξατομικευμένες σελίδες μπορούν να συντίθενται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στους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ελάτε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στον εξυπηρέτη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137160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Σχόλιο 2: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Οι εξατομικευμένες σελίδες κατασκευάζονται από κομμάτια που βρίσκονται στι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shes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gged contend). (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χ. Παράδειγμα με Ολυμπιακούς και διαφημίσεις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ersonalization1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46748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1295280"/>
            <a:ext cx="8001000" cy="43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WEB PERSONA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ροσαρμογή των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εφαρμογών προς τον χρήστη ή ομάδες χρηστών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Συστήματα εξατομίκευσης στον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Manual Decision Rule Systems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καθορισμός κανόνων με βάση τα στοιχεία των χρηστών για προσαρμογή του περιεχομένου που τους αποστέλλετα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Collaborative Filtering System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είσοδος βαθμολογίας ή προτιμήσεων από τους χρήστες  και επιστροφή σε αυτούς από το σύστημα (μηχανή συσχέτισης) σχετικών απαντήσεω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Content-based Filtering Agents: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ταύτιση περιεχομένου ανάμεσα στα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έγγραφα και στα προφίλ των χρηστώ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Στόχος είναι η ανακάλυψη προτύπων σε δεδομένα χρήσης του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eb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1143000"/>
            <a:ext cx="8001000" cy="16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Web Personalization </a:t>
            </a:r>
            <a:r>
              <a:rPr b="1" lang="el-GR" sz="1800" spc="-1" strike="noStrike" u="sng">
                <a:solidFill>
                  <a:srgbClr val="000000"/>
                </a:solidFill>
                <a:uFillTx/>
                <a:latin typeface="Verdana"/>
              </a:rPr>
              <a:t>βασισμένο στη χρήσ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Προετοιμασία δεδομένω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νάκτηση δεδομένω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Δημιουργία των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commend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nax" descr=""/>
          <p:cNvPicPr/>
          <p:nvPr/>
        </p:nvPicPr>
        <p:blipFill>
          <a:blip r:embed="rId1"/>
          <a:stretch/>
        </p:blipFill>
        <p:spPr>
          <a:xfrm>
            <a:off x="1295280" y="3200400"/>
            <a:ext cx="680724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29528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Προετοιμασία δεδομένω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Καθαρισμός δεδομένω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2133720"/>
            <a:ext cx="7848360" cy="37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Εργασίες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όπως: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Συγχώνευση των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gs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από διάφορου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rvers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και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rsing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του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g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ώστε να μετατραπεί σε πεδία δεδομένων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0000"/>
                </a:solidFill>
                <a:uFillTx/>
                <a:latin typeface="Verdana"/>
              </a:rPr>
              <a:t>Βήματα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-Απομάκρυνση των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ests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για αρχεία γραφικών(καταλήξει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if, jpg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-Εντοπισμός των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α) με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tring match(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όταν οι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gents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δηλώνονται μόνοι τους με ένα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tr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)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πρόσβαση σε αρχείο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obots.txt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(ελέγχουν την ύπαρξη του αρχείου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)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Ευριστικές μέθοδοι για την αναγνώριση των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g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rsing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των πεδίων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tatus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και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Κανονικοποίηση των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URLs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και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rsing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των δεδομένων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G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1066680"/>
            <a:ext cx="449568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Αναγνώριση χρηστών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s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Μέθοδοι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nax2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59436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3520" y="1447920"/>
            <a:ext cx="822960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Συχνά προβλήματα στην αναγνώριση χρηστών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Μοναδικό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P address/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αλλαπλά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rver sessions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– Ενα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xy server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εξυπηρετεί πολλούς χρήστε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ολλαπλά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P addresses/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μοναδικό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rver session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– Τυχαία ανάθεση αίτησης χρήστη σε ένα από τα διαθέσιμα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P addres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ολλαπλά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P addresses/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μοναδικός χρήστης – Ο χρήστης έχει πρόσβαση στο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από διαφορετικά μηχανήματ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ολλαπλά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rver sessions/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μοναδικός χρήστης – Ο χρήστης ανοίγει πάνω από ένα παράθυρ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Μοναδικό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ent/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ολλαπλοί χρήστες – Χρήση του ίδιου υπολογιστή από περισσότερους από ένα χρήστη (π.χ. Οικογένεια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4876920"/>
            <a:ext cx="8458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Μετά την αναγνώριση χρηστών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-&gt; Διαδικασία αναγνώρισης των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s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αρακολούθηση της κίνησης στο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από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owsers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που δηλώνουν την ολοκλήρωση ενό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ssion  -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όταν πραγματοποιείται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lick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εκτός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&gt;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όταν ο χρήστης τερματίζει τον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48769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8080" y="1523880"/>
            <a:ext cx="762012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ΔΟΜΗ ΠΑΡΟΥΣΙΑΣΗ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Εισαγωγικές έννοιες για την Εξατομίκευσ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2.  Τεχνικές εξατομίκευση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eb Personaliz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eb Personalization</a:t>
            </a: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 βασισμένο στη χρήσ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57200" y="12952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Αναγνώριση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gevie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828800"/>
            <a:ext cx="82296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Ενέργειες για καθορισμό των προσβάσεων στα αρχεία των σελίδων που     αποτελούν κάθε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geview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Η σημασία του εξαρτάται από το περιεχόμενο του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te,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από την προηγούμενη γνώση πεδίου και από τη δόμηση μεταξύ των σελίδων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 u="sng">
                <a:solidFill>
                  <a:srgbClr val="000000"/>
                </a:solidFill>
                <a:uFillTx/>
                <a:latin typeface="Verdana"/>
              </a:rPr>
              <a:t>Τεχνική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ath Completion: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Εξαγωγή των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geViews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ου έχουν γίνει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sh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38862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Αναγνώριση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piso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4572000"/>
            <a:ext cx="784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Επίτευξη μεγάλου βαθμού διάσπασης μέσα στο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ssion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Verdana"/>
              </a:rPr>
              <a:t>Στόχος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η παραγωγή δυναμικών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usters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από το σύνολο των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ferences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κάθε χρήστη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1295280"/>
            <a:ext cx="80010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νάκτηση δεδομένω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Εξαγωγή κανόνων συσχέτιση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Ομαδοποίηση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s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Ομαδοποίηση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geview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Δημιουργία προφίλ χρήση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1295280"/>
            <a:ext cx="800100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Ανακάλυψη των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ter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-occurrence patterns: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δυναμική δημιουργία πολλαπλών σελίδων για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  ένα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te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με επαναλαμβανόμενα μοτίβα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age patterns: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εξάγονται από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logs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λόγου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keting intelligen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Για τη δημιουργία ολοκληρωμένων προφίλ πρέπει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Να γίνουν αντιληπτά πιθανόν επικαλυπτόμενα ενδιαφέροντα των χρηστώ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Να διακρίνονται τα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geview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Να υπάρχει ενιαία αναπαράσταση ώστε να ενοποιούνται όλα τα διαφορετικά είδη προφί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1371600"/>
            <a:ext cx="815328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Οπότ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Αναπαράσταση των προφίλ χρήσης σαν συλλογές από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RIs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με βάρη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-&gt;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ταξινομημένες συλλογές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: καταγραφή των προφίλ πλοήγησης που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   ακολουθούν οι χρήστε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-&gt; 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μη-ταξινομημένες συλλογές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: καταγραφή των συσχετισμών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   ανάμεσα σε συγκεκριμένες σελίδε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Verdana"/>
              </a:rPr>
              <a:t>Πλεονέκτημα:</a:t>
            </a: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Θεωρώντας τα προφίλ διανύσματα -&gt; εύκολη η αντιστοίχιση του τρέχοντο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ssion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με παρόμοια προφί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Επειδή υπάρχει μεγάλος αριθμός σελίδων/προϊόντων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-&gt; Ομαδοποίηση 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ustering)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αρόμοιων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ssions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, και στη συνέχεια    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αναζήτηση για κοντινότερους γείτονες μέσα στο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us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 u="sng">
                <a:solidFill>
                  <a:srgbClr val="000000"/>
                </a:solidFill>
                <a:uFillTx/>
                <a:latin typeface="Verdana"/>
              </a:rPr>
              <a:t>Αλγόριθμοι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clustering</a:t>
            </a:r>
            <a:r>
              <a:rPr b="0" i="1" lang="el-GR" sz="1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Διαχωρίζουν το χώρο σε ομάδες αντικειμένων που είναι κοντά το ένα στο άλλο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web1" descr=""/>
          <p:cNvPicPr/>
          <p:nvPr/>
        </p:nvPicPr>
        <p:blipFill>
          <a:blip r:embed="rId1"/>
          <a:stretch/>
        </p:blipFill>
        <p:spPr>
          <a:xfrm>
            <a:off x="1066680" y="1486080"/>
            <a:ext cx="7010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web2" descr=""/>
          <p:cNvPicPr/>
          <p:nvPr/>
        </p:nvPicPr>
        <p:blipFill>
          <a:blip r:embed="rId1"/>
          <a:stretch/>
        </p:blipFill>
        <p:spPr>
          <a:xfrm>
            <a:off x="0" y="1523880"/>
            <a:ext cx="5803920" cy="48895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867280" y="15238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ο Πελάτης στέλνει αίτημ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4724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190512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ο εξυπηρέτης κρατάει και ενημερώνει το ενεργό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ssion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το σχετικό με τον πελάτ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9718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289548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Η μηχανή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ommendation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εξετάζει τα σχετικά στοιχεία με τον πελάτη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και στέλνει στο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r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εξατομικευμένο περιεχόμενο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28954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449568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ο εξυπηρέτης στέλνει απάντηση στον πελάτ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581280" y="54864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10666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Δημιουργία των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commend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1447920"/>
            <a:ext cx="82296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Μηχανή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commendation</a:t>
            </a: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υπολογίζει σύνολο από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ommendations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για το τρέχον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r session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που αποτελείται από αντικείμενα που ταιριάζουν στο τρέχον προφίλ χρήστη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atching: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ταίριασμα του συνόλου από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ommendations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με κάποιο από τα προφίλ χρήση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Τεχνικές για το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tching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l-GR" sz="1600" spc="-1" strike="noStrike" u="sng">
                <a:solidFill>
                  <a:srgbClr val="000000"/>
                </a:solidFill>
                <a:uFillTx/>
                <a:latin typeface="Verdana"/>
              </a:rPr>
              <a:t>Τεχνική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classifica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&gt;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Συσχέτιση του νέου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r session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με μια από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τις κλάσεις που καθορίστηκαν με βάση τα προφί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attern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&gt;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Μέρος της διαδικασίας εξαγωγής των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ociation rules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ου θα παράγουν τα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ommendations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905120"/>
            <a:ext cx="830592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Verdana"/>
              </a:rPr>
              <a:t>ΕΙΣΑΓΩΓ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ρισμό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Ως </a:t>
            </a:r>
            <a:r>
              <a:rPr b="1" lang="el-GR" sz="1600" spc="-1" strike="noStrike">
                <a:solidFill>
                  <a:srgbClr val="ffff00"/>
                </a:solidFill>
                <a:latin typeface="Verdana"/>
              </a:rPr>
              <a:t>εξατομίκευση (personalization)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ορίζεται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η διαδικασία συγκέντρωσης και αποθήκευσης πληροφοριών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σχετικών με τους χρήστες ενό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η ανάλυση των παραπάνω πληροφοριών             </a:t>
            </a: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 κα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η αποστολή της σωστής πληροφορίας που προήλθε από την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ροηγούμενη ανάλυση, στο σωστό χρόνο και σε κάθε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επισκέπτ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295280"/>
            <a:ext cx="8001000" cy="22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Χρήσ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Ηλεκτρονικό εμπόριο π.χ. προσαρμοσμένη τιμολόγησ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Στοχευμένη Διαφήμιση π.χ. προώθηση προϊόντω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Διαχείριση σε Καμπάνιες Μάρκετινγκ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Διαχείριση  γνώσης, περιεχομένων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Διαχείριση εξατομικευμένων διαδικτυακών πυλώ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114800"/>
            <a:ext cx="83818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Στόχοι της εξατομίκευσης ενός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ebs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Η γρήγορη παράδοση πληροφοριών στο χρήστ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Η αύξηση επαναλαμβανόμενων συναλλαγών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και πωλήσεω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Η ευκολία στη χρήσ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1295280"/>
            <a:ext cx="8001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Μέθοδοι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είδη εξατομίκευση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ροσαρμοσμένα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 al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ρόσβαση μέσω λογαριασμώ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Εξατομικευμένο περιεχόμενο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3124080"/>
            <a:ext cx="8381880" cy="22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Λειτουργί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Ι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Αιτήσεις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ΙΙ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Ενεργοποίηση επεκτάσιμης μηχανή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sonaliz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Συλλογή ατομικών δεδομένων ανά πελάτ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Φιλτράρισμ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Εξατομικευμένες απαντήσει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weba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1295280"/>
            <a:ext cx="8001000" cy="41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Verdana"/>
              </a:rPr>
              <a:t>ΤΕΧΝΙΚΕΣ ΕΞΑΤΟΜΙΚΕΥΣΗ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α. Συλλογή δεδομένων για τους πελάτε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Οι ενέργειες που περιλαμβάνονται αποσκοπούν στη δημιουργία</a:t>
            </a: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 προφίλ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για κάθε πελάτη (ενδιαφέροντα, ρόλο, αγορές, άλλα περιγραφικά δεδομένα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Έτσι έχουμε τα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Explicit profil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o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ελάτης δίνει τις πληροφορίες (π.χ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yYaho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mplicit Profiling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: διαφανής καταγραφή συμπεριφοράς του πελάτη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μέσω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owsing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.χ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ok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ying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της ΒΔ π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χ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azon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Legacy dat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από συναλλαγές μέσω πίστωσης ή μέσω αγορώ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1295280"/>
            <a:ext cx="800100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β. Ανάλυση – Φιλτράρισμα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 Σύνθεσ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Οι ενέργειες που περιλαμβάνονται αποσκοπούν στην εκμετάλλευση του</a:t>
            </a:r>
            <a:r>
              <a:rPr b="1" lang="el-GR" sz="1600" spc="-1" strike="noStrike">
                <a:solidFill>
                  <a:srgbClr val="000000"/>
                </a:solidFill>
                <a:latin typeface="Verdana"/>
              </a:rPr>
              <a:t> προφίλ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του κάθε πελάτη, ώστε να επιλεγούν οι σωστές πληροφορίες που τελικά θα του αποσταλούν. Έτσι έχουμε τις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Rule-based techniqu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καθορισμός επιχειρηματικών κανόνων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oss-selling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(π.χ. κανόνας προσφοράς προϊόντος Υ σε πελάτη που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     αγόρασε το προϊόν Χ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Filtering techniques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: ανάλυση των μεταδεδομένων και καθορισμός του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      περιεχομένου και της μορφής των απαντήσεων-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      προτάσεω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ple (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καθορισμός υπηρεσιών ή περιεχομένου βάσει προκαθο-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ρισμένων ομάδων ατόμων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33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129528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ent-based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(καθορισμός χαρακτηριστικών-κλειδιών για τα αντικείμε-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 να ή τις υπηρεσίες και βαθμολόγηση βάσει αυτών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eik1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7505640" cy="2158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09480" y="4952880"/>
            <a:ext cx="8001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πρόταση βάσει ευκλείδειας απόσταση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κάθε αντικείμενο είναι ένα ζυγισμένο διάνυσμα από λέξεις κλειδιά και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βάσει αυτών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γίνεται η κατανομή των αντικειμένων σε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usters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6" name=""/>
          <p:cNvCxnSpPr/>
          <p:nvPr/>
        </p:nvCxnSpPr>
        <p:spPr>
          <a:xfrm>
            <a:off x="456840" y="2895120"/>
            <a:ext cx="61020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457200" y="28954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32004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2743200"/>
            <a:ext cx="53352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d92b27"/>
                </a:solidFill>
                <a:latin typeface="Verdana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d92b27"/>
                </a:solidFill>
                <a:latin typeface="Verdana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d92b27"/>
                </a:solidFill>
                <a:latin typeface="Verdana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d92b27"/>
                </a:solidFill>
                <a:latin typeface="Verdana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d92b27"/>
                </a:solidFill>
                <a:latin typeface="Verdana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d92b27"/>
                </a:solidFill>
                <a:latin typeface="Verdana"/>
              </a:rPr>
              <a:t>3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d92b27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3048120"/>
            <a:ext cx="38088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657600" y="3048120"/>
            <a:ext cx="38088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2:48:51Z</dcterms:created>
  <dc:creator>cs</dc:creator>
  <dc:description/>
  <dc:language>en-US</dc:language>
  <cp:lastModifiedBy>cs</cp:lastModifiedBy>
  <dcterms:modified xsi:type="dcterms:W3CDTF">2004-05-21T19:05:25Z</dcterms:modified>
  <cp:revision>26</cp:revision>
  <dc:subject/>
  <dc:title>Παρουσίαση του PowerPoint</dc:title>
</cp:coreProperties>
</file>