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5A1-E9E3-4B48-9D64-639601DC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7400" y="4283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AE6-4D86-48A4-9F58-70CD3EB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248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955-36C9-42B2-A46C-4EABBC76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50240" y="21337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43440" y="21337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57400" y="4283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50240" y="4283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43440" y="4283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013-ABD0-4FBF-8A07-269FD7DA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68A1-4BAC-4586-9B8F-4E8AF439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5740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DCD0-3EB7-411C-A31C-CD55C3C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C19-7D20-4DED-9CD7-6B2D1A5B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DD9B-30AE-4B47-94A8-B20B926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77B2-9A0E-4673-A0ED-4BFA84DF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A886-86A5-4B65-A335-A4329B4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37F-0916-4151-BC0D-76BA94BF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5740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0FB-0D36-432B-B5BF-0A090FD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248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B96C-CC1F-4B93-86E0-8EAA59B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57400" y="4283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EA2E-9EFA-4AC3-9864-5BC634C0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057400" y="4283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C24F-C004-4882-9088-5ACB55B2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05740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3248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98DB-6A24-47A4-A6CF-DC4C5063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50240" y="21337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3440" y="21337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057400" y="4283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350240" y="4283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43440" y="42832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A987-3AFA-4CFD-A03C-30D325A8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76D-6A15-410D-AB73-940F51C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EA6-01D5-4F09-BB3D-6171C6C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7D8-3A75-4003-8DB8-78EB441F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CD2-58A9-402A-BC51-C638B1D0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5A9-6269-468E-AAB2-33D97202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2480" y="42832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069-3EB4-40FD-9B63-5A920D8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2480" y="21337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2832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C25-7D2F-4DCD-9DDC-0BEC4A3B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4114800"/>
          </a:xfrm>
          <a:custGeom>
            <a:avLst/>
            <a:gdLst/>
            <a:ahLst/>
            <a:rect l="l" t="t" r="r" b="b"/>
            <a:pathLst>
              <a:path w="1824" h="3840">
                <a:moveTo>
                  <a:pt x="0" y="3840"/>
                </a:moveTo>
                <a:lnTo>
                  <a:pt x="0" y="0"/>
                </a:lnTo>
                <a:lnTo>
                  <a:pt x="1824" y="0"/>
                </a:lnTo>
                <a:cubicBezTo>
                  <a:pt x="74" y="1204"/>
                  <a:pt x="465" y="3655"/>
                  <a:pt x="583" y="3840"/>
                </a:cubicBezTo>
                <a:cubicBezTo>
                  <a:pt x="291" y="3840"/>
                  <a:pt x="0" y="3840"/>
                  <a:pt x="0" y="384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057400" y="1588680"/>
            <a:ext cx="6858000" cy="4964400"/>
            <a:chOff x="2057400" y="1588680"/>
            <a:chExt cx="6858000" cy="4964400"/>
          </a:xfrm>
        </p:grpSpPr>
        <p:sp>
          <p:nvSpPr>
            <p:cNvPr id="2" name=""/>
            <p:cNvSpPr/>
            <p:nvPr/>
          </p:nvSpPr>
          <p:spPr>
            <a:xfrm flipH="1" flipV="1">
              <a:off x="2057040" y="158832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738400" y="6404040"/>
              <a:ext cx="2664000" cy="149040"/>
              <a:chOff x="5738400" y="6404040"/>
              <a:chExt cx="2664000" cy="149040"/>
            </a:xfrm>
          </p:grpSpPr>
          <p:sp>
            <p:nvSpPr>
              <p:cNvPr id="4" name=""/>
              <p:cNvSpPr/>
              <p:nvPr/>
            </p:nvSpPr>
            <p:spPr>
              <a:xfrm flipH="1" flipV="1">
                <a:off x="8252640" y="640404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flipV="1">
                <a:off x="7415280" y="640404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 flipV="1">
                <a:off x="6576120" y="640404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 flipV="1">
                <a:off x="5738040" y="640404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05740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63b1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057040" y="63244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Βάσεις Δεδομένων και Παγκόσμιος Ιστό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74C-7B3D-4E2B-B13D-3AF14A412A61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286080" y="3429000"/>
            <a:ext cx="5781600" cy="149400"/>
            <a:chOff x="3286080" y="3429000"/>
            <a:chExt cx="5781600" cy="149400"/>
          </a:xfrm>
        </p:grpSpPr>
        <p:sp>
          <p:nvSpPr>
            <p:cNvPr id="50" name=""/>
            <p:cNvSpPr/>
            <p:nvPr/>
          </p:nvSpPr>
          <p:spPr>
            <a:xfrm>
              <a:off x="3286080" y="351468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4809960" y="3429000"/>
              <a:ext cx="2664000" cy="149400"/>
              <a:chOff x="4809960" y="3429000"/>
              <a:chExt cx="2664000" cy="149400"/>
            </a:xfrm>
          </p:grpSpPr>
          <p:sp>
            <p:nvSpPr>
              <p:cNvPr id="52" name=""/>
              <p:cNvSpPr/>
              <p:nvPr/>
            </p:nvSpPr>
            <p:spPr>
              <a:xfrm>
                <a:off x="4809960" y="3429000"/>
                <a:ext cx="149400" cy="14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48400" y="3429000"/>
                <a:ext cx="149040" cy="14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86480" y="3429000"/>
                <a:ext cx="149400" cy="14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324560" y="3429000"/>
                <a:ext cx="149400" cy="14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666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C1D-D072-41C4-AC82-4BAEDB28F913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447920" cy="4114800"/>
          </a:xfrm>
          <a:custGeom>
            <a:avLst/>
            <a:gdLst/>
            <a:ahLst/>
            <a:rect l="l" t="t" r="r" b="b"/>
            <a:pathLst>
              <a:path w="1824" h="3840">
                <a:moveTo>
                  <a:pt x="0" y="3840"/>
                </a:moveTo>
                <a:lnTo>
                  <a:pt x="0" y="0"/>
                </a:lnTo>
                <a:lnTo>
                  <a:pt x="1824" y="0"/>
                </a:lnTo>
                <a:cubicBezTo>
                  <a:pt x="74" y="1204"/>
                  <a:pt x="465" y="3655"/>
                  <a:pt x="583" y="3840"/>
                </a:cubicBezTo>
                <a:cubicBezTo>
                  <a:pt x="291" y="3840"/>
                  <a:pt x="0" y="3840"/>
                  <a:pt x="0" y="384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63b1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Μέθοδοι Αποθήκευσης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4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χεδίαση και εκτίμηση επιδόσεων εναλλακτικών στρατηγικών αποθήκευση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Γαρυφαλιά Τσιμητρέα – Δήμητρα Σαρδέλλ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3ος τρόπο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5678640" y="4762440"/>
            <a:ext cx="317484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εν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Tahoma"/>
              </a:rPr>
              <a:t>Ταξινόμηση – ομαδοποίηση ως προς ποιο πεδί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ποθήκευση σε βάση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27680" y="1811160"/>
            <a:ext cx="396216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ημιουργεί ένα πίνακα ακμών που αντιστοιχεί στις ακμές του γραφή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640" y="1717560"/>
            <a:ext cx="4131720" cy="1744920"/>
            <a:chOff x="17640" y="1717560"/>
            <a:chExt cx="4131720" cy="1744920"/>
          </a:xfrm>
        </p:grpSpPr>
        <p:sp>
          <p:nvSpPr>
            <p:cNvPr id="328" name=""/>
            <p:cNvSpPr/>
            <p:nvPr/>
          </p:nvSpPr>
          <p:spPr>
            <a:xfrm flipH="1">
              <a:off x="1800360" y="1981800"/>
              <a:ext cx="16452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83200" y="2311200"/>
              <a:ext cx="65556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65600" y="1981800"/>
              <a:ext cx="13798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66920" y="2311200"/>
              <a:ext cx="65412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24800" y="1981800"/>
              <a:ext cx="15408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7640" y="2239920"/>
              <a:ext cx="748800" cy="285120"/>
              <a:chOff x="17640" y="2239920"/>
              <a:chExt cx="748800" cy="285120"/>
            </a:xfrm>
          </p:grpSpPr>
          <p:sp>
            <p:nvSpPr>
              <p:cNvPr id="334" name=""/>
              <p:cNvSpPr/>
              <p:nvPr/>
            </p:nvSpPr>
            <p:spPr>
              <a:xfrm>
                <a:off x="17640" y="2239920"/>
                <a:ext cx="748800" cy="28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dept_id= “dept1”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640" y="2239920"/>
                <a:ext cx="725040" cy="285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1245960" y="2510640"/>
              <a:ext cx="4831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3960" y="2840040"/>
              <a:ext cx="48564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72040" y="2510640"/>
              <a:ext cx="11570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15640" y="2792520"/>
              <a:ext cx="748440" cy="284040"/>
              <a:chOff x="215640" y="2792520"/>
              <a:chExt cx="748440" cy="284040"/>
            </a:xfrm>
          </p:grpSpPr>
          <p:sp>
            <p:nvSpPr>
              <p:cNvPr id="340" name=""/>
              <p:cNvSpPr/>
              <p:nvPr/>
            </p:nvSpPr>
            <p:spPr>
              <a:xfrm>
                <a:off x="215640" y="2792520"/>
                <a:ext cx="748440" cy="28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student_id= “123”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5640" y="2792520"/>
                <a:ext cx="724680" cy="2840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236240" y="302400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049400" y="3273120"/>
              <a:ext cx="373680" cy="189360"/>
              <a:chOff x="1049400" y="3273120"/>
              <a:chExt cx="373680" cy="189360"/>
            </a:xfrm>
          </p:grpSpPr>
          <p:sp>
            <p:nvSpPr>
              <p:cNvPr id="344" name=""/>
              <p:cNvSpPr/>
              <p:nvPr/>
            </p:nvSpPr>
            <p:spPr>
              <a:xfrm>
                <a:off x="1049400" y="3273120"/>
                <a:ext cx="373680" cy="1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St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49400" y="3273120"/>
                <a:ext cx="362160" cy="189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795680" y="302400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608840" y="3273120"/>
              <a:ext cx="373680" cy="189360"/>
              <a:chOff x="1608840" y="3273120"/>
              <a:chExt cx="373680" cy="189360"/>
            </a:xfrm>
          </p:grpSpPr>
          <p:sp>
            <p:nvSpPr>
              <p:cNvPr id="348" name=""/>
              <p:cNvSpPr/>
              <p:nvPr/>
            </p:nvSpPr>
            <p:spPr>
              <a:xfrm>
                <a:off x="1608840" y="3273120"/>
                <a:ext cx="373680" cy="1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CS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08840" y="3273120"/>
                <a:ext cx="362160" cy="189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350440" y="302400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2163600" y="3273120"/>
              <a:ext cx="373680" cy="189360"/>
              <a:chOff x="2163600" y="3273120"/>
              <a:chExt cx="373680" cy="189360"/>
            </a:xfrm>
          </p:grpSpPr>
          <p:sp>
            <p:nvSpPr>
              <p:cNvPr id="352" name=""/>
              <p:cNvSpPr/>
              <p:nvPr/>
            </p:nvSpPr>
            <p:spPr>
              <a:xfrm>
                <a:off x="2163600" y="3273120"/>
                <a:ext cx="373680" cy="1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CS2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63600" y="3273120"/>
                <a:ext cx="362160" cy="189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729080" y="2510640"/>
              <a:ext cx="712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51960" y="2840040"/>
              <a:ext cx="48708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nro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29080" y="2510640"/>
              <a:ext cx="62712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08160" y="2840040"/>
              <a:ext cx="485280" cy="1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nro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27040" y="2510640"/>
              <a:ext cx="2728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874240" y="2791800"/>
              <a:ext cx="748440" cy="285120"/>
              <a:chOff x="2874240" y="2791800"/>
              <a:chExt cx="748440" cy="285120"/>
            </a:xfrm>
          </p:grpSpPr>
          <p:sp>
            <p:nvSpPr>
              <p:cNvPr id="360" name=""/>
              <p:cNvSpPr/>
              <p:nvPr/>
            </p:nvSpPr>
            <p:spPr>
              <a:xfrm>
                <a:off x="2874240" y="2791800"/>
                <a:ext cx="748440" cy="28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student_id= “124”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74240" y="2791800"/>
                <a:ext cx="724680" cy="285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906000" y="3022920"/>
              <a:ext cx="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719160" y="3271680"/>
              <a:ext cx="373680" cy="190440"/>
              <a:chOff x="3719160" y="3271680"/>
              <a:chExt cx="373680" cy="190440"/>
            </a:xfrm>
          </p:grpSpPr>
          <p:sp>
            <p:nvSpPr>
              <p:cNvPr id="364" name=""/>
              <p:cNvSpPr/>
              <p:nvPr/>
            </p:nvSpPr>
            <p:spPr>
              <a:xfrm>
                <a:off x="3719160" y="3271680"/>
                <a:ext cx="37368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ahoma"/>
                  </a:rPr>
                  <a:t>St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9160" y="3271680"/>
                <a:ext cx="362160" cy="1904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6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3500280" y="2510640"/>
              <a:ext cx="400680" cy="34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2280" y="2838960"/>
              <a:ext cx="48708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41960" y="1717560"/>
              <a:ext cx="655560" cy="24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8000" y="4187880"/>
            <a:ext cx="3495600" cy="2536920"/>
            <a:chOff x="378000" y="4187880"/>
            <a:chExt cx="3495600" cy="2536920"/>
          </a:xfrm>
        </p:grpSpPr>
        <p:sp>
          <p:nvSpPr>
            <p:cNvPr id="370" name=""/>
            <p:cNvSpPr/>
            <p:nvPr/>
          </p:nvSpPr>
          <p:spPr>
            <a:xfrm>
              <a:off x="3210480" y="651312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2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07840" y="651312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4600" y="651312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1120" y="651312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000" y="651312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10480" y="630180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24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07840" y="630180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4600" y="630180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120" y="630180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udent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8000" y="630180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10480" y="609048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S2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07840" y="609048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4600" y="609048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1120" y="609048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r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8000" y="609048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10480" y="587916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S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07840" y="587916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84600" y="587916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1120" y="587916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r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000" y="587916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10480" y="566784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1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07840" y="566784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84600" y="566784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41120" y="566784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000" y="566784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10480" y="545652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2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07840" y="545652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84600" y="545652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41120" y="545652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udent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8000" y="545652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10480" y="5244480"/>
              <a:ext cx="66276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Ν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07840" y="5244480"/>
              <a:ext cx="60264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84600" y="5244480"/>
              <a:ext cx="7228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41120" y="5244480"/>
              <a:ext cx="8434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000" y="5244480"/>
              <a:ext cx="66312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10480" y="503316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Ν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07840" y="503316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4600" y="503316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41120" y="503316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000" y="503316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10480" y="482184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pt1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07840" y="482184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84600" y="482184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41120" y="482184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pt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8000" y="482184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10480" y="4610520"/>
              <a:ext cx="662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Ν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07840" y="4610520"/>
              <a:ext cx="60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4600" y="4610520"/>
              <a:ext cx="7228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1120" y="4610520"/>
              <a:ext cx="8434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000" y="4610520"/>
              <a:ext cx="66312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0480" y="4187880"/>
              <a:ext cx="66276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07840" y="4187880"/>
              <a:ext cx="60264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arge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84600" y="4187880"/>
              <a:ext cx="72288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r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41120" y="4187880"/>
              <a:ext cx="84348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8000" y="4187880"/>
              <a:ext cx="66312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ource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8000" y="4187880"/>
              <a:ext cx="3495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8000" y="461052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8000" y="482184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000" y="503316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8000" y="524448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8000" y="545652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8000" y="566784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8000" y="587916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8000" y="609048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" y="630180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8000" y="6724800"/>
              <a:ext cx="3495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8000" y="4187880"/>
              <a:ext cx="0" cy="253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41120" y="4187880"/>
              <a:ext cx="0" cy="25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84600" y="4187880"/>
              <a:ext cx="0" cy="25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07840" y="4187880"/>
              <a:ext cx="0" cy="25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10480" y="4187880"/>
              <a:ext cx="0" cy="253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3600" y="4187880"/>
              <a:ext cx="0" cy="2536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8000" y="6513120"/>
              <a:ext cx="349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782880" y="3065400"/>
            <a:ext cx="1024200" cy="3568680"/>
          </a:xfrm>
          <a:custGeom>
            <a:avLst/>
            <a:gdLst/>
            <a:ahLst/>
            <a:rect l="l" t="t" r="r" b="b"/>
            <a:pathLst>
              <a:path w="645" h="2203">
                <a:moveTo>
                  <a:pt x="79" y="0"/>
                </a:moveTo>
                <a:cubicBezTo>
                  <a:pt x="362" y="184"/>
                  <a:pt x="645" y="368"/>
                  <a:pt x="632" y="735"/>
                </a:cubicBezTo>
                <a:cubicBezTo>
                  <a:pt x="619" y="1102"/>
                  <a:pt x="309" y="1652"/>
                  <a:pt x="0" y="2203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4680" y="2521080"/>
            <a:ext cx="1328760" cy="2838240"/>
          </a:xfrm>
          <a:custGeom>
            <a:avLst/>
            <a:gdLst/>
            <a:ahLst/>
            <a:rect l="l" t="t" r="r" b="b"/>
            <a:pathLst>
              <a:path w="961" h="1830">
                <a:moveTo>
                  <a:pt x="0" y="0"/>
                </a:moveTo>
                <a:cubicBezTo>
                  <a:pt x="456" y="169"/>
                  <a:pt x="913" y="339"/>
                  <a:pt x="937" y="644"/>
                </a:cubicBezTo>
                <a:cubicBezTo>
                  <a:pt x="961" y="949"/>
                  <a:pt x="553" y="1389"/>
                  <a:pt x="146" y="1830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4ος τρόπο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4976640"/>
            <a:ext cx="5024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εν χρειάζεται να αποθηκεύει το πεδίο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ρησιμοποιούνται πολλοί πίνακ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ποθήκευση σε βάση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3280" y="1811160"/>
            <a:ext cx="48765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χετίζεται με τις ιδιότητες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ributes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των στοιχείω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Ομαδοποιεί τις εγγραφές του πίνακα ακμών με διαφορετικ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g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και τις αποθηκεύει σε ξεχωριστούς πίνακε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2560" y="2259000"/>
            <a:ext cx="3240000" cy="1872720"/>
            <a:chOff x="52560" y="2259000"/>
            <a:chExt cx="3240000" cy="1872720"/>
          </a:xfrm>
        </p:grpSpPr>
        <p:sp>
          <p:nvSpPr>
            <p:cNvPr id="451" name=""/>
            <p:cNvSpPr/>
            <p:nvPr/>
          </p:nvSpPr>
          <p:spPr>
            <a:xfrm>
              <a:off x="112320" y="2259000"/>
              <a:ext cx="651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T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92160" y="2551680"/>
              <a:ext cx="3136680" cy="15793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560" y="2570040"/>
              <a:ext cx="324000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?xml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Dept (Student*)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ATTLIS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Dept dept_id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I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REQUIRE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Student (Name, Enroll*)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ATTLIS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Student student_id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I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REQUIRE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Name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PCDATA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Enroll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PCDATA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5ος τρόπο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976640"/>
            <a:ext cx="373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πάρχουν πολλά αντικείμενα, άρα χρειάζεται πολύς χώρ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ντικειμενοστραφής προσέγγι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3280" y="2039760"/>
            <a:ext cx="4902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Αποθήκευση κάθε στοιχείου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ως ξεχωριστό αντικείμεν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5ος τρόπος (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.1</a:t>
            </a: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ντικειμενοστραφής προσέγγι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13280" y="1811160"/>
            <a:ext cx="487656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ημιουργείται αντικείμενο-αρχείο που περιλαμβάνει όλα τα στοιχεί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ως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ght-weight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αντικείμεν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52880" y="4976640"/>
            <a:ext cx="39625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ποδοτικό σε ειδικές περιπτ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ιο πολύπλοκο από τις Σ.Β.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8600" y="2514600"/>
            <a:ext cx="3886200" cy="3560760"/>
            <a:chOff x="228600" y="2514600"/>
            <a:chExt cx="3886200" cy="3560760"/>
          </a:xfrm>
        </p:grpSpPr>
        <p:sp>
          <p:nvSpPr>
            <p:cNvPr id="465" name=""/>
            <p:cNvSpPr/>
            <p:nvPr/>
          </p:nvSpPr>
          <p:spPr>
            <a:xfrm>
              <a:off x="831960" y="5643720"/>
              <a:ext cx="32828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2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140, prev=nil, next=nil, no children, no attribute, #PCDATA=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8600" y="5643720"/>
              <a:ext cx="603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1960" y="5095800"/>
              <a:ext cx="32828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4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0, prev=40, next=nil, first_child=180,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ast_child=180,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Attr(student_id=”124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600" y="5095800"/>
              <a:ext cx="60336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1960" y="4700520"/>
              <a:ext cx="32828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2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Enroll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40, prev=100, next=nil, no children, no attribute, #PCDATA=”CS20”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00" y="4700520"/>
              <a:ext cx="603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1960" y="4305240"/>
              <a:ext cx="32828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2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Enroll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40, prev=80, next=120, no children, no attribute,#PCDATA=”CS1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" y="4305240"/>
              <a:ext cx="603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1960" y="3909960"/>
              <a:ext cx="32828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2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40, prev=nil, next=100, no children, no attribute, #PCDATA=”St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600" y="3909960"/>
              <a:ext cx="603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1960" y="3514680"/>
              <a:ext cx="32828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4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0, prev=nil, next=140, first_child=80, last_child=120, Attr(student_id=”123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600" y="3514680"/>
              <a:ext cx="603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1960" y="3138480"/>
              <a:ext cx="328284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Length=40, </a:t>
              </a:r>
              <a:r>
                <a:rPr b="1" lang="el-GR" sz="1000" spc="-1" strike="noStrike">
                  <a:solidFill>
                    <a:srgbClr val="000000"/>
                  </a:solidFill>
                  <a:latin typeface="Tahoma"/>
                </a:rPr>
                <a:t>Dept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, parent=nil, prev=nil, next=nil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,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first_child=40, last_child=140, Attr(dept_id=”dept1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8600" y="3138480"/>
              <a:ext cx="60336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1960" y="2895480"/>
              <a:ext cx="3282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co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8600" y="2895480"/>
              <a:ext cx="60336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ff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8600" y="2895480"/>
              <a:ext cx="3886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8600" y="313848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8600" y="351468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600" y="390996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8600" y="430524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8600" y="470052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" y="509580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" y="5643720"/>
              <a:ext cx="388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8600" y="6075360"/>
              <a:ext cx="3886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2895480"/>
              <a:ext cx="0" cy="317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1960" y="2895480"/>
              <a:ext cx="0" cy="317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4800" y="2895480"/>
              <a:ext cx="0" cy="317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8600" y="25146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ahoma"/>
                </a:rPr>
                <a:t>Αντικείμενο-Αρχεί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Συγκρίσεις – Επιδόσει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υγκρίσεις – Επιδόσει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Χρησιμοποιήθηκαν δύο συστήματ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ρχεί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ερίπου 130ΜΒ το καθέν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Για τις πέντε στρατηγικές αποθήκευσης μελετήθηκ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ποθηκευτικός χώρο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Χρόνος αναδόμησης των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εγγράφ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πόκριση σε ερωτήματ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contai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7" name="BS02064_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12193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676520" y="6094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Μ.Ο. Αποθηκευτικού χώρου (Μ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544760" y="1787400"/>
          <a:ext cx="6837120" cy="40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1787400"/>
                    <a:ext cx="683712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676520" y="6094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Μ.Ο. Ανακατασκευή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ρχείου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8374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05740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πόκριση σε ερωτήμα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55022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505" name=""/>
          <p:cNvGrpSpPr/>
          <p:nvPr/>
        </p:nvGrpSpPr>
        <p:grpSpPr>
          <a:xfrm>
            <a:off x="6807240" y="1371600"/>
            <a:ext cx="1898280" cy="1142640"/>
            <a:chOff x="6807240" y="1371600"/>
            <a:chExt cx="1898280" cy="1142640"/>
          </a:xfrm>
        </p:grpSpPr>
        <p:grpSp>
          <p:nvGrpSpPr>
            <p:cNvPr id="506" name=""/>
            <p:cNvGrpSpPr/>
            <p:nvPr/>
          </p:nvGrpSpPr>
          <p:grpSpPr>
            <a:xfrm>
              <a:off x="6873120" y="1371600"/>
              <a:ext cx="1716120" cy="1142640"/>
              <a:chOff x="6873120" y="1371600"/>
              <a:chExt cx="1716120" cy="1142640"/>
            </a:xfrm>
          </p:grpSpPr>
          <p:sp>
            <p:nvSpPr>
              <p:cNvPr id="507" name=""/>
              <p:cNvSpPr/>
              <p:nvPr/>
            </p:nvSpPr>
            <p:spPr>
              <a:xfrm>
                <a:off x="6873120" y="1371600"/>
                <a:ext cx="1716120" cy="38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73120" y="1752480"/>
                <a:ext cx="171612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73120" y="2133360"/>
                <a:ext cx="17161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807240" y="1436400"/>
              <a:ext cx="1898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ahoma"/>
                </a:rPr>
                <a:t>6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ahoma"/>
                </a:rPr>
                <a:t>2 set contai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ahoma"/>
                </a:rPr>
                <a:t>2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609480" y="685800"/>
          <a:ext cx="2880000" cy="171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28800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09480" y="2448000"/>
          <a:ext cx="2057400" cy="1722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48000"/>
                    <a:ext cx="205740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5" name=""/>
          <p:cNvGrpSpPr/>
          <p:nvPr/>
        </p:nvGrpSpPr>
        <p:grpSpPr>
          <a:xfrm>
            <a:off x="2666880" y="685800"/>
            <a:ext cx="1067040" cy="1752480"/>
            <a:chOff x="2666880" y="685800"/>
            <a:chExt cx="1067040" cy="1752480"/>
          </a:xfrm>
        </p:grpSpPr>
        <p:sp>
          <p:nvSpPr>
            <p:cNvPr id="516" name=""/>
            <p:cNvSpPr/>
            <p:nvPr/>
          </p:nvSpPr>
          <p:spPr>
            <a:xfrm>
              <a:off x="2666880" y="685800"/>
              <a:ext cx="106704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66880" y="76176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8" name=""/>
          <p:cNvGraphicFramePr/>
          <p:nvPr/>
        </p:nvGraphicFramePr>
        <p:xfrm>
          <a:off x="609480" y="4200480"/>
          <a:ext cx="2025720" cy="2048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200480"/>
                    <a:ext cx="20257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2971800" y="60948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υμπεράσμα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9520" y="1523880"/>
            <a:ext cx="6019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 2ος τρόπος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TD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 παρουσιάζει πολύ καλές επιδόσεις, μπορεί όμως να εφαρμοστεί μόνο στις περιπτώσεις που υπάρχουν τ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 3ος (Ακμές) και 4ος (Ιδιότητες) παρουσιάζουν παρόμοιες μεταξύ του επιδόσεις, σαφώς κατώτερες από τον 2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 1ος (Κείμενο) και ο 5ος (Αντικείμενα) παρουσιάζουν αντίστοιχες επιδό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809880" y="4648320"/>
            <a:ext cx="4343400" cy="1523880"/>
            <a:chOff x="3809880" y="4648320"/>
            <a:chExt cx="4343400" cy="1523880"/>
          </a:xfrm>
        </p:grpSpPr>
        <p:sp>
          <p:nvSpPr>
            <p:cNvPr id="523" name=""/>
            <p:cNvSpPr/>
            <p:nvPr/>
          </p:nvSpPr>
          <p:spPr>
            <a:xfrm>
              <a:off x="3809880" y="4648320"/>
              <a:ext cx="4343400" cy="15238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8480" y="4876920"/>
              <a:ext cx="3962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Η τελική επιλογή εξαρτάτα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από την ιδιαίτερη περίπτωσ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που αντιμετωπίζουμ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Εισαγωγή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1337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ποτελεί το νέο πρότυπο για την απεικόνιση και ανταλλαγή δεδομένων στο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Ανάλογα με τον τρόπο αποθήκευσης το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γγράφου ποικίλει ο χρόνος απόκρισης σε ένα ερώτημα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οιος είναι ο πιο αποδοτικό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ρόπος αποθήκευση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800600"/>
            <a:ext cx="47242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10000"/>
              </a:lnSpc>
              <a:spcBef>
                <a:spcPts val="4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S. Abiteboul, P. Buneman, D. Suciu, “Data on the Web, From Relations to Semiconstructed Data and XML”, Morgan Kaufmann Publishers, 200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10000"/>
              </a:lnSpc>
              <a:spcBef>
                <a:spcPts val="4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Feng Tian, David J. DeWitt, Jianjun Chen, Chun Zhang, “The Design and Performance Evaluation of Alternative XML Storage Strategies”, SIGMOD Record 31(1), 2002, [paper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10000"/>
              </a:lnSpc>
              <a:spcBef>
                <a:spcPts val="4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D. Florescu, D. Kossmann, “Storing and Quering XML Data using an RDBMS”, IEEE Data Engineering Bulletin 22(3), 1999, [paper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10000"/>
              </a:lnSpc>
              <a:spcBef>
                <a:spcPts val="4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C. Kanne, G. Moerkotte, “Efficient Storage of XML Data”, ICDE 2000, [paper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10000"/>
              </a:lnSpc>
              <a:spcBef>
                <a:spcPts val="4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R. Goldman, J. McHugh, J. Widom, “From semiconstructed data to XML migrating the Lore data model and query language”, [paper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110000"/>
              </a:lnSpc>
              <a:spcBef>
                <a:spcPts val="400"/>
              </a:spcBef>
              <a:buClr>
                <a:srgbClr val="00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J. Shanmugasundaram, K. Tuftc, C. Zhang, D. DeWitt, J. Naughton, “Relational Databases for Querying XML Documents: Limitations and Opportunities”, VLDB 1999, [paper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01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2971800" y="60948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Βιβλιογραφί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BS00554_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121932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Γράφημα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484440" y="2514600"/>
            <a:ext cx="1258920" cy="1143000"/>
            <a:chOff x="3484440" y="2514600"/>
            <a:chExt cx="1258920" cy="1143000"/>
          </a:xfrm>
        </p:grpSpPr>
        <p:sp>
          <p:nvSpPr>
            <p:cNvPr id="105" name=""/>
            <p:cNvSpPr/>
            <p:nvPr/>
          </p:nvSpPr>
          <p:spPr>
            <a:xfrm flipH="1">
              <a:off x="4094280" y="2514600"/>
              <a:ext cx="249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4440" y="3251160"/>
              <a:ext cx="125892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952880" y="2209680"/>
            <a:ext cx="3027600" cy="1447920"/>
            <a:chOff x="4952880" y="2209680"/>
            <a:chExt cx="3027600" cy="1447920"/>
          </a:xfrm>
        </p:grpSpPr>
        <p:sp>
          <p:nvSpPr>
            <p:cNvPr id="108" name=""/>
            <p:cNvSpPr/>
            <p:nvPr/>
          </p:nvSpPr>
          <p:spPr>
            <a:xfrm>
              <a:off x="4952880" y="2209680"/>
              <a:ext cx="21132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21560" y="3251160"/>
              <a:ext cx="125892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65280" y="2260440"/>
            <a:ext cx="3080880" cy="1447920"/>
            <a:chOff x="665280" y="2260440"/>
            <a:chExt cx="3080880" cy="1447920"/>
          </a:xfrm>
        </p:grpSpPr>
        <p:sp>
          <p:nvSpPr>
            <p:cNvPr id="111" name=""/>
            <p:cNvSpPr/>
            <p:nvPr/>
          </p:nvSpPr>
          <p:spPr>
            <a:xfrm flipH="1">
              <a:off x="1447560" y="2260440"/>
              <a:ext cx="22986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65280" y="3098880"/>
              <a:ext cx="1439280" cy="609480"/>
              <a:chOff x="665280" y="3098880"/>
              <a:chExt cx="1439280" cy="609480"/>
            </a:xfrm>
          </p:grpSpPr>
          <p:sp>
            <p:nvSpPr>
              <p:cNvPr id="113" name=""/>
              <p:cNvSpPr/>
              <p:nvPr/>
            </p:nvSpPr>
            <p:spPr>
              <a:xfrm>
                <a:off x="665280" y="3098880"/>
                <a:ext cx="14392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dept_id= “dept1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5280" y="3098880"/>
                <a:ext cx="1394280" cy="6094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1046160" y="3505320"/>
            <a:ext cx="4572000" cy="2209680"/>
            <a:chOff x="1046160" y="3505320"/>
            <a:chExt cx="4572000" cy="2209680"/>
          </a:xfrm>
        </p:grpSpPr>
        <p:grpSp>
          <p:nvGrpSpPr>
            <p:cNvPr id="116" name=""/>
            <p:cNvGrpSpPr/>
            <p:nvPr/>
          </p:nvGrpSpPr>
          <p:grpSpPr>
            <a:xfrm>
              <a:off x="2541600" y="3657600"/>
              <a:ext cx="1247400" cy="1130400"/>
              <a:chOff x="2541600" y="3657600"/>
              <a:chExt cx="1247400" cy="113040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3026880" y="3657600"/>
                <a:ext cx="76212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41600" y="4381560"/>
                <a:ext cx="934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046160" y="3505320"/>
              <a:ext cx="2438280" cy="1384200"/>
              <a:chOff x="1046160" y="3505320"/>
              <a:chExt cx="2438280" cy="138420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1731960" y="3505320"/>
                <a:ext cx="175248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046160" y="4280040"/>
                <a:ext cx="1439640" cy="609480"/>
                <a:chOff x="1046160" y="4280040"/>
                <a:chExt cx="1439640" cy="609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046160" y="4280040"/>
                  <a:ext cx="1439640" cy="60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student_id= “123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46160" y="4280040"/>
                  <a:ext cx="1394640" cy="60948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2649600" y="4775040"/>
              <a:ext cx="718920" cy="939960"/>
              <a:chOff x="2649600" y="4775040"/>
              <a:chExt cx="718920" cy="939960"/>
            </a:xfrm>
          </p:grpSpPr>
          <p:sp>
            <p:nvSpPr>
              <p:cNvPr id="125" name=""/>
              <p:cNvSpPr/>
              <p:nvPr/>
            </p:nvSpPr>
            <p:spPr>
              <a:xfrm>
                <a:off x="3009960" y="47750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649600" y="5308560"/>
                <a:ext cx="718920" cy="406440"/>
                <a:chOff x="2649600" y="5308560"/>
                <a:chExt cx="718920" cy="406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649600" y="5308560"/>
                  <a:ext cx="71892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St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49600" y="5308560"/>
                  <a:ext cx="696240" cy="40644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3724200" y="4775040"/>
              <a:ext cx="719280" cy="939960"/>
              <a:chOff x="3724200" y="4775040"/>
              <a:chExt cx="719280" cy="939960"/>
            </a:xfrm>
          </p:grpSpPr>
          <p:sp>
            <p:nvSpPr>
              <p:cNvPr id="130" name=""/>
              <p:cNvSpPr/>
              <p:nvPr/>
            </p:nvSpPr>
            <p:spPr>
              <a:xfrm>
                <a:off x="4084560" y="47750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3724200" y="5308560"/>
                <a:ext cx="719280" cy="406440"/>
                <a:chOff x="3724200" y="5308560"/>
                <a:chExt cx="719280" cy="406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24200" y="5308560"/>
                  <a:ext cx="71928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S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24200" y="5308560"/>
                  <a:ext cx="696600" cy="40644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791240" y="4775040"/>
              <a:ext cx="718920" cy="939960"/>
              <a:chOff x="4791240" y="4775040"/>
              <a:chExt cx="718920" cy="939960"/>
            </a:xfrm>
          </p:grpSpPr>
          <p:sp>
            <p:nvSpPr>
              <p:cNvPr id="135" name=""/>
              <p:cNvSpPr/>
              <p:nvPr/>
            </p:nvSpPr>
            <p:spPr>
              <a:xfrm>
                <a:off x="5151600" y="47750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791240" y="5308560"/>
                <a:ext cx="718920" cy="406440"/>
                <a:chOff x="4791240" y="5308560"/>
                <a:chExt cx="718920" cy="406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791240" y="5308560"/>
                  <a:ext cx="71892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S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91240" y="5308560"/>
                  <a:ext cx="696240" cy="40644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3616200" y="3657600"/>
              <a:ext cx="935280" cy="1130400"/>
              <a:chOff x="3616200" y="3657600"/>
              <a:chExt cx="935280" cy="113040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4093920" y="3657600"/>
                <a:ext cx="75960" cy="7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16200" y="4381560"/>
                <a:ext cx="93528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Enro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475160" y="3657600"/>
              <a:ext cx="1143000" cy="1130400"/>
              <a:chOff x="4475160" y="3657600"/>
              <a:chExt cx="1143000" cy="1130400"/>
            </a:xfrm>
          </p:grpSpPr>
          <p:sp>
            <p:nvSpPr>
              <p:cNvPr id="143" name=""/>
              <p:cNvSpPr/>
              <p:nvPr/>
            </p:nvSpPr>
            <p:spPr>
              <a:xfrm>
                <a:off x="4475160" y="3657600"/>
                <a:ext cx="685800" cy="7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83240" y="4381560"/>
                <a:ext cx="934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Enro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6159600" y="3657600"/>
            <a:ext cx="2450880" cy="2057400"/>
            <a:chOff x="6159600" y="3657600"/>
            <a:chExt cx="2450880" cy="2057400"/>
          </a:xfrm>
        </p:grpSpPr>
        <p:grpSp>
          <p:nvGrpSpPr>
            <p:cNvPr id="146" name=""/>
            <p:cNvGrpSpPr/>
            <p:nvPr/>
          </p:nvGrpSpPr>
          <p:grpSpPr>
            <a:xfrm>
              <a:off x="6159600" y="3657600"/>
              <a:ext cx="1439280" cy="1231920"/>
              <a:chOff x="6159600" y="3657600"/>
              <a:chExt cx="1439280" cy="123192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6837120" y="3657600"/>
                <a:ext cx="2286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159600" y="4280040"/>
                <a:ext cx="1439280" cy="609480"/>
                <a:chOff x="6159600" y="4280040"/>
                <a:chExt cx="1439280" cy="60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159600" y="4280040"/>
                  <a:ext cx="1439280" cy="60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student_id= “124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159600" y="4280040"/>
                  <a:ext cx="1394280" cy="60948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7783560" y="4775040"/>
              <a:ext cx="718920" cy="939960"/>
              <a:chOff x="7783560" y="4775040"/>
              <a:chExt cx="718920" cy="939960"/>
            </a:xfrm>
          </p:grpSpPr>
          <p:sp>
            <p:nvSpPr>
              <p:cNvPr id="152" name=""/>
              <p:cNvSpPr/>
              <p:nvPr/>
            </p:nvSpPr>
            <p:spPr>
              <a:xfrm>
                <a:off x="8143920" y="47750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7783560" y="5308560"/>
                <a:ext cx="718920" cy="406440"/>
                <a:chOff x="7783560" y="5308560"/>
                <a:chExt cx="718920" cy="406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783560" y="5308560"/>
                  <a:ext cx="71892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St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783560" y="5308560"/>
                  <a:ext cx="696240" cy="40644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7523280" y="3657600"/>
              <a:ext cx="1087200" cy="1130400"/>
              <a:chOff x="7523280" y="3657600"/>
              <a:chExt cx="1087200" cy="1130400"/>
            </a:xfrm>
          </p:grpSpPr>
          <p:sp>
            <p:nvSpPr>
              <p:cNvPr id="157" name=""/>
              <p:cNvSpPr/>
              <p:nvPr/>
            </p:nvSpPr>
            <p:spPr>
              <a:xfrm>
                <a:off x="7523280" y="3657600"/>
                <a:ext cx="6094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75560" y="4381560"/>
                <a:ext cx="934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3789360" y="1981080"/>
            <a:ext cx="1258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Έγγραφο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XM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81080" y="2133720"/>
            <a:ext cx="5562720" cy="3504960"/>
            <a:chOff x="1981080" y="2133720"/>
            <a:chExt cx="5562720" cy="3504960"/>
          </a:xfrm>
        </p:grpSpPr>
        <p:sp>
          <p:nvSpPr>
            <p:cNvPr id="162" name=""/>
            <p:cNvSpPr/>
            <p:nvPr/>
          </p:nvSpPr>
          <p:spPr>
            <a:xfrm flipV="1">
              <a:off x="1981080" y="2133360"/>
              <a:ext cx="5410440" cy="35049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7400" y="2133720"/>
              <a:ext cx="54864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?xml version=”1.0”?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!DOCTYPE Dept SYSTEM “Dept.dtd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r>
                <a:rPr b="0" lang="el-GR" sz="2000" spc="-1" strike="noStrike">
                  <a:solidFill>
                    <a:srgbClr val="6600ff"/>
                  </a:solidFill>
                  <a:latin typeface="Tahoma"/>
                </a:rPr>
                <a:t>Dept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 dept_id=“dept1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r>
                <a:rPr b="0" lang="el-GR" sz="2000" spc="-1" strike="noStrike">
                  <a:solidFill>
                    <a:srgbClr val="6600ff"/>
                  </a:solidFill>
                  <a:latin typeface="Tahoma"/>
                </a:rPr>
                <a:t>Student 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student_id=“123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r>
                <a:rPr b="0" lang="el-GR" sz="2000" spc="-1" strike="noStrike">
                  <a:solidFill>
                    <a:srgbClr val="6600ff"/>
                  </a:solidFill>
                  <a:latin typeface="Tahoma"/>
                </a:rPr>
                <a:t>Name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gt;St1&lt;/Name&gt;&lt;</a:t>
              </a:r>
              <a:r>
                <a:rPr b="0" lang="el-GR" sz="2000" spc="-1" strike="noStrike">
                  <a:solidFill>
                    <a:srgbClr val="6600ff"/>
                  </a:solidFill>
                  <a:latin typeface="Tahoma"/>
                </a:rPr>
                <a:t>Enroll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gt;CS10&lt;/Enroll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Enroll&gt;CS20&lt;/Enroll&gt;&lt;/Studen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Student student_id=“124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Name&gt;St2&lt;/Name&gt;&lt;/Studen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lt;/Dep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105520" y="2438280"/>
            <a:ext cx="1371600" cy="60984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TD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 Type Definition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040" y="2133360"/>
            <a:ext cx="6629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εριλαμβάνει τη γραμματική τη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ναπαράσταση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2666880"/>
            <a:ext cx="5791320" cy="2895840"/>
            <a:chOff x="1981080" y="2666880"/>
            <a:chExt cx="5791320" cy="2895840"/>
          </a:xfrm>
        </p:grpSpPr>
        <p:sp>
          <p:nvSpPr>
            <p:cNvPr id="168" name=""/>
            <p:cNvSpPr/>
            <p:nvPr/>
          </p:nvSpPr>
          <p:spPr>
            <a:xfrm flipV="1">
              <a:off x="1981080" y="2666520"/>
              <a:ext cx="5791320" cy="28958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2666880"/>
              <a:ext cx="5410080" cy="28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?xml?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!ELEMENT </a:t>
              </a:r>
              <a:r>
                <a:rPr b="0" lang="el-GR" sz="1800" spc="-1" strike="noStrike">
                  <a:solidFill>
                    <a:srgbClr val="6600ff"/>
                  </a:solidFill>
                  <a:latin typeface="Tahoma"/>
                </a:rPr>
                <a:t>Dept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(Student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!ATTLIST Dept </a:t>
              </a:r>
              <a:r>
                <a:rPr b="0" lang="el-GR" sz="1800" spc="-1" strike="noStrike">
                  <a:solidFill>
                    <a:srgbClr val="00cc00"/>
                  </a:solidFill>
                  <a:latin typeface="Tahoma"/>
                </a:rPr>
                <a:t>dept_id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!ELEME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l-GR" sz="1800" spc="-1" strike="noStrike">
                  <a:solidFill>
                    <a:srgbClr val="6600ff"/>
                  </a:solidFill>
                  <a:latin typeface="Tahoma"/>
                </a:rPr>
                <a:t>Student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(Name, Enroll*)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!ATTLIST Student </a:t>
              </a:r>
              <a:r>
                <a:rPr b="0" lang="el-GR" sz="1800" spc="-1" strike="noStrike">
                  <a:solidFill>
                    <a:srgbClr val="00cc00"/>
                  </a:solidFill>
                  <a:latin typeface="Tahoma"/>
                </a:rPr>
                <a:t>student_id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ID #REQUI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!ELEMENT </a:t>
              </a:r>
              <a:r>
                <a:rPr b="0" lang="el-GR" sz="1800" spc="-1" strike="noStrike">
                  <a:solidFill>
                    <a:srgbClr val="6600ff"/>
                  </a:solidFill>
                  <a:latin typeface="Tahoma"/>
                </a:rPr>
                <a:t>Name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#PCDATA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&lt;!ELEMENT </a:t>
              </a:r>
              <a:r>
                <a:rPr b="0" lang="el-GR" sz="1800" spc="-1" strike="noStrike">
                  <a:solidFill>
                    <a:srgbClr val="6600ff"/>
                  </a:solidFill>
                  <a:latin typeface="Tahoma"/>
                </a:rPr>
                <a:t>Enroll</a:t>
              </a:r>
              <a:r>
                <a:rPr b="0" lang="el-GR" sz="1800" spc="-1" strike="noStrike">
                  <a:solidFill>
                    <a:srgbClr val="000000"/>
                  </a:solidFill>
                  <a:latin typeface="Tahoma"/>
                </a:rPr>
                <a:t> #PCDATA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6840" y="248256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Στρατηγικές Αποθήκευσης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εγγράφω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1ος τρόπο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586400" y="4959360"/>
            <a:ext cx="432108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λό στ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ύλληψη και την υλοποίη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ργή απόκριση σε ερωτή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πιβαρύνει τη μνήμ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7280" y="2503440"/>
            <a:ext cx="3535200" cy="2388960"/>
            <a:chOff x="557280" y="2503440"/>
            <a:chExt cx="3535200" cy="2388960"/>
          </a:xfrm>
        </p:grpSpPr>
        <p:grpSp>
          <p:nvGrpSpPr>
            <p:cNvPr id="174" name=""/>
            <p:cNvGrpSpPr/>
            <p:nvPr/>
          </p:nvGrpSpPr>
          <p:grpSpPr>
            <a:xfrm>
              <a:off x="557280" y="2910960"/>
              <a:ext cx="3535200" cy="1981440"/>
              <a:chOff x="557280" y="2910960"/>
              <a:chExt cx="3535200" cy="1981440"/>
            </a:xfrm>
          </p:grpSpPr>
          <p:sp>
            <p:nvSpPr>
              <p:cNvPr id="175" name=""/>
              <p:cNvSpPr/>
              <p:nvPr/>
            </p:nvSpPr>
            <p:spPr>
              <a:xfrm>
                <a:off x="663480" y="2911320"/>
                <a:ext cx="34290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?xml version=”1.0”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!DOCTYPE Dept SYSTEM “Dept.dtd”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Dept dept_id=“dept1”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Student student_id=“123”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Name&gt;St1&lt;/Name&gt;&lt;Enroll&gt;CS10&lt;/Enroll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Enroll&gt;CS20&lt;/Enroll&gt;&lt;/Studen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Student student_id=“124”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Name&gt;St2&lt;/Name&gt;&lt;/Studen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lt;/De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ahoma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557280" y="2910240"/>
                <a:ext cx="3458880" cy="1981080"/>
              </a:xfrm>
              <a:prstGeom prst="foldedCorner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706320" y="2503440"/>
              <a:ext cx="158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ahoma"/>
                </a:rPr>
                <a:t>Έγγραφο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ποθήκευση ως αρχείο κειμέν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86400" y="1951200"/>
            <a:ext cx="430344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Για να εκτελεστεί ένα ερώτημα, αναλύεται (par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) το αρχείο σε γράφημ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Το γράφημα παραμένει στη μνήμη όσο χρειαστε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1ος τρόπος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v.1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586400" y="5186520"/>
            <a:ext cx="40161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χύτερη απόκριση σε ερωτή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υσκολότερη συντήρησ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σε περίπτωση συχνών αλλαγ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ποθήκευση ως αρχείο κειμέν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86400" y="1811160"/>
            <a:ext cx="43034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Προ-επεξεργασία του αρχεί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και δημιουργία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προς τμήματα του αρχεί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91080" y="3381480"/>
            <a:ext cx="339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dex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ονοπατιού (πατέρας-&gt;παιδί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άστροφου μονοπατιού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g / attribute -&gt;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2773440"/>
            <a:ext cx="4952160" cy="2133360"/>
            <a:chOff x="0" y="2773440"/>
            <a:chExt cx="4952160" cy="2133360"/>
          </a:xfrm>
        </p:grpSpPr>
        <p:grpSp>
          <p:nvGrpSpPr>
            <p:cNvPr id="188" name=""/>
            <p:cNvGrpSpPr/>
            <p:nvPr/>
          </p:nvGrpSpPr>
          <p:grpSpPr>
            <a:xfrm>
              <a:off x="1757160" y="3078000"/>
              <a:ext cx="784800" cy="653040"/>
              <a:chOff x="1757160" y="3078000"/>
              <a:chExt cx="784800" cy="65304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2136960" y="3078000"/>
                <a:ext cx="15516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57160" y="3498840"/>
                <a:ext cx="784800" cy="232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tud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672640" y="2903760"/>
              <a:ext cx="1886760" cy="827280"/>
              <a:chOff x="2672640" y="2903760"/>
              <a:chExt cx="1886760" cy="827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672640" y="2903760"/>
                <a:ext cx="13172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74960" y="3498840"/>
                <a:ext cx="784440" cy="232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tud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2932920"/>
              <a:ext cx="1920600" cy="826920"/>
              <a:chOff x="0" y="2932920"/>
              <a:chExt cx="1920600" cy="82692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487800" y="2932920"/>
                <a:ext cx="143280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0" y="3411720"/>
                <a:ext cx="897120" cy="348120"/>
                <a:chOff x="0" y="3411720"/>
                <a:chExt cx="897120" cy="348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0" y="3411720"/>
                  <a:ext cx="897120" cy="34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ahoma"/>
                    </a:rPr>
                    <a:t>dept_id= “dept1”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0" y="3411720"/>
                  <a:ext cx="868680" cy="34812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237240" y="3644280"/>
              <a:ext cx="2850120" cy="1262520"/>
              <a:chOff x="237240" y="3644280"/>
              <a:chExt cx="2850120" cy="126252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169280" y="3731040"/>
                <a:ext cx="776880" cy="645840"/>
                <a:chOff x="1169280" y="3731040"/>
                <a:chExt cx="776880" cy="6458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>
                  <a:off x="1471320" y="3731040"/>
                  <a:ext cx="474840" cy="44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69280" y="4144680"/>
                  <a:ext cx="582480" cy="232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a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37240" y="3644280"/>
                <a:ext cx="1519560" cy="790560"/>
                <a:chOff x="237240" y="3644280"/>
                <a:chExt cx="1519560" cy="79056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664560" y="3644280"/>
                  <a:ext cx="1092240" cy="44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237240" y="4086720"/>
                  <a:ext cx="897480" cy="348120"/>
                  <a:chOff x="237240" y="4086720"/>
                  <a:chExt cx="897480" cy="3481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37240" y="4086720"/>
                    <a:ext cx="897480" cy="34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ahoma"/>
                      </a:rPr>
                      <a:t>student_id= “123”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37240" y="4086720"/>
                    <a:ext cx="869040" cy="34812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1236600" y="4369680"/>
                <a:ext cx="447840" cy="537120"/>
                <a:chOff x="1236600" y="4369680"/>
                <a:chExt cx="447840" cy="537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460880" y="43696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1236600" y="4674600"/>
                  <a:ext cx="447840" cy="232200"/>
                  <a:chOff x="1236600" y="4674600"/>
                  <a:chExt cx="447840" cy="232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1236600" y="4674600"/>
                    <a:ext cx="447840" cy="232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ahoma"/>
                      </a:rPr>
                      <a:t>St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236600" y="4674600"/>
                    <a:ext cx="433800" cy="2322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1906560" y="4369680"/>
                <a:ext cx="448200" cy="537120"/>
                <a:chOff x="1906560" y="4369680"/>
                <a:chExt cx="448200" cy="5371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130840" y="43696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1906560" y="4674600"/>
                  <a:ext cx="448200" cy="232200"/>
                  <a:chOff x="1906560" y="4674600"/>
                  <a:chExt cx="448200" cy="2322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1906560" y="4674600"/>
                    <a:ext cx="448200" cy="232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ahoma"/>
                      </a:rPr>
                      <a:t>CS1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906560" y="4674600"/>
                    <a:ext cx="434160" cy="2322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2571840" y="4369680"/>
                <a:ext cx="447840" cy="537120"/>
                <a:chOff x="2571840" y="4369680"/>
                <a:chExt cx="447840" cy="5371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96120" y="43696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571840" y="4674600"/>
                  <a:ext cx="447840" cy="232200"/>
                  <a:chOff x="2571840" y="4674600"/>
                  <a:chExt cx="447840" cy="232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571840" y="4674600"/>
                    <a:ext cx="447840" cy="232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ahoma"/>
                      </a:rPr>
                      <a:t>CS2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571840" y="4674600"/>
                    <a:ext cx="433800" cy="2322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3" name=""/>
              <p:cNvGrpSpPr/>
              <p:nvPr/>
            </p:nvGrpSpPr>
            <p:grpSpPr>
              <a:xfrm>
                <a:off x="1839240" y="3731040"/>
                <a:ext cx="582840" cy="645840"/>
                <a:chOff x="1839240" y="3731040"/>
                <a:chExt cx="582840" cy="645840"/>
              </a:xfrm>
            </p:grpSpPr>
            <p:sp>
              <p:nvSpPr>
                <p:cNvPr id="224" name=""/>
                <p:cNvSpPr/>
                <p:nvPr/>
              </p:nvSpPr>
              <p:spPr>
                <a:xfrm flipH="1">
                  <a:off x="2136600" y="3731040"/>
                  <a:ext cx="4716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39240" y="4144680"/>
                  <a:ext cx="582840" cy="232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Enrol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374920" y="3731040"/>
                <a:ext cx="712440" cy="645840"/>
                <a:chOff x="2374920" y="3731040"/>
                <a:chExt cx="712440" cy="6458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374920" y="3731040"/>
                  <a:ext cx="42732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504520" y="4144680"/>
                  <a:ext cx="582840" cy="232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Enrol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3425040" y="3731040"/>
              <a:ext cx="1527120" cy="1174680"/>
              <a:chOff x="3425040" y="3731040"/>
              <a:chExt cx="1527120" cy="11746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425040" y="3731040"/>
                <a:ext cx="897480" cy="703800"/>
                <a:chOff x="3425040" y="3731040"/>
                <a:chExt cx="897480" cy="7038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3847320" y="3731040"/>
                  <a:ext cx="142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3425040" y="4086720"/>
                  <a:ext cx="897480" cy="348120"/>
                  <a:chOff x="3425040" y="4086720"/>
                  <a:chExt cx="897480" cy="3481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3425040" y="4086720"/>
                    <a:ext cx="897480" cy="34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ahoma"/>
                      </a:rPr>
                      <a:t>student_id= “124”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425040" y="4086720"/>
                    <a:ext cx="869040" cy="34812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4437360" y="4369320"/>
                <a:ext cx="448200" cy="536400"/>
                <a:chOff x="4437360" y="4369320"/>
                <a:chExt cx="448200" cy="536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62000" y="436932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4437360" y="4673880"/>
                  <a:ext cx="448200" cy="231840"/>
                  <a:chOff x="4437360" y="4673880"/>
                  <a:chExt cx="448200" cy="2318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4437360" y="4673880"/>
                    <a:ext cx="448200" cy="231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ahoma"/>
                      </a:rPr>
                      <a:t>St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437360" y="4673880"/>
                    <a:ext cx="434160" cy="23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4275000" y="3731040"/>
                <a:ext cx="677160" cy="645840"/>
                <a:chOff x="4275000" y="3731040"/>
                <a:chExt cx="677160" cy="645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275000" y="3731040"/>
                  <a:ext cx="37980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69680" y="4144680"/>
                  <a:ext cx="582480" cy="232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Na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947240" y="2773440"/>
              <a:ext cx="784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e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3000" y="537840"/>
            <a:ext cx="5257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ahoma"/>
              </a:rPr>
              <a:t>2ος τρόπο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5678640" y="4467240"/>
            <a:ext cx="33541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ρηγορότερ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ιο ευέλικτο σε αλλα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ιο πολύπλοκ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822d"/>
              </a:buClr>
              <a:buSzPct val="1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πόκειται σε περιορισμούς βάσεων δεδομένων και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BD04924_" descr=""/>
          <p:cNvPicPr/>
          <p:nvPr/>
        </p:nvPicPr>
        <p:blipFill>
          <a:blip r:embed="rId1"/>
          <a:stretch/>
        </p:blipFill>
        <p:spPr>
          <a:xfrm>
            <a:off x="2714760" y="304920"/>
            <a:ext cx="768240" cy="1036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478320" y="1155600"/>
            <a:ext cx="5357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ποθήκευση σε βάση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1811160"/>
            <a:ext cx="46796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Απομονώνει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lements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 από το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και δημιουργεί πίνακ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ε μια σχεσιακή βάσ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2560" y="1630440"/>
            <a:ext cx="3240000" cy="1872720"/>
            <a:chOff x="52560" y="1630440"/>
            <a:chExt cx="3240000" cy="1872720"/>
          </a:xfrm>
        </p:grpSpPr>
        <p:sp>
          <p:nvSpPr>
            <p:cNvPr id="250" name=""/>
            <p:cNvSpPr/>
            <p:nvPr/>
          </p:nvSpPr>
          <p:spPr>
            <a:xfrm>
              <a:off x="112320" y="1630440"/>
              <a:ext cx="651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T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92160" y="1923120"/>
              <a:ext cx="3136680" cy="15793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560" y="1941480"/>
              <a:ext cx="324000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?xml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l-GR" sz="1200" spc="-1" strike="noStrike">
                  <a:solidFill>
                    <a:srgbClr val="00cc00"/>
                  </a:solidFill>
                  <a:latin typeface="Tahoma"/>
                </a:rPr>
                <a:t>Dep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(Student*)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ATTLIS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Dept dept_id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I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REQUIRE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l-GR" sz="1200" spc="-1" strike="noStrike">
                  <a:solidFill>
                    <a:srgbClr val="00cc00"/>
                  </a:solidFill>
                  <a:latin typeface="Tahoma"/>
                </a:rPr>
                <a:t>Stud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(Name, Enroll*)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ATTLIS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Student student_id 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I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REQUIRED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Name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PCDATA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lt;!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ELEMENT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l-GR" sz="1200" spc="-1" strike="noStrike">
                  <a:solidFill>
                    <a:srgbClr val="00cc00"/>
                  </a:solidFill>
                  <a:latin typeface="Tahoma"/>
                </a:rPr>
                <a:t>Enroll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 #</a:t>
              </a:r>
              <a:r>
                <a:rPr b="0" lang="el-GR" sz="1000" spc="-1" strike="noStrike">
                  <a:solidFill>
                    <a:srgbClr val="000000"/>
                  </a:solidFill>
                  <a:latin typeface="Tahoma"/>
                </a:rPr>
                <a:t>PCDATA</a:t>
              </a:r>
              <a:r>
                <a:rPr b="0" lang="el-GR" sz="12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414520" y="3676680"/>
            <a:ext cx="2525760" cy="2636280"/>
            <a:chOff x="2414520" y="3676680"/>
            <a:chExt cx="2525760" cy="2636280"/>
          </a:xfrm>
        </p:grpSpPr>
        <p:grpSp>
          <p:nvGrpSpPr>
            <p:cNvPr id="254" name=""/>
            <p:cNvGrpSpPr/>
            <p:nvPr/>
          </p:nvGrpSpPr>
          <p:grpSpPr>
            <a:xfrm>
              <a:off x="2746440" y="3676680"/>
              <a:ext cx="1860480" cy="736560"/>
              <a:chOff x="2746440" y="3676680"/>
              <a:chExt cx="1860480" cy="7365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746440" y="3961080"/>
                <a:ext cx="1860480" cy="452160"/>
                <a:chOff x="2746440" y="3961080"/>
                <a:chExt cx="1860480" cy="4521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863160" y="4187520"/>
                  <a:ext cx="743400" cy="225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ept1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555000" y="4187520"/>
                  <a:ext cx="307800" cy="225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746440" y="4187520"/>
                  <a:ext cx="808560" cy="225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863160" y="3961080"/>
                  <a:ext cx="743400" cy="22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ept_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55000" y="3961080"/>
                  <a:ext cx="307800" cy="22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746440" y="3961080"/>
                  <a:ext cx="808560" cy="22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Parent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746440" y="3961080"/>
                  <a:ext cx="186048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46440" y="4187520"/>
                  <a:ext cx="1860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46440" y="4413240"/>
                  <a:ext cx="186048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46440" y="3961080"/>
                  <a:ext cx="1080" cy="4521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555000" y="3961080"/>
                  <a:ext cx="1080" cy="45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863160" y="3961080"/>
                  <a:ext cx="0" cy="45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06920" y="3961080"/>
                  <a:ext cx="0" cy="4521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3261960" y="3676680"/>
                <a:ext cx="92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pt ta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414520" y="4438440"/>
              <a:ext cx="2525760" cy="973440"/>
              <a:chOff x="2414520" y="4438440"/>
              <a:chExt cx="2525760" cy="973440"/>
            </a:xfrm>
          </p:grpSpPr>
          <p:sp>
            <p:nvSpPr>
              <p:cNvPr id="271" name=""/>
              <p:cNvSpPr/>
              <p:nvPr/>
            </p:nvSpPr>
            <p:spPr>
              <a:xfrm>
                <a:off x="3117240" y="4438440"/>
                <a:ext cx="112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udent ta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414520" y="4708440"/>
                <a:ext cx="2525760" cy="703440"/>
                <a:chOff x="2414520" y="4708440"/>
                <a:chExt cx="2525760" cy="7034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403880" y="5180760"/>
                  <a:ext cx="536040" cy="23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St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87320" y="5180760"/>
                  <a:ext cx="916560" cy="23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124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192480" y="5180760"/>
                  <a:ext cx="294480" cy="23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14520" y="5180760"/>
                  <a:ext cx="777960" cy="23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03880" y="4935960"/>
                  <a:ext cx="536040" cy="24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St1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03880" y="4708440"/>
                  <a:ext cx="536040" cy="22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487320" y="4935960"/>
                  <a:ext cx="916560" cy="24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123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92480" y="4935960"/>
                  <a:ext cx="294480" cy="24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14520" y="4935960"/>
                  <a:ext cx="777960" cy="24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487320" y="4708440"/>
                  <a:ext cx="916560" cy="22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Student_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192480" y="4708440"/>
                  <a:ext cx="294480" cy="22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ahoma"/>
                    </a:rPr>
                    <a:t>I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414520" y="4708440"/>
                  <a:ext cx="777960" cy="22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Parent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14520" y="4708440"/>
                  <a:ext cx="25257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14520" y="4935960"/>
                  <a:ext cx="2525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414520" y="5411880"/>
                  <a:ext cx="25257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414520" y="4708440"/>
                  <a:ext cx="0" cy="703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192480" y="4708440"/>
                  <a:ext cx="0" cy="70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487320" y="4708440"/>
                  <a:ext cx="0" cy="70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940280" y="4708440"/>
                  <a:ext cx="0" cy="703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403880" y="4708440"/>
                  <a:ext cx="0" cy="70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14520" y="5180760"/>
                  <a:ext cx="2525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755800" y="5388120"/>
              <a:ext cx="1843200" cy="924840"/>
              <a:chOff x="2755800" y="5388120"/>
              <a:chExt cx="1843200" cy="9248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755800" y="5667120"/>
                <a:ext cx="1843200" cy="645840"/>
                <a:chOff x="2755800" y="5667120"/>
                <a:chExt cx="1843200" cy="6458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863160" y="6098400"/>
                  <a:ext cx="735480" cy="21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CS20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556800" y="6098400"/>
                  <a:ext cx="306360" cy="21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55800" y="6098400"/>
                  <a:ext cx="801000" cy="21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863160" y="5882760"/>
                  <a:ext cx="735480" cy="21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“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CS10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556800" y="5882760"/>
                  <a:ext cx="306360" cy="21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755800" y="5882760"/>
                  <a:ext cx="801000" cy="21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63160" y="5667120"/>
                  <a:ext cx="73548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TEX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556800" y="5667120"/>
                  <a:ext cx="30636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ahoma"/>
                    </a:rPr>
                    <a:t>I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755800" y="5667120"/>
                  <a:ext cx="80100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6000" bIns="0" anchor="t">
                  <a:normAutofit fontScale="98000"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Parent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755800" y="5667120"/>
                  <a:ext cx="18432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755800" y="5882760"/>
                  <a:ext cx="184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55800" y="6312960"/>
                  <a:ext cx="18432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755800" y="5667120"/>
                  <a:ext cx="0" cy="6458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556800" y="5667120"/>
                  <a:ext cx="0" cy="645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863160" y="5667120"/>
                  <a:ext cx="0" cy="645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599000" y="5667120"/>
                  <a:ext cx="0" cy="6458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755800" y="6098400"/>
                  <a:ext cx="184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166560" y="5388120"/>
                <a:ext cx="1022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roll ta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2611440" y="4937040"/>
            <a:ext cx="769680" cy="1293480"/>
            <a:chOff x="2611440" y="4937040"/>
            <a:chExt cx="769680" cy="1293480"/>
          </a:xfrm>
        </p:grpSpPr>
        <p:sp>
          <p:nvSpPr>
            <p:cNvPr id="315" name=""/>
            <p:cNvSpPr/>
            <p:nvPr/>
          </p:nvSpPr>
          <p:spPr>
            <a:xfrm>
              <a:off x="3219120" y="4937040"/>
              <a:ext cx="162000" cy="242280"/>
            </a:xfrm>
            <a:prstGeom prst="ellipse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1440" y="5098680"/>
              <a:ext cx="607680" cy="1131840"/>
            </a:xfrm>
            <a:custGeom>
              <a:avLst/>
              <a:gdLst/>
              <a:ahLst/>
              <a:rect l="l" t="t" r="r" b="b"/>
              <a:pathLst>
                <a:path w="1080" h="1152">
                  <a:moveTo>
                    <a:pt x="1080" y="0"/>
                  </a:moveTo>
                  <a:cubicBezTo>
                    <a:pt x="612" y="384"/>
                    <a:pt x="144" y="768"/>
                    <a:pt x="72" y="960"/>
                  </a:cubicBezTo>
                  <a:cubicBezTo>
                    <a:pt x="0" y="1152"/>
                    <a:pt x="324" y="1152"/>
                    <a:pt x="648" y="1152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50400" y="5082480"/>
              <a:ext cx="468720" cy="1004400"/>
            </a:xfrm>
            <a:custGeom>
              <a:avLst/>
              <a:gdLst/>
              <a:ahLst/>
              <a:rect l="l" t="t" r="r" b="b"/>
              <a:pathLst>
                <a:path w="832" h="1192">
                  <a:moveTo>
                    <a:pt x="832" y="0"/>
                  </a:moveTo>
                  <a:cubicBezTo>
                    <a:pt x="480" y="412"/>
                    <a:pt x="128" y="824"/>
                    <a:pt x="64" y="1008"/>
                  </a:cubicBezTo>
                  <a:cubicBezTo>
                    <a:pt x="0" y="1192"/>
                    <a:pt x="224" y="1148"/>
                    <a:pt x="448" y="1104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130480" y="4184640"/>
            <a:ext cx="1636200" cy="1155240"/>
            <a:chOff x="2130480" y="4184640"/>
            <a:chExt cx="1636200" cy="1155240"/>
          </a:xfrm>
        </p:grpSpPr>
        <p:sp>
          <p:nvSpPr>
            <p:cNvPr id="319" name=""/>
            <p:cNvSpPr/>
            <p:nvPr/>
          </p:nvSpPr>
          <p:spPr>
            <a:xfrm>
              <a:off x="3636000" y="4184640"/>
              <a:ext cx="130680" cy="256320"/>
            </a:xfrm>
            <a:prstGeom prst="ellipse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44160" y="4310640"/>
              <a:ext cx="1488240" cy="740160"/>
            </a:xfrm>
            <a:custGeom>
              <a:avLst/>
              <a:gdLst/>
              <a:ahLst/>
              <a:rect l="l" t="t" r="r" b="b"/>
              <a:pathLst>
                <a:path w="1275" h="522">
                  <a:moveTo>
                    <a:pt x="1275" y="0"/>
                  </a:moveTo>
                  <a:cubicBezTo>
                    <a:pt x="772" y="97"/>
                    <a:pt x="270" y="195"/>
                    <a:pt x="135" y="282"/>
                  </a:cubicBezTo>
                  <a:cubicBezTo>
                    <a:pt x="0" y="369"/>
                    <a:pt x="232" y="445"/>
                    <a:pt x="465" y="522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30480" y="4319280"/>
              <a:ext cx="1488240" cy="1020600"/>
            </a:xfrm>
            <a:custGeom>
              <a:avLst/>
              <a:gdLst/>
              <a:ahLst/>
              <a:rect l="l" t="t" r="r" b="b"/>
              <a:pathLst>
                <a:path w="1275" h="522">
                  <a:moveTo>
                    <a:pt x="1275" y="0"/>
                  </a:moveTo>
                  <a:cubicBezTo>
                    <a:pt x="772" y="97"/>
                    <a:pt x="270" y="195"/>
                    <a:pt x="135" y="282"/>
                  </a:cubicBezTo>
                  <a:cubicBezTo>
                    <a:pt x="0" y="369"/>
                    <a:pt x="232" y="445"/>
                    <a:pt x="465" y="522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4-05-28T11:24:51Z</dcterms:modified>
  <cp:revision>174</cp:revision>
  <dc:subject/>
  <dc:title>PowerPoint Presentation</dc:title>
</cp:coreProperties>
</file>