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5471F-8417-4CA0-A250-29B253C95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6FC78-068F-44C0-9A58-8981BEBE4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CD159-ADC6-4BD0-9AF1-BEBCFB083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840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048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840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048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9769A-4A99-468E-AA24-4D99F0EB95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66680" y="470880"/>
            <a:ext cx="70106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51120-4C7A-4E25-8B02-E9AC2505B6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6840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7048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632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6840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7048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3ABA7-48DD-4CEF-BF6C-EFD14D31D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3ABF2-4273-4B7B-A709-1DDDD0FEA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F30F0-07CB-4481-8C8D-4C11A8D30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470880"/>
            <a:ext cx="70106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1E7C5-28C6-4196-A82E-30EE363A7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B798F-E397-4A80-86A2-9E2CB4EAE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E0691-301C-4914-B4C1-D4B242D7B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70AAC-F850-4A43-8603-4DD17CE26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2400" y="152280"/>
            <a:ext cx="71568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cc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32448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324480"/>
            <a:ext cx="609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2624-8A39-4259-A292-F79F0F1C2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69592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c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Βάσεις Δεδομένων και Παγκόσμιος Ιστό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εχνολογίε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ML Grap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392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SzPct val="1122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Ενα μοντέλο για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ML Grap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ι κόμβοι αντιστοιχούν σ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ιαφορά μ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SD Graph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: οι ετικέτες είναι στους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κόμβου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SzPct val="1122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Εύκολη η μετατροπή, ιδίως αν έχουμε δένδρο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πορούμε να έχουμε γράφο;  -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ΝΑ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474920" y="2708280"/>
          <a:ext cx="6265800" cy="2359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74920" y="2708280"/>
                    <a:ext cx="626580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C1236-C3DB-4444-95C6-37C4D392AE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ML Referen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 X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έχει έναν μηχανισμό ώστε έν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να μπορεί να «δείχνεται» από περισσότερους από έναν «πατέρε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ρίζοντας έτσι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γράφο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αντί για δένδρ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 μηχανισμός είνα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ύπου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R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αναθέτουν ταυτότητες σ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REF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«δείχνουν» σ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από άλλ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οπουδήποτ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state id=“s2” idrefs=“c2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7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12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32”&gt;Nevada&lt;/st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city id=“c7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cname&gt;Carson City&lt;/c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state-of idref=“s2”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cit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οιά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ίναι τύπ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 / IDREF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άντως όχι κατ’ ανάγκη αυτά που λέγοντα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 / id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λλά αυτά που ορίζονται από το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T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την συνέχει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E4D8E-9037-4F90-B807-5FCA822033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Διάταξ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δύ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D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ίναι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ισοδύναμ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erson: {firstname: “John”, lastname: “Smith”}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erson: {lastname: “Smith”, firstname: “John”}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νώ τα δύ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εν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είναι ισοδύναμα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person&gt;&lt;firstname&gt;John&lt;/first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lastname&gt;Smith&lt;/lastname&gt;&lt;/pers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person&gt;&lt;lastname&gt;Smith&lt;/last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firstname&gt;John&lt;/firstname&gt;&lt;/pers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s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εν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είναι διατεταγμέν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α παρακάτω είναι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ισοδύναμα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rstname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“John” lastname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“Smith”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stname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“Smith” firstname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“John”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απαίτηση για διάταξη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υσκολεύει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ην αποδοτική διαχείριση των δεδομένω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χνά η διάταξη αγνοείται σε εφαρμογές ανταλλαγής πληροφορία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1354C-D7FF-41A2-9849-4167C614D6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ίξη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ements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αι κειμένου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παρακάτω επιτρέπεται στη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Λέμε ότι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έχε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xed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pers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 is my best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name&gt;Alan&lt;/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age&gt;42&lt;/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 am not too sure about the following 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email&gt;agb@abc.com&lt;/ema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είχνει την εγγραφο-κεντρική καταγωγή τη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άπως «αφύσικο» από την πλευρά των βάσεων δεδομέν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ροτιμούμε το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2DE8D-A9F7-4504-AE52-454F54D112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πιπλέον στοιχεία τη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γγραφο-κεντρικά στοιχεία που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εν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χρειάζονται στην ανταλλαγή δεδομέν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χόλι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lt;!–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 is comment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?xml-stylesheet href=“book.css” type=“text/css”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ρχική γραμμ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?xml version=“1.0”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ροαιρετικ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 Type Definition (DTD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ρίζει την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γραμματική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του κειμένο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?xml version=“1.0”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DOCTYP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markupdeclaration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…&lt;/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root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ABBC1-6A9E-439F-BBC4-0EB2A4837E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 Type Definition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T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 αναπόσπαστο μέρος τη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ροτάθηκε σαν μια γραμματική για 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έγγραφ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ε κάποιο βαθμό μπορεί να ιδωθεί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αν σχήμ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για δεδομένα μορφοποιημένα σ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ν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D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που περιγράφει δυαδικά δένδρ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lt;!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EMENT node (leaf | (node, node))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ELEMENT leaf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D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μοιάζουν να ορίζουν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τύπους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δεδο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lt;!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CTYPE db [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lt;!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EMENT db (person*)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ELEMENT person (name,age,email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ELEMENT name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]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672AD-82FB-48DE-8361-096A1E2645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Δήλωση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ributes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το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ύνδεση τω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ε τ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τα οποία εμφανίζοντα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name language=“French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partment=“Music”&gt;trompette&lt;/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price currency=“Euro”&gt; 420.12  &lt;/pric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produc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ATTLIST name language   CDATA #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partment CDATA #IMPLIE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ATTLIST price currency  CDATA #IMPLIE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ρισμός τω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REQUIRED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υποχρεωτικό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IMPLIED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προαιρετικ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ύπο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ATA =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ύπο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, IDREF, ID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AC639-E6BD-489B-8475-C73B25B170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ll-formed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i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ll-form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έγγραφ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gs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ρέπει να είναι σωστά εμφωλιασμέν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ibutes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νό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πρέπει να είναι μοναδικ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l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έγγραφ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ίνα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ll-form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χει κάποι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μμορφώνεται με αυτό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εριορισμοί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D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αν σχήμα για δεδομέν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εν υπάρχουν ατομικοί τύποι (πχ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εν υπάρχουν περιορισμοί διαστήματος (πχ. 0-14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 τύπος ενο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είνα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(πχ. ίδι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σ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σ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εν προσδιορίζει τον τυπο τω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RE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3A599-4229-421E-8BE9-5BD33E6A9E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3186000"/>
            <a:ext cx="6899400" cy="17172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c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371600" y="2355120"/>
            <a:ext cx="6400800" cy="14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Υποστηρικτικές τεχνολογί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λώσσες ερωτημάτω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ρόβλημα: ο τύπος τω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ίνα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ίδιο έγγραφο πρέπει να μπορεί να χρησιμοποιηθεί από πολλά προγράμματα που καταλαβαίνουν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άλλα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γκρούσεις στην ονοματολογία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Λύση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υλλογές ονομάτ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ault namespace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rn:loc.bla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) για το 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xml version=“1.0”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ook xmlns=“urn:loc.bl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mlns:isbn=“urn:bla.bla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title&gt;the title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isbn:number&gt;123456&lt;/isbn:numb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book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πίσης και για 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item edi:taxClass=“exempt”&gt;Baby food&lt;/ite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A95E5-41CC-4C5F-A7B8-8E1E1554EC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70828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c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2355120"/>
            <a:ext cx="6400800" cy="14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Υποστηρικτικές τεχνολογί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λώσσες ερωτημάτω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ML Schem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ντιμετωπίζει τις ανεπάρκειες το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ρίζει αυστηρότερα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ύνθετου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ύπους, με βασικούς τύπους και περιορισμού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κφράζεται και το ίδιο σε Χ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να απόσπασμ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xsd:complexType name=“PurchaseOrderType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xsd:element name=“shipTo” type=“USAddress”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xsd:element name=“billTo” type=“xsd:string”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xsd:element name=“comments” minOccurs=“0”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xsd:element name=“items” type=“Items”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xsd:attribute name=“orderDate” type=“xsd:date”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0D76E-E3A8-4567-B169-6315280997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S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ποτελείται από τρια ξεχωριστα τμή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SL Formating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ρίζει τ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mat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παρουσίασης ενός εγγράφ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Pa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XML Path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πιλέγει τμήματα ενός εγγράφ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λοποιημένη μορφή, επιστρέφει τα βιβλία σε έν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πίσω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base/biblio/book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ονόμα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tag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πιστρέφει τους πρώτους συγγραφείς των βιβλίων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ot()/descendant::book/child::author[position()=first(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8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S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XSL Transformation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ετατρέπει ένα έγγραφ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ε κάποιο άλλο έγγραφ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79BED-153C-492C-ADD3-7A556C4719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SLT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: παράδειγμ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907920"/>
            <a:ext cx="501804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database id=“db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iblio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ook id=“n1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author&gt;Roux&lt;/auth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author&gt;Combalusier&lt;/auth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date&gt;1976&lt;/da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title&gt;Database Systems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book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ook id=“n2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author&gt;Smith&lt;/auth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date&gt;1999&lt;/da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title&gt;Database Systems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book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paper&gt;...&lt;/pap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biblio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databas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3789360"/>
            <a:ext cx="511164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l:template match=“/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title&gt;Book Titles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h1&gt;Book Titles&lt;/h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l:for-e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lect=“database/biblio/book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l:value-of select=“title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r&gt;&lt;/b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xsl:for-each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xsl:templa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780000" y="371592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779640" y="371628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51640" y="1413000"/>
            <a:ext cx="302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ετατρέπει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ε ένα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ατάλογο των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τίτλων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ων βιβλί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11690-20D2-4831-8C21-3DFF3AF9A3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364500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c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371600" y="2355120"/>
            <a:ext cx="6400800" cy="14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Υποστηρικτικές τεχνολογί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λώσσες ερωτημάτω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ML-Q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-QL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μοιάζει με τις γλώσσες γι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D –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ροσαρμογή όμως σ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tter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h expression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για να επιλέγει τμήματα από 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δεδομένα εισόδο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εταβλητές στις οποίες δεσμεύονται δεδομέν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mpla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ου υπαγορεύουν πως θα κατασκευαστούν 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δεδομένα του αποτελέσματο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Θεωρεί ότι το μοντέλο γράφου έχει τις ετικέτες στις ακμ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ere &lt;book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publisher&gt;&lt;name&gt;Morgan Kaufmann&lt;/name&gt;&lt;/publish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title&gt;  $T &lt;/tit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author&gt; $A &lt;/autho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ok&gt; in “www.abc.com/bib.xml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struct $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82D6C-34EC-4CAA-9CF5-F5EA2BA4EDD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Χ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-QL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9644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ομή ερωτήματο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ε σχέση μ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re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+ where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tr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tern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ρίζουν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τι πρέπει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να υπάρχει, και όχι τι δεν πρέπει να υπάρχε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θα ταιριάξει με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κάθε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δυνατό τρόπο στα δεδομένα, και οι μεταβλητές θα δεσμευτούν αντίστοιχ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την πραγματικότητα δεσμεύονται σ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id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των κόμβων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χ.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tern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a&gt; &lt;b&gt;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X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&gt; &lt;c&gt;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Y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c&gt; &lt;/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15840" y="4707000"/>
            <a:ext cx="1887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a&gt; &lt;b&gt; 1 &lt;/b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c&gt; 2 &lt;/c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b&gt; 3 &lt;/b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c&gt; 4 &lt;/c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83480" y="4653000"/>
            <a:ext cx="1521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X   $Y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B363F-B23F-4A68-BC37-BAC177F221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ατασκευή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αποτελέσματο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έσω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mpla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συντομογραφία 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tle&gt;…&lt;/&gt;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ημαίνε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itle&gt;…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answ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ere &lt;book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publisher&gt;&lt;name&gt;Morgan Kaufmann&lt;/&gt;&lt;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title&gt;  $T &lt;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author&gt; $A &lt;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&gt; in “www.abc.com/bib.xml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struct &lt;resul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author&gt; $A &lt;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title&gt; $T &lt;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answ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οτέλεσμα: έν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sult&gt; element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για κάθε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ων $Α, $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result&gt; &lt;author&gt;...&lt;/auth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title&gt;...&lt;/title&gt;   &lt;/resul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Όλα 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υ αποτελέσματος μπαίνουν σ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 &lt;answ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αραλείπουμε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ot element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τα ακόλουθα για ευκολί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DCE60-B14B-4E08-A289-50F838B86FC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ροαιρετικά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Θέλουμε τους τίτλους όλων των βιβλίων και τις τιμές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όπου υπάρχου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η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πορεί να είναι προαιρετικ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ν βάλουμε 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rice&gt;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ttern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θα αποκλείσουμε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από το αποτέλεσμα τα βιβλία χωρίς τιμ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Λύση: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μφωλιασμένα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ερωτή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ετά το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κολουθεί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άποι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εγγράφου, ή μεταβλητή δεσμευμένη σε τμήμα ενό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εγγράφο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ere &lt;book&gt;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&lt;/&gt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 “www.abc.com/bib.xml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title&gt; $T &lt;/&gt; in $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struct &lt;result&gt; &lt;booktitle&gt; $T &lt;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ere &lt;price&gt; $P &lt;/&gt; in $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struct &lt;bookprice&gt; $P &lt;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7AB2E-FCE7-4C5A-BF77-669E48B68DF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αράδειγμα: 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βάση έχε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ook&gt; element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με πολλού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uthor&gt;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σε κάθ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ook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ρώτημα: βρες όλους του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και για κάθε έναν τους τίτλους των βιβλίων που έγραψε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rouping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ere &lt;book&gt;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uthor&gt; 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&lt;/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&gt; in “www.abc.com/bib.xml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struct &lt;resul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author&gt; $A &lt;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ere &lt;book&gt;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uthor&gt; $A &lt;/autho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title&gt; $T &lt;/tit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ok&gt; in “www.abc.com/bib.xml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struct &lt;title&gt; $T &lt;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B1F10-F35A-4E15-8187-30481096F2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ributes, joi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ρωτήματα πάνω σ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Βρες τους τίτλους των βιβλίων στα γαλλικ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ere &lt;book language=“French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title&gt; &lt;/&gt; element_as $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&gt; in “abc.xml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struct $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ement_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εσμεύει μεταβλητη σε όλο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τί για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ment content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μόνον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ault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θώς και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ent_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Βρες όλες τις γλώσσες των βιβλί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ere &lt;book language=$L&gt;&lt;/&gt; in “abc.xml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struct &lt;result&gt; $L &lt;/resul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βρες συγγραφείς που έχουν τουλάχιστον δύο βιβλί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ere &lt;book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uthor&gt; $A &lt;/&gt; &lt;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tent_as $B1 in “abc.xml”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ook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uthor&gt; $A &lt;/&gt; &lt;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tent_as $B2 in “abc.xml”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B1 != $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struct &lt;result&gt; $A &lt;/resul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958C7-5A04-4AFA-B44D-17820978788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Χρησιμοποιε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νάμεσα στο κείμενο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..για να περιγράψει το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y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ης σελίδ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p&gt; &lt;b&gt;Alan&lt;/b&gt;, 42 years, &lt;i&gt;agb@abc.com&lt;/i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εν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διευκολύνει άλλα προγράμματα να κατανοήσουν την δομή και το περιεχόμενο μιας σελίδ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pe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«σπάει» αν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alic &lt;i&gt;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λλάξει σ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etype &lt;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πρόβλημα είναι οτι σχεδιάστηκε ειδικά για να περιγράψει την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αρουσίαση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και όχι το περιεχόμεν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αθένας θα ήθελε να υπάρχει «ένα ακόμ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g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» στη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προκειμένου να βοηθηθεί η δική του εφαρμογ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F7DD5-1FCD-461E-A7AD-DE3385CE77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ular path express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D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ου ορίζει αναδρομικά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!ELEMENT part (name, brand, part*)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!ELEMENT name (#PCDATA)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!ELEMENT brand (#PCDATA)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ρώτημα: το όνομα κάθ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ου περιέχει άλλ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άρκα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For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εξάρτητα από το βάθος του εμφωλιασμο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ere &lt;part&gt; &lt;name&gt; $N &lt;/&gt; &lt;part*&gt;&lt;brand&gt;Ford&lt;/&gt;&lt;/&gt; &lt;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 “www.abc.com/parts.xml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struct &lt;result&gt; $N &lt;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ιο πολύπλοκες εκφρά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πιπλέον,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dcard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&lt;$&gt; ταιριάζει με κάθ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ere &lt;part+.(subpart | component.piece)&gt; $R &lt;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 “www.abc.com/parts.xml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struct &lt;result&gt; $R &lt;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CAEFA-1829-4C43-9F05-BC2EE709B94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ilt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αι 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SzPct val="1372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ολλές άλλες γλώσσες ερωτημάτων γι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 γίνεται το πρότυπο γλώσσας ερωτημάτων για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Επηρεασμένη απο την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QL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, και βασισμένη στην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i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SzPct val="1372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ilt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δομείται πάνω σ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LW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ροφέρετα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flower”) expr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δεσμεύει μεταβλητέ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εισάγει νέες μεταβλητέ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θέτει συνθήκε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επιστρέφει αποτελέσματ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Δώσε τους συγγραφείς των βιβλίων σε αλφαβητική σειρά, και για κάθε συγγραφέα τα βιβλία του ταξινομημένα με βάση την ημερομηνία έκδοση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author_lis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$a IN distinct(document(“biblio.xml”)//auth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auth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name&gt; $a/text() &lt;/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$b IN document(“biblio.xml”)//book[author=$a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ook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b/titl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b/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book&gt; SORTBY date DESCE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author&gt; SORTBY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author_lis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EDD1E-CEC2-423E-981D-114BD12A4A9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χεδιάστηκε ειδικά για να περιγράψει το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εριεχόμενο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)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και όχι την παρουσίαση μιας σελίδ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Βασικές διαφορές από τη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πορεί κανείς να ορίσει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νέ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ατά βούλησ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g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πορούν να εφωλιασθούν δομικά σε οποιοδήποτε βάθο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να έγγραφ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πορεί προαιρετικά να περιέχει μια περιγραφή της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γραμματική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ο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ομούν το περιεχόμεν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person&gt;&lt;name&gt;Kostas&lt;/name&gt;…&lt;/pers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 πως θα εμφανιστούν ορίζεται ξεχωριστά από κάποιο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ylesheet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S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A9152-F931-442B-9FAA-4D381752F2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 ρόλος τη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ροτάθηκε σαν μια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kup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γλώσσα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περιγραφής εγγράφ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ταγωγή απο την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GML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(ψηφιακές βιβλιοθήκε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ξελίσσεται όμως σε ένα παγκόσμιο πρότυπο για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ανταλλαγή πληροφορία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υτό τράβηξε το ενδιαφέρον της κοινότητας των βάσεων δεδομέν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Βασικό συστατικό τη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είναι το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είμενο που περικλείεται από ένα ζεύγο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rt-tag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-tag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kup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κτός από την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λογική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δομή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ments)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gs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περιγράφουν και την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φυσική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δομή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tit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που δεν ενδιαφέρει στα πλαίσια των βάσ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name&gt;Alan&lt;/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age&gt;42&lt;/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email&gt;alan@abc.com&lt;/ema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email&gt;abrown@mail.com&lt;/ema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1B646-AE8E-487B-BC08-FFAFA578C2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ments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g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ι μπορεί να υπάρχει ανάμεσα στ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-tag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-tag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λό κείμεν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λλ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ποιοδήποτε μίγμα των δύο παραπάνω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τη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ρίζονται από τους χρήστες,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εν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υπάρχουν προκαθορισμέν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g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όπως στη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νοίγουν και κλείνουν πάντα με την «σωστή» σειρά (σαν παρενθέσει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ξαίρεση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pty ta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χ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married/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το / στο τέλο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married/&gt;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married&gt;&lt;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rrie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, elem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BBCF1-8996-4E9F-B78D-345864CF8C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ML attribut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ν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πορεί να περιέχει μηδέν ή περισσότερα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εν σχετίζονται με 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ις σχεσιακές βά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εριγράφουν ιδιότητες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name language=“French”&gt;trompette no 6&lt;/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price currency=“Euro”&gt; 420.12 &lt;/pri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address format=“XL1245” language=“French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street&gt;31 rue Croix-Bosset&lt;/stre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zip&gt;92874&lt;/zi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addres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produc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πως και τ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ορίζονται από τον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χρήστ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D70CC-3B66-493C-A173-553AAAF35C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ributes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ιαφορέ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τιμή το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είναι πάντα έν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σε εισαγωγικά, ενώ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πορεί να περιέχει άλλ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ν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πορεί να έχει το πολύ έν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ibute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ε ένα όνομα, ενώ μπορεί να έχει πολλά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elements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ε το ίδιο όνομ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Φανερώνουν την καταγωγή τη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σα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ument markup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λώσσα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ισάγουν κάποια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δυσκολία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στην ανταλλαγή πληροφορίας: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αναπαράσταση σαν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tribute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ή σαν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element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person name=“Alan” age=“42” email=“agb@abc.com”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person age=“42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name&gt;Alan&lt;/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email&gt;agb@abc.com&lt;/ema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24DC0-E3EC-401B-BA44-7B3784416D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L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και ημιδομημένα δεδομέν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είναι κατάλληλη για την αναπαράσταση ημιδομημένων δεδο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d-expres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: {name: “Alan”, age: 42, email: “agb@abc.com”}</a:t>
            </a: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ντίστοιχ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pers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name&gt;Alan&lt;/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age&gt;42&lt;/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email&gt;agb@abc.com&lt;/ema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ιαφορές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με ημιδομημένα δεδομέν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οντέλ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Graph, XML references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ιάταξ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rder)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μίξ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ε κείμενο, επιπλέον στοιχεία τη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7D279-5CFF-4123-984A-B87FB78CC4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7T14:22:01Z</dcterms:created>
  <dc:creator>Yannis Stavrakas</dc:creator>
  <dc:description/>
  <dc:language>en-US</dc:language>
  <cp:lastModifiedBy>Yannis Stavrakas</cp:lastModifiedBy>
  <dcterms:modified xsi:type="dcterms:W3CDTF">2004-05-23T17:45:37Z</dcterms:modified>
  <cp:revision>62</cp:revision>
  <dc:subject/>
  <dc:title>Βάσεις Δεδομένων και Παγκόσμιος Ιστός</dc:title>
</cp:coreProperties>
</file>