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0B93-6809-4FA4-965D-F4A5E3125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E478-9E48-46D5-8B4B-38CF1BA9A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C49C-12DB-4E09-854B-8108586DF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4D15-488E-4C8F-93AF-E6245CCD2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D22B-7468-4786-BA2D-7295BFF7E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3C7B-4DD7-46B0-8E68-460CE2FB1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EDC83-B973-4BBE-ADB7-0EA18A7DF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966F-6D77-4B0F-B837-4AFA7ABDE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6948-4516-4EA9-9743-2AF56A9B8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ED14-2117-4256-8BD8-6AAF003A0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BBA3-07D7-4419-B5EB-5A07F6433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0039-805E-4465-85E5-D0FB214E8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cc9b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697B-1CA9-426C-A407-AD5683118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9b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ασικές έννοιες του Ιστ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1417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9b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ωταρχικά στοι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ρικά επιπλέον θέ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ΒΔ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Φόρμε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θοδος για να γινει ο Ιστός οχι απλ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λλ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στοιχεια μιας φόρμας μεταφέρονται από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στοιχεία αυτά είναι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boxes, radiobuttons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τ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ενική μορφή μιας φόρμ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FORM ACTION=“/cgi-bin/login.cgi” METHOD=“G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LoginFor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ιδικό κουμπί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» στέλνει την είσοδο του χρήστη σα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ο πρόγραμ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.cg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μορφ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gi-bin/login.cgi?username=john&amp;userpass=johnp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BAAB-996D-4ADA-ADF8-90A308E8F6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δεν ειναι προγραμματιστική γλώσσ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λλές φορές χρειαζόμαστε δυναμική συμπεριφορ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την πλευρά το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έλεγχος εισαγωγής υποχρεωτικών πεδίων σε μια φόρμα, άνοιγμα νε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το φόρτωμα μιας σελίδας, κτ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μοιαζει στην σύνταξη μ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 ουσιαστικά γλώσσα στο στυλ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σωματωνεται σ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ελιδ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ισμός διαδικασι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λήση τους μέσω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προκαθορισμέν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πάτημα ενος κουμπιού, φορτωμα μιας σελίδας, κτ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6937-E894-4B04-AA59-F9B6359EE4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 την πλευρά το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logic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ρίσκεται στο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δέεται με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έσω φορμώ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ική λύση για την ανάπτυξη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logic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Gateway 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ωτόκολο που καθορίζε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πορεί να εκτελέσει ένα πρόγραμμα (αρχεί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νάει παραμέτρους σε ένα εκτελέσιμο αρχεί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ώς 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πορεί να δεχθεί το αποτέλεσμα της εκτέλε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εν καθορίζει σε ποια γλώσσα είναι γραμμένο το πρόγραμ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πολυ δημοφιλ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2C02-A35E-4F7F-9523-60164A47A4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 την πλευρά το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βλήματα με την απόδοση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πρόγραμμα εκτελείται σε νέ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κάθε κλήση, πολύ δαπανηρ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ύση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εργασία / ενσωμάτωση με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τηρούν δεξαμενές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B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σφέρουν επιπλέ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όπως πχ.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πρόταση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κώδικα που τρέχει σ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it(), service(), destro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ιονέκτημα σε σχέση μ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ρέπει να το υποστηρίζει ο συγκεκριμένο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0FB5-CA44-4962-A0D5-9195731E85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618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9b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ωταρχικά στοι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ρικά επιπλέον θέ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ΒΔ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ΒΔ πως «κολλάνε»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 δύο διαφορετικούς τρόπ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ναν πρακτικό, που συναντάμε καθημερινά στον ιστ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ναν ερευνητικο, που χτίζει τον μελοντικό Ιστ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πρακτικό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εχνολογία ΒΔ χρησιμοποιείται στις μηχανές αναζήτη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ίγο πολύ όλες οι εφαρμογές του Ιστού χρησιμοποιούν ΒΔ στην πλευρά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τ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πληροφορία μιας ΒΔ συχνά «ανοίγει» σε κάποι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ne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ή στ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ερευνητικό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μπορεί ο Ιστός να οφεληθεί από την συσσωρευμένη εμπειρία στην διαχείριση δεδομένω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πρέπει να προσαρμοστούν οι έννοιες των Β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7C30-A694-4ED2-8098-5510D9D167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ιάζει με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σπάθεια να αποσυνδεθεί η παρουσίαση των δεδομένων από την δομή τ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δομή εκφράζει τις λογικές σχέσεις ανάμεσα από τα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εκτάσιμ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 κανείς να ορίσει τα δικά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αντιστοιχούν στο πεδίο που θέλει να περιγράψε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γλώσσα: δυνατότητα ορισμού νέων γλωσσών που είν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-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ιέχει δεδομέν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αζί με την περιγραφή του τι αυτά αναπαριστού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B375-3590-4ABC-AF4F-ADA489DE28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 Chemical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lecule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weight&gt;235.4&lt;/weigh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pectra&gt;...&lt;/spectr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igures&gt;...&lt;/figur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molecule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ήση τ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exchang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λύ ευέλικτη, απλή, επεκτάσιμη, ανεξάρτητη από πλατφόρμ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ολλές σχετικές τεχνολογίε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 StyleSheets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πολλές άλλ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07DA-DC2A-4461-89EA-4BB1DA0492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και Β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ocument Type Definition (DT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ύνολο περιορισμών που ορίζουν μ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λώσσ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ιναι έ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χή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τα δεδομένα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Schem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ακόμη πιό κοντά στο σχήμα τω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ροτάθηκε απο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-centr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άποψη για τον Ιστ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ιοθετήθηκε απο την κοινότητα των Β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-centr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άποψη για τον Ιστ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τελεί βασικό στοιχείο της σύγκλισης των 2 απόψε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λύ θερμή περιοχή έρευν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λώσσες ερωτημάτων, βελτιστοποίηση, αποθήκευση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B1EB-6A5D-42A8-8193-9315198DBC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66688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9b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ωταρχικά στοι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ρικά επιπλέον θέ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ΒΔ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ην συνέχεια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ΒΔ μέσα από 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ηχανές αναζήτησης 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Retrieval (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ιτεκτονική και παραδείγματα εφαρμογών του Ιστού που χρησιμοποιού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ετικές τεχνολογίες ανάπτυ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Ιστός μέσα από τις Β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οποίηση πληροφορ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εδιασμός τόπων του Ιστο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μιδομημένα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6B32-C501-4695-BAD0-62607B11B8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ένα σύνολο διασυνδεδεμένων δικτύων υπολογιστών που μιλούν το ίδιο πρωτόκολλο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Ιστό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eb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 “killer”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λλες εφαρμογέ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net, ftp, 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οστηρίζονται από εξειδικευμένου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πχ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tp-ser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ιτησεις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αντησεις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εσω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/ip.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Οι αιτησεις προσδιορίζουν κάποια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λιδα” και οι απαντησεις επιστρεφουν το αντιστοιχο αρχεί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βασικά συστατικ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Ιστού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orm Resource Identifiers (UR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ertext Markup Language (HT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ertext Transfer Protocol (HTT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4B83-A4E2-457F-A1C4-027BEC5B5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σδιορίζε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ourc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οτιδήποτ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ypage.html, mysong.mp3, view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n.gr/weather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lto:webmaster@bookstor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RL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υποσύνολο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2d5b"/>
                </a:solidFill>
                <a:latin typeface="Times New Roman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2000" spc="-1" strike="noStrike">
                <a:solidFill>
                  <a:srgbClr val="cc9b10"/>
                </a:solidFill>
                <a:latin typeface="Times New Roman"/>
              </a:rPr>
              <a:t>www.iitlab.ed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9f83bd"/>
                </a:solidFill>
                <a:latin typeface="Times New Roman"/>
              </a:rPr>
              <a:t>808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projects/search.cg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name=PO</a:t>
            </a:r>
            <a:r>
              <a:rPr b="0" lang="el-GR" sz="2000" spc="-1" strike="noStrike">
                <a:solidFill>
                  <a:srgbClr val="6699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id=5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92d5b"/>
                </a:solidFill>
                <a:latin typeface="Times New Roman"/>
              </a:rPr>
              <a:t>Πρωτόκολλ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quested internet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b10"/>
                </a:solidFill>
                <a:latin typeface="Times New Roman"/>
              </a:rPr>
              <a:t>internet addres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όνομα 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P numb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NS (Domain Name Servers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ην αντιστοίχι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9f83bd"/>
                </a:solidFill>
                <a:latin typeface="Times New Roman"/>
              </a:rPr>
              <a:t>Πόρτ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ορίζει την εφαρμογή-παραλήπτη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όρτα για κάθε πρωτόκολ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ile nam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th to file or directory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pping to physical locations kept by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Times New Roman"/>
              </a:rPr>
              <a:t>Query 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μετροι που περνούν στο </a:t>
            </a:r>
            <a:r>
              <a:rPr b="0" lang="el-GR" sz="1800" spc="-1" strike="noStrike">
                <a:solidFill>
                  <a:srgbClr val="3333cc"/>
                </a:solidFill>
                <a:latin typeface="Times New Roman"/>
              </a:rPr>
              <a:t>πρόγραμ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1BDF-25E2-4539-B047-D366856096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μ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ε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u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G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πικεντρώνει στην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παρουσία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ληροφορ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cii-based, 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εντολές μορφοποίησης του κειμένου είν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&lt;TITLE&gt;…&lt;/TITLE&gt;…&lt;/HEAD&gt; &lt;BODY&gt;…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αδείγματα εντολών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1&gt;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&gt;, &lt;LI&gt;, &lt;B&gt;, &lt;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ρφοποίηση, λίστες, πίνακες, εικόνες, και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υνατότητα συνδέσμω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 μεταξύ κει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λογική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δομή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του κειμένου έχει να κάνει με την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εμφανιση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της πληροφορ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92FE-FCC9-4D2D-981A-6FBB335FA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B&amp;N Books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1&gt;B&amp;N BookSto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invento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u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li&gt;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li&gt;Lit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u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εν είναι απαραίτητο να κλείνουν όλα 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F0F3-FE29-4BEA-BE87-990CD4C04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νολο κανόνων που ορίζουν την δομή των μηνυ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που ανταλλάσονται ανάμεσα από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ι συμβαίνει όταν επιλέξε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ick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νεί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έ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(web browser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έλνει μια αίτησ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“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ούε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υνεχώς σε μια συγκεκριμένη «πόρτα» ανάλογα με το πρωτόκολο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80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αίτηση φθάνει: μεταφορά σε ελεύθερη πορ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βάζε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απαντάε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αμβάνει την απάντηση και την αποδίδει στην οθό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συνομιλία διακόπτετα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5167-3D79-46E0-8319-C2AF12328A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93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o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 /books/index.html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er-agent: Mozilla/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pt: text/html, text/plain, image/gif, image/j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ί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ST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er-agent: Mozilla/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pt: text/html, text/plain, image/gif, image/j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books/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1040" y="1371240"/>
            <a:ext cx="3772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rep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e: Mon, 04 Mar 2002 &lt;etc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ver: Apache/1.3.0 (Lin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-Length: 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B&amp;N Books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1870-E9CD-41DF-BB7E-694E626FD2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όλιο για τ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σύνδεση δεν μένει ανοιχτή όπως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μηνύματα δεν έχουν «μνήμη» της συνομιλ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είμενο με 2 εικόνες = 3 ανεξάρτητες αιτή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λότητα, καταναλώνει λιγ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μως: ανάγκη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εφαρμογές του Ιστού χρειάζονται πληροφορί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pping cart, user lo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υτη κωδικοποιείται σε κάθε αίτηση και απάντησ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ληροφορί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ο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ιώς: 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ημιουργεί δυναμικ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ταυτοποιούν την πληροφορί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κάποια βάση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ABA1-F14A-4751-B231-7BE753C742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9:35:51Z</dcterms:created>
  <dc:creator>Yannis Stavrakas</dc:creator>
  <dc:description/>
  <dc:language>en-US</dc:language>
  <cp:lastModifiedBy>Yannis Stavrakas</cp:lastModifiedBy>
  <dcterms:modified xsi:type="dcterms:W3CDTF">2004-03-17T15:12:49Z</dcterms:modified>
  <cp:revision>47</cp:revision>
  <dc:subject/>
  <dc:title>Replace With Title</dc:title>
</cp:coreProperties>
</file>