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5032-B830-440A-BB16-355353C12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75AC-7313-43FF-A635-5C45B1413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A1CA-8E0C-4CF2-BB8E-03F7B3FD9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55D7-BA2A-4C4F-8C8F-04A558D29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6B01-1831-49B8-AE33-386AACFC9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A7A1-7B75-4305-A1C9-065B43766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CA4D-DC3E-4453-A96D-55AE46B9B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9231-8184-43B8-8D80-8BE236D3A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119F-EB67-4A2D-84BD-71A535DEE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5807-CDE5-4004-A92F-A4CB7CC1C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1C6E-1DB3-47A1-BE67-AEA5F1641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12E1-CBDD-470F-B007-BAEDEC296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E5F-B18A-4E4A-8D7C-FBE000E3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 άλλη πλευρά του νομίσματο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εν απαιτείτ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μμιά δομ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νται τεχ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για τα ερω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ερώτημα είναι απλά ένα σύνολο φίλτρων που βασίζεται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έξεις-κλειδιά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αποτελέσματα ταξινομούνται ανάλογα με την συνάφειά τους με το ερώτη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υέλικτ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ροσέγγιση, χωρίς όμως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κρίβει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ληρότη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ων βάσεων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είναι σε θέση να προσφέρουν ακριβώς χάρη στην μεταπληροφορία 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που κρατούν για την δομή τ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3E73-0986-4801-8322-8B791D047E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νοπτικ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Ιστός προσφέρε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ποδομ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τις τυποποιήσει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andards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ανταλλαγή εγγράφ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εναν μορφότυπ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mat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αρουσίαση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προσωπείες γ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άκτησ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γγράφων (τεχνικέ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για ανταλλαγή δεδομένων μαζί με την δομή τ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τεχνολογίες των βάσεων δεδομένων προσφέρου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εχνικές αποθήκευσης κ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λώσσες ερωτημάτ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αποδοτική πρόσβαση στα δεδομέ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οντέλ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δομένων και μεθόδους δόμησης της πληροφορ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χανισμούς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integrit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μοντέλο τω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μιδομημένων δεδομέν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που δεν απαιτεί από τα δεδομένα να υπακούουν σε κάποια αυστηρή δομ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7546-CD41-47A3-82D7-6925DFD9D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7036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όβαθρο και ανάγκη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ή στ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τα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ώς δομημένα δεδομέν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αδοσιακά οι ΒΔ χειρίζονται καλώς δομημένα δεδομέν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γκεκριμένο και παγιωμένο σχήμα (δομή) που είναι ορισμέν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κ των προτέ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λα τα δεδομέ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υπακού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ξέχωρο αυτό σχή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ΔΒΔ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χρησιμοποιούν το σχήμα για ν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ηκεύσουν και να δεικτοδοτήσουν τ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ιριστούν τα ερωτήματα και τις ενημερ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ρήστε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χρειάζονται το σχήμα για να σχηματίζουν ερωτήματα και ενημερ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BAA6-CBD4-48B3-9A83-F9B2FED39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δεδομένα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να μην έχου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νονική δο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δομή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ξελίσσε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ρόβλεπ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να είν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τερογενή, με βαθιού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μφωλιασμού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ωρί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ξέχωρ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χή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τείνουν ένα μοντέλο για τα δεδομένα σ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ιγότερ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ομή από τα σχεσιακά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σσότερ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ομή από π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1492-896B-438F-BF93-A5970860D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ηγές δεδομένων: παραδείγ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μεγαλύτερη ποσότητα πληροφορίας σήμερα είναι σε ημιδομημένη μορφ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αδείγ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bte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μοιάζει «σχεδόν» σχεσιακό και είναι αποθηκευμένο σε αρχε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εί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,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ενικότερα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xchange formats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ώδικας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X, RTF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FE47-C335-44BE-A776-77687AE23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Ιδιαιτερότητ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φοροποιήσει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ην δομή – ετερογένεια δεδομέν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λειπή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πλά πεδ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αγές στην αναπαράσταση (τιμή σε δολλάρια / ευρώ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δομή μπορεί να είν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ρ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μήματα των δεδομένων μπορεί να μην έχουν δομή (πχ. εικόνε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ρικά τμήματα μπορεί να έχουν ελάχιστη δομή (απλό κείμεν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λά δεδομένα ίσως να παραμένουν εξωτερικά, να τα αποθηκεύουν και να τα διαχειρίζονται άλλα συσ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E781-E27F-4BC1-A81B-6A7798CD6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Ιδιαιτερότητες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ύπο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μόνο ενδεικτικ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ορά με τις βάσεις, όπου υπάρχει πολιτική αυστηρών τύπω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ct ty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priori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 έναντ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posteriori data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Δ: τελείωσε το σχήμα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 μετ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ισαγωγή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στός: σχεδίασε πολλές ιστοσελίδες, και μετά όρισε ένα σχήμα για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ιευκολυνθεί η πρόσβα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σχήματα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uides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ον Ιστό είν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γάλ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σο περισσότερες ιδιομορφίες στα δεδομένα, τόσο μεγαλύτερο το σχή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CA1C-4818-4B26-AC7A-87024381DC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Ιδιαιτερότητες (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χήμα δεν είναι εξωτερικό (ξέχωρο) από τ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aless, self-describ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τύπος δεν είναι ξέχωρος από τα στιγμιότυπ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χήμα συχνά αγνοείται κατά τα ερω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ερωτήμα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θώς 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χήμα εξελίσσεται πολύ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ρήγο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7A92-D8C1-4729-B7B5-2DDFD7736A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νταξ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ίστες από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ζεύγη ετικέτας / τιμή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/ valu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αναπαριστούν δομές που μοιάζουν με πλειά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name: “Alan”, tel: 2157786, email: “agb@abc.com”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τιμές μπορούν με την σειρά τους να είναι και αυτές λίσ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nam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first: “Alan”, last: “Black”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: 215778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il: agb@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92A6-951D-4C48-8D53-BC4F065756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4652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όβαθρο και ανάγκη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ή στ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τα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ραφική αναπαράστασ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πορούν να αναπαρασταθούν σαν έναν γράφο με ετικέτες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ed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κόμβοι αναπαριστού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ντικείμε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ακμές συνδέουν ενα αντικείμενο με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ιμ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εφόσον είν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οτελείται από αναφορές σε άλλα αντικείμε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πλές ετικέτες επιτρέπο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name: “Alan”, tel: 2157786, tel: 249876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B22F-4B6A-4A40-8EBF-5556CC9183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D Graph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8446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name: “Alan”, tel: 2157786, email: “agb@abc.com”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8160" y="3368520"/>
            <a:ext cx="2895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:  {first: “Alan”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: “Black”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l: 2157786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ail: “agb@abc.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08560" y="2301840"/>
            <a:ext cx="4190400" cy="1206360"/>
            <a:chOff x="4408560" y="2301840"/>
            <a:chExt cx="4190400" cy="1206360"/>
          </a:xfrm>
        </p:grpSpPr>
        <p:sp>
          <p:nvSpPr>
            <p:cNvPr id="124" name=""/>
            <p:cNvSpPr/>
            <p:nvPr/>
          </p:nvSpPr>
          <p:spPr>
            <a:xfrm flipH="1">
              <a:off x="5246640" y="2301840"/>
              <a:ext cx="609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6120" y="23018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56120" y="2301840"/>
              <a:ext cx="1904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6800" y="2606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5240" y="260676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61040" y="260676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e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8560" y="3139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an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79800" y="3139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15778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51400" y="306396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gb@abc.com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>
            <a:off x="5246280" y="397836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56120" y="397836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56120" y="397836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7160" y="4282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75240" y="4282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1040" y="4282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80160" y="48164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577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51760" y="47401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b@abc.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46640" y="474012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98720" y="4892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9440" y="48927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27320" y="5578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46640" y="5578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332240" y="47401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9CC5-6991-40A5-ABF0-1C7102C71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λλο ένα 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εύκολο να εκφράσει κανείς σύνολα πλειά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ημαντικό πλεονέκτημα όμως: υποστηρίζονται παραλλαγές στην δομ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per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{first: “Alan”, last: “Black”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: 215778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il: “agb@abc.com”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name: “Sara”, tel: 0651787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il: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sara@cs.uoi.gr”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name: “Fred”, tel: 3357786, height: 18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4094-01E1-4BE1-AFAD-739D633956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ατηρήσεις στην σύνταξ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τικέτες επισημειώνου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tat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τα δεδομένα με περιγραφ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επαναλαμβανόμενες περιγραφέ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παταλούν χώρ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λλά προωθούν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α πλαίσια του Ιστο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εν χρειάζεται να ορίσει κανεί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ύνθετες δομέ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όπως στις γλώσσες προγραμματισμ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δομή υπονοείται από τι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τικέτ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ξακολουθούν να υπάρχουν ο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βασικοί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ύπο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, strings,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ν να υπάρχου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ολλο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κόμη βασικοί τύποι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f, dat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EE93-C6C1-4035-BF70-61BE7B910E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ρισμός σύνταξη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ή έκφραση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d-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ssd-expr&gt; ::= &lt;value&gt; | 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&lt;value&gt; | 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&lt;value&gt; ::= atomicvalue | &lt; complexvalu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&lt;complexvalue&gt; ::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{label : &lt;ssd-expr&gt;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, label: &lt;ssd-expr&g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αναγνωριστικά (ταυτότητες αντικειμένων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D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χρησιμοποιού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ersan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πχ.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D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έπει να είν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οναδικ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και οι αναφορές πρέπει να είν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έγκυρε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932C-918D-4648-8C2F-851578351F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 Exchange Mod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EM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ένα μοντέλο δεδομένων κατάλληλο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τάθηκε στο έργ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anf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ήση γ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λοκλήρω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ετερογενών πηγώ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άρχουν διάφορες παραλλαγές του ΟΕ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ην ουσία ένας γράφος σαν το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τικέτες μπαίνουν στις ακμέ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ους κόμβους, ανάλογα με την παραλλαγή του ΟΕ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ια βάση δεδομένων ΟΕΜ είναι ένας κατευθυνόμενος γράφος με ετικέτες και με ρίζα που έχει φύλλα με τιμ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03B9-C534-4640-ADDB-210FA72F4E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 Exchange Mode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ντικείμεν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ΟΕΜ είναι έ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upl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, oid, type, value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τικέτα είν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ένα μοναδικό αναγνωριστικό αντικειμέν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τύπος ενός αντικειμένου 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ή κάποιο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τομικό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ύπ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, string, gif-image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τιμή είν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λίστα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d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 ο τύπος είν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ατομική τιμή διαφορετικά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5717-55C6-4AD9-8A2B-5F727BFD32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ΟΕ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73080" y="1413000"/>
            <a:ext cx="7920000" cy="45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7844-F689-4668-A586-FC553E4B16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πέρ και κατ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λεονεκτήματα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υελιξ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ύκολο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ορτώσ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νείς νέα δεδομένα την στιγμή που τα ανακαλύπτ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ύκολο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λοκληρώσ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νείς ετερογενή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ύκολο να θέσει κανείς ερωτήματ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ωρί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να γνωρίζει τους τύπους τ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ιονεκτήματα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ποδο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τύποι είναι υποτονισμένο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τό κάν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υσκολότερ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βελτιστοποίη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0B74-E96D-467B-80F9-1B72E69CB4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ατηρήσεις στ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αντικείμε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διατεταγ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ορά από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id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πορεί να είναι ορισμένα από τον χρήστη ή το σύστη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τιδήποτε μπορεί να προσδιορίσει ένα αντικείμενο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, URL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τ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πορούν εύκολα να αναπαραστήσουν δεδομέν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αντικειμενοστρεφείς βά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σχεσιακές βά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2105-D307-48EF-9881-5BFC397AC3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Ιστός σήμερ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ά συστατικά στοιχεί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δομεί κείμενο προκειμένου να αναπαραστήσει το πως αυτό θ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μφανιστε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εί μέσω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νδο-κειμενικ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μ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ξω-κειμενικ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ο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πλό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παγκόσμιο πρότυπο για ανταλλαγή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ονάδε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ης πληροφορίας είναι έγγραφα, που ταυτοποιούνται μέσ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5C3-B768-4C41-9A5D-8EFC801BC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αράσταση σχεσιακής βά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ίπτωσ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σχήμα είν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(a, b, c) r2(c,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ν μας απασχολούν οι τύποι εδ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ιγμιότυπ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σσότερο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πό έναν δυνατοί τρόποι αναπαράστα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308320" y="3429000"/>
            <a:ext cx="3200040" cy="1202760"/>
            <a:chOff x="2308320" y="3429000"/>
            <a:chExt cx="3200040" cy="1202760"/>
          </a:xfrm>
        </p:grpSpPr>
        <p:sp>
          <p:nvSpPr>
            <p:cNvPr id="166" name=""/>
            <p:cNvSpPr/>
            <p:nvPr/>
          </p:nvSpPr>
          <p:spPr>
            <a:xfrm>
              <a:off x="2378880" y="3429000"/>
              <a:ext cx="31294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Α     Β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1    b1     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2    b2     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8320" y="3809880"/>
              <a:ext cx="135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4920" y="35049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2440" y="35049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72080" y="3068640"/>
            <a:ext cx="3429000" cy="1620000"/>
            <a:chOff x="4672080" y="3068640"/>
            <a:chExt cx="3429000" cy="1620000"/>
          </a:xfrm>
        </p:grpSpPr>
        <p:sp>
          <p:nvSpPr>
            <p:cNvPr id="171" name=""/>
            <p:cNvSpPr/>
            <p:nvPr/>
          </p:nvSpPr>
          <p:spPr>
            <a:xfrm>
              <a:off x="4748400" y="3068640"/>
              <a:ext cx="33526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C     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2     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3     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4     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72080" y="344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05600" y="31449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D2D9-35C2-43C9-83BD-7A344D0CE6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αράσταση σχεσιακής βάσης (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55520" y="1657440"/>
            <a:ext cx="26672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{r1: {row {A: a1,  B: b1,  C:c1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row:{A: a2,  B: b2,  C: c2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r2: {row: {C: c2,  D: d2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row: {C: c3, D: d3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row: {C: c4, D: d4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951360" y="27241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0320" y="2724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36960" y="3409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17640" y="4933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a1             b1        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98520" y="4248000"/>
            <a:ext cx="1523880" cy="685800"/>
            <a:chOff x="2198520" y="4248000"/>
            <a:chExt cx="1523880" cy="685800"/>
          </a:xfrm>
        </p:grpSpPr>
        <p:sp>
          <p:nvSpPr>
            <p:cNvPr id="181" name=""/>
            <p:cNvSpPr/>
            <p:nvPr/>
          </p:nvSpPr>
          <p:spPr>
            <a:xfrm>
              <a:off x="3036600" y="4248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198520" y="424800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36600" y="42480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98520" y="4400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1680" y="4552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2920" y="4552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951360" y="4248000"/>
            <a:ext cx="1523880" cy="685800"/>
            <a:chOff x="3951360" y="4248000"/>
            <a:chExt cx="1523880" cy="685800"/>
          </a:xfrm>
        </p:grpSpPr>
        <p:sp>
          <p:nvSpPr>
            <p:cNvPr id="188" name=""/>
            <p:cNvSpPr/>
            <p:nvPr/>
          </p:nvSpPr>
          <p:spPr>
            <a:xfrm>
              <a:off x="4789440" y="4248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951360" y="424800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9440" y="42480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51360" y="4400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84520" y="45529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5760" y="4552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951360" y="3409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75040" y="4933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a2         b2       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51560" y="379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37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8004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80160" y="4248000"/>
            <a:ext cx="838080" cy="685800"/>
            <a:chOff x="5780160" y="4248000"/>
            <a:chExt cx="838080" cy="685800"/>
          </a:xfrm>
        </p:grpSpPr>
        <p:sp>
          <p:nvSpPr>
            <p:cNvPr id="200" name=""/>
            <p:cNvSpPr/>
            <p:nvPr/>
          </p:nvSpPr>
          <p:spPr>
            <a:xfrm flipH="1">
              <a:off x="5780160" y="42480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37360" y="424800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6237360" y="34099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694560" y="4248000"/>
            <a:ext cx="838080" cy="685800"/>
            <a:chOff x="6694560" y="4248000"/>
            <a:chExt cx="838080" cy="685800"/>
          </a:xfrm>
        </p:grpSpPr>
        <p:sp>
          <p:nvSpPr>
            <p:cNvPr id="204" name=""/>
            <p:cNvSpPr/>
            <p:nvPr/>
          </p:nvSpPr>
          <p:spPr>
            <a:xfrm flipH="1">
              <a:off x="6694560" y="42480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1760" y="424800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84920" y="4248000"/>
            <a:ext cx="838080" cy="685800"/>
            <a:chOff x="7684920" y="4248000"/>
            <a:chExt cx="838080" cy="685800"/>
          </a:xfrm>
        </p:grpSpPr>
        <p:sp>
          <p:nvSpPr>
            <p:cNvPr id="207" name=""/>
            <p:cNvSpPr/>
            <p:nvPr/>
          </p:nvSpPr>
          <p:spPr>
            <a:xfrm flipH="1">
              <a:off x="7684920" y="42480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42120" y="424800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41920" y="34099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41920" y="34099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6120" y="280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8360" y="3714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13320" y="379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51760" y="3867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3840" y="4324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47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18240" y="4324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08960" y="4324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99120" y="4552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66160" y="4552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51560" y="4933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c2       d2  c3        d3 c4        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0AE3-B167-417A-92FE-BD3FEF07C6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429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όβαθρο και ανάγκη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ή στ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τα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κές προσεγγίσεις για μι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query languag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ώτης γενε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στόχος τους ήταν να συνδυάσουν στα ερωτήματα στοιχεία δομικά με στοιχεία περιεχομέν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εχόμενο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tter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ομή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patter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περιγράφου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αδείγματα γλωσσών πρώτης γενε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3QL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SQ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b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294C-C7DE-4621-ADDF-629107A4BB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ελοποιεί τον Ιστό σαν μι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χεσια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άση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ύ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υπερβατικέ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σχέσεις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, Anc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ει μια πλειάδα για κάθε έγγραφο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τίστοιχ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λοήγηση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ό κάποιο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νωστό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έσα απ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οπατιών, όπο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 =&gt; d2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λώνει διαφορετικού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2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λώνει τον ίδι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9573-510B-4A32-87F3-09E8616E5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ρώτη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ρες όλα τ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1, d2, labe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πικ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ίχνει στ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έσ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βάσιμα απ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mysite.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d.url, e.url, a.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Document d SUCH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mysite.start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d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MENTIONS “data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cument e SUCH THAT d==&gt;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chor a SUCH THAT a.base=d.u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a.href = e.u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5F0F-BD1C-44BC-8928-F01359E32A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δεύτερης γενεά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έγονται και γλώσσες χειρισμού δεδομένων του Ισ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ν ανακτούν απλά, αλλά αναδιατάσσουν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φορές από τις γλώσσες πρώτης γενε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σβαση 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σώτερη δομ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αντικειμένων του Ιστο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κανότητ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ημιουργί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νέων σύνθετων δομών σαν αποτέλεσμα ενός ερωτή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τρόπος που αντιμετωπίζουν τα δεδομένα του Ιστού είναι παρόμοιος με την προσέγγιση των ημιδομημένων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αδείγματ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OQL, StruQL, FLO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BC8E-66AF-4D60-ABA0-59BAB44158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α βιβλιογραφική βάση δεδομένων ΟΕ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82720" y="1824120"/>
          <a:ext cx="626436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1824120"/>
                    <a:ext cx="62643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5A5F-3677-440B-849E-352563097D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κφράσεις μονοπατιο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γλώσσες ερωτημάτων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ράφου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να μοντελοποιήσουν τ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κφράσεις μονοπατιού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expressions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ορίζουν μονοπάτια πλοήγησης στα μοντέλα γράφ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έκφραση μονοπατιού μπορεί να είδωθεί σαν ένα απλό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ρώτη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blio.book.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ρχίζ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την ρίζα, ακολουθεί την σειρά των ετικετών των ακ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αποτέλεσμα είναι έ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νολ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όμβων «συγγραφέων» (γ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λ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αζί τα βιβλί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AAD5-9EAB-461D-A92A-52C993B65A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κφράσεις μονοπατιού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ήση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ύ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ίπεδ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αλληλουχία τω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τικετώ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ακ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υ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αρακτήρ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απαρτίζουν τις ετικέτες (χρή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d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._.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._*.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blio._*.section.(“[tT]itle” | paragraph.”.*heading.*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ύκλοι: άπειρα μονοπάτια, όμως πεπερασμένα αποτελέσ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414F-7CE1-49AD-9889-151D5AA807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 «κουλτούρα» των 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διαφορετική προσέγγιση στην δόμηση της πληροφορία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γράμματα οντοτήτων-συσχετί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ή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χεσιακών βά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την πρόσβαση στ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ισμοί για έλεγχο ταυτοχρονισμού και ανάκαμ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χωρισμός του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ογικού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ιπέδου (ερωτήματα) και του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φυσικού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ιπέδου (απόδοσ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95B7-3BCB-4992-9F61-FA0820DAC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α 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» γλώσσ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φράσεις μονοπατιού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ασκευή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νέων κόμβ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α αποτελέσ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υνατότητα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ιμών και επιλογή με βάση το αποτέλεσ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απλό ερώτη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Author: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book.autho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ελέσμα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uthor: ”Smith”, Author: ”Brown”,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7B38-D331-4A82-8F8C-1041AF879B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α 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» γλώσσα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ι οι συγγραφείς των δημοσιεύσεων που περιέχουν στον τίτλο την λέξη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author: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_ X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author 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titl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matches(“.*(D|d)atabase.*”,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ιβλία όπ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=author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ίεργο, αλλά χάριν απλότητας του παραδείγματο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Y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AAD2-18A2-4BD1-838B-3E0B8A124F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α 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» γλώσσα (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όμηση των αποτελεσμάτ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row: {title: Y, author: Z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book X, X.title Y, X.author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έλεσ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row:{title: y1, author: z1}, row: {…}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μφωλιασμέν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ρω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συγγραφείς να ομαδοποιούνται ανά βιβλί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row: (select author: Y from X.author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book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0AFD-7396-4B2D-AC43-92A9785829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tructured 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re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biblio: {paper: X}} in d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rom” claus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είναι απαραίτητο, οι μεταβλητές εισάγονται σ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title: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{biblio: {paper: {title: X, year Y}}}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 db1, Y &gt; 19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where” claus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B7A2-A9C6-4C0F-99D9-D20AC14DCA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α ερωτημάτων για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αρμογή τη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+ συντακτικά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cu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λειψη των ετικετών (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answer”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X from biblio.book.autho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άντησ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nswer: “Smith”, answer: “Brown”,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9D18-713D-4287-B3B1-5E9FEDBE05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e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φράσεις μονοπατιού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selec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ισοδύναμες με εμφωλιασμένα ερωτή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μαδοποιεί τους συγγραφείς ανά βιβλί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X.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book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rsi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ύπων στις συγκρίσει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row: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pape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X.author = “Smit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αλλιώ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exists Y in X.author (Y = “Smith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4B81-CE7D-49B6-83F4-2260686952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αβλητές ετικέτα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νται και σ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Q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σ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τρέπουν 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δυάζουμε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ληροφορία σχετική με το σχήμα με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: μετατρέποντας τις ετικέτες σε δεδομένα (και αντίστροφ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publication: {type: L, title: 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L X, X.titl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X.year &gt; 19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έλεσ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publication: {type: “paper”, title:”SSD”},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27C4-8789-4C28-B6A0-6256233CBD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μεταβλητές ετικέτας μπορούν να χρησιμοποιηθούν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ouping b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Y:  (select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pap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X.year =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biblio.paper.yea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Ισως να χρειαστεί απαλοιφή διπλοτύπ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097C-C6E8-4124-8823-66A3860356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κρυψη γνωρισμάτ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με μια μεταβλητή ετικέτας προκειμένου να κρύψουμε τον μισθό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new-person:  (select L: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X.L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not (L = salar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db.perso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ίθετα από τις συμβατικές γλώσσες ερωτημάτων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χρειάζεται να ξέρουμε ποιά γνωρίσματα διατηρούνται / φανερώνο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8D84-FFE2-40EC-AC64-C792AD6697B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Objec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ολοκληρωμένο, γενικής χρήσ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ου αναπτύχθηκε από την αρχή,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τιαγμένο ειδικά για να διαχειρίζε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με χρήση του ΟΕΜ και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ηλωτική γλώσσα για ανανεώσεις, υποστήριξη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processing, storag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όσβαση μέσ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αλλά 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ργαλεία για αποτίμηση ερωτ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532C-B3F3-456C-8D9D-0872E7EF31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άγκη για μια γέφυρ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δύο προσεγγίσεις πρέπει 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γκλίνου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ΒΔ χρησιμοποιούνται για να «γεννούν» δυναμικ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γγραφα χρησιμοποιούνται για να αποσπούμε κομμάτια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να βλέπουμε την πληροφορία σαν έγγραφα είν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ύσκαμπτ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λλαγές στην πηγή «σπάνε» τα προγράμματα που κάνου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η αποδοτικό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ολλές σελίδες πρέπει να γινου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ενα μονο κομμάτι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42F1-D752-4C73-9FE0-D0AF7E0D39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3905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όβαθρο και ανάγκη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ή στ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τα για ημιδομημέν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είναι τα σχήματα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ές και Αντικειμενοστραφείς Β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υπακούουν σε προκαθορισμένη δομή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priori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ήμ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ύρεση/ερμηνεία της δομής της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λύτερ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οθήκευ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ελτιστοποιημέν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πεξεργασ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άσεις Ημιδομημένων δεδομένω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είν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ανόνιστ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posterior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ήμ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μπορεί να βοηθήσει κάποιο «σχήμα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D91E-6E32-44E5-8270-21D12151DC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εριγραφή δομής βά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95480" y="1244520"/>
            <a:ext cx="7579800" cy="4995000"/>
            <a:chOff x="1095480" y="1244520"/>
            <a:chExt cx="7579800" cy="4995000"/>
          </a:xfrm>
        </p:grpSpPr>
        <p:sp>
          <p:nvSpPr>
            <p:cNvPr id="265" name=""/>
            <p:cNvSpPr/>
            <p:nvPr/>
          </p:nvSpPr>
          <p:spPr>
            <a:xfrm>
              <a:off x="1095480" y="13892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87480" y="225648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7480" y="13892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00160" y="18230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00160" y="247356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00160" y="308808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00160" y="3846960"/>
              <a:ext cx="353880" cy="36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00160" y="45698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54120" y="4569840"/>
              <a:ext cx="35424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54120" y="5292720"/>
              <a:ext cx="35424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54120" y="5871240"/>
              <a:ext cx="35424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24480" y="13892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12360" y="138924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2360" y="478656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7480" y="3088080"/>
              <a:ext cx="353880" cy="36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49360" y="1533600"/>
              <a:ext cx="12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78720" y="15336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66600" y="1533600"/>
              <a:ext cx="9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3760" y="1677960"/>
              <a:ext cx="963720" cy="72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24760" y="1750320"/>
              <a:ext cx="1062360" cy="15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841720" y="1967040"/>
              <a:ext cx="155844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41720" y="2545560"/>
              <a:ext cx="1558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1720" y="3268440"/>
              <a:ext cx="155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71160" y="3413160"/>
              <a:ext cx="162900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6600" y="5003640"/>
              <a:ext cx="14875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584240" y="4786200"/>
              <a:ext cx="1469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35640" y="5076000"/>
              <a:ext cx="1518480" cy="9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78720" y="1642320"/>
              <a:ext cx="1275120" cy="31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71160" y="3413160"/>
              <a:ext cx="1629000" cy="13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61760" y="124452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ibl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20560" y="124452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49920" y="124452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20840" y="175032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41440" y="232884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83560" y="182304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25040" y="254556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5960" y="297936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8720" y="341316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66520" y="40636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z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2320" y="449748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62320" y="4931280"/>
              <a:ext cx="77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jou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49920" y="543744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2640" y="138924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96240" y="182304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96240" y="247356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96240" y="309384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96240" y="384696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96240" y="456984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9280" y="456984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9280" y="52927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9280" y="587124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08160" y="2920680"/>
              <a:ext cx="7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pa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1052-C535-4B30-9F4D-40DC43391A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ήσεις της δομής της βά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 και βελτιωμένη αποθήκευ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όθεση: πολλά «ομογενή» αντικείμε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τότ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δημιουργία σχέσεων της μορφή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k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i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ί για την γενικότερη περίπτωσ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f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oi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oi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om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ήμα και επεξεργασία ερωτ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6240" y="5140440"/>
            <a:ext cx="2562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Ερώτηση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X.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biblio._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X.*.zip= “12345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48000" y="5310360"/>
            <a:ext cx="2209680" cy="609480"/>
          </a:xfrm>
          <a:prstGeom prst="rightArrow">
            <a:avLst>
              <a:gd name="adj1" fmla="val 50000"/>
              <a:gd name="adj2" fmla="val 9063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σχηματισμό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83320" y="499752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Ερώτηση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X.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biblio.book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X.address.zip= “12345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A199-41A1-48F2-9573-DB0B888DE5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βά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35840" y="1628640"/>
            <a:ext cx="5314680" cy="3174480"/>
            <a:chOff x="1635840" y="1628640"/>
            <a:chExt cx="5314680" cy="3174480"/>
          </a:xfrm>
        </p:grpSpPr>
        <p:sp>
          <p:nvSpPr>
            <p:cNvPr id="324" name=""/>
            <p:cNvSpPr/>
            <p:nvPr/>
          </p:nvSpPr>
          <p:spPr>
            <a:xfrm>
              <a:off x="3657600" y="16286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25430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15000" y="25430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8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412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4852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40672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690640" y="2035080"/>
              <a:ext cx="10432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41720" y="2022480"/>
              <a:ext cx="168588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36240" y="2987640"/>
              <a:ext cx="3351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38440" y="2962080"/>
              <a:ext cx="28404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26080" y="2987640"/>
              <a:ext cx="23184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49800" y="2962080"/>
              <a:ext cx="36036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50080" y="2998800"/>
              <a:ext cx="136440" cy="10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5840" y="20948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comp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63280" y="22597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comp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9160" y="31345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9680" y="312012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93640" y="301536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41000" y="3490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59080" y="30250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35840" y="3958560"/>
              <a:ext cx="75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dge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11800" y="399492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enton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92640" y="3948840"/>
              <a:ext cx="78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dge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16000" y="4526640"/>
              <a:ext cx="95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ww.gp.f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3080" y="389484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i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-35640" y="1868400"/>
            <a:ext cx="8250120" cy="2407680"/>
            <a:chOff x="-35640" y="1868400"/>
            <a:chExt cx="8250120" cy="2407680"/>
          </a:xfrm>
        </p:grpSpPr>
        <p:sp>
          <p:nvSpPr>
            <p:cNvPr id="352" name=""/>
            <p:cNvSpPr/>
            <p:nvPr/>
          </p:nvSpPr>
          <p:spPr>
            <a:xfrm>
              <a:off x="3657600" y="25430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" y="25430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81680" y="25430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492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76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43800" y="345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s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901440" y="1946160"/>
              <a:ext cx="277956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640" y="20876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19480" y="1868400"/>
              <a:ext cx="27036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14080" y="2949480"/>
              <a:ext cx="1260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3280" y="2975040"/>
              <a:ext cx="320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5040" y="2987640"/>
              <a:ext cx="126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9120" y="2936880"/>
              <a:ext cx="6573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02360" y="2987640"/>
              <a:ext cx="129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83440" y="2911320"/>
              <a:ext cx="52704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58120" y="1915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86960" y="21456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44360" y="19630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20" y="397584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ith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35640" y="30218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9680" y="30582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41040" y="305532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76440" y="29631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h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76280" y="31172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8400" y="294084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080" y="3999600"/>
              <a:ext cx="8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3840" y="3928320"/>
              <a:ext cx="68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ne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25480" y="3964680"/>
              <a:ext cx="87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52121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99320" y="395676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upon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50640" y="390276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le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824040" y="2231280"/>
            <a:ext cx="6223680" cy="1058760"/>
            <a:chOff x="824040" y="2231280"/>
            <a:chExt cx="6223680" cy="1058760"/>
          </a:xfrm>
        </p:grpSpPr>
        <p:sp>
          <p:nvSpPr>
            <p:cNvPr id="386" name=""/>
            <p:cNvSpPr/>
            <p:nvPr/>
          </p:nvSpPr>
          <p:spPr>
            <a:xfrm>
              <a:off x="2621160" y="246636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1800" y="2333520"/>
              <a:ext cx="2817720" cy="422280"/>
            </a:xfrm>
            <a:custGeom>
              <a:avLst/>
              <a:gdLst/>
              <a:ahLst/>
              <a:rect l="l" t="t" r="r" b="b"/>
              <a:pathLst>
                <a:path w="1775" h="266">
                  <a:moveTo>
                    <a:pt x="0" y="266"/>
                  </a:moveTo>
                  <a:cubicBezTo>
                    <a:pt x="387" y="148"/>
                    <a:pt x="774" y="30"/>
                    <a:pt x="1070" y="15"/>
                  </a:cubicBezTo>
                  <a:cubicBezTo>
                    <a:pt x="1366" y="0"/>
                    <a:pt x="1570" y="88"/>
                    <a:pt x="1775" y="1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200" y="2574720"/>
              <a:ext cx="965160" cy="117720"/>
            </a:xfrm>
            <a:custGeom>
              <a:avLst/>
              <a:gdLst/>
              <a:ahLst/>
              <a:rect l="l" t="t" r="r" b="b"/>
              <a:pathLst>
                <a:path w="608" h="74">
                  <a:moveTo>
                    <a:pt x="0" y="66"/>
                  </a:moveTo>
                  <a:cubicBezTo>
                    <a:pt x="124" y="33"/>
                    <a:pt x="248" y="0"/>
                    <a:pt x="349" y="1"/>
                  </a:cubicBezTo>
                  <a:cubicBezTo>
                    <a:pt x="450" y="2"/>
                    <a:pt x="529" y="38"/>
                    <a:pt x="608" y="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16200" y="2898720"/>
              <a:ext cx="990720" cy="181080"/>
            </a:xfrm>
            <a:custGeom>
              <a:avLst/>
              <a:gdLst/>
              <a:ahLst/>
              <a:rect l="l" t="t" r="r" b="b"/>
              <a:pathLst>
                <a:path w="624" h="114">
                  <a:moveTo>
                    <a:pt x="624" y="8"/>
                  </a:moveTo>
                  <a:cubicBezTo>
                    <a:pt x="514" y="61"/>
                    <a:pt x="404" y="114"/>
                    <a:pt x="300" y="113"/>
                  </a:cubicBezTo>
                  <a:cubicBezTo>
                    <a:pt x="196" y="112"/>
                    <a:pt x="98" y="5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14400" y="2697120"/>
              <a:ext cx="1376280" cy="111240"/>
            </a:xfrm>
            <a:custGeom>
              <a:avLst/>
              <a:gdLst/>
              <a:ahLst/>
              <a:rect l="l" t="t" r="r" b="b"/>
              <a:pathLst>
                <a:path w="867" h="70">
                  <a:moveTo>
                    <a:pt x="867" y="37"/>
                  </a:moveTo>
                  <a:cubicBezTo>
                    <a:pt x="752" y="18"/>
                    <a:pt x="638" y="0"/>
                    <a:pt x="494" y="5"/>
                  </a:cubicBezTo>
                  <a:cubicBezTo>
                    <a:pt x="350" y="10"/>
                    <a:pt x="175" y="40"/>
                    <a:pt x="0" y="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040" y="2924280"/>
              <a:ext cx="1544400" cy="299880"/>
            </a:xfrm>
            <a:custGeom>
              <a:avLst/>
              <a:gdLst/>
              <a:ahLst/>
              <a:rect l="l" t="t" r="r" b="b"/>
              <a:pathLst>
                <a:path w="973" h="189">
                  <a:moveTo>
                    <a:pt x="0" y="0"/>
                  </a:moveTo>
                  <a:cubicBezTo>
                    <a:pt x="138" y="91"/>
                    <a:pt x="276" y="183"/>
                    <a:pt x="438" y="186"/>
                  </a:cubicBezTo>
                  <a:cubicBezTo>
                    <a:pt x="600" y="189"/>
                    <a:pt x="786" y="102"/>
                    <a:pt x="973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53120" y="2600280"/>
              <a:ext cx="642960" cy="169920"/>
            </a:xfrm>
            <a:custGeom>
              <a:avLst/>
              <a:gdLst/>
              <a:ahLst/>
              <a:rect l="l" t="t" r="r" b="b"/>
              <a:pathLst>
                <a:path w="405" h="107">
                  <a:moveTo>
                    <a:pt x="405" y="107"/>
                  </a:moveTo>
                  <a:cubicBezTo>
                    <a:pt x="309" y="62"/>
                    <a:pt x="213" y="18"/>
                    <a:pt x="146" y="9"/>
                  </a:cubicBezTo>
                  <a:cubicBezTo>
                    <a:pt x="79" y="0"/>
                    <a:pt x="39" y="25"/>
                    <a:pt x="0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27920" y="2871720"/>
              <a:ext cx="707760" cy="133560"/>
            </a:xfrm>
            <a:custGeom>
              <a:avLst/>
              <a:gdLst/>
              <a:ahLst/>
              <a:rect l="l" t="t" r="r" b="b"/>
              <a:pathLst>
                <a:path w="446" h="84">
                  <a:moveTo>
                    <a:pt x="0" y="0"/>
                  </a:moveTo>
                  <a:cubicBezTo>
                    <a:pt x="76" y="39"/>
                    <a:pt x="153" y="78"/>
                    <a:pt x="227" y="81"/>
                  </a:cubicBezTo>
                  <a:cubicBezTo>
                    <a:pt x="301" y="84"/>
                    <a:pt x="373" y="50"/>
                    <a:pt x="446" y="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6560" y="22312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man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1560" y="264096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c.e.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7840" y="292176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works-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63000" y="290592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works-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28120" y="231228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works-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9240" y="26521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c.e.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300040" y="2755800"/>
            <a:ext cx="6885000" cy="3217320"/>
            <a:chOff x="2300040" y="2755800"/>
            <a:chExt cx="6885000" cy="3217320"/>
          </a:xfrm>
        </p:grpSpPr>
        <p:sp>
          <p:nvSpPr>
            <p:cNvPr id="401" name=""/>
            <p:cNvSpPr/>
            <p:nvPr/>
          </p:nvSpPr>
          <p:spPr>
            <a:xfrm>
              <a:off x="3657600" y="452448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6200" y="513396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505764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1680" y="467676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8720" y="437184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521028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58200" y="4905360"/>
              <a:ext cx="457200" cy="4572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a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75120" y="2970000"/>
              <a:ext cx="347760" cy="1600200"/>
            </a:xfrm>
            <a:custGeom>
              <a:avLst/>
              <a:gdLst/>
              <a:ahLst/>
              <a:rect l="l" t="t" r="r" b="b"/>
              <a:pathLst>
                <a:path w="221" h="1006">
                  <a:moveTo>
                    <a:pt x="0" y="0"/>
                  </a:moveTo>
                  <a:cubicBezTo>
                    <a:pt x="99" y="228"/>
                    <a:pt x="199" y="457"/>
                    <a:pt x="210" y="625"/>
                  </a:cubicBezTo>
                  <a:cubicBezTo>
                    <a:pt x="221" y="793"/>
                    <a:pt x="143" y="899"/>
                    <a:pt x="65" y="10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16280" y="4905360"/>
              <a:ext cx="184320" cy="387360"/>
            </a:xfrm>
            <a:custGeom>
              <a:avLst/>
              <a:gdLst/>
              <a:ahLst/>
              <a:rect l="l" t="t" r="r" b="b"/>
              <a:pathLst>
                <a:path w="116" h="244">
                  <a:moveTo>
                    <a:pt x="2" y="0"/>
                  </a:moveTo>
                  <a:cubicBezTo>
                    <a:pt x="1" y="61"/>
                    <a:pt x="0" y="122"/>
                    <a:pt x="19" y="163"/>
                  </a:cubicBezTo>
                  <a:cubicBezTo>
                    <a:pt x="38" y="204"/>
                    <a:pt x="77" y="224"/>
                    <a:pt x="116" y="24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25760" y="5446800"/>
              <a:ext cx="1686240" cy="301680"/>
            </a:xfrm>
            <a:custGeom>
              <a:avLst/>
              <a:gdLst/>
              <a:ahLst/>
              <a:rect l="l" t="t" r="r" b="b"/>
              <a:pathLst>
                <a:path w="1062" h="190">
                  <a:moveTo>
                    <a:pt x="0" y="24"/>
                  </a:moveTo>
                  <a:cubicBezTo>
                    <a:pt x="150" y="107"/>
                    <a:pt x="301" y="190"/>
                    <a:pt x="478" y="186"/>
                  </a:cubicBezTo>
                  <a:cubicBezTo>
                    <a:pt x="655" y="182"/>
                    <a:pt x="858" y="91"/>
                    <a:pt x="106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6160" y="5027400"/>
              <a:ext cx="1673280" cy="200160"/>
            </a:xfrm>
            <a:custGeom>
              <a:avLst/>
              <a:gdLst/>
              <a:ahLst/>
              <a:rect l="l" t="t" r="r" b="b"/>
              <a:pathLst>
                <a:path w="1054" h="126">
                  <a:moveTo>
                    <a:pt x="1054" y="126"/>
                  </a:moveTo>
                  <a:cubicBezTo>
                    <a:pt x="878" y="67"/>
                    <a:pt x="703" y="8"/>
                    <a:pt x="527" y="4"/>
                  </a:cubicBezTo>
                  <a:cubicBezTo>
                    <a:pt x="351" y="0"/>
                    <a:pt x="88" y="86"/>
                    <a:pt x="0" y="1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57880" y="2755800"/>
              <a:ext cx="1155960" cy="1982880"/>
            </a:xfrm>
            <a:custGeom>
              <a:avLst/>
              <a:gdLst/>
              <a:ahLst/>
              <a:rect l="l" t="t" r="r" b="b"/>
              <a:pathLst>
                <a:path w="728" h="1249">
                  <a:moveTo>
                    <a:pt x="40" y="0"/>
                  </a:moveTo>
                  <a:cubicBezTo>
                    <a:pt x="328" y="193"/>
                    <a:pt x="728" y="352"/>
                    <a:pt x="721" y="560"/>
                  </a:cubicBezTo>
                  <a:cubicBezTo>
                    <a:pt x="714" y="768"/>
                    <a:pt x="150" y="1106"/>
                    <a:pt x="0" y="124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83440" y="4635360"/>
              <a:ext cx="682560" cy="115920"/>
            </a:xfrm>
            <a:custGeom>
              <a:avLst/>
              <a:gdLst/>
              <a:ahLst/>
              <a:rect l="l" t="t" r="r" b="b"/>
              <a:pathLst>
                <a:path w="430" h="73">
                  <a:moveTo>
                    <a:pt x="430" y="0"/>
                  </a:moveTo>
                  <a:cubicBezTo>
                    <a:pt x="340" y="2"/>
                    <a:pt x="250" y="4"/>
                    <a:pt x="178" y="16"/>
                  </a:cubicBezTo>
                  <a:cubicBezTo>
                    <a:pt x="106" y="28"/>
                    <a:pt x="53" y="50"/>
                    <a:pt x="0" y="7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02680" y="4622760"/>
              <a:ext cx="309600" cy="28260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0" y="0"/>
                  </a:moveTo>
                  <a:cubicBezTo>
                    <a:pt x="45" y="18"/>
                    <a:pt x="90" y="36"/>
                    <a:pt x="122" y="65"/>
                  </a:cubicBezTo>
                  <a:cubicBezTo>
                    <a:pt x="154" y="94"/>
                    <a:pt x="174" y="136"/>
                    <a:pt x="195" y="17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851240" y="4803840"/>
              <a:ext cx="142920" cy="423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384960" y="4995720"/>
              <a:ext cx="411120" cy="16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19440" y="40885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02360" y="34045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00040" y="489492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30320" y="482832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salesr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53000" y="540468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65880" y="5029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39960" y="45266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68720" y="4807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84680" y="4431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0160" y="569664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 targe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46000" y="538884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low targe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B6D4-E882-4F9B-BCD9-F1205C4B3B1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-bound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σχ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08960" y="1892880"/>
            <a:ext cx="1164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36160" y="3620160"/>
            <a:ext cx="2098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69600" y="3531240"/>
            <a:ext cx="21690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85800" y="494568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6560" y="2212920"/>
            <a:ext cx="1879560" cy="1416240"/>
          </a:xfrm>
          <a:custGeom>
            <a:avLst/>
            <a:gdLst/>
            <a:ahLst/>
            <a:rect l="l" t="t" r="r" b="b"/>
            <a:pathLst>
              <a:path w="1184" h="892">
                <a:moveTo>
                  <a:pt x="1184" y="0"/>
                </a:moveTo>
                <a:cubicBezTo>
                  <a:pt x="844" y="71"/>
                  <a:pt x="505" y="143"/>
                  <a:pt x="308" y="292"/>
                </a:cubicBezTo>
                <a:cubicBezTo>
                  <a:pt x="111" y="441"/>
                  <a:pt x="55" y="666"/>
                  <a:pt x="0" y="8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99040" y="2179800"/>
            <a:ext cx="2046240" cy="1371600"/>
          </a:xfrm>
          <a:custGeom>
            <a:avLst/>
            <a:gdLst/>
            <a:ahLst/>
            <a:rect l="l" t="t" r="r" b="b"/>
            <a:pathLst>
              <a:path w="1289" h="864">
                <a:moveTo>
                  <a:pt x="0" y="5"/>
                </a:moveTo>
                <a:cubicBezTo>
                  <a:pt x="354" y="2"/>
                  <a:pt x="709" y="0"/>
                  <a:pt x="924" y="143"/>
                </a:cubicBezTo>
                <a:cubicBezTo>
                  <a:pt x="1139" y="286"/>
                  <a:pt x="1214" y="575"/>
                  <a:pt x="1289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3800" y="3111480"/>
            <a:ext cx="855720" cy="1500120"/>
          </a:xfrm>
          <a:custGeom>
            <a:avLst/>
            <a:gdLst/>
            <a:ahLst/>
            <a:rect l="l" t="t" r="r" b="b"/>
            <a:pathLst>
              <a:path w="539" h="945">
                <a:moveTo>
                  <a:pt x="25" y="285"/>
                </a:moveTo>
                <a:cubicBezTo>
                  <a:pt x="96" y="142"/>
                  <a:pt x="168" y="0"/>
                  <a:pt x="252" y="34"/>
                </a:cubicBezTo>
                <a:cubicBezTo>
                  <a:pt x="336" y="68"/>
                  <a:pt x="515" y="341"/>
                  <a:pt x="527" y="488"/>
                </a:cubicBezTo>
                <a:cubicBezTo>
                  <a:pt x="539" y="635"/>
                  <a:pt x="413" y="891"/>
                  <a:pt x="325" y="918"/>
                </a:cubicBezTo>
                <a:cubicBezTo>
                  <a:pt x="237" y="945"/>
                  <a:pt x="118" y="797"/>
                  <a:pt x="0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10160" y="4156200"/>
            <a:ext cx="1416240" cy="1055520"/>
          </a:xfrm>
          <a:custGeom>
            <a:avLst/>
            <a:gdLst/>
            <a:ahLst/>
            <a:rect l="l" t="t" r="r" b="b"/>
            <a:pathLst>
              <a:path w="892" h="665">
                <a:moveTo>
                  <a:pt x="892" y="0"/>
                </a:moveTo>
                <a:cubicBezTo>
                  <a:pt x="812" y="167"/>
                  <a:pt x="733" y="335"/>
                  <a:pt x="584" y="446"/>
                </a:cubicBezTo>
                <a:cubicBezTo>
                  <a:pt x="435" y="557"/>
                  <a:pt x="217" y="611"/>
                  <a:pt x="0" y="6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97280" y="3129120"/>
            <a:ext cx="3475080" cy="590400"/>
          </a:xfrm>
          <a:custGeom>
            <a:avLst/>
            <a:gdLst/>
            <a:ahLst/>
            <a:rect l="l" t="t" r="r" b="b"/>
            <a:pathLst>
              <a:path w="2189" h="372">
                <a:moveTo>
                  <a:pt x="2189" y="331"/>
                </a:moveTo>
                <a:cubicBezTo>
                  <a:pt x="1893" y="165"/>
                  <a:pt x="1598" y="0"/>
                  <a:pt x="1233" y="7"/>
                </a:cubicBezTo>
                <a:cubicBezTo>
                  <a:pt x="868" y="14"/>
                  <a:pt x="434" y="193"/>
                  <a:pt x="0" y="3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38400" y="3989520"/>
            <a:ext cx="3218040" cy="423720"/>
          </a:xfrm>
          <a:custGeom>
            <a:avLst/>
            <a:gdLst/>
            <a:ahLst/>
            <a:rect l="l" t="t" r="r" b="b"/>
            <a:pathLst>
              <a:path w="2027" h="267">
                <a:moveTo>
                  <a:pt x="0" y="49"/>
                </a:moveTo>
                <a:cubicBezTo>
                  <a:pt x="354" y="158"/>
                  <a:pt x="708" y="267"/>
                  <a:pt x="1046" y="259"/>
                </a:cubicBezTo>
                <a:cubicBezTo>
                  <a:pt x="1384" y="251"/>
                  <a:pt x="1705" y="125"/>
                  <a:pt x="20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6920" y="4221000"/>
            <a:ext cx="1904760" cy="887400"/>
          </a:xfrm>
          <a:custGeom>
            <a:avLst/>
            <a:gdLst/>
            <a:ahLst/>
            <a:rect l="l" t="t" r="r" b="b"/>
            <a:pathLst>
              <a:path w="1200" h="559">
                <a:moveTo>
                  <a:pt x="0" y="0"/>
                </a:moveTo>
                <a:cubicBezTo>
                  <a:pt x="240" y="63"/>
                  <a:pt x="481" y="126"/>
                  <a:pt x="681" y="219"/>
                </a:cubicBezTo>
                <a:cubicBezTo>
                  <a:pt x="881" y="312"/>
                  <a:pt x="1040" y="435"/>
                  <a:pt x="1200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34960" y="4156200"/>
            <a:ext cx="3044880" cy="1568160"/>
          </a:xfrm>
          <a:custGeom>
            <a:avLst/>
            <a:gdLst/>
            <a:ahLst/>
            <a:rect l="l" t="t" r="r" b="b"/>
            <a:pathLst>
              <a:path w="1918" h="988">
                <a:moveTo>
                  <a:pt x="37" y="0"/>
                </a:moveTo>
                <a:cubicBezTo>
                  <a:pt x="18" y="358"/>
                  <a:pt x="0" y="716"/>
                  <a:pt x="313" y="852"/>
                </a:cubicBezTo>
                <a:cubicBezTo>
                  <a:pt x="626" y="988"/>
                  <a:pt x="1272" y="903"/>
                  <a:pt x="1918" y="8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03200" y="23691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87560" y="1981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70160" y="2699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orks-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72480" y="38311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.e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1840" y="4472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7360" y="4920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94960" y="3016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naged-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7680" y="444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3BC7-D5BE-409A-A424-C4022A43C7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per-bound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45440" y="1829520"/>
            <a:ext cx="116424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72640" y="3556800"/>
            <a:ext cx="20980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6080" y="3467880"/>
            <a:ext cx="216900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22280" y="4882320"/>
            <a:ext cx="130896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13040" y="2149560"/>
            <a:ext cx="1879560" cy="1415880"/>
          </a:xfrm>
          <a:custGeom>
            <a:avLst/>
            <a:gdLst/>
            <a:ahLst/>
            <a:rect l="l" t="t" r="r" b="b"/>
            <a:pathLst>
              <a:path w="1184" h="892">
                <a:moveTo>
                  <a:pt x="1184" y="0"/>
                </a:moveTo>
                <a:cubicBezTo>
                  <a:pt x="844" y="71"/>
                  <a:pt x="505" y="143"/>
                  <a:pt x="308" y="292"/>
                </a:cubicBezTo>
                <a:cubicBezTo>
                  <a:pt x="111" y="441"/>
                  <a:pt x="55" y="666"/>
                  <a:pt x="0" y="8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520" y="2116080"/>
            <a:ext cx="2046240" cy="1371600"/>
          </a:xfrm>
          <a:custGeom>
            <a:avLst/>
            <a:gdLst/>
            <a:ahLst/>
            <a:rect l="l" t="t" r="r" b="b"/>
            <a:pathLst>
              <a:path w="1289" h="864">
                <a:moveTo>
                  <a:pt x="0" y="5"/>
                </a:moveTo>
                <a:cubicBezTo>
                  <a:pt x="354" y="2"/>
                  <a:pt x="709" y="0"/>
                  <a:pt x="924" y="143"/>
                </a:cubicBezTo>
                <a:cubicBezTo>
                  <a:pt x="1139" y="286"/>
                  <a:pt x="1214" y="575"/>
                  <a:pt x="1289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80280" y="3048120"/>
            <a:ext cx="855720" cy="1500120"/>
          </a:xfrm>
          <a:custGeom>
            <a:avLst/>
            <a:gdLst/>
            <a:ahLst/>
            <a:rect l="l" t="t" r="r" b="b"/>
            <a:pathLst>
              <a:path w="539" h="945">
                <a:moveTo>
                  <a:pt x="25" y="285"/>
                </a:moveTo>
                <a:cubicBezTo>
                  <a:pt x="96" y="142"/>
                  <a:pt x="168" y="0"/>
                  <a:pt x="252" y="34"/>
                </a:cubicBezTo>
                <a:cubicBezTo>
                  <a:pt x="336" y="68"/>
                  <a:pt x="515" y="341"/>
                  <a:pt x="527" y="488"/>
                </a:cubicBezTo>
                <a:cubicBezTo>
                  <a:pt x="539" y="635"/>
                  <a:pt x="413" y="891"/>
                  <a:pt x="325" y="918"/>
                </a:cubicBezTo>
                <a:cubicBezTo>
                  <a:pt x="237" y="945"/>
                  <a:pt x="118" y="797"/>
                  <a:pt x="0" y="6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46640" y="4092480"/>
            <a:ext cx="1416240" cy="1055880"/>
          </a:xfrm>
          <a:custGeom>
            <a:avLst/>
            <a:gdLst/>
            <a:ahLst/>
            <a:rect l="l" t="t" r="r" b="b"/>
            <a:pathLst>
              <a:path w="892" h="665">
                <a:moveTo>
                  <a:pt x="892" y="0"/>
                </a:moveTo>
                <a:cubicBezTo>
                  <a:pt x="812" y="167"/>
                  <a:pt x="733" y="335"/>
                  <a:pt x="584" y="446"/>
                </a:cubicBezTo>
                <a:cubicBezTo>
                  <a:pt x="435" y="557"/>
                  <a:pt x="217" y="611"/>
                  <a:pt x="0" y="6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33760" y="3065400"/>
            <a:ext cx="3475080" cy="590760"/>
          </a:xfrm>
          <a:custGeom>
            <a:avLst/>
            <a:gdLst/>
            <a:ahLst/>
            <a:rect l="l" t="t" r="r" b="b"/>
            <a:pathLst>
              <a:path w="2189" h="372">
                <a:moveTo>
                  <a:pt x="2189" y="331"/>
                </a:moveTo>
                <a:cubicBezTo>
                  <a:pt x="1893" y="165"/>
                  <a:pt x="1598" y="0"/>
                  <a:pt x="1233" y="7"/>
                </a:cubicBezTo>
                <a:cubicBezTo>
                  <a:pt x="868" y="14"/>
                  <a:pt x="434" y="193"/>
                  <a:pt x="0" y="3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74880" y="3925800"/>
            <a:ext cx="3218040" cy="424080"/>
          </a:xfrm>
          <a:custGeom>
            <a:avLst/>
            <a:gdLst/>
            <a:ahLst/>
            <a:rect l="l" t="t" r="r" b="b"/>
            <a:pathLst>
              <a:path w="2027" h="267">
                <a:moveTo>
                  <a:pt x="0" y="49"/>
                </a:moveTo>
                <a:cubicBezTo>
                  <a:pt x="354" y="158"/>
                  <a:pt x="708" y="267"/>
                  <a:pt x="1046" y="259"/>
                </a:cubicBezTo>
                <a:cubicBezTo>
                  <a:pt x="1384" y="251"/>
                  <a:pt x="1705" y="125"/>
                  <a:pt x="20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3400" y="4157640"/>
            <a:ext cx="1904760" cy="887400"/>
          </a:xfrm>
          <a:custGeom>
            <a:avLst/>
            <a:gdLst/>
            <a:ahLst/>
            <a:rect l="l" t="t" r="r" b="b"/>
            <a:pathLst>
              <a:path w="1200" h="559">
                <a:moveTo>
                  <a:pt x="0" y="0"/>
                </a:moveTo>
                <a:cubicBezTo>
                  <a:pt x="240" y="63"/>
                  <a:pt x="481" y="126"/>
                  <a:pt x="681" y="219"/>
                </a:cubicBezTo>
                <a:cubicBezTo>
                  <a:pt x="881" y="312"/>
                  <a:pt x="1040" y="435"/>
                  <a:pt x="1200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39680" y="23054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24040" y="1918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6640" y="26359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orks-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27400" y="37677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.e.o. |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2000" y="440892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 | address | 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1440" y="2953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naged-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0720" y="45201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ame | phone |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03680" y="5523480"/>
            <a:ext cx="9964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35840" y="4106880"/>
            <a:ext cx="992160" cy="1428840"/>
          </a:xfrm>
          <a:custGeom>
            <a:avLst/>
            <a:gdLst/>
            <a:ahLst/>
            <a:rect l="l" t="t" r="r" b="b"/>
            <a:pathLst>
              <a:path w="625" h="900">
                <a:moveTo>
                  <a:pt x="0" y="0"/>
                </a:moveTo>
                <a:cubicBezTo>
                  <a:pt x="222" y="188"/>
                  <a:pt x="445" y="377"/>
                  <a:pt x="535" y="527"/>
                </a:cubicBezTo>
                <a:cubicBezTo>
                  <a:pt x="625" y="677"/>
                  <a:pt x="584" y="788"/>
                  <a:pt x="543" y="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6720" y="5442120"/>
            <a:ext cx="1212840" cy="990360"/>
          </a:xfrm>
          <a:custGeom>
            <a:avLst/>
            <a:gdLst/>
            <a:ahLst/>
            <a:rect l="l" t="t" r="r" b="b"/>
            <a:pathLst>
              <a:path w="764" h="624">
                <a:moveTo>
                  <a:pt x="691" y="213"/>
                </a:moveTo>
                <a:cubicBezTo>
                  <a:pt x="452" y="106"/>
                  <a:pt x="213" y="0"/>
                  <a:pt x="116" y="59"/>
                </a:cubicBezTo>
                <a:cubicBezTo>
                  <a:pt x="19" y="118"/>
                  <a:pt x="0" y="516"/>
                  <a:pt x="108" y="570"/>
                </a:cubicBezTo>
                <a:cubicBezTo>
                  <a:pt x="216" y="624"/>
                  <a:pt x="657" y="414"/>
                  <a:pt x="764" y="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52480" y="485496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35520" y="5807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AA48-B9EA-4D95-A7CD-F5273AA7D9E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ξαγωγή σχήματος: βάσ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20920" y="21002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075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637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781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925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641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3080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5468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93120" y="34718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p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20920" y="48434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70040" y="2473200"/>
            <a:ext cx="703080" cy="2459160"/>
          </a:xfrm>
          <a:custGeom>
            <a:avLst/>
            <a:gdLst/>
            <a:ahLst/>
            <a:rect l="l" t="t" r="r" b="b"/>
            <a:pathLst>
              <a:path w="441" h="1549">
                <a:moveTo>
                  <a:pt x="441" y="0"/>
                </a:moveTo>
                <a:cubicBezTo>
                  <a:pt x="223" y="256"/>
                  <a:pt x="6" y="513"/>
                  <a:pt x="3" y="771"/>
                </a:cubicBezTo>
                <a:cubicBezTo>
                  <a:pt x="0" y="1029"/>
                  <a:pt x="355" y="1419"/>
                  <a:pt x="425" y="15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14280" y="2527200"/>
            <a:ext cx="373320" cy="939960"/>
          </a:xfrm>
          <a:custGeom>
            <a:avLst/>
            <a:gdLst/>
            <a:ahLst/>
            <a:rect l="l" t="t" r="r" b="b"/>
            <a:pathLst>
              <a:path w="235" h="592">
                <a:moveTo>
                  <a:pt x="235" y="0"/>
                </a:moveTo>
                <a:cubicBezTo>
                  <a:pt x="169" y="104"/>
                  <a:pt x="104" y="209"/>
                  <a:pt x="65" y="308"/>
                </a:cubicBezTo>
                <a:cubicBezTo>
                  <a:pt x="26" y="407"/>
                  <a:pt x="13" y="499"/>
                  <a:pt x="0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65360" y="2540160"/>
            <a:ext cx="385560" cy="927000"/>
          </a:xfrm>
          <a:custGeom>
            <a:avLst/>
            <a:gdLst/>
            <a:ahLst/>
            <a:rect l="l" t="t" r="r" b="b"/>
            <a:pathLst>
              <a:path w="243" h="584">
                <a:moveTo>
                  <a:pt x="0" y="0"/>
                </a:moveTo>
                <a:cubicBezTo>
                  <a:pt x="16" y="54"/>
                  <a:pt x="64" y="227"/>
                  <a:pt x="105" y="324"/>
                </a:cubicBezTo>
                <a:cubicBezTo>
                  <a:pt x="146" y="421"/>
                  <a:pt x="189" y="503"/>
                  <a:pt x="243" y="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81280" y="2502000"/>
            <a:ext cx="1042920" cy="1015920"/>
          </a:xfrm>
          <a:custGeom>
            <a:avLst/>
            <a:gdLst/>
            <a:ahLst/>
            <a:rect l="l" t="t" r="r" b="b"/>
            <a:pathLst>
              <a:path w="657" h="640">
                <a:moveTo>
                  <a:pt x="0" y="0"/>
                </a:moveTo>
                <a:cubicBezTo>
                  <a:pt x="67" y="77"/>
                  <a:pt x="303" y="355"/>
                  <a:pt x="413" y="462"/>
                </a:cubicBezTo>
                <a:cubicBezTo>
                  <a:pt x="523" y="569"/>
                  <a:pt x="586" y="605"/>
                  <a:pt x="657" y="6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44640" y="2462040"/>
            <a:ext cx="2330640" cy="1171800"/>
          </a:xfrm>
          <a:custGeom>
            <a:avLst/>
            <a:gdLst/>
            <a:ahLst/>
            <a:rect l="l" t="t" r="r" b="b"/>
            <a:pathLst>
              <a:path w="1468" h="738">
                <a:moveTo>
                  <a:pt x="0" y="0"/>
                </a:moveTo>
                <a:cubicBezTo>
                  <a:pt x="100" y="68"/>
                  <a:pt x="355" y="283"/>
                  <a:pt x="600" y="406"/>
                </a:cubicBezTo>
                <a:cubicBezTo>
                  <a:pt x="845" y="529"/>
                  <a:pt x="1287" y="669"/>
                  <a:pt x="1468" y="7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97200" y="2359080"/>
            <a:ext cx="3333600" cy="1262160"/>
          </a:xfrm>
          <a:custGeom>
            <a:avLst/>
            <a:gdLst/>
            <a:ahLst/>
            <a:rect l="l" t="t" r="r" b="b"/>
            <a:pathLst>
              <a:path w="2100" h="795">
                <a:moveTo>
                  <a:pt x="0" y="0"/>
                </a:moveTo>
                <a:cubicBezTo>
                  <a:pt x="453" y="205"/>
                  <a:pt x="907" y="411"/>
                  <a:pt x="1257" y="544"/>
                </a:cubicBezTo>
                <a:cubicBezTo>
                  <a:pt x="1607" y="677"/>
                  <a:pt x="1853" y="736"/>
                  <a:pt x="2100" y="7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97200" y="2282760"/>
            <a:ext cx="4878360" cy="1325520"/>
          </a:xfrm>
          <a:custGeom>
            <a:avLst/>
            <a:gdLst/>
            <a:ahLst/>
            <a:rect l="l" t="t" r="r" b="b"/>
            <a:pathLst>
              <a:path w="3073" h="835">
                <a:moveTo>
                  <a:pt x="0" y="0"/>
                </a:moveTo>
                <a:cubicBezTo>
                  <a:pt x="794" y="238"/>
                  <a:pt x="1588" y="477"/>
                  <a:pt x="2100" y="616"/>
                </a:cubicBezTo>
                <a:cubicBezTo>
                  <a:pt x="2612" y="755"/>
                  <a:pt x="2842" y="795"/>
                  <a:pt x="3073" y="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44640" y="2179800"/>
            <a:ext cx="5857920" cy="1338120"/>
          </a:xfrm>
          <a:custGeom>
            <a:avLst/>
            <a:gdLst/>
            <a:ahLst/>
            <a:rect l="l" t="t" r="r" b="b"/>
            <a:pathLst>
              <a:path w="3690" h="843">
                <a:moveTo>
                  <a:pt x="0" y="0"/>
                </a:moveTo>
                <a:cubicBezTo>
                  <a:pt x="1026" y="168"/>
                  <a:pt x="2053" y="337"/>
                  <a:pt x="2668" y="478"/>
                </a:cubicBezTo>
                <a:cubicBezTo>
                  <a:pt x="3283" y="619"/>
                  <a:pt x="3486" y="731"/>
                  <a:pt x="3690" y="8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41320" y="2114640"/>
            <a:ext cx="6861240" cy="1377720"/>
          </a:xfrm>
          <a:custGeom>
            <a:avLst/>
            <a:gdLst/>
            <a:ahLst/>
            <a:rect l="l" t="t" r="r" b="b"/>
            <a:pathLst>
              <a:path w="4322" h="868">
                <a:moveTo>
                  <a:pt x="0" y="0"/>
                </a:moveTo>
                <a:cubicBezTo>
                  <a:pt x="994" y="25"/>
                  <a:pt x="1989" y="50"/>
                  <a:pt x="2709" y="195"/>
                </a:cubicBezTo>
                <a:cubicBezTo>
                  <a:pt x="3429" y="340"/>
                  <a:pt x="3875" y="604"/>
                  <a:pt x="4322" y="8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4280" y="3929040"/>
            <a:ext cx="335160" cy="927000"/>
          </a:xfrm>
          <a:custGeom>
            <a:avLst/>
            <a:gdLst/>
            <a:ahLst/>
            <a:rect l="l" t="t" r="r" b="b"/>
            <a:pathLst>
              <a:path w="211" h="584">
                <a:moveTo>
                  <a:pt x="0" y="0"/>
                </a:moveTo>
                <a:cubicBezTo>
                  <a:pt x="27" y="138"/>
                  <a:pt x="54" y="276"/>
                  <a:pt x="89" y="373"/>
                </a:cubicBezTo>
                <a:cubicBezTo>
                  <a:pt x="124" y="470"/>
                  <a:pt x="167" y="527"/>
                  <a:pt x="211" y="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25760" y="3865680"/>
            <a:ext cx="334800" cy="977760"/>
          </a:xfrm>
          <a:custGeom>
            <a:avLst/>
            <a:gdLst/>
            <a:ahLst/>
            <a:rect l="l" t="t" r="r" b="b"/>
            <a:pathLst>
              <a:path w="211" h="616">
                <a:moveTo>
                  <a:pt x="211" y="0"/>
                </a:moveTo>
                <a:cubicBezTo>
                  <a:pt x="143" y="123"/>
                  <a:pt x="76" y="246"/>
                  <a:pt x="41" y="349"/>
                </a:cubicBezTo>
                <a:cubicBezTo>
                  <a:pt x="6" y="452"/>
                  <a:pt x="3" y="534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93880" y="3852720"/>
            <a:ext cx="1055520" cy="1028880"/>
          </a:xfrm>
          <a:custGeom>
            <a:avLst/>
            <a:gdLst/>
            <a:ahLst/>
            <a:rect l="l" t="t" r="r" b="b"/>
            <a:pathLst>
              <a:path w="665" h="648">
                <a:moveTo>
                  <a:pt x="665" y="0"/>
                </a:moveTo>
                <a:cubicBezTo>
                  <a:pt x="493" y="104"/>
                  <a:pt x="322" y="208"/>
                  <a:pt x="211" y="316"/>
                </a:cubicBezTo>
                <a:cubicBezTo>
                  <a:pt x="100" y="424"/>
                  <a:pt x="50" y="536"/>
                  <a:pt x="0" y="6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32040" y="3787920"/>
            <a:ext cx="2355840" cy="1120680"/>
          </a:xfrm>
          <a:custGeom>
            <a:avLst/>
            <a:gdLst/>
            <a:ahLst/>
            <a:rect l="l" t="t" r="r" b="b"/>
            <a:pathLst>
              <a:path w="1484" h="706">
                <a:moveTo>
                  <a:pt x="1484" y="0"/>
                </a:moveTo>
                <a:cubicBezTo>
                  <a:pt x="1238" y="107"/>
                  <a:pt x="993" y="215"/>
                  <a:pt x="746" y="333"/>
                </a:cubicBezTo>
                <a:cubicBezTo>
                  <a:pt x="499" y="451"/>
                  <a:pt x="249" y="578"/>
                  <a:pt x="0" y="7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71640" y="3774960"/>
            <a:ext cx="3359160" cy="1236600"/>
          </a:xfrm>
          <a:custGeom>
            <a:avLst/>
            <a:gdLst/>
            <a:ahLst/>
            <a:rect l="l" t="t" r="r" b="b"/>
            <a:pathLst>
              <a:path w="2116" h="779">
                <a:moveTo>
                  <a:pt x="2116" y="0"/>
                </a:moveTo>
                <a:cubicBezTo>
                  <a:pt x="1688" y="138"/>
                  <a:pt x="1261" y="276"/>
                  <a:pt x="908" y="406"/>
                </a:cubicBezTo>
                <a:cubicBezTo>
                  <a:pt x="555" y="536"/>
                  <a:pt x="277" y="657"/>
                  <a:pt x="0" y="7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71640" y="3774960"/>
            <a:ext cx="4890960" cy="1338480"/>
          </a:xfrm>
          <a:custGeom>
            <a:avLst/>
            <a:gdLst/>
            <a:ahLst/>
            <a:rect l="l" t="t" r="r" b="b"/>
            <a:pathLst>
              <a:path w="3081" h="843">
                <a:moveTo>
                  <a:pt x="3081" y="0"/>
                </a:moveTo>
                <a:cubicBezTo>
                  <a:pt x="2445" y="177"/>
                  <a:pt x="1810" y="355"/>
                  <a:pt x="1297" y="495"/>
                </a:cubicBezTo>
                <a:cubicBezTo>
                  <a:pt x="784" y="635"/>
                  <a:pt x="392" y="739"/>
                  <a:pt x="0" y="8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3865680"/>
            <a:ext cx="5832360" cy="1325520"/>
          </a:xfrm>
          <a:custGeom>
            <a:avLst/>
            <a:gdLst/>
            <a:ahLst/>
            <a:rect l="l" t="t" r="r" b="b"/>
            <a:pathLst>
              <a:path w="3674" h="835">
                <a:moveTo>
                  <a:pt x="3674" y="0"/>
                </a:moveTo>
                <a:cubicBezTo>
                  <a:pt x="3165" y="206"/>
                  <a:pt x="2656" y="412"/>
                  <a:pt x="2044" y="551"/>
                </a:cubicBezTo>
                <a:cubicBezTo>
                  <a:pt x="1432" y="690"/>
                  <a:pt x="716" y="762"/>
                  <a:pt x="0" y="8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93880" y="3916440"/>
            <a:ext cx="6848640" cy="1365120"/>
          </a:xfrm>
          <a:custGeom>
            <a:avLst/>
            <a:gdLst/>
            <a:ahLst/>
            <a:rect l="l" t="t" r="r" b="b"/>
            <a:pathLst>
              <a:path w="4314" h="860">
                <a:moveTo>
                  <a:pt x="4314" y="0"/>
                </a:moveTo>
                <a:cubicBezTo>
                  <a:pt x="3858" y="249"/>
                  <a:pt x="3403" y="498"/>
                  <a:pt x="2684" y="641"/>
                </a:cubicBezTo>
                <a:cubicBezTo>
                  <a:pt x="1965" y="784"/>
                  <a:pt x="982" y="822"/>
                  <a:pt x="0" y="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80960" y="3516480"/>
            <a:ext cx="528840" cy="66600"/>
          </a:xfrm>
          <a:custGeom>
            <a:avLst/>
            <a:gdLst/>
            <a:ahLst/>
            <a:rect l="l" t="t" r="r" b="b"/>
            <a:pathLst>
              <a:path w="333" h="42">
                <a:moveTo>
                  <a:pt x="0" y="33"/>
                </a:moveTo>
                <a:cubicBezTo>
                  <a:pt x="66" y="16"/>
                  <a:pt x="132" y="0"/>
                  <a:pt x="187" y="1"/>
                </a:cubicBezTo>
                <a:cubicBezTo>
                  <a:pt x="242" y="2"/>
                  <a:pt x="287" y="22"/>
                  <a:pt x="333" y="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92400" y="3259080"/>
            <a:ext cx="1517400" cy="324000"/>
          </a:xfrm>
          <a:custGeom>
            <a:avLst/>
            <a:gdLst/>
            <a:ahLst/>
            <a:rect l="l" t="t" r="r" b="b"/>
            <a:pathLst>
              <a:path w="956" h="204">
                <a:moveTo>
                  <a:pt x="0" y="147"/>
                </a:moveTo>
                <a:cubicBezTo>
                  <a:pt x="184" y="73"/>
                  <a:pt x="368" y="0"/>
                  <a:pt x="527" y="9"/>
                </a:cubicBezTo>
                <a:cubicBezTo>
                  <a:pt x="686" y="18"/>
                  <a:pt x="821" y="111"/>
                  <a:pt x="956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07960" y="3749760"/>
            <a:ext cx="501840" cy="52200"/>
          </a:xfrm>
          <a:custGeom>
            <a:avLst/>
            <a:gdLst/>
            <a:ahLst/>
            <a:rect l="l" t="t" r="r" b="b"/>
            <a:pathLst>
              <a:path w="316" h="33">
                <a:moveTo>
                  <a:pt x="316" y="8"/>
                </a:moveTo>
                <a:cubicBezTo>
                  <a:pt x="269" y="20"/>
                  <a:pt x="223" y="33"/>
                  <a:pt x="170" y="32"/>
                </a:cubicBezTo>
                <a:cubicBezTo>
                  <a:pt x="117" y="31"/>
                  <a:pt x="58" y="1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80960" y="3787920"/>
            <a:ext cx="1443240" cy="284040"/>
          </a:xfrm>
          <a:custGeom>
            <a:avLst/>
            <a:gdLst/>
            <a:ahLst/>
            <a:rect l="l" t="t" r="r" b="b"/>
            <a:pathLst>
              <a:path w="909" h="179">
                <a:moveTo>
                  <a:pt x="909" y="0"/>
                </a:moveTo>
                <a:cubicBezTo>
                  <a:pt x="757" y="81"/>
                  <a:pt x="605" y="163"/>
                  <a:pt x="454" y="171"/>
                </a:cubicBezTo>
                <a:cubicBezTo>
                  <a:pt x="303" y="179"/>
                  <a:pt x="151" y="114"/>
                  <a:pt x="0" y="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48240" y="3375000"/>
            <a:ext cx="760320" cy="155520"/>
          </a:xfrm>
          <a:custGeom>
            <a:avLst/>
            <a:gdLst/>
            <a:ahLst/>
            <a:rect l="l" t="t" r="r" b="b"/>
            <a:pathLst>
              <a:path w="479" h="98">
                <a:moveTo>
                  <a:pt x="0" y="98"/>
                </a:moveTo>
                <a:cubicBezTo>
                  <a:pt x="69" y="50"/>
                  <a:pt x="139" y="2"/>
                  <a:pt x="219" y="1"/>
                </a:cubicBezTo>
                <a:cubicBezTo>
                  <a:pt x="299" y="0"/>
                  <a:pt x="389" y="45"/>
                  <a:pt x="479" y="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87840" y="3840120"/>
            <a:ext cx="758880" cy="149400"/>
          </a:xfrm>
          <a:custGeom>
            <a:avLst/>
            <a:gdLst/>
            <a:ahLst/>
            <a:rect l="l" t="t" r="r" b="b"/>
            <a:pathLst>
              <a:path w="478" h="94">
                <a:moveTo>
                  <a:pt x="478" y="32"/>
                </a:moveTo>
                <a:cubicBezTo>
                  <a:pt x="368" y="63"/>
                  <a:pt x="258" y="94"/>
                  <a:pt x="178" y="89"/>
                </a:cubicBezTo>
                <a:cubicBezTo>
                  <a:pt x="98" y="84"/>
                  <a:pt x="49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74080" y="3498840"/>
            <a:ext cx="438120" cy="109440"/>
          </a:xfrm>
          <a:custGeom>
            <a:avLst/>
            <a:gdLst/>
            <a:ahLst/>
            <a:rect l="l" t="t" r="r" b="b"/>
            <a:pathLst>
              <a:path w="276" h="69">
                <a:moveTo>
                  <a:pt x="0" y="44"/>
                </a:moveTo>
                <a:cubicBezTo>
                  <a:pt x="46" y="22"/>
                  <a:pt x="92" y="0"/>
                  <a:pt x="138" y="4"/>
                </a:cubicBezTo>
                <a:cubicBezTo>
                  <a:pt x="184" y="8"/>
                  <a:pt x="230" y="38"/>
                  <a:pt x="276" y="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32600" y="3208320"/>
            <a:ext cx="1531800" cy="335160"/>
          </a:xfrm>
          <a:custGeom>
            <a:avLst/>
            <a:gdLst/>
            <a:ahLst/>
            <a:rect l="l" t="t" r="r" b="b"/>
            <a:pathLst>
              <a:path w="965" h="211">
                <a:moveTo>
                  <a:pt x="0" y="155"/>
                </a:moveTo>
                <a:cubicBezTo>
                  <a:pt x="130" y="77"/>
                  <a:pt x="261" y="0"/>
                  <a:pt x="422" y="9"/>
                </a:cubicBezTo>
                <a:cubicBezTo>
                  <a:pt x="583" y="18"/>
                  <a:pt x="875" y="177"/>
                  <a:pt x="965" y="2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13680" y="3800520"/>
            <a:ext cx="385560" cy="65160"/>
          </a:xfrm>
          <a:custGeom>
            <a:avLst/>
            <a:gdLst/>
            <a:ahLst/>
            <a:rect l="l" t="t" r="r" b="b"/>
            <a:pathLst>
              <a:path w="243" h="41">
                <a:moveTo>
                  <a:pt x="243" y="0"/>
                </a:moveTo>
                <a:cubicBezTo>
                  <a:pt x="218" y="20"/>
                  <a:pt x="194" y="41"/>
                  <a:pt x="154" y="41"/>
                </a:cubicBezTo>
                <a:cubicBezTo>
                  <a:pt x="114" y="41"/>
                  <a:pt x="57" y="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148520" y="3840120"/>
            <a:ext cx="1403280" cy="252360"/>
          </a:xfrm>
          <a:custGeom>
            <a:avLst/>
            <a:gdLst/>
            <a:ahLst/>
            <a:rect l="l" t="t" r="r" b="b"/>
            <a:pathLst>
              <a:path w="884" h="159">
                <a:moveTo>
                  <a:pt x="884" y="0"/>
                </a:moveTo>
                <a:cubicBezTo>
                  <a:pt x="706" y="74"/>
                  <a:pt x="528" y="149"/>
                  <a:pt x="381" y="154"/>
                </a:cubicBezTo>
                <a:cubicBezTo>
                  <a:pt x="234" y="159"/>
                  <a:pt x="63" y="55"/>
                  <a:pt x="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5080" y="44078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97480" y="2851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46760" y="26456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7880" y="282168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35680" y="29235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67560" y="29091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56480" y="285516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99480" y="26600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79080" y="252828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01960" y="477756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05040" y="455688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7720" y="433476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28560" y="41904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44200" y="422676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37960" y="44298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66200" y="437760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58400" y="40694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86520" y="312804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37320" y="338364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74600" y="298224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84280" y="33138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33720" y="40093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87520" y="36727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2080" y="3839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42400" y="318996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12240" y="39268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56760" y="36918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46A5-9996-43CA-A3C8-945E44CF5E2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ξαγωγή σχήματος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-bou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51680" y="1587240"/>
            <a:ext cx="101592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84240" y="3898440"/>
            <a:ext cx="237348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1,&amp;p4,&amp;p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15680" y="3898440"/>
            <a:ext cx="385164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2,&amp;p3,&amp;p5,&amp;p7,&amp;p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1080" y="5041440"/>
            <a:ext cx="179820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03720" y="4214880"/>
            <a:ext cx="1081080" cy="104760"/>
          </a:xfrm>
          <a:custGeom>
            <a:avLst/>
            <a:gdLst/>
            <a:ahLst/>
            <a:rect l="l" t="t" r="r" b="b"/>
            <a:pathLst>
              <a:path w="681" h="66">
                <a:moveTo>
                  <a:pt x="0" y="58"/>
                </a:moveTo>
                <a:cubicBezTo>
                  <a:pt x="109" y="29"/>
                  <a:pt x="219" y="0"/>
                  <a:pt x="332" y="1"/>
                </a:cubicBezTo>
                <a:cubicBezTo>
                  <a:pt x="445" y="2"/>
                  <a:pt x="563" y="34"/>
                  <a:pt x="681" y="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46680" y="4627440"/>
            <a:ext cx="159516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1005" y="0"/>
                </a:moveTo>
                <a:cubicBezTo>
                  <a:pt x="837" y="52"/>
                  <a:pt x="669" y="105"/>
                  <a:pt x="502" y="114"/>
                </a:cubicBezTo>
                <a:cubicBezTo>
                  <a:pt x="335" y="123"/>
                  <a:pt x="167" y="90"/>
                  <a:pt x="0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57480" y="4821120"/>
            <a:ext cx="4286160" cy="668520"/>
          </a:xfrm>
          <a:custGeom>
            <a:avLst/>
            <a:gdLst/>
            <a:ahLst/>
            <a:rect l="l" t="t" r="r" b="b"/>
            <a:pathLst>
              <a:path w="2700" h="421">
                <a:moveTo>
                  <a:pt x="2700" y="0"/>
                </a:moveTo>
                <a:cubicBezTo>
                  <a:pt x="2325" y="135"/>
                  <a:pt x="1950" y="270"/>
                  <a:pt x="1500" y="340"/>
                </a:cubicBezTo>
                <a:cubicBezTo>
                  <a:pt x="1050" y="410"/>
                  <a:pt x="525" y="415"/>
                  <a:pt x="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95480" y="2246400"/>
            <a:ext cx="1538280" cy="2819160"/>
          </a:xfrm>
          <a:custGeom>
            <a:avLst/>
            <a:gdLst/>
            <a:ahLst/>
            <a:rect l="l" t="t" r="r" b="b"/>
            <a:pathLst>
              <a:path w="969" h="1776">
                <a:moveTo>
                  <a:pt x="969" y="0"/>
                </a:moveTo>
                <a:cubicBezTo>
                  <a:pt x="642" y="241"/>
                  <a:pt x="316" y="483"/>
                  <a:pt x="158" y="779"/>
                </a:cubicBezTo>
                <a:cubicBezTo>
                  <a:pt x="0" y="1075"/>
                  <a:pt x="10" y="1425"/>
                  <a:pt x="20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87520" y="4654440"/>
            <a:ext cx="604800" cy="385920"/>
          </a:xfrm>
          <a:custGeom>
            <a:avLst/>
            <a:gdLst/>
            <a:ahLst/>
            <a:rect l="l" t="t" r="r" b="b"/>
            <a:pathLst>
              <a:path w="381" h="243">
                <a:moveTo>
                  <a:pt x="381" y="0"/>
                </a:moveTo>
                <a:cubicBezTo>
                  <a:pt x="278" y="28"/>
                  <a:pt x="176" y="57"/>
                  <a:pt x="113" y="97"/>
                </a:cubicBezTo>
                <a:cubicBezTo>
                  <a:pt x="50" y="137"/>
                  <a:pt x="25" y="190"/>
                  <a:pt x="0" y="2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3800" y="292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476440" y="3052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14520" y="3940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37480" y="4714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58040" y="5473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79960" y="4739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7840" y="2530440"/>
            <a:ext cx="187560" cy="1376280"/>
          </a:xfrm>
          <a:custGeom>
            <a:avLst/>
            <a:gdLst/>
            <a:ahLst/>
            <a:rect l="l" t="t" r="r" b="b"/>
            <a:pathLst>
              <a:path w="118" h="867">
                <a:moveTo>
                  <a:pt x="32" y="0"/>
                </a:moveTo>
                <a:cubicBezTo>
                  <a:pt x="75" y="151"/>
                  <a:pt x="118" y="302"/>
                  <a:pt x="113" y="446"/>
                </a:cubicBezTo>
                <a:cubicBezTo>
                  <a:pt x="108" y="590"/>
                  <a:pt x="54" y="728"/>
                  <a:pt x="0" y="8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8200" y="2157480"/>
            <a:ext cx="3102120" cy="1774800"/>
          </a:xfrm>
          <a:custGeom>
            <a:avLst/>
            <a:gdLst/>
            <a:ahLst/>
            <a:rect l="l" t="t" r="r" b="b"/>
            <a:pathLst>
              <a:path w="1954" h="1118">
                <a:moveTo>
                  <a:pt x="0" y="0"/>
                </a:moveTo>
                <a:cubicBezTo>
                  <a:pt x="461" y="113"/>
                  <a:pt x="923" y="227"/>
                  <a:pt x="1249" y="413"/>
                </a:cubicBezTo>
                <a:cubicBezTo>
                  <a:pt x="1575" y="599"/>
                  <a:pt x="1764" y="858"/>
                  <a:pt x="1954" y="11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0800" y="2688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55B4-C75C-48E2-8FB2-7407C912759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258480"/>
            <a:ext cx="701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ξαγωγ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per-bound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ήμα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Dataguid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06760" y="1587240"/>
            <a:ext cx="101592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23320" y="2501640"/>
            <a:ext cx="3113280" cy="142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1,&amp;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&amp;p3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5,&amp;p6,&amp;p7,&amp;p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39680" y="3898440"/>
            <a:ext cx="237348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1,&amp;p4,&amp;p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71120" y="3898440"/>
            <a:ext cx="385164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p2,&amp;p3,&amp;p5,&amp;p7,&amp;p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6520" y="5041440"/>
            <a:ext cx="179820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76600" y="2066760"/>
            <a:ext cx="965160" cy="501840"/>
          </a:xfrm>
          <a:custGeom>
            <a:avLst/>
            <a:gdLst/>
            <a:ahLst/>
            <a:rect l="l" t="t" r="r" b="b"/>
            <a:pathLst>
              <a:path w="608" h="316">
                <a:moveTo>
                  <a:pt x="0" y="0"/>
                </a:moveTo>
                <a:cubicBezTo>
                  <a:pt x="152" y="34"/>
                  <a:pt x="305" y="68"/>
                  <a:pt x="406" y="121"/>
                </a:cubicBezTo>
                <a:cubicBezTo>
                  <a:pt x="507" y="174"/>
                  <a:pt x="557" y="245"/>
                  <a:pt x="608" y="3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14640" y="3392640"/>
            <a:ext cx="600120" cy="527040"/>
          </a:xfrm>
          <a:custGeom>
            <a:avLst/>
            <a:gdLst/>
            <a:ahLst/>
            <a:rect l="l" t="t" r="r" b="b"/>
            <a:pathLst>
              <a:path w="378" h="332">
                <a:moveTo>
                  <a:pt x="378" y="0"/>
                </a:moveTo>
                <a:cubicBezTo>
                  <a:pt x="251" y="41"/>
                  <a:pt x="124" y="83"/>
                  <a:pt x="62" y="138"/>
                </a:cubicBezTo>
                <a:cubicBezTo>
                  <a:pt x="0" y="193"/>
                  <a:pt x="2" y="262"/>
                  <a:pt x="5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89800" y="3251160"/>
            <a:ext cx="681120" cy="655560"/>
          </a:xfrm>
          <a:custGeom>
            <a:avLst/>
            <a:gdLst/>
            <a:ahLst/>
            <a:rect l="l" t="t" r="r" b="b"/>
            <a:pathLst>
              <a:path w="429" h="413">
                <a:moveTo>
                  <a:pt x="0" y="0"/>
                </a:moveTo>
                <a:cubicBezTo>
                  <a:pt x="130" y="34"/>
                  <a:pt x="261" y="69"/>
                  <a:pt x="332" y="138"/>
                </a:cubicBezTo>
                <a:cubicBezTo>
                  <a:pt x="403" y="207"/>
                  <a:pt x="416" y="310"/>
                  <a:pt x="429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59160" y="4214880"/>
            <a:ext cx="1081080" cy="104760"/>
          </a:xfrm>
          <a:custGeom>
            <a:avLst/>
            <a:gdLst/>
            <a:ahLst/>
            <a:rect l="l" t="t" r="r" b="b"/>
            <a:pathLst>
              <a:path w="681" h="66">
                <a:moveTo>
                  <a:pt x="0" y="58"/>
                </a:moveTo>
                <a:cubicBezTo>
                  <a:pt x="109" y="29"/>
                  <a:pt x="219" y="0"/>
                  <a:pt x="332" y="1"/>
                </a:cubicBezTo>
                <a:cubicBezTo>
                  <a:pt x="445" y="2"/>
                  <a:pt x="563" y="34"/>
                  <a:pt x="681" y="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02120" y="462744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1005" y="0"/>
                </a:moveTo>
                <a:cubicBezTo>
                  <a:pt x="837" y="52"/>
                  <a:pt x="669" y="105"/>
                  <a:pt x="502" y="114"/>
                </a:cubicBezTo>
                <a:cubicBezTo>
                  <a:pt x="335" y="123"/>
                  <a:pt x="167" y="90"/>
                  <a:pt x="0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2920" y="4821120"/>
            <a:ext cx="4286160" cy="668520"/>
          </a:xfrm>
          <a:custGeom>
            <a:avLst/>
            <a:gdLst/>
            <a:ahLst/>
            <a:rect l="l" t="t" r="r" b="b"/>
            <a:pathLst>
              <a:path w="2700" h="421">
                <a:moveTo>
                  <a:pt x="2700" y="0"/>
                </a:moveTo>
                <a:cubicBezTo>
                  <a:pt x="2325" y="135"/>
                  <a:pt x="1950" y="270"/>
                  <a:pt x="1500" y="340"/>
                </a:cubicBezTo>
                <a:cubicBezTo>
                  <a:pt x="1050" y="410"/>
                  <a:pt x="525" y="415"/>
                  <a:pt x="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50920" y="2246400"/>
            <a:ext cx="1538280" cy="2819160"/>
          </a:xfrm>
          <a:custGeom>
            <a:avLst/>
            <a:gdLst/>
            <a:ahLst/>
            <a:rect l="l" t="t" r="r" b="b"/>
            <a:pathLst>
              <a:path w="969" h="1776">
                <a:moveTo>
                  <a:pt x="969" y="0"/>
                </a:moveTo>
                <a:cubicBezTo>
                  <a:pt x="642" y="241"/>
                  <a:pt x="316" y="483"/>
                  <a:pt x="158" y="779"/>
                </a:cubicBezTo>
                <a:cubicBezTo>
                  <a:pt x="0" y="1075"/>
                  <a:pt x="10" y="1425"/>
                  <a:pt x="20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42960" y="4654440"/>
            <a:ext cx="604800" cy="385920"/>
          </a:xfrm>
          <a:custGeom>
            <a:avLst/>
            <a:gdLst/>
            <a:ahLst/>
            <a:rect l="l" t="t" r="r" b="b"/>
            <a:pathLst>
              <a:path w="381" h="243">
                <a:moveTo>
                  <a:pt x="381" y="0"/>
                </a:moveTo>
                <a:cubicBezTo>
                  <a:pt x="278" y="28"/>
                  <a:pt x="176" y="57"/>
                  <a:pt x="113" y="97"/>
                </a:cubicBezTo>
                <a:cubicBezTo>
                  <a:pt x="50" y="137"/>
                  <a:pt x="25" y="190"/>
                  <a:pt x="0" y="2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11120" y="2787480"/>
            <a:ext cx="2575080" cy="2252880"/>
          </a:xfrm>
          <a:custGeom>
            <a:avLst/>
            <a:gdLst/>
            <a:ahLst/>
            <a:rect l="l" t="t" r="r" b="b"/>
            <a:pathLst>
              <a:path w="1622" h="1419">
                <a:moveTo>
                  <a:pt x="1622" y="0"/>
                </a:moveTo>
                <a:cubicBezTo>
                  <a:pt x="1242" y="38"/>
                  <a:pt x="862" y="77"/>
                  <a:pt x="608" y="235"/>
                </a:cubicBezTo>
                <a:cubicBezTo>
                  <a:pt x="354" y="393"/>
                  <a:pt x="194" y="751"/>
                  <a:pt x="97" y="948"/>
                </a:cubicBezTo>
                <a:cubicBezTo>
                  <a:pt x="0" y="1145"/>
                  <a:pt x="12" y="1282"/>
                  <a:pt x="24" y="14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9240" y="292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5520" y="190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40240" y="32871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03720" y="3285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69960" y="3940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2920" y="4714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anaged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13840" y="5473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35760" y="4739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5040" y="35805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CFEC-8A0A-4B2B-A0E1-A6324EBDE66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ως «κολλάει» 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ελεί ένα βήμα προς την σύγκλιση αυ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τακτικά σχετίζεται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γράφει όμως 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ογικ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ομη τ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ύνει το πρόβλημα του να κάνουμ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εδομένα μ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ρό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ουν τυποποιημένα εργαλεία για σελίδες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ως χρειάζεται κάτι παραπάνω για να αποσπάσουμε τα τμήματα της πληροφορίας που μας ενδιαφέρου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ηπως γλώσσα ερωτημάτω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E64F-C2E9-4B21-9C0E-AA2DA8EFD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πίπεδα αφαίρε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κεντρικό σημείο στις βάσεις δεδομένων είναι τα επίπεδα αφαίρε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υσικό (αποθήκευσ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ογικό (έγκυρα ερωτήματ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ξωτερικό (όψει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διάκριση αυτή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 υπάρχε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τα δεδομένα του Ισ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ίνεται αντιληπτή σαν μια γλώσσα αναπαράστασης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υσικό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πίπεδο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forma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ή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ιχειρούν να το αλλάξουν αυ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ίνεται αντιληπτή σαν μια γλώσσα αναπαράστασης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ογικό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πίπεδ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FF70-751E-42E1-A067-880D015C29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λλαγή στο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s: clien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Ιστός: αρχιτεκτονική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: repository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ι και ολοκληρώνει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μηνεύει και παρουσιάζει τ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ειάζεται έ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οιν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λογικό μοντέλο δεδομένων καθώς 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αλλαγ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ν ρόλο αυτό φαίνεται ότι θα παίξει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5113-0A70-49E0-8F5D-065BE7777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ο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y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» προσεγγίσεις για ολοκλήρωση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wareho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θήκες δεδομένων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σάγει τα δεδομένα από τις πηγές και απαντά τα ερωτήματα απευθε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βλημα: να κρατά την βάση συγχρονισμένη με 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στήματα διαμεσολαβητώ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ρωτήματ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τασχηματίζονται σε ερωτήματα πάνω στις πηγές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μερικά αποτελέσματα ολοκληρώνονται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άρο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έφτει στην επικοινωνία και στον μετασχηματισμό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1F1F-0C6F-434B-9719-8F104945D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0:31:39Z</dcterms:created>
  <dc:creator>Yannis Stavrakas</dc:creator>
  <dc:description/>
  <dc:language>en-US</dc:language>
  <cp:lastModifiedBy>Yannis Stavrakas</cp:lastModifiedBy>
  <dcterms:modified xsi:type="dcterms:W3CDTF">2004-05-20T16:58:32Z</dcterms:modified>
  <cp:revision>70</cp:revision>
  <dc:subject/>
  <dc:title>Βάσεις Δεδομένων και Παγκόσμιος Ιστός</dc:title>
</cp:coreProperties>
</file>