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7.wmf" ContentType="image/x-wmf"/>
  <Override PartName="/ppt/media/image16.jpeg" ContentType="image/jpeg"/>
  <Override PartName="/ppt/media/image15.jpeg" ContentType="image/jpeg"/>
  <Override PartName="/ppt/media/image1.png" ContentType="image/png"/>
  <Override PartName="/ppt/media/image4.png" ContentType="image/png"/>
  <Override PartName="/ppt/media/image14.wmf" ContentType="image/x-wmf"/>
  <Override PartName="/ppt/media/image6.png" ContentType="image/png"/>
  <Override PartName="/ppt/media/image10.wmf" ContentType="image/x-wmf"/>
  <Override PartName="/ppt/media/image2.png" ContentType="image/png"/>
  <Override PartName="/ppt/media/image8.wmf" ContentType="image/x-wmf"/>
  <Override PartName="/ppt/media/image9.png" ContentType="image/png"/>
  <Override PartName="/ppt/media/image13.wmf" ContentType="image/x-wmf"/>
  <Override PartName="/ppt/media/image5.png" ContentType="image/png"/>
  <Override PartName="/ppt/media/image11.wmf" ContentType="image/x-wmf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D19E50-E421-4CE9-8099-F27AC4161BE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470880"/>
            <a:ext cx="701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6964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66320" y="3839040"/>
            <a:ext cx="76964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330D1E-90B6-4678-B030-81A5B3BF617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470880"/>
            <a:ext cx="701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10120" y="137124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66320" y="383904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10120" y="383904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20A3BB-A31D-4CB2-831A-5C3B0E8ACC4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470880"/>
            <a:ext cx="701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247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68400" y="1371240"/>
            <a:ext cx="247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70480" y="1371240"/>
            <a:ext cx="247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66320" y="3839040"/>
            <a:ext cx="247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68400" y="3839040"/>
            <a:ext cx="247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70480" y="3839040"/>
            <a:ext cx="247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5C94C0-C8EA-454F-A34D-4D64CA66E41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470880"/>
            <a:ext cx="701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066320" y="1371240"/>
            <a:ext cx="769644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066680" y="470880"/>
            <a:ext cx="701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6964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680" y="470880"/>
            <a:ext cx="701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3755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010120" y="1371240"/>
            <a:ext cx="3755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470880"/>
            <a:ext cx="701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1066680" y="470880"/>
            <a:ext cx="7010640" cy="241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680" y="470880"/>
            <a:ext cx="701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10120" y="1371240"/>
            <a:ext cx="3755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066320" y="383904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66680" y="470880"/>
            <a:ext cx="701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66320" y="1371240"/>
            <a:ext cx="769644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11BB05-4FDE-42E6-ABED-6B22EA2E5F2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470880"/>
            <a:ext cx="701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3755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10120" y="137124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0120" y="383904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66680" y="470880"/>
            <a:ext cx="701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10120" y="137124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066320" y="3839040"/>
            <a:ext cx="76964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470880"/>
            <a:ext cx="701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6964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066320" y="3839040"/>
            <a:ext cx="76964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470880"/>
            <a:ext cx="701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0120" y="137124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066320" y="383904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5010120" y="383904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470880"/>
            <a:ext cx="701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247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668400" y="1371240"/>
            <a:ext cx="247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270480" y="1371240"/>
            <a:ext cx="247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1066320" y="3839040"/>
            <a:ext cx="247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668400" y="3839040"/>
            <a:ext cx="247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270480" y="3839040"/>
            <a:ext cx="247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470880"/>
            <a:ext cx="701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6964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0595B8-7684-426A-8C1A-8CEF73E6901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470880"/>
            <a:ext cx="701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3755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10120" y="1371240"/>
            <a:ext cx="3755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3138B9-8E55-4BBE-8D10-692804C8DC1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680" y="470880"/>
            <a:ext cx="701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DE7E3C-6FD5-403D-86C2-1DA7958710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66680" y="470880"/>
            <a:ext cx="7010640" cy="241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456860-EDDD-4381-B712-D1A2DCA039F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470880"/>
            <a:ext cx="701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10120" y="1371240"/>
            <a:ext cx="3755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66320" y="383904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67925E-D0E1-4D20-BA29-490EE10678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470880"/>
            <a:ext cx="701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3755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10120" y="137124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10120" y="383904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BA2ADC-D74C-455E-A597-99DDC04EBEB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470880"/>
            <a:ext cx="701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10120" y="137124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6320" y="3839040"/>
            <a:ext cx="76964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F7AB1E-6429-4154-8DEB-BADEF534DF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22400" y="152280"/>
            <a:ext cx="715680" cy="6400800"/>
          </a:xfrm>
          <a:custGeom>
            <a:avLst/>
            <a:gdLst/>
            <a:ahLst/>
            <a:rect l="l" t="t" r="r" b="b"/>
            <a:pathLst>
              <a:path w="883" h="4115">
                <a:moveTo>
                  <a:pt x="86" y="3201"/>
                </a:moveTo>
                <a:cubicBezTo>
                  <a:pt x="89" y="3056"/>
                  <a:pt x="83" y="2912"/>
                  <a:pt x="79" y="2730"/>
                </a:cubicBezTo>
                <a:cubicBezTo>
                  <a:pt x="75" y="2548"/>
                  <a:pt x="60" y="2270"/>
                  <a:pt x="64" y="2109"/>
                </a:cubicBezTo>
                <a:cubicBezTo>
                  <a:pt x="68" y="1948"/>
                  <a:pt x="99" y="1927"/>
                  <a:pt x="101" y="1765"/>
                </a:cubicBezTo>
                <a:cubicBezTo>
                  <a:pt x="103" y="1603"/>
                  <a:pt x="90" y="1323"/>
                  <a:pt x="79" y="1137"/>
                </a:cubicBezTo>
                <a:cubicBezTo>
                  <a:pt x="68" y="951"/>
                  <a:pt x="44" y="793"/>
                  <a:pt x="34" y="651"/>
                </a:cubicBezTo>
                <a:cubicBezTo>
                  <a:pt x="24" y="509"/>
                  <a:pt x="17" y="385"/>
                  <a:pt x="19" y="284"/>
                </a:cubicBezTo>
                <a:cubicBezTo>
                  <a:pt x="21" y="183"/>
                  <a:pt x="32" y="90"/>
                  <a:pt x="49" y="45"/>
                </a:cubicBezTo>
                <a:cubicBezTo>
                  <a:pt x="66" y="0"/>
                  <a:pt x="91" y="16"/>
                  <a:pt x="123" y="15"/>
                </a:cubicBezTo>
                <a:cubicBezTo>
                  <a:pt x="155" y="14"/>
                  <a:pt x="204" y="37"/>
                  <a:pt x="243" y="37"/>
                </a:cubicBezTo>
                <a:cubicBezTo>
                  <a:pt x="282" y="37"/>
                  <a:pt x="310" y="20"/>
                  <a:pt x="355" y="15"/>
                </a:cubicBezTo>
                <a:cubicBezTo>
                  <a:pt x="400" y="10"/>
                  <a:pt x="453" y="0"/>
                  <a:pt x="512" y="7"/>
                </a:cubicBezTo>
                <a:cubicBezTo>
                  <a:pt x="571" y="14"/>
                  <a:pt x="659" y="37"/>
                  <a:pt x="707" y="60"/>
                </a:cubicBezTo>
                <a:cubicBezTo>
                  <a:pt x="755" y="83"/>
                  <a:pt x="783" y="99"/>
                  <a:pt x="797" y="142"/>
                </a:cubicBezTo>
                <a:cubicBezTo>
                  <a:pt x="811" y="185"/>
                  <a:pt x="788" y="235"/>
                  <a:pt x="789" y="321"/>
                </a:cubicBezTo>
                <a:cubicBezTo>
                  <a:pt x="790" y="407"/>
                  <a:pt x="794" y="537"/>
                  <a:pt x="804" y="658"/>
                </a:cubicBezTo>
                <a:cubicBezTo>
                  <a:pt x="814" y="779"/>
                  <a:pt x="844" y="892"/>
                  <a:pt x="849" y="1047"/>
                </a:cubicBezTo>
                <a:cubicBezTo>
                  <a:pt x="854" y="1202"/>
                  <a:pt x="840" y="1394"/>
                  <a:pt x="834" y="1586"/>
                </a:cubicBezTo>
                <a:cubicBezTo>
                  <a:pt x="828" y="1778"/>
                  <a:pt x="805" y="1995"/>
                  <a:pt x="812" y="2199"/>
                </a:cubicBezTo>
                <a:cubicBezTo>
                  <a:pt x="819" y="2403"/>
                  <a:pt x="875" y="2624"/>
                  <a:pt x="879" y="2812"/>
                </a:cubicBezTo>
                <a:cubicBezTo>
                  <a:pt x="883" y="3000"/>
                  <a:pt x="840" y="3138"/>
                  <a:pt x="834" y="3329"/>
                </a:cubicBezTo>
                <a:cubicBezTo>
                  <a:pt x="828" y="3520"/>
                  <a:pt x="848" y="3836"/>
                  <a:pt x="842" y="3957"/>
                </a:cubicBezTo>
                <a:cubicBezTo>
                  <a:pt x="836" y="4078"/>
                  <a:pt x="833" y="4033"/>
                  <a:pt x="797" y="4054"/>
                </a:cubicBezTo>
                <a:cubicBezTo>
                  <a:pt x="761" y="4075"/>
                  <a:pt x="686" y="4086"/>
                  <a:pt x="625" y="4084"/>
                </a:cubicBezTo>
                <a:cubicBezTo>
                  <a:pt x="564" y="4082"/>
                  <a:pt x="492" y="4041"/>
                  <a:pt x="430" y="4039"/>
                </a:cubicBezTo>
                <a:cubicBezTo>
                  <a:pt x="368" y="4037"/>
                  <a:pt x="302" y="4057"/>
                  <a:pt x="251" y="4069"/>
                </a:cubicBezTo>
                <a:cubicBezTo>
                  <a:pt x="200" y="4081"/>
                  <a:pt x="162" y="4115"/>
                  <a:pt x="123" y="4114"/>
                </a:cubicBezTo>
                <a:cubicBezTo>
                  <a:pt x="84" y="4113"/>
                  <a:pt x="38" y="4102"/>
                  <a:pt x="19" y="4062"/>
                </a:cubicBezTo>
                <a:cubicBezTo>
                  <a:pt x="0" y="4022"/>
                  <a:pt x="3" y="3952"/>
                  <a:pt x="11" y="3875"/>
                </a:cubicBezTo>
                <a:cubicBezTo>
                  <a:pt x="19" y="3798"/>
                  <a:pt x="51" y="3710"/>
                  <a:pt x="64" y="3598"/>
                </a:cubicBezTo>
                <a:cubicBezTo>
                  <a:pt x="77" y="3486"/>
                  <a:pt x="83" y="3346"/>
                  <a:pt x="86" y="3201"/>
                </a:cubicBezTo>
                <a:close/>
              </a:path>
            </a:pathLst>
          </a:custGeom>
          <a:solidFill>
            <a:srgbClr val="777777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066680" y="470880"/>
            <a:ext cx="701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066320" y="1371240"/>
            <a:ext cx="76964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8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18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18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18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18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18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142640" y="6324480"/>
            <a:ext cx="5638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152280" y="6324480"/>
            <a:ext cx="609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80D63-CF4F-4788-A647-D03A22B4BB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1841760"/>
            <a:ext cx="701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buClr>
                <a:srgbClr val="000000"/>
              </a:buClr>
              <a:buSzPct val="80000"/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buClr>
                <a:srgbClr val="000000"/>
              </a:buClr>
              <a:buSzPct val="60000"/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SzPct val="6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SzPct val="6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1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1.png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1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1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6.png"/><Relationship Id="rId4" Type="http://schemas.openxmlformats.org/officeDocument/2006/relationships/image" Target="../media/image1.png"/><Relationship Id="rId5" Type="http://schemas.openxmlformats.org/officeDocument/2006/relationships/image" Target="../media/image6.png"/><Relationship Id="rId6" Type="http://schemas.openxmlformats.org/officeDocument/2006/relationships/image" Target="../media/image1.png"/><Relationship Id="rId7" Type="http://schemas.openxmlformats.org/officeDocument/2006/relationships/image" Target="../media/image6.png"/><Relationship Id="rId8" Type="http://schemas.openxmlformats.org/officeDocument/2006/relationships/image" Target="../media/image1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1.png"/><Relationship Id="rId6" Type="http://schemas.openxmlformats.org/officeDocument/2006/relationships/image" Target="../media/image6.png"/><Relationship Id="rId7" Type="http://schemas.openxmlformats.org/officeDocument/2006/relationships/image" Target="../media/image1.png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1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1.png"/><Relationship Id="rId7" Type="http://schemas.openxmlformats.org/officeDocument/2006/relationships/image" Target="../media/image5.png"/><Relationship Id="rId8" Type="http://schemas.openxmlformats.org/officeDocument/2006/relationships/image" Target="../media/image1.png"/><Relationship Id="rId9" Type="http://schemas.openxmlformats.org/officeDocument/2006/relationships/image" Target="../media/image5.png"/><Relationship Id="rId10" Type="http://schemas.openxmlformats.org/officeDocument/2006/relationships/image" Target="../media/image1.png"/><Relationship Id="rId11" Type="http://schemas.openxmlformats.org/officeDocument/2006/relationships/image" Target="../media/image5.png"/><Relationship Id="rId1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1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1.png"/><Relationship Id="rId5" Type="http://schemas.openxmlformats.org/officeDocument/2006/relationships/image" Target="../media/image5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10.wmf"/><Relationship Id="rId6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1.wmf"/><Relationship Id="rId8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1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1.png"/><Relationship Id="rId4" Type="http://schemas.openxmlformats.org/officeDocument/2006/relationships/image" Target="../media/image5.png"/><Relationship Id="rId5" Type="http://schemas.openxmlformats.org/officeDocument/2006/relationships/image" Target="../media/image1.png"/><Relationship Id="rId6" Type="http://schemas.openxmlformats.org/officeDocument/2006/relationships/image" Target="../media/image5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1.png"/><Relationship Id="rId5" Type="http://schemas.openxmlformats.org/officeDocument/2006/relationships/image" Target="../media/image5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informatik.uni-trier.de/~ley/db/conf/vldb/vldb88.html" TargetMode="External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1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1.png"/><Relationship Id="rId4" Type="http://schemas.openxmlformats.org/officeDocument/2006/relationships/image" Target="../media/image6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1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1.png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5.png"/><Relationship Id="rId4" Type="http://schemas.openxmlformats.org/officeDocument/2006/relationships/image" Target="../media/image1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1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1.png"/><Relationship Id="rId11" Type="http://schemas.openxmlformats.org/officeDocument/2006/relationships/image" Target="../media/image5.png"/><Relationship Id="rId1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1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1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1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1.png"/><Relationship Id="rId11" Type="http://schemas.openxmlformats.org/officeDocument/2006/relationships/image" Target="../media/image5.png"/><Relationship Id="rId1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1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1.png"/><Relationship Id="rId10" Type="http://schemas.openxmlformats.org/officeDocument/2006/relationships/image" Target="../media/image5.png"/><Relationship Id="rId1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1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1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1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5695920"/>
            <a:ext cx="6899400" cy="171360"/>
          </a:xfrm>
          <a:custGeom>
            <a:avLst/>
            <a:gdLst/>
            <a:ahLst/>
            <a:rect l="l" t="t" r="r" b="b"/>
            <a:pathLst>
              <a:path w="4346" h="108">
                <a:moveTo>
                  <a:pt x="3477" y="10"/>
                </a:moveTo>
                <a:cubicBezTo>
                  <a:pt x="3680" y="12"/>
                  <a:pt x="3921" y="14"/>
                  <a:pt x="4057" y="17"/>
                </a:cubicBezTo>
                <a:cubicBezTo>
                  <a:pt x="4192" y="20"/>
                  <a:pt x="4253" y="24"/>
                  <a:pt x="4293" y="30"/>
                </a:cubicBezTo>
                <a:cubicBezTo>
                  <a:pt x="4333" y="36"/>
                  <a:pt x="4286" y="43"/>
                  <a:pt x="4293" y="50"/>
                </a:cubicBezTo>
                <a:cubicBezTo>
                  <a:pt x="4300" y="57"/>
                  <a:pt x="4328" y="67"/>
                  <a:pt x="4329" y="73"/>
                </a:cubicBezTo>
                <a:cubicBezTo>
                  <a:pt x="4331" y="80"/>
                  <a:pt x="4346" y="85"/>
                  <a:pt x="4305" y="89"/>
                </a:cubicBezTo>
                <a:cubicBezTo>
                  <a:pt x="4263" y="93"/>
                  <a:pt x="4186" y="97"/>
                  <a:pt x="4082" y="99"/>
                </a:cubicBezTo>
                <a:cubicBezTo>
                  <a:pt x="3977" y="100"/>
                  <a:pt x="3834" y="99"/>
                  <a:pt x="3675" y="99"/>
                </a:cubicBezTo>
                <a:cubicBezTo>
                  <a:pt x="3516" y="98"/>
                  <a:pt x="3341" y="95"/>
                  <a:pt x="3129" y="94"/>
                </a:cubicBezTo>
                <a:cubicBezTo>
                  <a:pt x="2918" y="93"/>
                  <a:pt x="2634" y="94"/>
                  <a:pt x="2401" y="94"/>
                </a:cubicBezTo>
                <a:cubicBezTo>
                  <a:pt x="2168" y="95"/>
                  <a:pt x="2024" y="97"/>
                  <a:pt x="1733" y="98"/>
                </a:cubicBezTo>
                <a:cubicBezTo>
                  <a:pt x="1442" y="99"/>
                  <a:pt x="946" y="103"/>
                  <a:pt x="657" y="102"/>
                </a:cubicBezTo>
                <a:cubicBezTo>
                  <a:pt x="368" y="101"/>
                  <a:pt x="110" y="108"/>
                  <a:pt x="1" y="93"/>
                </a:cubicBezTo>
                <a:lnTo>
                  <a:pt x="0" y="13"/>
                </a:lnTo>
                <a:cubicBezTo>
                  <a:pt x="109" y="0"/>
                  <a:pt x="432" y="13"/>
                  <a:pt x="657" y="12"/>
                </a:cubicBezTo>
                <a:cubicBezTo>
                  <a:pt x="882" y="11"/>
                  <a:pt x="1082" y="7"/>
                  <a:pt x="1349" y="7"/>
                </a:cubicBezTo>
                <a:cubicBezTo>
                  <a:pt x="1617" y="6"/>
                  <a:pt x="2017" y="8"/>
                  <a:pt x="2265" y="9"/>
                </a:cubicBezTo>
                <a:cubicBezTo>
                  <a:pt x="2513" y="9"/>
                  <a:pt x="2634" y="9"/>
                  <a:pt x="2834" y="8"/>
                </a:cubicBezTo>
                <a:cubicBezTo>
                  <a:pt x="3034" y="9"/>
                  <a:pt x="3273" y="9"/>
                  <a:pt x="3477" y="10"/>
                </a:cubicBezTo>
                <a:close/>
              </a:path>
            </a:pathLst>
          </a:custGeom>
          <a:solidFill>
            <a:srgbClr val="777777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680" y="1841760"/>
            <a:ext cx="701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Βάσεις Δεδομένων και Παγκόσμιος Ιστό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diators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και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rapp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680" y="470880"/>
            <a:ext cx="701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ultitier </a:t>
            </a: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συστήματα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537680" cy="90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50"/>
              </a:spcBef>
              <a:buSzPct val="11229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Times New Roman"/>
              </a:rPr>
              <a:t>Οι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ediators </a:t>
            </a:r>
            <a:r>
              <a:rPr b="0" lang="el-GR" sz="2200" spc="-1" strike="noStrike">
                <a:solidFill>
                  <a:srgbClr val="000000"/>
                </a:solidFill>
                <a:latin typeface="Times New Roman"/>
              </a:rPr>
              <a:t>μπορούν να επικοινωνούν με </a:t>
            </a:r>
            <a:r>
              <a:rPr b="1" lang="el-GR" sz="2200" spc="-1" strike="noStrike">
                <a:solidFill>
                  <a:srgbClr val="000000"/>
                </a:solidFill>
                <a:latin typeface="Times New Roman"/>
              </a:rPr>
              <a:t>άλλους</a:t>
            </a:r>
            <a:r>
              <a:rPr b="0" lang="el-GR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ediators </a:t>
            </a:r>
            <a:r>
              <a:rPr b="0" lang="el-GR" sz="2200" spc="-1" strike="noStrike">
                <a:solidFill>
                  <a:srgbClr val="000000"/>
                </a:solidFill>
                <a:latin typeface="Times New Roman"/>
              </a:rPr>
              <a:t>ή με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wrappe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1836720" y="2276640"/>
          <a:ext cx="5472000" cy="3917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836720" y="2276640"/>
                    <a:ext cx="5472000" cy="39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Βάσεις Δεδομένων και Παγκόσμιος Ιστός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C899B2-3180-4DD3-9444-2A11CDF8111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680" y="470880"/>
            <a:ext cx="701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rapper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6964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800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Στις περισσότερες περιπτώσεις ο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diator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 δεν μιλάει απευθείας στις πηγέ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...αλλά χρησιμοποιεί κάποιο </a:t>
            </a:r>
            <a:r>
              <a:rPr b="1" lang="el-GR" sz="2000" spc="-1" strike="noStrike">
                <a:solidFill>
                  <a:srgbClr val="000000"/>
                </a:solidFill>
                <a:latin typeface="Times New Roman"/>
              </a:rPr>
              <a:t>δικό του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 μοντέλο που περιγράφει έννοιες κοινές σε πολλές πηγέ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Μιλάει με τον αντίστοιχο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rapp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της πηγής δεδομένω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Ενας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rapper </a:t>
            </a:r>
            <a:r>
              <a:rPr b="1" lang="el-GR" sz="2000" spc="-1" strike="noStrike">
                <a:solidFill>
                  <a:srgbClr val="000000"/>
                </a:solidFill>
                <a:latin typeface="Times New Roman"/>
              </a:rPr>
              <a:t>μεταφράζει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 ανάμεσα από την γλώσσα / μοντέλο των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ediators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 και την γλώσσα / μοντέλο της αντίστοιχης πηγή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Εχει γνώση και των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diators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και της πηγή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Η πηγή μπορεί να έχει οποιοδήποτε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mat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, πχ. βάση δεδομένων,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TML,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αρχείο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cel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, κτλ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Times New Roman"/>
              </a:rPr>
              <a:t>Απλό παράδειγμ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Η εξαγωγή των τίτλων μιας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-line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 εφημερίδας γίνεται από έναν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rapper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, φτιαγμένο ειδικά για τον σκοπό αυτο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Βάσεις Δεδομένων και Παγκόσμιος Ιστός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9AE309-6404-48E5-AEFF-0399D4656E1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66680" y="470880"/>
            <a:ext cx="701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Συνολική λειτουργία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1752480" y="1201680"/>
          <a:ext cx="5943600" cy="496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1201680"/>
                    <a:ext cx="5943600" cy="49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Βάσεις Δεδομένων και Παγκόσμιος Ιστός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98B3AE-73E7-4B45-9FA5-C52B122833C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3402000"/>
            <a:ext cx="6899400" cy="171360"/>
          </a:xfrm>
          <a:custGeom>
            <a:avLst/>
            <a:gdLst/>
            <a:ahLst/>
            <a:rect l="l" t="t" r="r" b="b"/>
            <a:pathLst>
              <a:path w="4346" h="108">
                <a:moveTo>
                  <a:pt x="3477" y="10"/>
                </a:moveTo>
                <a:cubicBezTo>
                  <a:pt x="3680" y="12"/>
                  <a:pt x="3921" y="14"/>
                  <a:pt x="4057" y="17"/>
                </a:cubicBezTo>
                <a:cubicBezTo>
                  <a:pt x="4192" y="20"/>
                  <a:pt x="4253" y="24"/>
                  <a:pt x="4293" y="30"/>
                </a:cubicBezTo>
                <a:cubicBezTo>
                  <a:pt x="4333" y="36"/>
                  <a:pt x="4286" y="43"/>
                  <a:pt x="4293" y="50"/>
                </a:cubicBezTo>
                <a:cubicBezTo>
                  <a:pt x="4300" y="57"/>
                  <a:pt x="4328" y="67"/>
                  <a:pt x="4329" y="73"/>
                </a:cubicBezTo>
                <a:cubicBezTo>
                  <a:pt x="4331" y="80"/>
                  <a:pt x="4346" y="85"/>
                  <a:pt x="4305" y="89"/>
                </a:cubicBezTo>
                <a:cubicBezTo>
                  <a:pt x="4263" y="93"/>
                  <a:pt x="4186" y="97"/>
                  <a:pt x="4082" y="99"/>
                </a:cubicBezTo>
                <a:cubicBezTo>
                  <a:pt x="3977" y="100"/>
                  <a:pt x="3834" y="99"/>
                  <a:pt x="3675" y="99"/>
                </a:cubicBezTo>
                <a:cubicBezTo>
                  <a:pt x="3516" y="98"/>
                  <a:pt x="3341" y="95"/>
                  <a:pt x="3129" y="94"/>
                </a:cubicBezTo>
                <a:cubicBezTo>
                  <a:pt x="2918" y="93"/>
                  <a:pt x="2634" y="94"/>
                  <a:pt x="2401" y="94"/>
                </a:cubicBezTo>
                <a:cubicBezTo>
                  <a:pt x="2168" y="95"/>
                  <a:pt x="2024" y="97"/>
                  <a:pt x="1733" y="98"/>
                </a:cubicBezTo>
                <a:cubicBezTo>
                  <a:pt x="1442" y="99"/>
                  <a:pt x="946" y="103"/>
                  <a:pt x="657" y="102"/>
                </a:cubicBezTo>
                <a:cubicBezTo>
                  <a:pt x="368" y="101"/>
                  <a:pt x="110" y="108"/>
                  <a:pt x="1" y="93"/>
                </a:cubicBezTo>
                <a:lnTo>
                  <a:pt x="0" y="13"/>
                </a:lnTo>
                <a:cubicBezTo>
                  <a:pt x="109" y="0"/>
                  <a:pt x="432" y="13"/>
                  <a:pt x="657" y="12"/>
                </a:cubicBezTo>
                <a:cubicBezTo>
                  <a:pt x="882" y="11"/>
                  <a:pt x="1082" y="7"/>
                  <a:pt x="1349" y="7"/>
                </a:cubicBezTo>
                <a:cubicBezTo>
                  <a:pt x="1617" y="6"/>
                  <a:pt x="2017" y="8"/>
                  <a:pt x="2265" y="9"/>
                </a:cubicBezTo>
                <a:cubicBezTo>
                  <a:pt x="2513" y="9"/>
                  <a:pt x="2634" y="9"/>
                  <a:pt x="2834" y="8"/>
                </a:cubicBezTo>
                <a:cubicBezTo>
                  <a:pt x="3034" y="9"/>
                  <a:pt x="3273" y="9"/>
                  <a:pt x="3477" y="10"/>
                </a:cubicBezTo>
                <a:close/>
              </a:path>
            </a:pathLst>
          </a:custGeom>
          <a:solidFill>
            <a:srgbClr val="777777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1371600" y="2594880"/>
            <a:ext cx="6400800" cy="9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-tier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 αρχιτεκτονική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diators &amp; wrapp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Νέστωρ: ένα παράδειγμα χρήσης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rapp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470880"/>
            <a:ext cx="701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Τι είναι ο Νέστωρ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6964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800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Ο 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</a:rPr>
              <a:t>Νέστωρ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 είναι ένα εξελιγμένο σύστημα για την διαχείριση ερευνητικής βιβλιοθήκης μέσω του Ιστο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ourier New"/>
              </a:rPr>
              <a:t>http://www.dblab.ntua.gr/~nestor2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Διαχειρίζεται δύο κατηγορίες πόρων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ources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Times New Roman"/>
              </a:rPr>
              <a:t>Υλικά αντικείμενα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, όπως βιβλία,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ceedings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συνεδρίων, και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ourna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Times New Roman"/>
              </a:rPr>
              <a:t>Αϋλα αντικείμενα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, όπως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RLs,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λογισμικό, και άρθρα σε ηλεκτρονική μορφή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Παρέχει μια σειρά από χρήσιμες υπηρεσίε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Αναζήτηση αντικειμένων με διάφορα κριτήρι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Λίστα αναμονής και καταγραφή δανεισμού αντικειμένων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Αυτόματη ειδοποίηση μέσω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mails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 σε διάφορες περιπτώσει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Βάσεις Δεδομένων και Παγκόσμιος Ιστός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714057-C2BE-4A80-8652-8469C6AD175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470880"/>
            <a:ext cx="701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Κατηγορίες χρηστών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6964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800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Όλες οι λειτουργίες γίνονται μέσω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b brows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ue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Περιορισμένη πρόσβαση, μόνο αναζήτηση πληροφορίας με διάφορους τρόπους και εμφάνιση πληροφορίας για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b memb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Δημιουργία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rtual libraries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, προσθήκη σχολίων, εισαγωγή άϋλων αντικειμένων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brari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Διαχείριση υλικών αντικειμένων, καθώς και δανεισμών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ministr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Διαχείριση χρηστών, βάσης δεδομένων, και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rapp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Βάσεις Δεδομένων και Παγκόσμιος Ιστός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B653F8-FB03-4575-BA7A-0AF410E7C62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470880"/>
            <a:ext cx="701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Νέστωρ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467000" y="1015920"/>
            <a:ext cx="6705360" cy="5384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Βάσεις Δεδομένων και Παγκόσμιος Ιστός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2355E0-3423-440E-9BF5-A6F38721AF9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470880"/>
            <a:ext cx="701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Οι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rappers </a:t>
            </a: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στον Νέστορα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6964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800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Ο τίτλος των πχ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ceedings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ενός συνεδρίου δεν είναι αρκετό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Οι χρήστες θέλουν να ψάχνουν στον </a:t>
            </a:r>
            <a:r>
              <a:rPr b="1" lang="el-GR" sz="2000" spc="-1" strike="noStrike">
                <a:solidFill>
                  <a:srgbClr val="000000"/>
                </a:solidFill>
                <a:latin typeface="Times New Roman"/>
              </a:rPr>
              <a:t>πίνακα περιεχομένων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 για συγκεκριμένα άρθρα και συγγραφεί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Αυτό όμως απαιτεί τεράστια προσπάθεια εισαγωγής δεδομένων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Ευτυχώς η πληροφορία αυτή συνήθως </a:t>
            </a:r>
            <a:r>
              <a:rPr b="1" lang="el-GR" sz="2000" spc="-1" strike="noStrike">
                <a:solidFill>
                  <a:srgbClr val="000000"/>
                </a:solidFill>
                <a:latin typeface="Times New Roman"/>
              </a:rPr>
              <a:t>υπάρχει ήδη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 σε ηλεκτρονική μορφή στον Ιστ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Λύση: κατασκευή ενός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rapper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για κάθε ξεχωριστή πηγ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Πχ. ένας για το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LDB,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ένας για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GMOD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, για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rmation Systems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, κτλ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Times New Roman"/>
              </a:rPr>
              <a:t>Πρόβλημα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: οι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rappers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εξαρτώνται από την πηγ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Αλλαγή στην δομή μιας πηγής, ή προσθήκη νέας πηγής σημαίνει αλλαγή στον πηγαίο κώδικα του Νέστορ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Βάσεις Δεδομένων και Παγκόσμιος Ιστός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067819-4487-4883-B9E8-9F2FF41FF64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470880"/>
            <a:ext cx="701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rapper Template Languag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6964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buSzPct val="12343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Μια πιο </a:t>
            </a:r>
            <a:r>
              <a:rPr b="1" lang="el-GR" sz="2000" spc="-1" strike="noStrike">
                <a:solidFill>
                  <a:srgbClr val="000000"/>
                </a:solidFill>
                <a:latin typeface="Times New Roman"/>
              </a:rPr>
              <a:t>ευέλικτη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 λύση: σχεδιασμός και υλοποίηση της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rapper Template Language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TL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Μιας ειδικής γλώσσας για ορισμό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rapp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SzPct val="12343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Σε τι </a:t>
            </a:r>
            <a:r>
              <a:rPr b="1" lang="el-GR" sz="2000" spc="-1" strike="noStrike">
                <a:solidFill>
                  <a:srgbClr val="000000"/>
                </a:solidFill>
                <a:latin typeface="Times New Roman"/>
              </a:rPr>
              <a:t>ωφελεί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: επιτρέπει δυναμική δημιουργία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rappers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 από υψηλού επιπέδου κώδικ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Εύκολη ανάπτυξη / προσαρμογή σε αλλαγές των πηγώ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Αποσύνδεση από τον πηγαίο κώδικα του Νέστορα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SzPct val="12343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Ο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or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 γράφει και αποθηκεύει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rappers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 σε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T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Μέσα στην ειδική φόρμα του Νέστορα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SzPct val="12343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Ο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brarian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 εκτελεί τους αντίστοιχους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rapp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Οταν εισάγει νέα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edings 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και περιοδικά, πατώντας ένα κουμπί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SzPct val="12343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Τα </a:t>
            </a:r>
            <a:r>
              <a:rPr b="1" lang="el-GR" sz="2000" spc="-1" strike="noStrike">
                <a:solidFill>
                  <a:srgbClr val="000000"/>
                </a:solidFill>
                <a:latin typeface="Times New Roman"/>
              </a:rPr>
              <a:t>αποτελέσματα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 είναι διαθέσιμα στους χρήστε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Για αναζήτηση με βάση τον πίνακα περιεχομένω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Βάσεις Δεδομένων και Παγκόσμιος Ιστός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F1FCF4-7122-484D-A00F-022B4FBDA49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470880"/>
            <a:ext cx="701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Σχεδιασμός της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T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6964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SzPct val="12343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Βασική ιδέα: ορισμός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mplates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 /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tterns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βάση των οποίων θα παραχθούν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rapp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SzPct val="12343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Κάθε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rapper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πρέπει να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Συνδεθεί με κάποιο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Αποσπάσει την συγκεκριμένη πληροφορία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Αποθηκεύσει τα δεδομένα στην Β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SzPct val="12343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Times New Roman"/>
              </a:rPr>
              <a:t>Προβλήματα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 που αντιμετωπίζει η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TL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Πως ορίζεις παραμετρικά την διεύθυνση των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tes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(πολλές διαφορετικές σελίδες μπορεί να έχουν την ίδια δομή </a:t>
            </a:r>
            <a:r>
              <a:rPr b="0" lang="el-GR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 ο ίδιος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rapper 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για πολλά συνήθως παρόμοια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RLs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Αποτύπωση της γνώσης του πώς δομείται η επιθυμητή πληροφορία σε κάθε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Καθορισμός τρόπου αποθήκευσης των δεδομένων στην βάση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Βάσεις Δεδομένων και Παγκόσμιος Ιστός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B227CA-F9E4-454E-A24A-241266EF7AF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2924280"/>
            <a:ext cx="6899400" cy="171360"/>
          </a:xfrm>
          <a:custGeom>
            <a:avLst/>
            <a:gdLst/>
            <a:ahLst/>
            <a:rect l="l" t="t" r="r" b="b"/>
            <a:pathLst>
              <a:path w="4346" h="108">
                <a:moveTo>
                  <a:pt x="3477" y="10"/>
                </a:moveTo>
                <a:cubicBezTo>
                  <a:pt x="3680" y="12"/>
                  <a:pt x="3921" y="14"/>
                  <a:pt x="4057" y="17"/>
                </a:cubicBezTo>
                <a:cubicBezTo>
                  <a:pt x="4192" y="20"/>
                  <a:pt x="4253" y="24"/>
                  <a:pt x="4293" y="30"/>
                </a:cubicBezTo>
                <a:cubicBezTo>
                  <a:pt x="4333" y="36"/>
                  <a:pt x="4286" y="43"/>
                  <a:pt x="4293" y="50"/>
                </a:cubicBezTo>
                <a:cubicBezTo>
                  <a:pt x="4300" y="57"/>
                  <a:pt x="4328" y="67"/>
                  <a:pt x="4329" y="73"/>
                </a:cubicBezTo>
                <a:cubicBezTo>
                  <a:pt x="4331" y="80"/>
                  <a:pt x="4346" y="85"/>
                  <a:pt x="4305" y="89"/>
                </a:cubicBezTo>
                <a:cubicBezTo>
                  <a:pt x="4263" y="93"/>
                  <a:pt x="4186" y="97"/>
                  <a:pt x="4082" y="99"/>
                </a:cubicBezTo>
                <a:cubicBezTo>
                  <a:pt x="3977" y="100"/>
                  <a:pt x="3834" y="99"/>
                  <a:pt x="3675" y="99"/>
                </a:cubicBezTo>
                <a:cubicBezTo>
                  <a:pt x="3516" y="98"/>
                  <a:pt x="3341" y="95"/>
                  <a:pt x="3129" y="94"/>
                </a:cubicBezTo>
                <a:cubicBezTo>
                  <a:pt x="2918" y="93"/>
                  <a:pt x="2634" y="94"/>
                  <a:pt x="2401" y="94"/>
                </a:cubicBezTo>
                <a:cubicBezTo>
                  <a:pt x="2168" y="95"/>
                  <a:pt x="2024" y="97"/>
                  <a:pt x="1733" y="98"/>
                </a:cubicBezTo>
                <a:cubicBezTo>
                  <a:pt x="1442" y="99"/>
                  <a:pt x="946" y="103"/>
                  <a:pt x="657" y="102"/>
                </a:cubicBezTo>
                <a:cubicBezTo>
                  <a:pt x="368" y="101"/>
                  <a:pt x="110" y="108"/>
                  <a:pt x="1" y="93"/>
                </a:cubicBezTo>
                <a:lnTo>
                  <a:pt x="0" y="13"/>
                </a:lnTo>
                <a:cubicBezTo>
                  <a:pt x="109" y="0"/>
                  <a:pt x="432" y="13"/>
                  <a:pt x="657" y="12"/>
                </a:cubicBezTo>
                <a:cubicBezTo>
                  <a:pt x="882" y="11"/>
                  <a:pt x="1082" y="7"/>
                  <a:pt x="1349" y="7"/>
                </a:cubicBezTo>
                <a:cubicBezTo>
                  <a:pt x="1617" y="6"/>
                  <a:pt x="2017" y="8"/>
                  <a:pt x="2265" y="9"/>
                </a:cubicBezTo>
                <a:cubicBezTo>
                  <a:pt x="2513" y="9"/>
                  <a:pt x="2634" y="9"/>
                  <a:pt x="2834" y="8"/>
                </a:cubicBezTo>
                <a:cubicBezTo>
                  <a:pt x="3034" y="9"/>
                  <a:pt x="3273" y="9"/>
                  <a:pt x="3477" y="10"/>
                </a:cubicBezTo>
                <a:close/>
              </a:path>
            </a:pathLst>
          </a:custGeom>
          <a:solidFill>
            <a:srgbClr val="777777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371600" y="2594880"/>
            <a:ext cx="6400800" cy="9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-tier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 αρχιτεκτονική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diators &amp; wrapp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Νέστωρ: ένα παράδειγμα χρήσης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rapp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680" y="470880"/>
            <a:ext cx="701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Σύνδεση με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it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6964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SzPct val="12343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Η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TL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 είναι ουσιαστικά μια επέκταση της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erl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, που ορίζει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Κάποιες ειδικές εντολέ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Κάποιες προκαθορισμένου τύπου μεταβλητέ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SzPct val="12343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Για τον καθορισμό των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tes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 τα οποία μπορεί να «διαβάσει» ένας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rapper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, χρησιμοποιούντα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Η ειδική μεταβλητή </a:t>
            </a:r>
            <a:r>
              <a:rPr b="1" lang="el-GR" sz="18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ageUrl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και οι ειδικού τύπου μεταβλητές </a:t>
            </a:r>
            <a:r>
              <a:rPr b="1" lang="el-GR" sz="18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ormV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SzPct val="12343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Οι μεταβλητές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FormVar1, $FormVar2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 χρησιμεύουν σαν ορίσματ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 ώστε να περνάμε τιμές στο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mplate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 του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rapp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SzPct val="12343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Η μεταβλητή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$PageUrl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 κρατάει το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RL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 της σελίδα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Πρέπει να εμφανίζεται στην πρώτη γραμμή του κώδικα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T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Βάσεις Δεδομένων και Παγκόσμιος Ιστός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9DD708-9CBC-4B57-83EE-177C2FFA177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680" y="470880"/>
            <a:ext cx="701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Σύνδεση με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ite</a:t>
            </a: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 (2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6964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Η μεταβλητ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$PageUrl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 μπορεί επίσης να κρατάει ένα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emplate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 του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RL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...</a:t>
            </a:r>
            <a:r>
              <a:rPr b="1" lang="el-GR" sz="2000" spc="-1" strike="noStrike">
                <a:solidFill>
                  <a:srgbClr val="000000"/>
                </a:solidFill>
                <a:latin typeface="Times New Roman"/>
              </a:rPr>
              <a:t>όλων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 των σελίδων με 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κοινή δομή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, που μπορεί να διαβάσει ο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rapp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urier New"/>
                <a:ea typeface="Courier New"/>
              </a:rPr>
              <a:t>$PageUrl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=http://www.informatik.uni-trier.de/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~ley/db/conf/</a:t>
            </a:r>
            <a:r>
              <a:rPr b="0" lang="en-US" sz="1600" spc="-1" strike="noStrike">
                <a:solidFill>
                  <a:srgbClr val="cc3300"/>
                </a:solidFill>
                <a:latin typeface="Courier New"/>
                <a:ea typeface="Courier New"/>
              </a:rPr>
              <a:t>$FormVar1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/</a:t>
            </a:r>
            <a:r>
              <a:rPr b="0" lang="en-US" sz="1600" spc="-1" strike="noStrike">
                <a:solidFill>
                  <a:srgbClr val="cc3300"/>
                </a:solidFill>
                <a:latin typeface="Courier New"/>
                <a:ea typeface="Courier New"/>
              </a:rPr>
              <a:t>$FormVar1</a:t>
            </a:r>
            <a:r>
              <a:rPr b="0" lang="en-US" sz="1600" spc="-1" strike="noStrike">
                <a:solidFill>
                  <a:srgbClr val="cc9b10"/>
                </a:solidFill>
                <a:latin typeface="Courier New"/>
                <a:ea typeface="Courier New"/>
              </a:rPr>
              <a:t>$FormVar2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.htm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Ετσι μπορούμε να καλέσουμε τον ίδιο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rapper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για διαφορετικές τιμές των μεταβλητών εισόδου </a:t>
            </a:r>
            <a:r>
              <a:rPr b="0" lang="en-US" sz="1600" spc="-1" strike="noStrike">
                <a:solidFill>
                  <a:srgbClr val="cc3300"/>
                </a:solidFill>
                <a:latin typeface="Courier New"/>
                <a:ea typeface="Courier New"/>
              </a:rPr>
              <a:t>$FormVar1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 και </a:t>
            </a:r>
            <a:r>
              <a:rPr b="0" lang="en-US" sz="1600" spc="-1" strike="noStrike">
                <a:solidFill>
                  <a:srgbClr val="cc9b10"/>
                </a:solidFill>
                <a:latin typeface="Courier New"/>
                <a:ea typeface="Courier New"/>
              </a:rPr>
              <a:t>$FormVar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urier New"/>
                <a:ea typeface="Courier New"/>
              </a:rPr>
              <a:t>$PageUrl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=http://www.informatik.uni-trier.de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 algn="just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~ley/db/conf/</a:t>
            </a:r>
            <a:r>
              <a:rPr b="0" lang="en-US" sz="1600" spc="-1" strike="noStrike">
                <a:solidFill>
                  <a:srgbClr val="cc3300"/>
                </a:solidFill>
                <a:latin typeface="Courier New"/>
                <a:ea typeface="Courier New"/>
              </a:rPr>
              <a:t>vldb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/</a:t>
            </a:r>
            <a:r>
              <a:rPr b="0" lang="en-US" sz="1600" spc="-1" strike="noStrike">
                <a:solidFill>
                  <a:srgbClr val="cc3300"/>
                </a:solidFill>
                <a:latin typeface="Courier New"/>
                <a:ea typeface="Courier New"/>
              </a:rPr>
              <a:t>vldb</a:t>
            </a:r>
            <a:r>
              <a:rPr b="0" lang="en-US" sz="1600" spc="-1" strike="noStrike">
                <a:solidFill>
                  <a:srgbClr val="cc9b10"/>
                </a:solidFill>
                <a:latin typeface="Courier New"/>
                <a:ea typeface="Courier New"/>
              </a:rPr>
              <a:t>88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.htm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3657600" y="4648320"/>
          <a:ext cx="4181400" cy="18237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657600" y="4648320"/>
                    <a:ext cx="4181400" cy="182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Βάσεις Δεδομένων και Παγκόσμιος Ιστός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42975D-1CA3-403C-AA9F-A17BA1A6717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680" y="470880"/>
            <a:ext cx="701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Απόσπαση πληροφορία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6964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Εχοντας καθορίσει την ιστοσελίδα, πρέπει τώρα να ορίσουμε την πληροφορία που μας ενδιαφέρε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Δημιουργούμε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attern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με βάση το κείμενο που περικλείει τα συγκεκριμένα δεδομέν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Συνήθως το κείμενο αυτό περιλαμβάνει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TML ta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Τα δεδομένα που μας ενδιαφέρουν αποθηκεύονται σε δύο ειδών τύπους μεταβλητών: </a:t>
            </a:r>
            <a:r>
              <a:rPr b="1" lang="el-GR" sz="2000" spc="-1" strike="noStrike">
                <a:solidFill>
                  <a:srgbClr val="000000"/>
                </a:solidFill>
                <a:latin typeface="Times New Roman"/>
              </a:rPr>
              <a:t>@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και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$Tem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Η απόσπαση της πληροφορίας γίνεται με την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TL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εντολή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tch(</a:t>
            </a:r>
            <a:r>
              <a:rPr b="1" i="1" lang="el-GR" sz="2000" spc="-1" strike="noStrike">
                <a:solidFill>
                  <a:srgbClr val="000000"/>
                </a:solidFill>
                <a:latin typeface="Times New Roman"/>
              </a:rPr>
              <a:t>μεταβλητή</a:t>
            </a:r>
            <a:r>
              <a:rPr b="1" lang="el-GR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pattern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3352680" y="4172040"/>
          <a:ext cx="5141880" cy="23810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352680" y="4172040"/>
                    <a:ext cx="5141880" cy="23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Βάσεις Δεδομένων και Παγκόσμιος Ιστός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512EBD-3CCE-40EA-806D-095EA022CEE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470880"/>
            <a:ext cx="701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Απόσπαση πληροφορίας (2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6964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Εκτός από τμήματα κειμένου που οριοθετούν τα δεδομένα, το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ttern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 μπορεί να περιέχει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Το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ldcard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 της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TL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ar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 που σημαίνει οποιαδήποτε αλληλουχία χαρακτήρων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Times New Roman"/>
              </a:rPr>
              <a:t>Παρενθέσεις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, που ορίζουν το τμήμα που θα αποθηκευτεί στην αντίστοιχη μεταβλητή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match(</a:t>
            </a:r>
            <a:r>
              <a:rPr b="0" lang="en-US" sz="2000" spc="-1" strike="noStrike">
                <a:solidFill>
                  <a:srgbClr val="0000ff"/>
                </a:solidFill>
                <a:latin typeface="Courier New"/>
                <a:ea typeface="Courier New"/>
              </a:rPr>
              <a:t>@MainDescription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, &lt;h2&gt;(</a:t>
            </a:r>
            <a:r>
              <a:rPr b="0" lang="en-US" sz="2000" spc="-1" strike="noStrike">
                <a:solidFill>
                  <a:srgbClr val="ff0000"/>
                </a:solidFill>
                <a:latin typeface="Courier New"/>
                <a:ea typeface="Courier New"/>
              </a:rPr>
              <a:t>par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)&lt;/h2&gt;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match(</a:t>
            </a:r>
            <a:r>
              <a:rPr b="0" lang="en-US" sz="2000" spc="-1" strike="noStrike">
                <a:solidFill>
                  <a:srgbClr val="0000ff"/>
                </a:solidFill>
                <a:latin typeface="Courier New"/>
                <a:ea typeface="Courier New"/>
              </a:rPr>
              <a:t>$Temp_temp1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, &gt;</a:t>
            </a:r>
            <a:r>
              <a:rPr b="0" lang="en-US" sz="2000" spc="-1" strike="noStrike">
                <a:solidFill>
                  <a:srgbClr val="ff0000"/>
                </a:solidFill>
                <a:latin typeface="Courier New"/>
                <a:ea typeface="Courier New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ar</a:t>
            </a:r>
            <a:r>
              <a:rPr b="0" lang="en-US" sz="2000" spc="-1" strike="noStrike">
                <a:solidFill>
                  <a:srgbClr val="ff0000"/>
                </a:solidFill>
                <a:latin typeface="Courier New"/>
                <a:ea typeface="Courier New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a&gt;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match(</a:t>
            </a:r>
            <a:r>
              <a:rPr b="0" lang="en-US" sz="2000" spc="-1" strike="noStrike">
                <a:solidFill>
                  <a:srgbClr val="0000ff"/>
                </a:solidFill>
                <a:latin typeface="Courier New"/>
                <a:ea typeface="Courier New"/>
              </a:rPr>
              <a:t>@Main</a:t>
            </a:r>
            <a:r>
              <a:rPr b="0" lang="en-US" sz="2000" spc="-1" strike="noStrike">
                <a:solidFill>
                  <a:srgbClr val="0000ff"/>
                </a:solidFill>
                <a:latin typeface="Courier New"/>
              </a:rPr>
              <a:t>Url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, (&lt;a</a:t>
            </a:r>
            <a:r>
              <a:rPr b="0" lang="en-US" sz="2000" spc="-1" strike="noStrike">
                <a:solidFill>
                  <a:srgbClr val="ff0000"/>
                </a:solidFill>
                <a:latin typeface="Courier New"/>
                <a:ea typeface="Courier New"/>
              </a:rPr>
              <a:t>par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a&gt;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800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Οι μεταβλητές τύπου @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 είναι δυναμικοί πίνακε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Μπορούν να κρατούν πολλές τιμέ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Οι τιμές αυτές είναι που </a:t>
            </a:r>
            <a:r>
              <a:rPr b="1" lang="el-GR" sz="2000" spc="-1" strike="noStrike">
                <a:solidFill>
                  <a:srgbClr val="000000"/>
                </a:solidFill>
                <a:latin typeface="Times New Roman"/>
              </a:rPr>
              <a:t>αποθηκεύονται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 στην βάση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Βάσεις Δεδομένων και Παγκόσμιος Ιστός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C76DC2-B100-407C-AA9E-732BF444027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470880"/>
            <a:ext cx="701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Χειρισμός δεδομένων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6964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buSzPct val="12343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Οι μεταβλητές τύπου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$Temp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 χρησιμοποιούνται για την προσωρινή αποθήκευση και χειρισμό δεδομένων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Το περιεχόμενό τους </a:t>
            </a:r>
            <a:r>
              <a:rPr b="1" lang="el-GR" sz="1800" spc="-1" strike="noStrike">
                <a:solidFill>
                  <a:srgbClr val="000000"/>
                </a:solidFill>
                <a:latin typeface="Times New Roman"/>
              </a:rPr>
              <a:t>δεν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 αποθηκεύεται στην βάση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SzPct val="12343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Ο χειρισμός των δεδομένων στις μεταβλητές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Temp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 μπορεί να γίνει μέσω της εντολής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er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Που ακολουθείται από οποιαδήποτε εντολή της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γλώσσας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erl 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perl $Temp_temp2.=$Temp_temp1.', ‘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SzPct val="12343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Για να αποθηκευτούν στην βάση, οι μεταβλητές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Temp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 πρέπει να ανατεθούν σε μεταβλητές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@Ma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Αυτό γίνεται μέσω της εντολής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bi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bind(@MainAuthors,$Temp_temp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SzPct val="12343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Η εντολή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nvert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 χρησιμοποιείται για την μετατροπή σε απόλυτο ενός 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σχετικού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nk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 που βρίσκεται σε κάποια μεταβλητή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convert(@MainUr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Βάσεις Δεδομένων και Παγκόσμιος Ιστός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636FCC-A5AC-47A0-9DFB-FC8043140A38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470880"/>
            <a:ext cx="701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Αποθήκευση στην βάση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6964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SzPct val="12343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Επαναλαμβανόμενες δομικές ενότητες στην ιστοσελίδα αντιμετωπίζονται με την εντολή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oop</a:t>
            </a:r>
            <a:r>
              <a:rPr b="1" lang="el-GR" sz="20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ndloop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 της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T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Η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op 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παίρνει σαν ορίσματα κάποια </a:t>
            </a:r>
            <a:r>
              <a:rPr b="1" lang="el-GR" sz="1800" spc="-1" strike="noStrike">
                <a:solidFill>
                  <a:srgbClr val="000000"/>
                </a:solidFill>
                <a:latin typeface="Times New Roman"/>
              </a:rPr>
              <a:t>όρια κειμένου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, μέσα στα οποία εκτελεί τις εντολές που βρίσκονται στο σώμα τη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Παράδειγμα στην συνέχεια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SzPct val="12343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Τα δεδομένα στις μεταβλητές τύπου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@Main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 πρέπει να οργανωθούν σε </a:t>
            </a:r>
            <a:r>
              <a:rPr b="1" lang="el-GR" sz="2000" spc="-1" strike="noStrike">
                <a:solidFill>
                  <a:srgbClr val="000000"/>
                </a:solidFill>
                <a:latin typeface="Times New Roman"/>
              </a:rPr>
              <a:t>πλειάδες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 για να εισαχθούν σε πίνακ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Οταν όλα τα δεδομένα που αντιστοιχούν σε μια πλειάδα έχουν ανακτηθεί, η εντολή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creas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αυξάνει τον «μετρητή» </a:t>
            </a:r>
            <a:r>
              <a:rPr b="1" i="1" lang="el-GR" sz="1800" spc="-1" strike="noStrike">
                <a:solidFill>
                  <a:srgbClr val="000000"/>
                </a:solidFill>
                <a:latin typeface="Times New Roman"/>
              </a:rPr>
              <a:t>όλων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 των μεταβλητών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@Ma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SzPct val="12343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Τα δεδομένα εισάγονται δια μιας στην βάση μέσω της εντολής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se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sert(proc_record,@MainTitle,@MainAuthors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@Main Pages, @MainUrl,@MainDescrip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Βάσεις Δεδομένων και Παγκόσμιος Ιστός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932CC1-88D7-490F-BA0E-2921EE33EFF7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66680" y="470880"/>
            <a:ext cx="701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Παράδειγμα: η εμφάνιση του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it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6964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Η ιστοσελίδα είναι από το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te “DBLP Bibliography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	</a:t>
            </a:r>
            <a:r>
              <a:rPr b="0" lang="en-US" sz="1800" spc="-1" strike="noStrike" u="sng">
                <a:solidFill>
                  <a:srgbClr val="9f83bd"/>
                </a:solidFill>
                <a:uFillTx/>
                <a:latin typeface="Times New Roman"/>
                <a:ea typeface="Courier New"/>
                <a:hlinkClick r:id="rId2"/>
              </a:rPr>
              <a:t>http://www.informatik.uni-trier.de/~ley/db/conf/vldb/vldb88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800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Για απλότητα, μόνο ένα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per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ανά κατηγορί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066680" y="3124080"/>
            <a:ext cx="7772400" cy="2819520"/>
          </a:xfrm>
          <a:prstGeom prst="rect">
            <a:avLst/>
          </a:prstGeom>
          <a:noFill/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base The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Times New Roman"/>
              </a:rPr>
              <a:t>Marco A. Casanova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1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Times New Roman"/>
              </a:rPr>
              <a:t>Luiz Tucherma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1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Times New Roman"/>
              </a:rPr>
              <a:t>Antonio L. Furtado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: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forcing Inclusion Dependencies and Referential Integrity.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8-49</a:t>
            </a:r>
            <a:br>
              <a:rPr sz="1600"/>
            </a:br>
            <a:r>
              <a:rPr b="0" i="1" lang="en-US" sz="1600" spc="-1" strike="noStrike" u="sng">
                <a:solidFill>
                  <a:srgbClr val="0000ff"/>
                </a:solidFill>
                <a:uFillTx/>
                <a:latin typeface="Times New Roman"/>
              </a:rPr>
              <a:t>Electronic Editio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sted Relations and Complex Obje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276"/>
              </a:spcBef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</a:rPr>
              <a:t>Anand Deshpand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</a:rPr>
              <a:t>Dirk Van Guch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 Implementation for Nested Relational Databases.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-87</a:t>
            </a:r>
            <a:br>
              <a:rPr sz="1600"/>
            </a:br>
            <a:r>
              <a:rPr b="0" i="1" lang="en-US" sz="16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</a:rPr>
              <a:t>Electronic Edition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Βάσεις Δεδομένων και Παγκόσμιος Ιστός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969568-8DDF-4BD9-8BB3-D17D1E9BE760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66680" y="470880"/>
            <a:ext cx="701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Παράδειγμα: το επιθυμητό αποτέλεσμα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1295280" y="1574640"/>
          <a:ext cx="7162920" cy="2387880"/>
        </p:xfrm>
        <a:graphic>
          <a:graphicData uri="http://schemas.openxmlformats.org/drawingml/2006/table">
            <a:tbl>
              <a:tblPr/>
              <a:tblGrid>
                <a:gridCol w="2163960"/>
                <a:gridCol w="1685880"/>
                <a:gridCol w="814320"/>
                <a:gridCol w="1081080"/>
                <a:gridCol w="1417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it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uthors</a:t>
                      </a: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ages</a:t>
                      </a: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URL</a:t>
                      </a: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escription</a:t>
                      </a: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99"/>
                    </a:solidFill>
                  </a:tcPr>
                </a:tc>
              </a:tr>
              <a:tr h="95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nforcing Inclusion Dependencies and Referential Integrity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rco A. Casanova, Luiz Tucherman, Antonio L. Furtado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8-49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Electronic Edition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abase Theory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n Implementation for Nested Relational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abase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nand Deshpande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irk Van Guch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6-87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Electronic Edition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sted Relations and Complex Objec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2" name=""/>
          <p:cNvSpPr/>
          <p:nvPr/>
        </p:nvSpPr>
        <p:spPr>
          <a:xfrm>
            <a:off x="1066680" y="4368960"/>
            <a:ext cx="7239240" cy="14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00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Οι συγγραφείς δεν είναι πια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n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00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Τα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RLs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 περιλαμβάνουν το πλήρες κείμενο του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nk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 (και οχι μόνο το λεκτικό του «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ectronic Edition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»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Βάσεις Δεδομένων και Παγκόσμιος Ιστός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9A1FB9-36CE-4F45-8F67-5452F1AAE949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66680" y="470880"/>
            <a:ext cx="701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Παράδειγμα: ο κώδικας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TM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90360" y="1218960"/>
            <a:ext cx="7848360" cy="5181480"/>
          </a:xfrm>
          <a:prstGeom prst="rect">
            <a:avLst/>
          </a:prstGeom>
          <a:noFill/>
          <a:ln w="9360">
            <a:solidFill>
              <a:srgbClr val="777777"/>
            </a:solidFill>
            <a:miter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h2&gt;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  <a:ea typeface="Courier New"/>
              </a:rPr>
              <a:t>Database Theory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h2&gt;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u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li&gt;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a name="CasanovaTF88"</a:t>
            </a:r>
            <a:r>
              <a:rPr b="1" lang="en-US" sz="1600" spc="-1" strike="noStrike">
                <a:solidFill>
                  <a:srgbClr val="cc3300"/>
                </a:solidFill>
                <a:latin typeface="Courier New"/>
                <a:ea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href="../../indices/a-tree/c/Casanova:Marco_A=.html"&gt;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  <a:ea typeface="Courier New"/>
              </a:rPr>
              <a:t>Marco A. Casanova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a&gt;, &lt;a</a:t>
            </a:r>
            <a:r>
              <a:rPr b="1" lang="en-US" sz="1600" spc="-1" strike="noStrike">
                <a:solidFill>
                  <a:srgbClr val="cc3300"/>
                </a:solidFill>
                <a:latin typeface="Courier New"/>
                <a:ea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href="../../indices/a-tree/t/Tucherman:Luiz.html"&gt;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  <a:ea typeface="Courier New"/>
              </a:rPr>
              <a:t>Luiz Tucherma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a&gt;, &lt;a href="../../indices/a-tree/f/Furtado:Antonio_L=.html"&gt;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  <a:ea typeface="Courier New"/>
              </a:rPr>
              <a:t>Antonio L. Furtado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a&gt;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br&gt;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b&gt;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  <a:ea typeface="Courier New"/>
              </a:rPr>
              <a:t>Enforcing Inclusion Dependencies and Referential Integrity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.&lt;/b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urier New"/>
                <a:ea typeface="Courier New"/>
              </a:rPr>
              <a:t>38-49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b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a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href="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  <a:ea typeface="Courier New"/>
              </a:rPr>
              <a:t>CasanovaTF88.html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"&gt;&lt;i&gt;Electronic Edition&lt;/i&gt;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a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u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h2&gt;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  <a:ea typeface="Courier New"/>
              </a:rPr>
              <a:t>Nested Relations and Complex Object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h2&gt;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u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li&gt;&lt;a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name="DeshpandeG88" href="../../indices/a-tree/d/Deshpande:Anand.html"&gt;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  <a:ea typeface="Courier New"/>
              </a:rPr>
              <a:t>Anand Deshpand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a&gt;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a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href="../../indices/a-tree/g/Gucht:Dirk_Van.html"&gt;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  <a:ea typeface="Courier New"/>
              </a:rPr>
              <a:t>Dirk Van Guch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a&gt;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br&gt;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b&gt;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  <a:ea typeface="Courier New"/>
              </a:rPr>
              <a:t>An Implementation for Nested Relational Databases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b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urier New"/>
                <a:ea typeface="Courier New"/>
              </a:rPr>
              <a:t>76-87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b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a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href="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  <a:ea typeface="Courier New"/>
              </a:rPr>
              <a:t>DeshpandeG88.html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"&gt;&lt;i&gt;Electronic Edition&lt;/i&gt;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a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ul&gt;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Βάσεις Δεδομένων και Παγκόσμιος Ιστός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DAC1F7-5B7C-4D29-BEEB-830B6ECA0401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66680" y="470880"/>
            <a:ext cx="701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Παράδειγμα: ο κώδικας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T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1187280" y="1298520"/>
          <a:ext cx="7560000" cy="486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298520"/>
                    <a:ext cx="7560000" cy="486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Βάσεις Δεδομένων και Παγκόσμιος Ιστός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616935-E9D5-4B4B-A0C7-8E8C72129549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470880"/>
            <a:ext cx="701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Ο Ιστός σαν Βάση Δεδομένων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6964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1500"/>
              </a:spcBef>
              <a:buSzPct val="12343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Ο Ιστός μπορεί να θεωρηθεί σαν μια τεράστια ετερογενή βάση δεδομένων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1500"/>
              </a:spcBef>
              <a:buSzPct val="12343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Ανάγκη να είναι οι πληροφορίες εύκολα προσβάσιμες μέσω του ιστού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Συχνά δεδομένα που συσχετίζονται μεταξύ τους βρίσκονται σε διαφορετικές </a:t>
            </a:r>
            <a:r>
              <a:rPr b="1" lang="el-GR" sz="1800" spc="-1" strike="noStrike">
                <a:solidFill>
                  <a:srgbClr val="000000"/>
                </a:solidFill>
                <a:latin typeface="Times New Roman"/>
              </a:rPr>
              <a:t>πηγές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 δεδομένω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Θα θέλαμε ενιαία πρόσβαση σε κάποια </a:t>
            </a:r>
            <a:r>
              <a:rPr b="1" lang="el-GR" sz="1800" spc="-1" strike="noStrike">
                <a:solidFill>
                  <a:srgbClr val="000000"/>
                </a:solidFill>
                <a:latin typeface="Times New Roman"/>
              </a:rPr>
              <a:t>ολοκληρωμένη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grated)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 μορφή της πληροφορία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1500"/>
              </a:spcBef>
              <a:buSzPct val="12343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Times New Roman"/>
              </a:rPr>
              <a:t>Παράδειγμα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: εφαρμογή συγκριτικής αγοράς αυτοκινήτων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5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te 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υπουργείου με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ash tests 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για διάφορα μοντέλα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5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Διάφορα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tes 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με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views 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αυτοκινήτω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5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tes 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τοπικών εμπόρων </a:t>
            </a:r>
            <a:r>
              <a:rPr b="1" lang="el-GR" sz="1800" spc="-1" strike="noStrike">
                <a:solidFill>
                  <a:srgbClr val="000000"/>
                </a:solidFill>
                <a:latin typeface="Times New Roman"/>
              </a:rPr>
              <a:t>της Αθήνα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1500"/>
              </a:spcBef>
              <a:buSzPct val="12343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Θέλουμε για κάθε αυτοκίνητο: τους εμπόρους με τιμές και διαθεσιμότητα, τα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ash tests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, και τα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view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Βάσεις Δεδομένων και Παγκόσμιος Ιστός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416408-EC93-4F46-B0C5-C339D005F04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470880"/>
            <a:ext cx="701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Αρχιτεκτονική συστήματο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6964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800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Ο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ministrator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του Νέστορα είναι υπεύθυνος για την δημιουργία και συντήρηση των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rapp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Καθώς και για το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sting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του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rapp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Ο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TL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κώδικας φυλάσσεται στον σκληρ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Ενώ πληροφορία σχετική με τον συγκεκριμένο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rapper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εισάγεται στην βάση του Νέστορα, ώστε να μπορεί να </a:t>
            </a:r>
            <a:r>
              <a:rPr b="1" lang="el-GR" sz="2000" spc="-1" strike="noStrike">
                <a:solidFill>
                  <a:srgbClr val="000000"/>
                </a:solidFill>
                <a:latin typeface="Times New Roman"/>
              </a:rPr>
              <a:t>εντοπιστεί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 κάθε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rapper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 που υπάρχει στο σύστημ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Ο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TL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κώδικας μεταγλωτίζεται σε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l 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</a:rPr>
              <a:t>εκτελέσιμο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 που σώζεται επίσης στον σκληρ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Ο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brarian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επιλέγει κάποιον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rapper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 και τον 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</a:rPr>
              <a:t>εκτελε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Ορίζοντας πιθανές παραμέτρους εισόδου, αν υπάρχουν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Ελέγχει τα αποτελέσματα, και </a:t>
            </a:r>
            <a:r>
              <a:rPr b="1" lang="el-GR" sz="2000" spc="-1" strike="noStrike">
                <a:solidFill>
                  <a:srgbClr val="000000"/>
                </a:solidFill>
                <a:latin typeface="Times New Roman"/>
              </a:rPr>
              <a:t>επικυρώνει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 την αποθήκευσή του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Βάσεις Δεδομένων και Παγκόσμιος Ιστός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95111A-7E81-4C4C-90DB-942583EC9C13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470880"/>
            <a:ext cx="701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rappers: administrator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1335240" y="2133720"/>
          <a:ext cx="6981840" cy="278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5240" y="2133720"/>
                    <a:ext cx="6981840" cy="278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Βάσεις Δεδομένων και Παγκόσμιος Ιστός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B305C9-4BE1-428C-AECA-A3334DC46B3E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66680" y="470880"/>
            <a:ext cx="701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rappers: librarian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1693800" y="1587600"/>
          <a:ext cx="6440400" cy="429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3800" y="1587600"/>
                    <a:ext cx="6440400" cy="429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Βάσεις Δεδομένων και Παγκόσμιος Ιστός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6C94D3-0255-4672-9369-F40F9B69BB00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470880"/>
            <a:ext cx="701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TL </a:t>
            </a: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στον Νέστορα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965160" y="1484280"/>
            <a:ext cx="4038480" cy="361800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5091120" y="3273480"/>
            <a:ext cx="3860640" cy="2676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Βάσεις Δεδομένων και Παγκόσμιος Ιστός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662650-8747-42FB-B6F5-B120B3276B58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66680" y="470880"/>
            <a:ext cx="701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Συμπερασματικά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6964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800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Times New Roman"/>
              </a:rPr>
              <a:t>Ο κύκλος κλείνει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Πληροφορία αποθηκευμένη σε βάσεις δεδομένων «εξάγεται» στον Ιστό, συμμετέχοντας στην κατασκευή ιστοσελίδων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Δεδομένα από ιστοσελίδες αποσπώνται με ειδικά προγράμματα, και πιθανώς αποθηκεύονται σε βάσεις δεδομένων, ώστε να χρησιμοποιηθούν με άλλους τρόπους και σε άλλους συνδυασμού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Οι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rappers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είναι το 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</a:rPr>
              <a:t>αδύνατο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 σημείο στην διαδικασία αυτ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Αλλαγή στην πηγή σημαίνει επαναπρογραμματισμό του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rapp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Δαπανηρό και χρονοβόρο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Ερευνα για αυτοματοποίηση της δημιουργίας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rapp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rapper induction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, εργαλεία που διευκολύνουν την ανάπτυξή του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Βάσεις Δεδομένων και Παγκόσμιος Ιστός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FB2A62-B9A2-451B-A24E-627D08018176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470880"/>
            <a:ext cx="701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Προβλήματα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6964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buSzPct val="12343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Η εφαρμογή δεν θέλει να διαχειρίζεται κάθε φορά τις </a:t>
            </a:r>
            <a:r>
              <a:rPr b="1" lang="el-GR" sz="2000" spc="-1" strike="noStrike">
                <a:solidFill>
                  <a:srgbClr val="000000"/>
                </a:solidFill>
                <a:latin typeface="Times New Roman"/>
              </a:rPr>
              <a:t>ασυμφωνίες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 ανάμεσα από τις πηγέ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SzPct val="12343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Ασυμφωνίες </a:t>
            </a:r>
            <a:r>
              <a:rPr b="1" lang="el-GR" sz="2000" spc="-1" strike="noStrike">
                <a:solidFill>
                  <a:srgbClr val="000000"/>
                </a:solidFill>
                <a:latin typeface="Times New Roman"/>
              </a:rPr>
              <a:t>σημασιολογία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Τι είναι η </a:t>
            </a:r>
            <a:r>
              <a:rPr b="1" lang="el-GR" sz="1800" spc="-1" strike="noStrike">
                <a:solidFill>
                  <a:srgbClr val="000000"/>
                </a:solidFill>
                <a:latin typeface="Times New Roman"/>
              </a:rPr>
              <a:t>τιμή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 του αυτοκινήτου; Περιλαμβάνει ή όχι ΦΠΑ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SzPct val="12343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Ασυμφωνίες </a:t>
            </a:r>
            <a:r>
              <a:rPr b="1" lang="el-GR" sz="2000" spc="-1" strike="noStrike">
                <a:solidFill>
                  <a:srgbClr val="000000"/>
                </a:solidFill>
                <a:latin typeface="Times New Roman"/>
              </a:rPr>
              <a:t>δομή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Πχ. όνομα και επώνυμο </a:t>
            </a:r>
            <a:r>
              <a:rPr b="1" lang="el-GR" sz="1800" spc="-1" strike="noStrike">
                <a:solidFill>
                  <a:srgbClr val="000000"/>
                </a:solidFill>
                <a:latin typeface="Times New Roman"/>
              </a:rPr>
              <a:t>ξεχωριστά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, ή ονοματεπώνυμο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Δεν περιλαμβάνουν όλοι οι έμποροι τιμές για τα μοντέλα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SzPct val="12343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Ασυμφωνίες </a:t>
            </a:r>
            <a:r>
              <a:rPr b="1" lang="el-GR" sz="2000" spc="-1" strike="noStrike">
                <a:solidFill>
                  <a:srgbClr val="000000"/>
                </a:solidFill>
                <a:latin typeface="Times New Roman"/>
              </a:rPr>
              <a:t>αναπαράσταση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Η τιμή σε Ευρώ ή σε Δολλάρια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Τα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“John Smith” 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και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“J.M.Smith”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 αναφέρονται στο </a:t>
            </a:r>
            <a:r>
              <a:rPr b="1" lang="el-GR" sz="1800" spc="-1" strike="noStrike">
                <a:solidFill>
                  <a:srgbClr val="000000"/>
                </a:solidFill>
                <a:latin typeface="Times New Roman"/>
              </a:rPr>
              <a:t>ίδιο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 πρόσωπο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SzPct val="12343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Θέλει να ρωτάει σαν να επρόκειτο για μια εννιαία βάση δεδομένων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...και να έχει μια απάντηση ακόμη και σε περίπτωση που κάποιες πηγές δεν είναι διαθέσιμες την στιγμή εκείνη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Βάσεις Δεδομένων και Παγκόσμιος Ιστός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F18B6E-49C0-4A26-B332-EAEE86D9735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66680" y="470880"/>
            <a:ext cx="701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Προσεγγίσει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6964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Δύο προσεγγίσεις για ολοκλήρωση πληροφορία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ata warehou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ediator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800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Αποθήκη δεδομένων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warehouse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Είναι ένα στρώμα ανάμεσα από την εφαρμογή και τις πηγέ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Αποθηκεύει </a:t>
            </a:r>
            <a:r>
              <a:rPr b="1" lang="el-GR" sz="2000" spc="-1" strike="noStrike">
                <a:solidFill>
                  <a:srgbClr val="000000"/>
                </a:solidFill>
                <a:latin typeface="Times New Roman"/>
              </a:rPr>
              <a:t>τοπικά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 δεδομένα που ανακτά από διάφορες πηγέ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Χρησιμοποιείται συνήθως για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cision-making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, αποδεσμεύοντας τα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-line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 συστήματ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Έμφαση στην γρήγορη φόρτωση από τις πηγές, και στο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cremental updat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inten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Βάσεις Δεδομένων και Παγκόσμιος Ιστός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176AA9-2707-44F4-87B1-AB48972C02D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470880"/>
            <a:ext cx="701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ediator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6964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SzPct val="12343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Χρησιμοποιούνται για ολοκλήρωση πληροφορία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Όταν είναι σημαντική η «φρεσκάδα» (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reshnes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 των δεδομένω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Όταν </a:t>
            </a:r>
            <a:r>
              <a:rPr b="1" lang="el-GR" sz="1800" spc="-1" strike="noStrike">
                <a:solidFill>
                  <a:srgbClr val="000000"/>
                </a:solidFill>
                <a:latin typeface="Times New Roman"/>
              </a:rPr>
              <a:t>δεν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 είναι δυνατόν να «κατεβάσουμε» ολα τα δεδομένα μιας πηγή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SzPct val="12343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Διαφορά με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 warehou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Τα δεδομένα </a:t>
            </a:r>
            <a:r>
              <a:rPr b="1" lang="el-GR" sz="1800" spc="-1" strike="noStrike">
                <a:solidFill>
                  <a:srgbClr val="000000"/>
                </a:solidFill>
                <a:latin typeface="Times New Roman"/>
              </a:rPr>
              <a:t>δεν αποθηκεύονται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 στο μεσαίο στρώμα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Τα ερωτήματα προωθούνται από τον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tor 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στις πηγέ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SzPct val="12343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Ταιριάζει καλά για ολοκλήρωση στο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b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, επειδή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Συνήθως δεν μπορούμε να «κατεβάσουμε» ολόκληρη την πηγή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Δεν έχουμε τροπο να ειδοποιηθούμε την στιγμή που αλλάζουν τα δεδομένα στις πηγέ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SzPct val="12343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Διαφορά από συμβατικούς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B servers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Πιο πολύ </a:t>
            </a:r>
            <a:r>
              <a:rPr b="1" lang="el-GR" sz="1800" spc="-1" strike="noStrike">
                <a:solidFill>
                  <a:srgbClr val="000000"/>
                </a:solidFill>
                <a:latin typeface="Times New Roman"/>
              </a:rPr>
              <a:t>μετασχηματισμός ερωτημάτων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, παρά διαχείριση δεδομένω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Βάσεις Δεδομένων και Παγκόσμιος Ιστός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6C4B0C-C65F-4ED6-B66A-11A34E6BA71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470880"/>
            <a:ext cx="701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ediators</a:t>
            </a: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 (2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6964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SzPct val="12343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Τι κάνει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Ολοκληρώνει και μετατρέπει δεδομένα από μια ή περισσότερες πηγές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...χρησιμοποιώντας </a:t>
            </a:r>
            <a:r>
              <a:rPr b="1" lang="el-GR" sz="1800" spc="-1" strike="noStrike">
                <a:solidFill>
                  <a:srgbClr val="000000"/>
                </a:solidFill>
                <a:latin typeface="Times New Roman"/>
              </a:rPr>
              <a:t>δηλωτικούς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 ορισμούς (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clarative specifica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SzPct val="12343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Διαδικασία λειτουργίας του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di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Αποφασίζει </a:t>
            </a:r>
            <a:r>
              <a:rPr b="1" lang="el-GR" sz="1800" spc="-1" strike="noStrike">
                <a:solidFill>
                  <a:srgbClr val="000000"/>
                </a:solidFill>
                <a:latin typeface="Times New Roman"/>
              </a:rPr>
              <a:t>ποιές πηγές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 συνεισφέρουν στο δεδομένο ερώτημα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Μετασχηματισμός ερωτήματος (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query rewriting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) ξεχωριστά για κάθε σχετική πηγή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Παραγωγή συνολικού σχεδίου εκτέλεσης: με ποιά σειρά θα ερωτηθούν οι πηγές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Σύνθεση των αποτελεσμάτω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SzPct val="12343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Ενας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diator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 ουσιαστικά είναι μια ενιαία </a:t>
            </a:r>
            <a:r>
              <a:rPr b="1" lang="el-GR" sz="2000" spc="-1" strike="noStrike">
                <a:solidFill>
                  <a:srgbClr val="000000"/>
                </a:solidFill>
                <a:latin typeface="Times New Roman"/>
              </a:rPr>
              <a:t>όψη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ew)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 πληροφορίας που είναι μοιρασμένη σε πολλές πηγέ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Ενώ ενα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warehouse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 είναι μια υλοποιημένη όψη (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terialized view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Βάσεις Δεδομένων και Παγκόσμιος Ιστός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4D4737-296E-4742-A653-66C8A20593B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470880"/>
            <a:ext cx="701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Προσεγγίσεις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ediator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6964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buSzPct val="12343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Επειδή οι πηγές </a:t>
            </a:r>
            <a:r>
              <a:rPr b="1" lang="el-GR" sz="2000" spc="-1" strike="noStrike">
                <a:solidFill>
                  <a:srgbClr val="000000"/>
                </a:solidFill>
                <a:latin typeface="Times New Roman"/>
              </a:rPr>
              <a:t>προϋπάρχουν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, ο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diator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 χρειάζεται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Ενα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ted sche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Περιγραφές των πηγώ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Συσχέτιση μεταξύ των δύο παραπάνω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SzPct val="12343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Global as view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view defini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Ο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tor 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ορίζει μια ολοκληρωμένη όψη της πληροφορίας σαν ερώτημα πάνω στις διάφορες πηγέ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Πιο φυσική μετάφραση των ερωτημάτων προς τις πηγέ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Σύστημα: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SIMM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SzPct val="12343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ocal as view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source defini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Για κάθε πηγή, ορίζεται μια όψη που δείχνει σε πιό τμήμα του ολοκληρωμένου σχήματος συνεισφέρει η πηγή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Εύκολο να προστεθούν νέες πηγέ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Σύστημα: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formation Manifo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Βάσεις Δεδομένων και Παγκόσμιος Ιστός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FC1941-FAAE-4B18-A7C6-D6D90F39E17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470880"/>
            <a:ext cx="701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Αρχιτεκτονική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6964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800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Συνήθως υβριδική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diators + data warehou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Στο παράδειγμα των αυτοκινήτων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Για τις πιο πρόσφατες τιμές και διαθεσιμότητες,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di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Για τα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ash tests, data warehouse,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επειδή δεν αλλάζουν συχνά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Για τα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views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, υβριδική αρχιτεκτονική, κάποια </a:t>
            </a:r>
            <a:r>
              <a:rPr b="1" lang="el-GR" sz="2000" spc="-1" strike="noStrike">
                <a:solidFill>
                  <a:srgbClr val="000000"/>
                </a:solidFill>
                <a:latin typeface="Times New Roman"/>
              </a:rPr>
              <a:t>τοπικά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 (πχ. τα καλύτερα) ενώ κάποια μένουν στις πηγέ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Υποθέτουμε ότι στήνουμε μια παρόμοια εφαρμογή για την 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</a:rPr>
              <a:t>περιοχή του Βόλο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Αλλάζουν μόνο οι </a:t>
            </a:r>
            <a:r>
              <a:rPr b="1" lang="el-GR" sz="2000" spc="-1" strike="noStrike">
                <a:solidFill>
                  <a:srgbClr val="000000"/>
                </a:solidFill>
                <a:latin typeface="Times New Roman"/>
              </a:rPr>
              <a:t>τοπικοί έμποροι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, τα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views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και τα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ash tests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μένουν τα ίδι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Η εφαρμογή μπορεί να </a:t>
            </a:r>
            <a:r>
              <a:rPr b="1" lang="el-GR" sz="2000" spc="-1" strike="noStrike">
                <a:solidFill>
                  <a:srgbClr val="000000"/>
                </a:solidFill>
                <a:latin typeface="Times New Roman"/>
              </a:rPr>
              <a:t>διασυνδεθεί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 και να χρησιμοποιήσει τμήματα της εφαρμογής για την Αθήν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Βάσεις Δεδομένων και Παγκόσμιος Ιστός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2B91F1-53E6-42CB-82D9-F3103E0B3F1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25T12:18:06Z</dcterms:created>
  <dc:creator>Yannis Stavrakas</dc:creator>
  <dc:description/>
  <dc:language>en-US</dc:language>
  <cp:lastModifiedBy>ys</cp:lastModifiedBy>
  <dcterms:modified xsi:type="dcterms:W3CDTF">2004-04-30T14:00:14Z</dcterms:modified>
  <cp:revision>69</cp:revision>
  <dc:subject/>
  <dc:title>Βάσεις Δεδομένων και Παγκόσμιος Ιστός</dc:title>
</cp:coreProperties>
</file>