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E312C-62C1-4D63-86E1-F37B12ACA2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8390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B1997-97EF-4FCF-A0CB-90A100DDB0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01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562DB-CCDB-460B-B976-2BB5D325E7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840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048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840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048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30B6C-D3F8-4214-A7F1-80ACD1E692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066680" y="470880"/>
            <a:ext cx="70106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A4D8D-98A9-432B-80D3-38D1F7CF1E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01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066320" y="38390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101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6840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70480" y="13712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06632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6840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70480" y="383904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797C3-CD2E-4D52-A015-91B9567B20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758C2-C90D-4793-BA82-786C26E137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CDDB3-470C-4521-BBCD-300D9886D1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470880"/>
            <a:ext cx="70106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72ED1-CCB2-401E-8BC6-A0CA49E325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B2115-4B9E-4E07-BE62-790A6905F2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0120" y="38390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21816-5A98-4AFE-BEFC-D743A905AA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0120" y="137124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83904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24579-1033-4D33-B6F9-544FAC560A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2400" y="152280"/>
            <a:ext cx="715680" cy="6400800"/>
          </a:xfrm>
          <a:custGeom>
            <a:avLst/>
            <a:gdLst/>
            <a:ahLst/>
            <a:rect l="l" t="t" r="r" b="b"/>
            <a:pathLst>
              <a:path w="883" h="4115">
                <a:moveTo>
                  <a:pt x="86" y="3201"/>
                </a:moveTo>
                <a:cubicBezTo>
                  <a:pt x="89" y="3056"/>
                  <a:pt x="83" y="2912"/>
                  <a:pt x="79" y="2730"/>
                </a:cubicBezTo>
                <a:cubicBezTo>
                  <a:pt x="75" y="2548"/>
                  <a:pt x="60" y="2270"/>
                  <a:pt x="64" y="2109"/>
                </a:cubicBezTo>
                <a:cubicBezTo>
                  <a:pt x="68" y="1948"/>
                  <a:pt x="99" y="1927"/>
                  <a:pt x="101" y="1765"/>
                </a:cubicBezTo>
                <a:cubicBezTo>
                  <a:pt x="103" y="1603"/>
                  <a:pt x="90" y="1323"/>
                  <a:pt x="79" y="1137"/>
                </a:cubicBezTo>
                <a:cubicBezTo>
                  <a:pt x="68" y="951"/>
                  <a:pt x="44" y="793"/>
                  <a:pt x="34" y="651"/>
                </a:cubicBezTo>
                <a:cubicBezTo>
                  <a:pt x="24" y="509"/>
                  <a:pt x="17" y="385"/>
                  <a:pt x="19" y="284"/>
                </a:cubicBezTo>
                <a:cubicBezTo>
                  <a:pt x="21" y="183"/>
                  <a:pt x="32" y="90"/>
                  <a:pt x="49" y="45"/>
                </a:cubicBezTo>
                <a:cubicBezTo>
                  <a:pt x="66" y="0"/>
                  <a:pt x="91" y="16"/>
                  <a:pt x="123" y="15"/>
                </a:cubicBezTo>
                <a:cubicBezTo>
                  <a:pt x="155" y="14"/>
                  <a:pt x="204" y="37"/>
                  <a:pt x="243" y="37"/>
                </a:cubicBezTo>
                <a:cubicBezTo>
                  <a:pt x="282" y="37"/>
                  <a:pt x="310" y="20"/>
                  <a:pt x="355" y="15"/>
                </a:cubicBezTo>
                <a:cubicBezTo>
                  <a:pt x="400" y="10"/>
                  <a:pt x="453" y="0"/>
                  <a:pt x="512" y="7"/>
                </a:cubicBezTo>
                <a:cubicBezTo>
                  <a:pt x="571" y="14"/>
                  <a:pt x="659" y="37"/>
                  <a:pt x="707" y="60"/>
                </a:cubicBezTo>
                <a:cubicBezTo>
                  <a:pt x="755" y="83"/>
                  <a:pt x="783" y="99"/>
                  <a:pt x="797" y="142"/>
                </a:cubicBezTo>
                <a:cubicBezTo>
                  <a:pt x="811" y="185"/>
                  <a:pt x="788" y="235"/>
                  <a:pt x="789" y="321"/>
                </a:cubicBezTo>
                <a:cubicBezTo>
                  <a:pt x="790" y="407"/>
                  <a:pt x="794" y="537"/>
                  <a:pt x="804" y="658"/>
                </a:cubicBezTo>
                <a:cubicBezTo>
                  <a:pt x="814" y="779"/>
                  <a:pt x="844" y="892"/>
                  <a:pt x="849" y="1047"/>
                </a:cubicBezTo>
                <a:cubicBezTo>
                  <a:pt x="854" y="1202"/>
                  <a:pt x="840" y="1394"/>
                  <a:pt x="834" y="1586"/>
                </a:cubicBezTo>
                <a:cubicBezTo>
                  <a:pt x="828" y="1778"/>
                  <a:pt x="805" y="1995"/>
                  <a:pt x="812" y="2199"/>
                </a:cubicBezTo>
                <a:cubicBezTo>
                  <a:pt x="819" y="2403"/>
                  <a:pt x="875" y="2624"/>
                  <a:pt x="879" y="2812"/>
                </a:cubicBezTo>
                <a:cubicBezTo>
                  <a:pt x="883" y="3000"/>
                  <a:pt x="840" y="3138"/>
                  <a:pt x="834" y="3329"/>
                </a:cubicBezTo>
                <a:cubicBezTo>
                  <a:pt x="828" y="3520"/>
                  <a:pt x="848" y="3836"/>
                  <a:pt x="842" y="3957"/>
                </a:cubicBezTo>
                <a:cubicBezTo>
                  <a:pt x="836" y="4078"/>
                  <a:pt x="833" y="4033"/>
                  <a:pt x="797" y="4054"/>
                </a:cubicBezTo>
                <a:cubicBezTo>
                  <a:pt x="761" y="4075"/>
                  <a:pt x="686" y="4086"/>
                  <a:pt x="625" y="4084"/>
                </a:cubicBezTo>
                <a:cubicBezTo>
                  <a:pt x="564" y="4082"/>
                  <a:pt x="492" y="4041"/>
                  <a:pt x="430" y="4039"/>
                </a:cubicBezTo>
                <a:cubicBezTo>
                  <a:pt x="368" y="4037"/>
                  <a:pt x="302" y="4057"/>
                  <a:pt x="251" y="4069"/>
                </a:cubicBezTo>
                <a:cubicBezTo>
                  <a:pt x="200" y="4081"/>
                  <a:pt x="162" y="4115"/>
                  <a:pt x="123" y="4114"/>
                </a:cubicBezTo>
                <a:cubicBezTo>
                  <a:pt x="84" y="4113"/>
                  <a:pt x="38" y="4102"/>
                  <a:pt x="19" y="4062"/>
                </a:cubicBezTo>
                <a:cubicBezTo>
                  <a:pt x="0" y="4022"/>
                  <a:pt x="3" y="3952"/>
                  <a:pt x="11" y="3875"/>
                </a:cubicBezTo>
                <a:cubicBezTo>
                  <a:pt x="19" y="3798"/>
                  <a:pt x="51" y="3710"/>
                  <a:pt x="64" y="3598"/>
                </a:cubicBezTo>
                <a:cubicBezTo>
                  <a:pt x="77" y="3486"/>
                  <a:pt x="83" y="3346"/>
                  <a:pt x="86" y="3201"/>
                </a:cubicBezTo>
                <a:close/>
              </a:path>
            </a:pathLst>
          </a:custGeom>
          <a:solidFill>
            <a:srgbClr val="33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8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8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8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42640" y="632448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52280" y="6324480"/>
            <a:ext cx="609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276B-DD25-46C9-9064-376C90566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84176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buClr>
                <a:srgbClr val="000000"/>
              </a:buClr>
              <a:buSzPct val="60000"/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6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6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1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1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1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5.png"/><Relationship Id="rId9" Type="http://schemas.openxmlformats.org/officeDocument/2006/relationships/image" Target="../media/image1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1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1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569592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33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184176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Βάσεις Δεδομένων και Παγκόσμιος Ιστό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λοκλήρωση ετερογενούς πληροφορίας στον Ιστ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Παράδειγμα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ainmen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1: p(X,Z) :- a(X,Y) &amp; a(Y,Z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2: p(X,Z) :- a(X,U) &amp; a(V,Z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εριμένουμε ότ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Χρησιμοποιούμε ακεράιους για σταθερές τιμέ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= { a(0,1), a(1,2)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ead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η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1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είναι τώρα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(0,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φαρμόζουμε την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2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πάνω στ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 U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, V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, Z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τη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2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ίναι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(0,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υνεπώ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1832D-B1E1-462E-B76A-3A06B8A951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Προγράμματα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talo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Πρόγραμμα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log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μια συλλογή απ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χουν μια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ast-fixedpoint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λύσ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την αρχή τ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B predicates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έχουν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κενές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σχέσει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Χρησιμοποιούμε τ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les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για να εξάγουμε νέ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B facts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εως ότου δεν μπορούν να εξαχθούν άλλα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αράδειγμα: ένα πρόγραμμ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lo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.  p(X,Z) :- q(X,Y) &amp; b(Y,Z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.  q(X,Y) :- a(X,Y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.  q(X,Z) :- a(X,Y) &amp; p(Y,Z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πεξήγηση: γράφος με δύο τύπους ακμών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και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α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αναπαριστούν συγκεκριμένα είδη μονοπατιώ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ονοπάτι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: μια ή περισσότερες ακμές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, και μετά ίσος αριθμός ακμών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ονοπάτι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: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ο ίδιο, όμως με μια ακμή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λιγότερ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D3C22-C290-4C83-856A-A003D7263D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ainment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talo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την ολοκλήρωση πληροφορίας μας ενδιαφέρει τ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ment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μια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Q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σε ένα πρόγραμμ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κριβώς όπως στην περίπτωση των 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Q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..αλλά εδώ μπορούμε να εφαρμόζουμε τ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log rules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έχρις ότου να μην είναι δυνατή η εξαγωγή άλλω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B f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αράδειγμα: το προηγούμενο πρόγραμμ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log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..και η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Q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(A,C) :- a(A,B) &amp; b(B,C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= { a(0,1), b(1,2)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le 2: q(0,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le 1: p(0,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10096-3C4B-4032-B7D6-B8E4B9DB88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314172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33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371600" y="1877040"/>
            <a:ext cx="640080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Γενικ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Θεωρητικό υπόβαθρ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λοκλήρωση με χρήση όψεων και Ι.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IMM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ύγκρι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ύνθεση ερωτημάτων από όψει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Η έννοια το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ment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υνδέεται με την ολοκλήρωση πληροφορίας μέσω της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σύνθεσης ερωτημάτων από όψει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Η προσέγγιση αυτή λέγεται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cal as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lob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edic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Υπάρχου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EDB”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dicates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που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όμως δεν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αντιστοιχούν σε αποθηκευμένες σχέσει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ντιπροσωπεύουν τις βασικές έννοιες που υποστηρίζει 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tor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, και που μπορούν να χρησιμοποιηθούν σ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Θα τα συμβολίζουμε με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cal vi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Υπάρχουν επίσης όψεις που αναπαριστούν τις πηγές που χρησιμοποιούνται για την απάντηση των ερωτημάτ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άθε όψη έχει έναν ορισμό ως προς τ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B predicates (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θεωρούμε τους ορισμούς σα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Q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Θα τις συμβολίζουμε με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25585-0727-42FF-96F2-DFC771C1CD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Η προσέγγισ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να ερώτημ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εκφράζεται ως προς τ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 EDB predicates (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’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ο πρόβλημα έγκειται στο να βρούμε μια «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λύση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»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για το ερώτημ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Η λύση είναι μια έκφραση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ως προς τις όψεις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(τ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’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Για να είναι έγκυρη η λύση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ν αντικαταστήσουμε τις όψεις σ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με τους ορισμούς τους παίρνουμε ένα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ansion quer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...που πρέπει να είναι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ισοδύναμο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με το αρχικό ερώτημ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ναλλακτική έγκυρη λύση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Βρίσκουμε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όλες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τις λύσει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των οποίων η επέκταση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περιέχεται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ainment)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Η «λύση» για 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είναι τότε η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ένωση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όλων αυτών των μερικών λύσ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53ABF-C192-4367-8687-7A2A683C3E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Παράδειγμ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να μόνον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EDB predicate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(X,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Σημασία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Υ είναι γονιός του 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ύο όψει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1(Y,Z) :- p(X,Y) &amp; p(Y,Z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2(X,Z) :- p(X,Y) &amp; p(Y,Z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χουν το ίδι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dy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 αλλά διαφορετικά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Η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1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παράγει ένα υποσύνολο της σχέσης για 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Η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2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λέει ότι ο Ζ είναι παππούς του 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Ερώτημα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: ποιοί είναι οι προ-παππούδες του ατόμου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(C) :- p(0,A) &amp; p(A,B) &amp; p(B,C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020F5-A468-420B-9E08-1802A6039D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Παράδειγμα (2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ο πρόβλημά μας είνα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Να βρούμε μι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Q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μ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goal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που χρησιμοποιούν μόνο τ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dicate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1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α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2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..και της οποίας το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pans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ίναι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ισοδύναμο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με το ερώτημ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Λύση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1(C) :- v2(0,D) &amp; v1(D,C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πιβεβαίωση της λύση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ντικαθιστούμε κάθ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goal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η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1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με τον ορισμό των όψε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1(C) :- p(0,E) &amp; p(E,D) &amp; p(F,D) &amp; p(D,C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Χρησιμοποιούμε το τεστ γι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Q containment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και προς τις δύο κατευθύνσεις για να δείξουμε ότι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1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ιαισθητικά, 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F,D)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τη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1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είναι πλεονάζο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17AC6-36D9-4047-A835-D748D275B8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Παράδειγμα (3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λλες εναλλακτικές λύσει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2(C) :- v1(0,D) &amp; v2(D,C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3(C) :- v1(0,D) &amp; v1(D,E) &amp; v1(E,C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4(C) :- v2(0,D) &amp; v1(D,C) &amp; v2(C,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Η επεκτεταμένη μορφή τους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περιέχεται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στ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χωρις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να είναι ισοδύναμη με τ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Η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2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ίναι ισοδύναμη με 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αν ο 0 έχει κάποιο παιδί, αλλιώς η σχέση είναι κεν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Η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3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ίναι ισοδύναμη με τη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Η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4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δίνει τους προ-πάππους του 0 που είναι και αυτοί εγγόνι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5406C-DDCA-4BF7-A85B-34544151EE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νεύρεση λύσεω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το παράδειγμα «μαντέψαμε» τις πιθανές λύσει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αι κατόπιν τις ελέγξαμε γι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Q-contai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Υπάρχουν όμως θεωρήματα και αλγόριθμοι που βοηθούν στην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ανεύρεση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των λύσε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Η βασική ιδέα είναι ότι κάθ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goal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σ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ry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πρέπει να καλύπτεται από κάποια όψη. Ομως εν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goal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πορεί να καλύπτεται από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πολλές όψει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Υπάρχουν αλγόριθμοι που βρίσκουν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ίτε μια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μοναδική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λύση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ισοδύναμη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με το ερώτημ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ίτε ένα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σύνολο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λύσεων των οποίων η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ένωση περιέχεται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σ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, και που περιέχει κάθε άλλο σύνολο λύσ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ρίζουμε μια λύση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για το ερώτημ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σαν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ελάχιστη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αν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Δεν υπάρχει λύση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ια 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τέτοια ώστ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Q,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α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T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έχει λιγότερ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goals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πό 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BBA65-AB33-4C3C-B377-8ABE9F7E89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17800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33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1877040"/>
            <a:ext cx="640080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Γενικ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Θεωρητικό υπόβαθρ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λοκλήρωση με χρήση όψεων και Ι.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IMM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ύγκρι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ormation Manifol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ίναι σύστημα ολοκλήρωσης πληροφορίας στον Ιστ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ε δική του δηλωτική γλώσσα, τη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κολουθεί την προσέγγιση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cal as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Χαρακτηριστικά σημεία του Ι.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χει μια συλλογή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lobal predicate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με βάση τα οποία εκφράζονται τα ερωτήματ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άθε πηγη πληροφορίας συνδέεται με μια ή περισσότερες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όψει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ι όψεις εκφράζονται μέσω τω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 predic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ια όψη δεν θεωρείται οτι δίνει όλα τ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t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 αλλά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μόνο μερικ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Η λύση ενός ερωτήματος είναι η ένωση όλων των ελάχιστω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Q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που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περιέχονται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στο ερώτημ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ια πηγή μπορεί να χαρακτηρίζεται και απο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περιορισμούς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, που δηλώνουν τι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δεν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περιέχει η πηγ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11272-EC47-4173-926B-4F1C416BF6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Παράδειγμα Ι.Μ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ύστημα ολοκλήρωσης πληροφορίας για υπαλλήλους μιας εταιρία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obal predicates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mp(E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όπου Ε είναι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υπάλληλο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hone(E,P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όπου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είναι το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τηλέφωνο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του 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ffice(E,O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όπου Ο είναι το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γραφείο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του 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gr(E,M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όπου Μ είναι ο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διευθυντής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του 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pt(E,D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όπου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είναι το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τμήμα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που δουλεύει ο 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Υπάρχουν τρείς πηγές, κάθε μια δίνει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μια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όψη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1(E,P,M) :- emp(E) &amp; phone(E,P) &amp; mgr(E,M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2(E,O,D) :- emp(E) &amp; office(E,O) &amp; dept(E,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3(E,P)   :- emp(E) &amp; phone(E,P) &amp; dept(E,toy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Η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3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δεν μπαίνει σε καμμία ελάχιστη λύση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εφόσον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ξέρουμε ότι ρωτάμε υπάλληλο που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δεν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δουλεύει στ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α τηλέφωνα που δίνουν ο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1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α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3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μπορεί να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μην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είνα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is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πίσης η πληροφορία μπορεί να είναι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comp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899C3-8DBB-4CB6-A746-5645590348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Λειτουργία Ι.Μ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Ερώτημα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ποιό είναι το τηλέφωνο και το γραφείο τη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ly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1(P,O) :- phone(sally,P) &amp; office(sally,O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Ως προς τ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obal predic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Υπάρχουν δύο ελάχιστες λύσει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swer(P,O) :- v1(sally,P,M) &amp; v2(sally,O,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swer(P,O) :- v3(sally,P) &amp; v2(sally,O,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Διαφέρουν στο αν ανακτούν το τηλέφωνο μέσω τη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1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ή τη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Η πλήρης απάντηση είναι η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ένωση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των αποτελεσμάτ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Η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επέκταση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των λύσεων είναι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nswer(P,O) :- emp(sally) &amp; phone(sally,P) &amp; mgr(sally,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amp; emp(sally) &amp; office(sally,O) &amp; dept(sally,D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nswer(P,O) :- emp(sally) &amp; phone(sally,P) &amp; dept(sally,to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amp; emp(sally) &amp; office(sally,O) &amp; dept(sally,D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Δεν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είναι ισοδύναμες με τη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ίναι όμως οι «κοντινότερες» στη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1,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που εξακολουθούν και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περιέχονται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στη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B3C1D-0B95-4CF1-9FE7-2EE39BBB1B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361800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33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371600" y="1877040"/>
            <a:ext cx="640080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Γενικ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Θεωρητικό υπόβαθρ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λοκλήρωση με χρήση όψεων και Ι.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IMM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ύγκρι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SIMM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anford-IBM Manager of Multiple Information Sourc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Βασίζεται στην δημιουργία μιας ιεραρχίας απ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tors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α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per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που μιλούν μεταξύ του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Κοινό μοντέλο: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ΟΕΜ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-Exchange Model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L (Mediator Specification Language)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για την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δηλωτική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περιγραφή των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tors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κα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ου δημιουργούνται στην συνέχεια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αυτόματα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με βάση την περιγραφή αυτ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Γλώσσα ερωτημάτω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rel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(θα την δούμε στην συνέχεια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πορεί κατά βάση να χρησιμοποιηθεί και η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985FA-3203-49CA-8B15-AE0C1DEDDCB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ΟΕΜ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α δεδομένα οργανώνονται σε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αντικείμεν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ο μοντέλο ΟΕΜ είναι «αντικειμενοστρεφές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να αντικείμενο ΟΕΜ αποτελείται από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Ετικέτα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bel)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, το όνομα της κλάσης του αντικειμένο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Τύπο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, για την τιμή του αντικειμένου. Ο τύπος είναι είτε κάποιος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ατομικός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τυπος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ger, string, image,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τλ), είτε ο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σύνθετος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τύπος «σύνολο αντικειμένων ΟΕΜ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Τιμή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. Αν ο τύπος είναι ατομικός η τιμή είναι μια απλή τιμή, ενώ αν ο τύπος είναι σύνθετος η τιμή είναι ένα σύνολο αντικειμένων ΟΕ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Ταυτότητα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του αντικειμένου (προαιρετική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Διάφορες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εκδοχές του ΟΕ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ναπαράσταση σαν κατευθυνόμενος γράφος με ρίζ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Οι ετικέτες στους κόμβους ή στις ακμές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23608-3FF0-4DFE-85CD-5F0FE306D77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Πρώτη εκδοχή ΟΕΜ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71640" y="1628640"/>
          <a:ext cx="7777080" cy="41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628640"/>
                    <a:ext cx="7777080" cy="41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06500-C7C7-4B77-9D4A-7EE9CCC5CE9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Δεύτερη εκδοχή ΟΕΜ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601640" y="1730520"/>
          <a:ext cx="657072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1640" y="1730520"/>
                    <a:ext cx="657072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8AA3E-2CE1-4915-A777-656305FCE99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S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ι προτάσει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L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ίναι λογικοί κανόνε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Όχι ακριβώ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λλά πιο «αντικειμενοστρεφείς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χηματισμός προτάσεων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τικετες και τιμές συνδέονται με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αγκιστρα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&lt;...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ίναι δυνατόν να υπάρχει και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ταυτότητα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σαν το πρώτο τμήμα μέσα στα άγκιστρ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Η ταυτότητα μπορεί να κατασκευαστεί μέσω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συναρτήσε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ύνολα αντικειμένων περικλείονται σε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αγκύλες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{..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ροσέγγιση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obal as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 mediator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ρίζει το ολικό του σχήμα με βάση τις πηγέ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3DE0E-7117-4309-AF4D-774EA67A272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Παράδειγμα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S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ρείς πηγέ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loyee – phone –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employee – office – depar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employee – phone (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για τα μέλη του τμήματος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ι πηγές εξάγουν αντίστοιχα αντικείμενα ΟΕ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χ. η πηγή 1 εξάγει τα ατομικά υποαντικείμεν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, phone, mg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Θέλουμε να ορίσουμε έναν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t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ου με βάση τις τρείς πηγές, εξάγει δύο τύπους αντικειμένων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ντικείμενα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p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employee – phone – off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ντικείμενα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d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employee – department –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α αντικείμενα αυτά θα έχουν υποαντικείμενα με τις κατάλληλες ετικέτες και τιμέ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5A385-D89F-4A02-9E95-2469B1C16A1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Ολοκλήρωση πληροφορία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λοκλήρωση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 ετερογενών βάσεων δεδομέν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Διαφορετικα μοντέλα δεδομένων και σχήματα μέσα στον ίδιο οργανισμ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λοκλήρωση για πρόσβαση σε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πληροφορία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γενικ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νεξάρτητα από το πως είναι αποθηκευμένη ή τι σύστημα την διαχειρίζετα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Ο Ιστός παρέχει την υποδομή και τις πηγέ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Η ολοκλήρωση πληροφορίας στον Ιστό διαφέρει από την ολοκλήρωση συμβατικών βάσεων δεδομέν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δόμητα ή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ημιδομημένα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δεδομένα, χωρίς έξωτερικό σχήμ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Δυναμικό περιβάλλον, οι πηγές και το περιεχόμενο των πηγών αλλάζουν συχν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Η προσβαση στην πληροφορία και η ολοκλήρωση είναι συνυφασμένες, δεν υπάρχουν ξεχωριστά στάδια ολοκλήρωσης και ανάκτηση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E7A8C-264B-4AFD-AE93-94E618AD3C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Παράδειγμα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SL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 (2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ι κανόνε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L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ου περιγράφουν τα δύο ειδών αντικείμενα που εξάγει 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t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. &lt;f(E) epo {&lt;name E&gt; &lt;phone P&gt;}&gt;@med :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emp {&lt;name E&gt; &lt;phone P&gt;}&gt;@sourc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. &lt;f(E) epo {&lt;name E&gt; &lt;phone P&gt;}&gt;@med :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emp {&lt;name E&gt; &lt;phone P&gt;}&gt;@source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. &lt;f(E) epo {&lt;name E&gt; &lt;office O&gt;}&gt;@med :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emp {&lt;name E&gt; &lt;office O&gt;}&gt;@sourc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. &lt;edm {&lt;name E&gt; &lt;dept D&gt; &lt;mgr M&gt;}&gt;@med :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emp {&lt;name E&gt; &lt;mgr M&gt;}&gt;@source1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emp {&lt;name E&gt; &lt;dept D&gt;}&gt;@sourc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57A83-2765-4F24-AAA5-81B78B8ED67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χόλια στην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S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ο αντικείμεν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po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συντίθεται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και από τις 3 πηγέ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Θεωρούμε οτι τ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ployee names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είναι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μοναδικ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Χρήση συνάρτηση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(E)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για δημιουργία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ταυτότητας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αντικειμένο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kolem function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: ένα ενιαίο αντικείμενο για την ίδια ταυτότητ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ημεία ενδιαφέροντο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ν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po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ια κάποιον υπάλληλο έχει υπο-αντικείμενα που έρχονται από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διάφορες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πηγές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...μπορεί να υπάρχουν 2 ή περισσότερα τηλέφωνα από τις πηγέ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urce1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α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urce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Ο κανόνας 1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δεν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αναφέρει 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gr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ια 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urce1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γιατί δεν το χρειάζεται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...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ching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θα επιτύχει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ακόμη και αν δεν υπάρχε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g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εταβλητές όπως οι Ε κα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μπορεί να αντιστοιχούν σε ατομικές τιμές ή και σε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σύνολα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αντικειμέν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Διαφορετικά αντικείμενα με την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ιδια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ετικέτα μπορούν να έχουν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διαφορετικούς τύπους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σε μια πηγ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BC6FA-21A3-4241-82E5-095AF17E96E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Μετατροπή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SL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 σ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talo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Μετατροπή απλά και μόνο για να συγκρίνουμε τ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IMMIS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με το Ι.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po(E,P,O) :- v1(E,P,M) &amp; v2(E,O,D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po(E,P,O) :- v3(E,P) &amp; v2(E,O,D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dm(E,D,M) :- v1(E,P,M) &amp; v2(E,O,D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ημαντική διαφορ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αίρνουμ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po facts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όνο για υπαλλήλους που κάπου στις όψεις υπάρχει μαζί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και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one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και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ντίθετα, η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L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βάζει κάτω από το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ίδιο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αντικείμεν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ότι βρίσκει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για τον υπάλληλο αυτό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Η ευελιξία τη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L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είναι σημαντική συνεισφορά για ολοκλήρωση ετερογενών κα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mplete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ηγών πληροφορία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AFB87-07A8-4B11-ADC9-3C6528902AA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Ερωτήματα στου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mediators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ου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SIMM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ρωτούμε με βάση τα αντικείμενα που «εξάγει» 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Δεν υπάρχου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obal predicates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όπως στο Ι.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ρώτημα: ποιό είναι το τηλέφωνο και το γραφείο τη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ly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πευθύνεται στο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tor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την πραγματικότητα στην γλώσσ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r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swer(P,O) :- epo(sally,P,O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 med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παντά το ερώτημα μετασχηματίζοντάς το για να εκφραστεί ως προς τις πηγές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ery rewriting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πεκτείνει το ερώτημα με βάση τους κανόνες που τον ορίζουν (το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writing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γίνεται πιο εύκολα και φυσικά από οτι στο Ι.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swer(P,O) :- v1(sally,P,M) &amp; v2(sally,O,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swer(P,O) :- v3(sally,P) &amp; v2(sally,O,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41BC4-CDFD-46AB-AE9C-310307F2D05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412128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33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371600" y="1877040"/>
            <a:ext cx="640080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Γενικ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Θεωρητικό υπόβαθρ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λοκλήρωση με χρήση όψεων και Ι.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IMM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ύγκρι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ύγκριση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.M.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και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SIMM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πίπεδ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M.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έχει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δύο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επίπεδα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obal mediator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και πηγέ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SIMMIS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έχει απροσδιόριστο αριθμό επιπέδ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ροσθήκη πηγώ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ύκολο στο Ι.Μ., απλά ορίζει κανείς τις όψεις της πηγής ως προς τ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obal predic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SIMMIS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πρέπει να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επανα-οριστούν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ο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tors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που χρησιμοποιούν τις πηγές αυτέ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Ημιδομημένα δεδομέν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SIMMIS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μέσω τη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SL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υποστηρίζει την χαλαρή δομή ή τα ελλειπή δεδομένα που συναντά κανείς συχνά στον Ιστ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2343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εριορισμο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ο Ι.Μ. έχει ειδικό μηχανισμο για την περιγραφή ιδιοτήτων της πληροφορίας μιας πηγής, και την χρήση τους κατά την επεξεργασία των ερωτημάτ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F0FBE-B2AD-49EA-8EE9-2F790179D51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ι θα δούμ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ια κεντρική ιδέα στην ολοκλήρωση πληροφορίας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Οι δυνατότητες των πηγών δεδομένων αναπαρίστανται σαν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όψει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Οι ερωτήσεις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επαναδιατυπώνονται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, και απαντώνται με χρήση των όψ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Θα εξετάσουμε την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mal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βάση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των τεχνικών αυτώ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junctive que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log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ai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ως αυτή η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l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βάση εφαρμόζεται σε πραγματικά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συστήματα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(που έχουν τις δικές τους ιδιαίτερες γλώσσες και προσεγγίσει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ation Manif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SIMM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2A784-C230-41A0-BE48-A43F8621BD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268128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33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600" y="1877040"/>
            <a:ext cx="640080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Γενικ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Θεωρητικό υπόβαθρ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λοκλήρωση με χρήση όψεων και Ι.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IMM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ύγκρι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Κανόνε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(X,Z) :- a(X,Y) &amp; a(Y,Z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Κανόνας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ο Χ παππούς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 του Ζ, αν ο Χ πατέρα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ου Υ και ο Υ πατέρας του 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είναι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ed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tensional datab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ή αλλιώς αποθηκευμένη σχέσ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είναι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ed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nsional datab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,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ή αλλιώς σχέση που ορίζεται από κανόνε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Μπορούμε να δούμε τα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και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σαν γραμμέ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αν μια ακμ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αν ένα μονοπάτι με μήκος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707FB-50C5-4C96-B125-3C18164E59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Κανόνες (2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(X,Z) :- a(X,Y) &amp; a(Y,Z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ρολογί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ο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:-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σημαίνει εαν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oms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αριστερά και δεξιά του :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a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om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ριστερά του :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od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ηδέν ή περισσότερ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toms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δεξιά του :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λεγονται και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εριορισμο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ν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om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ποτελείται από έν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dicate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και κάποι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guments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(μεταβλητές, ή σταθερές τιμέ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d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ίναι πάντα κάποιο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D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edic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goals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είνα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B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ή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B predic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άθε μεταβλητή σ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d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ρέπει να εμφανίζεται και σ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0E9B6-7234-4C88-9B06-B1D1C49F2A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junctive queri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junctive query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όλα τ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goals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έχουν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ed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Q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εφαρμόζεται στι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B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σχέσεις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 θεωρώντας όλες τις πιθανές αντικαταστάσεις τιμών για τις μεταβλητές σ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ν μια αντικατάσταση επαληθεύει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όλα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τ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goal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 τότε η ίδια εφαρμοζόμενη σ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ίνει ένα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ferred f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αράδειγμ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α εξης υπάρχουν στη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ensional database (ED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(Yorgos, Costas), a(Costas, Mari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ότε έν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erred fact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ίναι το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(Yorgos, Mari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65971-1B3E-488F-9AEC-16A5C1E127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47088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ainmen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ότε μι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Q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περιέχεται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ai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 σε κάποια άλλη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Q2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εαν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1(D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Q2(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Q1, Q2 are CQs, and D all truth assig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Δηλαδή, αν οι λύσεις τη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1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είναι και λύσεις τη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ότε δύ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Q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είναι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ισοδύναμες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ν κάθε μία περιέχεται στην άλλ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άντως 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ainment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νδιαφέρει πιό πολύ από την ισοδυναμία στην ολοκλήρωση πληροφορία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να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ελέγχου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για το α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1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Q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1. Αντικαθιστούμε τις μεταβλητές σ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dy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τη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1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με διακριτές σταθερές τιμές, και θεωρούμε τ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goals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σαν τις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μοναδικές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πλειάδες στην βάσ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2. Εφαρμόζουμε τη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2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στην βάση αυτ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3. Αν 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d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η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1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εξαχθεί και από τη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2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, τότ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l-GR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2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. Διαφορετικά όχι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άσεις Δεδομένων και Παγκόσμιος Ιστό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E1537-F5B3-4D00-8100-2577A53B1E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3T13:28:42Z</dcterms:created>
  <dc:creator>Yannis Stavrakas</dc:creator>
  <dc:description/>
  <dc:language>en-US</dc:language>
  <cp:lastModifiedBy>Yannis Stavrakas</cp:lastModifiedBy>
  <dcterms:modified xsi:type="dcterms:W3CDTF">2004-05-11T09:54:53Z</dcterms:modified>
  <cp:revision>99</cp:revision>
  <dc:subject/>
  <dc:title>Βάσεις Δεδομένων και Παγκόσμιος Ιστός</dc:title>
</cp:coreProperties>
</file>