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1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5.wmf" ContentType="image/x-wmf"/>
  <Override PartName="/ppt/media/image14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1CC77-D2DB-41A4-BCCB-A4254880B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C21CD-0684-40DA-AE14-C29BF49BE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7935A-D49D-448A-A362-594BE9AD7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840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048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840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048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BFD27-D7E1-45C2-8984-D98202F77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66680" y="470880"/>
            <a:ext cx="70106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138A7-DF27-4AF4-A469-DA1DA6844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6840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7048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32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6840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7048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42CD6-BD30-42E9-B100-20CEC9C69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31794-168D-4541-BE9F-A81E2E3C5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2F6D4-7423-44B4-A7EA-E15CD1C59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470880"/>
            <a:ext cx="70106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A989F-815A-426E-AD99-61A828682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34F81-B7C5-4114-AAA3-14FFBDB0A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0B7D9-AD8D-4478-89D6-F99F8444C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2A36C-B59D-415E-8D98-32FA41888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2400" y="152280"/>
            <a:ext cx="71568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32448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324480"/>
            <a:ext cx="609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8F35-3B0E-43D5-9C2B-0D84C1C3E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69592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Βάσεις Δεδομένων και Παγκόσμιος Ιστό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αι Μηχανές αναζήτη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οντέλο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ctor Space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Βασική λειτουργία ενός μηχανισμού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υ αποτελέσματος ενό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lean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μοντέλο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ctor spac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παρέχει το θεωρητικό πλαίσι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άθε έγγραφο στην συλλογη αναπαρίσταται από ένα διάνυσμα που λέγετα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ument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Υπολογισμό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Θεωρούμε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όλου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ους όρους που εμφανίζονται στην συλλογή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ν αριθμο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ν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 vecto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οτελείται από μι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τιμή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για κάθε τέτοιον όρ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πλούστερη μορφή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αν ο όρος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μφανίζεται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φορές στο έγγραφο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τότε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 vecto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ου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εριέχει την τιμή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ην θέση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411D9-6C03-4D61-BC7D-3A1DAF5850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οντέλο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ctor Space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464796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SzPct val="1122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Συνεπώς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άθε έγγραφο είναι ένα σημείο στο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-διάστατο χώρ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Παραδοχή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: έγγραφα που βρίσκονται «κοντά» είναι παρόμοι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ument vector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ίν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arse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: τιμη 0 για όρους που δεν υπάρχουν σε ένα έγγραφ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295280" y="1295280"/>
          <a:ext cx="3047760" cy="1515960"/>
        </p:xfrm>
        <a:graphic>
          <a:graphicData uri="http://schemas.openxmlformats.org/drawingml/2006/table">
            <a:tbl>
              <a:tblPr/>
              <a:tblGrid>
                <a:gridCol w="685800"/>
                <a:gridCol w="2361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nt James Bond good ag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nt mobile compu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es Madison mov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es Bond mov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295280" y="2903400"/>
          <a:ext cx="7315200" cy="1515960"/>
        </p:xfrm>
        <a:graphic>
          <a:graphicData uri="http://schemas.openxmlformats.org/drawingml/2006/table">
            <a:tbl>
              <a:tblPr/>
              <a:tblGrid>
                <a:gridCol w="685800"/>
                <a:gridCol w="762120"/>
                <a:gridCol w="838080"/>
                <a:gridCol w="965160"/>
                <a:gridCol w="812880"/>
                <a:gridCol w="812880"/>
                <a:gridCol w="812880"/>
                <a:gridCol w="812880"/>
                <a:gridCol w="812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u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di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b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DEBEE-80A7-4F6C-84E1-9287662943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 Frequency (TF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F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νός εγγράφου για κάποιον όρο, ειναι ο αριθμός εμφανίσεων του όρου στο έγγραφ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..και συνεπώς η τιμή για έναν όρο σε έν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ημασί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συχνοί όροι σημαντικότεροι για τον χαρακτηρισμό ενός εγγράφο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μως, κάποιοι όροι εμφανίζονται συχνά σε όλη την συλλογ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εμπειρία δείχνει κατανομή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ipf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Υπερβολικά κοινοι όροι δεν είναι χρήσιμοι στις αναζητή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.χ.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the”, HTML tag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όπω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H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op word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προεπεξεργασία εγγράφων και απομάκρυνσ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88152-CF46-49B5-AA17-FCA54C9480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F / IDF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αποιοι όροι εμφανίζονται πολύ συχνα σε μια συλλογή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..ακόμη και μετά την απομάκρυνση τω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χ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ux, kernel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ε συλλογή για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 μια αναζήτηση περιέχει και τους δύο όρου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εδομένου ότι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ux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ίναι συχνοτερο από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λύτερα αποτελέσματα αν δώσουμε περισσότερη σημασία στα έγγραφα που περιέχουν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F * IDF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αντί γι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στ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v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rse Document Frequency (IDF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log (N /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υνολικός αριθμός εγγράφων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αριθμός εγγράφων που περιέχουν τον όρ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ποτέλεσμ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αυξημένο βάρος σε σπάνιους όρου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4ADEA-1730-4BF0-AED6-10F9C15BE2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ημασία του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F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SzPct val="1122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Το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DF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δίνει υψηλές τιμές για σπάνιες λέξεις, και χαμηλές τιμές για κοινές λέξει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μια συλλογή 10000 εγγράφων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581280" y="2895480"/>
                <a:ext cx="2159280" cy="30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0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0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0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500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0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000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286C7-8FCA-4C19-A381-7D2892CDCA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Υπολογισμό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F / IDF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863800" y="1752480"/>
                <a:ext cx="36133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*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013120" y="2927520"/>
                <a:ext cx="5378400" cy="25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όρος 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στο έγγραφο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συχνότητα του όρου 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στο έγγραφο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verse document frequency του όρου 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στο 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συνολικός αριθμός εγγράφων στην συλλογή 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ο αριθμός εγγράφων στο </m:t>
                        </m:r>
                        <m:r>
                          <m:t xml:space="preserve">C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που περιέχουν το 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6AFDA-488E-402D-A18D-322E460534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νονικοποίηση μεγέθου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SzPct val="1122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Η σημασία ενος όρου εξαρτάται και από το </a:t>
            </a:r>
            <a:r>
              <a:rPr b="1" lang="el-GR" sz="2200" spc="-1" strike="noStrike">
                <a:solidFill>
                  <a:srgbClr val="000000"/>
                </a:solidFill>
                <a:latin typeface="Times New Roman"/>
              </a:rPr>
              <a:t>μέγεθος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του εγγράφο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στω Ε1, Ε2 δυο έγγραφα με Ε1 &lt; Ε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στω οτι το βάρο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F/IDF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για έναν όρο Ο είναι το ίδιο για τα Ε1, Ε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ιαισθητικά: το κανονικοποιημένο βάρος του Ο πρέπει να είναι μικρότερο για το Ε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ξήγηση: μεγαλύτερα έγγραφα έχουν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πιο πολλούς όρους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και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περισσότερες εμφανίσεις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νός όρ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SzPct val="1122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Κανονικοποίηση μεγέθους: όσο το μέγεθος και η συχνότητα ενός </a:t>
            </a:r>
            <a:r>
              <a:rPr b="1" lang="el-GR" sz="2200" spc="-1" strike="noStrike">
                <a:solidFill>
                  <a:srgbClr val="000000"/>
                </a:solidFill>
                <a:latin typeface="Times New Roman"/>
              </a:rPr>
              <a:t>όρου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αυξάνει, η σημασία του όρου μειώνετα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 αριθμός όρων στην συλλογ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βάρο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F/IDF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χωρις κανονικο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*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ο βάρος με κανονικοποίησ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172200" y="4800600"/>
                <a:ext cx="20574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  <m:sup/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k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012E8-A1AE-493B-AED9-52AFAFFB3F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νονικοποίηση μεγέθους στον Ιστ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τον Ιστό παίρνουμε ένα επιπλέον μέτρ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ροι που εμφανίζονται συχνότατα σε σελίδες δημιουργούν ιδιαίτερο πρόβλημα στον Ιστ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Λέξεις όπω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, free, sex, …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παναλαμβάνονται επίτηδ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ια να αυξησουν την πιθανότητα ανάσυρσης της σελίδας στα αποτελέσματα μιας αναζήτησ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τσι οι μηχανές αναζήτησης επιβάλλουν μια μέγιστη τιμή στις συχνότητε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F)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ων όρων (συνήθως 2 ή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υμπέρασμ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αντιστοίχηση εγγράφων σε διανύσματα που τα χαρακτηρίζου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591E4-6F50-4F03-821B-ED14467975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ν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 query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πορεί να θεωρηθεί σαν έγγραφο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..αφού είναι μια συλλογή όρ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υνεπώς: χρήση ομοιότητας εγγράφω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similarity)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για την ταξινόμηση των αποτελεσμά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έγγραφο που είναι πιο όμοιο με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πιστρέφεται πρώτ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άθε έγγραφο αντιστοιχεί σε ένα διάνυσμα στο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ιάστατο χώρ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ο αριθμός όρων στην συλλογ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άθε άξονας αντιστοιχεί σε έναν όρ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οντινά σημεία υποδηλώνουν όμοια έγγραφ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πιπλέον στον Ιστό,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ίνουν μια εικόνα τη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οιότητα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ιας σελίδ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8B1B8-A0AC-4195-B599-6553301F99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μοιότητα εγγράφω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219320" y="1839960"/>
          <a:ext cx="7238880" cy="33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39960"/>
                    <a:ext cx="7238880" cy="33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C4C4F-899D-466A-8CE6-27C4573B63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438280"/>
            <a:ext cx="6899400" cy="17172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2115720"/>
            <a:ext cx="640080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οντέλ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υρετήρια για ανεύρεση κει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ηχανές αναζήτησης στον Ιστ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Υπολογισμός «σχετικότητας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295280" y="1832040"/>
                <a:ext cx="7162920" cy="37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Διάνυσμα ερωτήματος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,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Εγγραφο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,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Τι δίνει ο υπολογισμός της ομοιότητάς τους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m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]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7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]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AE321-E15C-421E-9ED7-950E9E2B77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άδειγμ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01800" y="2286000"/>
            <a:ext cx="281916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08000" y="51814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8160" y="51814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88680" y="51814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79200" y="51814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17480" y="51814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901800" y="3123720"/>
            <a:ext cx="38088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901800" y="4495320"/>
            <a:ext cx="21333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901800" y="2971800"/>
            <a:ext cx="914400" cy="22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92440" y="27050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1640" y="434340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41680" y="2666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130400" y="4724280"/>
                <a:ext cx="2505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130400" y="3657600"/>
                <a:ext cx="2984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1816920" y="548640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m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114800" y="1828800"/>
                <a:ext cx="43434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sub>
                            </m:sSub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2349000" y="2286000"/>
            <a:ext cx="137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 = (0.4,0.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1=(0.8,0.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2=(0.2,0.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962520" y="3657600"/>
                <a:ext cx="502920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]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7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]</m:t>
                                </m:r>
                              </m:e>
                            </m:rad>
                          </m:den>
                        </m:f>
                      </m:e>
                      <m:e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62520" y="5410080"/>
                <a:ext cx="297180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635400" y="182880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m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2A4AA-1E71-43AC-8742-8C4D152F7B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κρίβει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υστοχί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κρίβει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ecision)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αι ευστοχί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all)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συνήθη κριτήρια αξιολόγησης συστημάτω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κρίβει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το ποσοστό των εγγράφων του αποτελέσματος που είναι πράγματι σχετικά με το ερώτημ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υστοχί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το ποσοστό των σχετικών εγγράφων στην συλλογή που ανακτήθηκαν στα αποτελέσ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τόχος η μεγάλη ακρίβεια με παράλληλα υψηλή ευστοχ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τέλεια ευστοχία είναι εύκολη αν η ακρίβεια είναι πολύ χαμηλή: επιστρέφουμε πάντα όλα τα έγγραφα της συλλογή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τίθεση με ΒΔ: απόλυτη ακρίβεια και ευστοχ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..λόγω αυστηρής σημασιολογ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C4A6F-50D8-4621-BC74-BD22333F15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ριτήρια στον Ιστ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Η ευστοχία στον Ιστό δεν είναι εφαρμόσιμη όπως σ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μέγεθος της συλλογής είναι δισεκατομύρια έγγραφ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οσαρμογή των κριτηρίων για μηχανές αναζήτη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 βάση την πρώτη σελίδα των αποτελεσμάτ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arch pr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το ποσοστό των αποτελεσμάτων στην πρώτη σελίδα που είναι πράγματι σχετικά με το αποτέλεσμ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arch rec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το Ν/Μ επί τοις εκατ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: ο συνολικός αριθμός εγγράφων στην πρώτη σελίδ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Ν: από τα Μ πιο σχετικά έγγραφα, ο αριθμός που εμφανίζεται στην πρώτη σελίδ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73ED5-F5F7-4161-B577-805E35373D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3352680"/>
            <a:ext cx="6899400" cy="17172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71600" y="2115720"/>
            <a:ext cx="640080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οντέλ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υρετήρια για ανεύρεση κει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ηχανές αναζήτησης στον Ιστ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υρετήρια για έγγραφ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rted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λό στην κατασκευ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λή απόδοσ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λλά απαιτεί πολύ χώρο: έως 300% το μέγεθος του εγγράφο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atur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Λίγος χώρο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άμεση απόρριψη πολλών εγγράφ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scale well”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λόγω σειριακής ανάγνωσης όλου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ο-επεξεργασία εγγράφ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1. Απομάκρυνσ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mm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αναγωγή λέξεων σε «κανονική» (βασική) μορφ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, running, runn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λατώνει μέγεθος, αυξάνει την αποτελεσματικότη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1BE59-9C25-43FD-A097-92C2973FA3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erted inde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ια κάθε όρο, λίστα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rted list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 από περιγραφές των εμφανίσεων του όρ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Ένας κόμβος στην λιστα, για κάθε έγγραφο που περιέχει τον όρ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κόμβος μπορεί να περιέχει επιπλέον πληροφορία για κάθε εμφάνιση του όρου στο συγκεκριμένο έγγραφο (πχ. θέση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πιτρέπει την γρήγορη ανεύρεση των εγγράφων που περιέχουν έναν δεδομένο όρ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Υλοποιείται σαν δύο ξεχωριστά τμήμα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ings 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όλες ο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ted list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στον δίσκ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άθε λίστα σε ξεχωριστή σελίδα, ή και σε αλυσίδα σελίδ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xic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Β+ δένδρο ή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στην κύρια μνήμ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ι όροι μαζί με δείκτες στις αντίστοιχε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ted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1F642-0A50-4AFA-848D-3EAA8145B8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άδειγμ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erted inde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219320" y="1689120"/>
            <a:ext cx="2514600" cy="2419200"/>
            <a:chOff x="1219320" y="1689120"/>
            <a:chExt cx="2514600" cy="2419200"/>
          </a:xfrm>
        </p:grpSpPr>
        <p:sp>
          <p:nvSpPr>
            <p:cNvPr id="159" name=""/>
            <p:cNvSpPr/>
            <p:nvPr/>
          </p:nvSpPr>
          <p:spPr>
            <a:xfrm>
              <a:off x="1219320" y="2009520"/>
              <a:ext cx="25146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000000"/>
                  </a:solidFill>
                  <a:latin typeface="Courier New"/>
                </a:rPr>
                <a:t>0001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Madison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001  mobile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19320" y="2536560"/>
              <a:ext cx="25146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000000"/>
                  </a:solidFill>
                  <a:latin typeface="Courier New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10</a:t>
              </a:r>
              <a:r>
                <a:rPr b="0" lang="el-GR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movie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19320" y="2841480"/>
              <a:ext cx="25146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r>
                <a:rPr b="0" lang="el-GR" sz="1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l-GR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Bond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100  computer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19320" y="3375000"/>
              <a:ext cx="251460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r>
                <a:rPr b="0" lang="el-GR" sz="1400" spc="-1" strike="noStrike">
                  <a:solidFill>
                    <a:srgbClr val="000000"/>
                  </a:solidFill>
                  <a:latin typeface="Courier New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l-GR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gent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1000  good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1000  James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19320" y="1689120"/>
              <a:ext cx="25146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ASH TERM #docs 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800600" y="1600200"/>
            <a:ext cx="1295280" cy="307080"/>
            <a:chOff x="4800600" y="1600200"/>
            <a:chExt cx="1295280" cy="307080"/>
          </a:xfrm>
        </p:grpSpPr>
        <p:sp>
          <p:nvSpPr>
            <p:cNvPr id="165" name=""/>
            <p:cNvSpPr/>
            <p:nvPr/>
          </p:nvSpPr>
          <p:spPr>
            <a:xfrm>
              <a:off x="4800600" y="1600200"/>
              <a:ext cx="9907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ocid=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91320" y="1600200"/>
              <a:ext cx="3045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800600" y="2048040"/>
            <a:ext cx="1295280" cy="307080"/>
            <a:chOff x="4800600" y="2048040"/>
            <a:chExt cx="1295280" cy="307080"/>
          </a:xfrm>
        </p:grpSpPr>
        <p:sp>
          <p:nvSpPr>
            <p:cNvPr id="168" name=""/>
            <p:cNvSpPr/>
            <p:nvPr/>
          </p:nvSpPr>
          <p:spPr>
            <a:xfrm>
              <a:off x="4800600" y="2048040"/>
              <a:ext cx="9907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ocid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91320" y="2048040"/>
              <a:ext cx="3045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800600" y="2505240"/>
            <a:ext cx="1295280" cy="307080"/>
            <a:chOff x="4800600" y="2505240"/>
            <a:chExt cx="1295280" cy="307080"/>
          </a:xfrm>
        </p:grpSpPr>
        <p:sp>
          <p:nvSpPr>
            <p:cNvPr id="171" name=""/>
            <p:cNvSpPr/>
            <p:nvPr/>
          </p:nvSpPr>
          <p:spPr>
            <a:xfrm>
              <a:off x="4800600" y="2505240"/>
              <a:ext cx="9907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ocid=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2505240"/>
              <a:ext cx="3045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800600" y="2962440"/>
            <a:ext cx="1295280" cy="307080"/>
            <a:chOff x="4800600" y="2962440"/>
            <a:chExt cx="1295280" cy="307080"/>
          </a:xfrm>
        </p:grpSpPr>
        <p:sp>
          <p:nvSpPr>
            <p:cNvPr id="174" name=""/>
            <p:cNvSpPr/>
            <p:nvPr/>
          </p:nvSpPr>
          <p:spPr>
            <a:xfrm>
              <a:off x="4800600" y="2962440"/>
              <a:ext cx="9907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ocid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2962440"/>
              <a:ext cx="3045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800600" y="3429000"/>
            <a:ext cx="1295280" cy="307080"/>
            <a:chOff x="4800600" y="3429000"/>
            <a:chExt cx="1295280" cy="307080"/>
          </a:xfrm>
        </p:grpSpPr>
        <p:sp>
          <p:nvSpPr>
            <p:cNvPr id="177" name=""/>
            <p:cNvSpPr/>
            <p:nvPr/>
          </p:nvSpPr>
          <p:spPr>
            <a:xfrm>
              <a:off x="4800600" y="3429000"/>
              <a:ext cx="9907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ocid=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1320" y="3429000"/>
              <a:ext cx="3045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800600" y="3876840"/>
            <a:ext cx="1295280" cy="307080"/>
            <a:chOff x="4800600" y="3876840"/>
            <a:chExt cx="1295280" cy="307080"/>
          </a:xfrm>
        </p:grpSpPr>
        <p:sp>
          <p:nvSpPr>
            <p:cNvPr id="180" name=""/>
            <p:cNvSpPr/>
            <p:nvPr/>
          </p:nvSpPr>
          <p:spPr>
            <a:xfrm>
              <a:off x="4800600" y="3876840"/>
              <a:ext cx="9907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ocid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1320" y="3876840"/>
              <a:ext cx="3045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800600" y="4334040"/>
            <a:ext cx="1295280" cy="307080"/>
            <a:chOff x="4800600" y="4334040"/>
            <a:chExt cx="1295280" cy="307080"/>
          </a:xfrm>
        </p:grpSpPr>
        <p:sp>
          <p:nvSpPr>
            <p:cNvPr id="183" name=""/>
            <p:cNvSpPr/>
            <p:nvPr/>
          </p:nvSpPr>
          <p:spPr>
            <a:xfrm>
              <a:off x="4800600" y="4334040"/>
              <a:ext cx="9907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ocid=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1320" y="4334040"/>
              <a:ext cx="3045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800600" y="4791240"/>
            <a:ext cx="1295280" cy="307080"/>
            <a:chOff x="4800600" y="4791240"/>
            <a:chExt cx="1295280" cy="307080"/>
          </a:xfrm>
        </p:grpSpPr>
        <p:sp>
          <p:nvSpPr>
            <p:cNvPr id="186" name=""/>
            <p:cNvSpPr/>
            <p:nvPr/>
          </p:nvSpPr>
          <p:spPr>
            <a:xfrm>
              <a:off x="4800600" y="4791240"/>
              <a:ext cx="9907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ocid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4791240"/>
              <a:ext cx="3045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248520" y="2514600"/>
            <a:ext cx="1295280" cy="307080"/>
            <a:chOff x="6248520" y="2514600"/>
            <a:chExt cx="1295280" cy="307080"/>
          </a:xfrm>
        </p:grpSpPr>
        <p:sp>
          <p:nvSpPr>
            <p:cNvPr id="189" name=""/>
            <p:cNvSpPr/>
            <p:nvPr/>
          </p:nvSpPr>
          <p:spPr>
            <a:xfrm>
              <a:off x="6248520" y="2514600"/>
              <a:ext cx="9907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ocid=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39240" y="2514600"/>
              <a:ext cx="3045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248520" y="2962440"/>
            <a:ext cx="1295280" cy="307080"/>
            <a:chOff x="6248520" y="2962440"/>
            <a:chExt cx="1295280" cy="307080"/>
          </a:xfrm>
        </p:grpSpPr>
        <p:sp>
          <p:nvSpPr>
            <p:cNvPr id="192" name=""/>
            <p:cNvSpPr/>
            <p:nvPr/>
          </p:nvSpPr>
          <p:spPr>
            <a:xfrm>
              <a:off x="6248520" y="2962440"/>
              <a:ext cx="9907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ocid=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39240" y="2962440"/>
              <a:ext cx="3045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553080" y="3876840"/>
            <a:ext cx="1295280" cy="307080"/>
            <a:chOff x="6553080" y="3876840"/>
            <a:chExt cx="1295280" cy="307080"/>
          </a:xfrm>
        </p:grpSpPr>
        <p:sp>
          <p:nvSpPr>
            <p:cNvPr id="195" name=""/>
            <p:cNvSpPr/>
            <p:nvPr/>
          </p:nvSpPr>
          <p:spPr>
            <a:xfrm>
              <a:off x="6553080" y="3876840"/>
              <a:ext cx="9907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ocid=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43800" y="3876840"/>
              <a:ext cx="3045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248520" y="4791240"/>
            <a:ext cx="1295280" cy="307080"/>
            <a:chOff x="6248520" y="4791240"/>
            <a:chExt cx="1295280" cy="307080"/>
          </a:xfrm>
        </p:grpSpPr>
        <p:sp>
          <p:nvSpPr>
            <p:cNvPr id="198" name=""/>
            <p:cNvSpPr/>
            <p:nvPr/>
          </p:nvSpPr>
          <p:spPr>
            <a:xfrm>
              <a:off x="6248520" y="4791240"/>
              <a:ext cx="9907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ocid=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39240" y="4791240"/>
              <a:ext cx="3045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7696080" y="4791240"/>
            <a:ext cx="1295280" cy="307080"/>
            <a:chOff x="7696080" y="4791240"/>
            <a:chExt cx="1295280" cy="307080"/>
          </a:xfrm>
        </p:grpSpPr>
        <p:sp>
          <p:nvSpPr>
            <p:cNvPr id="201" name=""/>
            <p:cNvSpPr/>
            <p:nvPr/>
          </p:nvSpPr>
          <p:spPr>
            <a:xfrm>
              <a:off x="7696080" y="4791240"/>
              <a:ext cx="9907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ocid=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86800" y="4791240"/>
              <a:ext cx="3045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095880" y="3876840"/>
            <a:ext cx="304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14479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505320" y="175212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05320" y="2362320"/>
            <a:ext cx="12952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05320" y="2666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05320" y="297180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32004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35053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505320" y="2209680"/>
            <a:ext cx="1295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962520"/>
            <a:ext cx="12952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560" y="54864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xicon (mem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960" y="548640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ings file (dis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29920" y="3292560"/>
            <a:ext cx="222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Θέσεις όπου εμφανίζεται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το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gent’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στο έγγραφο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943600" y="35053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248160" y="358128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BBE28-3C1E-43EC-B830-5FD5FDAFF19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Χρήση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erted inde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ρώτημα με έναν μόνο όρ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ό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xicon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βρίσκουμε την διεύθυνση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ted list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υ όρο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ακτούμ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ted list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τιστοιχούμε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id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ις φυσικές διευθύνσεις, ανακτούμε τα έγγραφ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 τα αποτελέσματα πρέπει να είνα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Υπολογίζουμε την σχετικότητα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vance)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ως προς το ερώτημα κάθε εγγράφου στην λίσ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ακτούμε τα έγγραφα με την σειρά που δηλώνει η σχετικότη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Υπολογισμός σχετικότητας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F, IDF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«μήκος εγγράφου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οθηκεύονται όλα σ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xicon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ή στη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t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D0F77-57B3-494A-B16D-75642C6CC2E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Χρήση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erted index (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ρώτημα με πολλούς όρου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ύζευξη όρων: τομή τω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rted list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μικρότερες πρώτα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ιάζευξη όρων: ένωση τω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verted l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ked querie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 πολλους όρου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πολογισμός σχετικότητας ως προς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όλους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ους όρους κάθε εγγράφου που εμφανίζεται σε κάποια από τι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rted list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ων όρ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σχετικότητα ενός εγγράφου προς όλους τους όρους υπολογίζεται με βάση την σχετικότητα ως προς κάθε όρο χωριστά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 product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ον Ιστό ο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ted list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ίναι πολύ μεγάλε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ρο-υπολογισμός σχετικότητας ως προς τον όρο, και ταξινόμηση λίστας ως προς σχετικότητα αντί γι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Θετικό: μπορούμε να πάρουμε μόνο τα πρώτα έγγραφ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ρνητικό: συντήρηση δαπανηρη σε χρόνο (προσθήκη νέου εγγράφου, αλλαγή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king fun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0E0B-3E0F-4C09-8EE6-24D0C569BE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ation Retrieval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ι Β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ανεύρεση κειμένων σε μεγάλες συλλογ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ό την δεκαετία του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ορεία ανεξάρτητη από τις Β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οντέλο: κάθε έγγραφο είναι μια συλλογή λέξεων (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όρων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ΒΔ: η διαχείριση κειμένων είναι μια νέα πρόκλη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κείμενα αποτελούν μια τεράστια πηγή δεδομένων στον Ιστ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Έρευνα στις ΒΔ προς την κατεύθυνση αυτ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υμπέρασμα: ο Ιστός φέρνει τις ΒΔ πιο κοντά σ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βρίσκεται ακριβώς στην μέση, σαν συνδετικός κρίκ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111D1-4DBE-4EEC-A932-70389C5613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gnature fil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άθε έγγραφο αναπαρίσταται σ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πό έν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..που αποτελείται από έναν σταθερό αριθμ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gnature 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όροι αντιστοιχούνται στ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μέσω μια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άλογα με τους όρους που υπάρχουν στο έγγραφο «ανάβουν» τα αντίστοιχ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Το ίδιο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πορεί να ανάψει δύο φορές από διαφορετικούς όρου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ι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ταιριάζει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 με μι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 όλα τα αναμέν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η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2 είναι επίσης αναμένα και στη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πορεί να έχει και άλλα αναμέν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10E13-D276-4E2B-8CBD-F3648F0030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Χρήση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gnature fi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ρώτημα με σύζευξη όρ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ημιουργούμε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ιατρέχουμε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ature file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ανακτούμε όλα τα έγγραφα των οποίων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αιριάζει με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άποια από αυτά τα έγγραφα δεν ανήκουν στο αποτέλεσμα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...επειδή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δεν ταυτοποιεί ακριβώς τους όρους ενός εγγράφ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lse positi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έγγραφο του οποίου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αιριάζει, αλλά που δεν περιέχει όλους τους όρους του ερωτήματ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ρώτημα με διάζευξη όρ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ημιουργούμε λίσ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signatures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ένα για κάθε όρο του ερωτήματ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ακτούμε τα έγγραφα που ταιριάζουν με οποιοδήποτ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ης λίστ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253A7-C58A-4594-921F-A649C04A5AA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άδειγμ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gnature fi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SzPct val="1122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Ερωτήματα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me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me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on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1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i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diso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0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SzPct val="1122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Τόσα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gnatures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όσα έγγραφα, τα εξετάζουμε όλ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t sli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κάθετη κατάτμηση το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ature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ξετάζουμε μόνο μερικά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t slice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ένα ερώτημ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523880" y="1374840"/>
          <a:ext cx="6248520" cy="1825560"/>
        </p:xfrm>
        <a:graphic>
          <a:graphicData uri="http://schemas.openxmlformats.org/drawingml/2006/table">
            <a:tbl>
              <a:tblPr/>
              <a:tblGrid>
                <a:gridCol w="918000"/>
                <a:gridCol w="3675600"/>
                <a:gridCol w="165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nt James Bond good a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nt mobile comp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es Madison mov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es Bond mov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C860B-7B42-466D-BB0E-8956ADC4AEC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386712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2115720"/>
            <a:ext cx="640080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οντέλ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υρετήρια για ανεύρεση κει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ηχανές αναζήτησης στον Ιστ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ναζήτηση στον Ιστ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ie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eng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ψάξιμο σε περιγραφές σελίδων, επιλεγμένω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οργανωμένων «με το χέρι» σε κατηγορίε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arch engine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: ψάξιμο στο περιεχόμενο, όλων (;) των σελίδων, οργανωμένων με βάση το ερώτημα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ερωτήματα στον Ιστό είναι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ύντο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έση τιμή 2.4 λέξεις (Αυγ. 2000), 1.7 λέξεις το 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ι περιμένει ο χρήστη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«Η πρώτη-πρώτη απάντηση πρέπει να είναι αυτό που ψάχνω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nking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τον Ιστο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πολλές παραλλαγές, οι λεπτομέρειες κρατιούνται κρυφές. Συνδυασμός των παρακάτω στοιχείων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-style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: με βάση 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εγγύτητα των λέξεων, θέση (πχ. στον τίτλο), γραμματοσειρά, κτ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άλυση τω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k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δημοτικότητα των σελίδ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24F48-C452-4770-9769-FDCFCFD6FCB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ηχανές αναζήτησης κα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μοιότητες: ίδια βασική τεχνολογ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ctor spac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α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ted inde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ιαφορέ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ρχιτεκτονική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ων μηχανών αναζήτησης πρέπει να είναι ιδιαίτερα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labl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» - τεράστιος όγκος δεδομένων και αριθμός ερωτημάτ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ταξυ των κειμένων είναι πολύ χρήσιμα για την ανακάλυψη και την αξιολόγηση σελίδων σχετικών με ένα ερώτη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CF241-8A3F-4473-B9A1-F0A7E48B70D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066680" y="1006560"/>
          <a:ext cx="7543800" cy="54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06560"/>
                    <a:ext cx="754380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863E0-1F52-44F2-8E45-22A480CEA3B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ΔΒΔ και Μηχανές Αναζήτηση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8160" y="3124080"/>
            <a:ext cx="8938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8cb0a"/>
                </a:solidFill>
                <a:latin typeface="Times New Roman"/>
              </a:rPr>
              <a:t>{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1720" y="4114800"/>
            <a:ext cx="76320" cy="76320"/>
          </a:xfrm>
          <a:prstGeom prst="octagon">
            <a:avLst>
              <a:gd name="adj" fmla="val 50000"/>
            </a:avLst>
          </a:prstGeom>
          <a:solidFill>
            <a:srgbClr val="f8cb0a"/>
          </a:solidFill>
          <a:ln w="9360">
            <a:solidFill>
              <a:srgbClr val="f8c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48200" y="3886200"/>
            <a:ext cx="3200400" cy="1066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69400" y="3465360"/>
            <a:ext cx="2436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ces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77680" y="4048200"/>
            <a:ext cx="241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2d5b"/>
                </a:solidFill>
                <a:latin typeface="Arial"/>
              </a:rPr>
              <a:t>Buffer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70600" y="4573440"/>
            <a:ext cx="3030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2d5b"/>
                </a:solidFill>
                <a:latin typeface="Arial"/>
              </a:rPr>
              <a:t>Disk Space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973760" y="2131920"/>
            <a:ext cx="3222360" cy="28717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48200" y="342900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48200" y="388620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48200" y="44956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27840" y="5499000"/>
            <a:ext cx="1041120" cy="111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12000" y="5551560"/>
            <a:ext cx="2880" cy="57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81920" y="5578560"/>
            <a:ext cx="0" cy="51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27840" y="6032520"/>
            <a:ext cx="1041120" cy="111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72080" y="50292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14360" y="38862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48200" y="304812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47400" y="3048120"/>
            <a:ext cx="1559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er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33960" y="2209680"/>
            <a:ext cx="2702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String Mod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05920" y="314964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Simple 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34560" y="2971800"/>
            <a:ext cx="44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f0e30"/>
                </a:solidFill>
                <a:latin typeface="Book Antiqua"/>
              </a:rPr>
              <a:t>}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48200" y="259092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31680" y="2666880"/>
            <a:ext cx="226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ing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141560" y="2133720"/>
            <a:ext cx="3276360" cy="4017960"/>
            <a:chOff x="1141560" y="2133720"/>
            <a:chExt cx="3276360" cy="4017960"/>
          </a:xfrm>
        </p:grpSpPr>
        <p:sp>
          <p:nvSpPr>
            <p:cNvPr id="263" name=""/>
            <p:cNvSpPr/>
            <p:nvPr/>
          </p:nvSpPr>
          <p:spPr>
            <a:xfrm>
              <a:off x="1595520" y="2133720"/>
              <a:ext cx="23644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uery Optim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d Exec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17760" y="2963880"/>
              <a:ext cx="2521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lational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99520" y="3473280"/>
              <a:ext cx="3158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les and Access Metho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70680" y="4056120"/>
              <a:ext cx="2419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uffer 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63240" y="4581360"/>
              <a:ext cx="3030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sk Space 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66760" y="2139840"/>
              <a:ext cx="3222000" cy="28717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41560" y="290340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41560" y="343692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41560" y="389412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141560" y="450360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20840" y="5506920"/>
              <a:ext cx="1040760" cy="11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05000" y="5559480"/>
              <a:ext cx="2520" cy="57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74920" y="5586480"/>
              <a:ext cx="0" cy="517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20840" y="6040440"/>
              <a:ext cx="1040760" cy="11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95160" y="56991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65080" y="503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386280" y="5181480"/>
            <a:ext cx="1473120" cy="1191240"/>
          </a:xfrm>
          <a:prstGeom prst="rect">
            <a:avLst/>
          </a:prstGeom>
          <a:noFill/>
          <a:ln w="9360">
            <a:solidFill>
              <a:srgbClr val="f8c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2d5b"/>
                </a:solidFill>
                <a:latin typeface="Arial"/>
              </a:rPr>
              <a:t>Concurrency</a:t>
            </a:r>
            <a:br>
              <a:rPr sz="1800"/>
            </a:br>
            <a:r>
              <a:rPr b="0" lang="en-US" sz="1800" spc="-1" strike="noStrike">
                <a:solidFill>
                  <a:srgbClr val="892d5b"/>
                </a:solidFill>
                <a:latin typeface="Arial"/>
              </a:rPr>
              <a:t>and </a:t>
            </a:r>
            <a:br>
              <a:rPr sz="1800"/>
            </a:br>
            <a:r>
              <a:rPr b="0" lang="en-US" sz="1800" spc="-1" strike="noStrike">
                <a:solidFill>
                  <a:srgbClr val="892d5b"/>
                </a:solidFill>
                <a:latin typeface="Arial"/>
              </a:rPr>
              <a:t>Recovery</a:t>
            </a:r>
            <a:br>
              <a:rPr sz="1800"/>
            </a:br>
            <a:r>
              <a:rPr b="0" lang="en-US" sz="1800" spc="-1" strike="noStrike">
                <a:solidFill>
                  <a:srgbClr val="892d5b"/>
                </a:solidFill>
                <a:latin typeface="Arial"/>
              </a:rPr>
              <a:t>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40" idx="1"/>
          </p:cNvCxnSpPr>
          <p:nvPr/>
        </p:nvCxnSpPr>
        <p:spPr>
          <a:xfrm flipH="1" flipV="1" rot="10800000">
            <a:off x="530640" y="4151520"/>
            <a:ext cx="229320" cy="1028880"/>
          </a:xfrm>
          <a:prstGeom prst="curvedConnector5">
            <a:avLst>
              <a:gd name="adj1" fmla="val -100000"/>
              <a:gd name="adj2" fmla="val 25901"/>
              <a:gd name="adj3" fmla="val -100000"/>
            </a:avLst>
          </a:prstGeom>
          <a:ln w="28440">
            <a:solidFill>
              <a:srgbClr val="f8cb0a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4646520" y="1600200"/>
            <a:ext cx="0" cy="5105520"/>
          </a:xfrm>
          <a:prstGeom prst="line">
            <a:avLst/>
          </a:prstGeom>
          <a:ln w="5724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34800" y="13716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83bd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0920" y="137160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83bd"/>
                </a:solidFill>
                <a:latin typeface="Times New Roman"/>
              </a:rPr>
              <a:t>Search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19EAD-2A28-4560-AE3A-20AB3BDB9F6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ενική αρχιτεκτονικ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10800000">
            <a:off x="3276720" y="1752480"/>
            <a:ext cx="380880" cy="609840"/>
          </a:xfrm>
          <a:prstGeom prst="foldedCorner">
            <a:avLst>
              <a:gd name="adj" fmla="val 12500"/>
            </a:avLst>
          </a:prstGeom>
          <a:solidFill>
            <a:srgbClr val="892d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0800000">
            <a:off x="3429000" y="1904760"/>
            <a:ext cx="380880" cy="609480"/>
          </a:xfrm>
          <a:prstGeom prst="foldedCorner">
            <a:avLst>
              <a:gd name="adj" fmla="val 12500"/>
            </a:avLst>
          </a:prstGeom>
          <a:solidFill>
            <a:srgbClr val="892d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3580920" y="2057040"/>
            <a:ext cx="381240" cy="609480"/>
          </a:xfrm>
          <a:prstGeom prst="foldedCorner">
            <a:avLst>
              <a:gd name="adj" fmla="val 12500"/>
            </a:avLst>
          </a:prstGeom>
          <a:solidFill>
            <a:srgbClr val="892d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0800000">
            <a:off x="3733920" y="2209680"/>
            <a:ext cx="380880" cy="609840"/>
          </a:xfrm>
          <a:prstGeom prst="foldedCorner">
            <a:avLst>
              <a:gd name="adj" fmla="val 12500"/>
            </a:avLst>
          </a:prstGeom>
          <a:solidFill>
            <a:srgbClr val="892d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0800000">
            <a:off x="3886200" y="2361960"/>
            <a:ext cx="380880" cy="609480"/>
          </a:xfrm>
          <a:prstGeom prst="foldedCorner">
            <a:avLst>
              <a:gd name="adj" fmla="val 12500"/>
            </a:avLst>
          </a:prstGeom>
          <a:solidFill>
            <a:srgbClr val="892d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24382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81080" y="1371600"/>
            <a:ext cx="1219320" cy="990720"/>
          </a:xfrm>
          <a:prstGeom prst="ellipse">
            <a:avLst/>
          </a:prstGeom>
          <a:solidFill>
            <a:srgbClr val="892d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cb0a"/>
                </a:solidFill>
                <a:latin typeface="Tahoma"/>
              </a:rPr>
              <a:t>crawl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cb0a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15200" y="2976480"/>
            <a:ext cx="1600200" cy="1067040"/>
          </a:xfrm>
          <a:prstGeom prst="ellipse">
            <a:avLst/>
          </a:prstGeom>
          <a:solidFill>
            <a:srgbClr val="892d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cb0a"/>
                </a:solidFill>
                <a:latin typeface="Tahoma"/>
              </a:rPr>
              <a:t>create 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cb0a"/>
                </a:solidFill>
                <a:latin typeface="Tahoma"/>
              </a:rPr>
              <a:t>inve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cb0a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2514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1143000"/>
            <a:ext cx="2743200" cy="1219320"/>
          </a:xfrm>
          <a:prstGeom prst="ellipse">
            <a:avLst/>
          </a:prstGeom>
          <a:solidFill>
            <a:srgbClr val="892d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cb0a"/>
                </a:solidFill>
                <a:latin typeface="Tahoma"/>
              </a:rPr>
              <a:t>Store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cb0a"/>
                </a:solidFill>
                <a:latin typeface="Tahoma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0120" y="4386240"/>
            <a:ext cx="1143000" cy="1523880"/>
          </a:xfrm>
          <a:prstGeom prst="flowChartMagneticDisk">
            <a:avLst/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2d5b"/>
                </a:solidFill>
                <a:latin typeface="Times New Roman"/>
              </a:rPr>
              <a:t>Inv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2d5b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64040" y="2828160"/>
            <a:ext cx="720360" cy="151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371600" y="5415120"/>
            <a:ext cx="1219320" cy="1062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5029200" y="4653000"/>
            <a:ext cx="1447920" cy="12193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2d5b"/>
                </a:solidFill>
                <a:latin typeface="Times New Roman"/>
              </a:rPr>
              <a:t>Sea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2d5b"/>
                </a:solidFill>
                <a:latin typeface="Times New Roman"/>
              </a:rPr>
              <a:t>eng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2d5b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2900520"/>
            <a:ext cx="1524240" cy="1295280"/>
          </a:xfrm>
          <a:prstGeom prst="cloudCallout">
            <a:avLst>
              <a:gd name="adj1" fmla="val -39060"/>
              <a:gd name="adj2" fmla="val 67648"/>
            </a:avLst>
          </a:prstGeom>
          <a:solidFill>
            <a:srgbClr val="892d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cb0a"/>
                </a:solidFill>
                <a:latin typeface="Times New Roman"/>
              </a:rPr>
              <a:t>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cb0a"/>
                </a:solidFill>
                <a:latin typeface="Times New Roman"/>
              </a:rPr>
              <a:t>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819520" y="3129120"/>
            <a:ext cx="1752480" cy="1314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flipH="1" flipV="1">
            <a:off x="2130480" y="3928320"/>
            <a:ext cx="5389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914640" y="4484160"/>
            <a:ext cx="1238040" cy="489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6661080" y="5185080"/>
            <a:ext cx="939600" cy="27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3034080" y="5708880"/>
            <a:ext cx="1779480" cy="479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4805280"/>
            <a:ext cx="2057400" cy="914400"/>
          </a:xfrm>
          <a:prstGeom prst="ellipse">
            <a:avLst/>
          </a:prstGeom>
          <a:solidFill>
            <a:srgbClr val="892d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cb0a"/>
                </a:solidFill>
                <a:latin typeface="Tahoma"/>
              </a:rPr>
              <a:t>Show resul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cb0a"/>
                </a:solidFill>
                <a:latin typeface="Tahoma"/>
              </a:rPr>
              <a:t>To 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744160" y="2814840"/>
            <a:ext cx="591120" cy="1699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19720" y="2590920"/>
            <a:ext cx="1346040" cy="317520"/>
          </a:xfrm>
          <a:custGeom>
            <a:avLst/>
            <a:gdLst/>
            <a:ahLst/>
            <a:rect l="l" t="t" r="r" b="b"/>
            <a:pathLst>
              <a:path w="848" h="200">
                <a:moveTo>
                  <a:pt x="816" y="0"/>
                </a:moveTo>
                <a:cubicBezTo>
                  <a:pt x="832" y="8"/>
                  <a:pt x="848" y="16"/>
                  <a:pt x="768" y="48"/>
                </a:cubicBezTo>
                <a:cubicBezTo>
                  <a:pt x="688" y="80"/>
                  <a:pt x="464" y="200"/>
                  <a:pt x="336" y="192"/>
                </a:cubicBezTo>
                <a:cubicBezTo>
                  <a:pt x="208" y="184"/>
                  <a:pt x="104" y="92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1147680"/>
            <a:ext cx="1143000" cy="1524240"/>
          </a:xfrm>
          <a:prstGeom prst="flowChartMagneticDisk">
            <a:avLst/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2d5b"/>
                </a:solidFill>
                <a:latin typeface="Times New Roman"/>
              </a:rPr>
              <a:t>Do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FA57C-6CE4-4206-B358-BF0E5A7FAC6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awling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υλλογή πληροφορίας από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: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aw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λός αλγόριθμος: διάσχιση γράφου (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ίναι οι ακμέ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Ξεκινά από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κατάλογο αρχικών σελίδω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ου περιέχουν πολλά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k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(πχ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ahoo directory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άθ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k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κολουθείται, οδηγώντας σε νέες σελίδες, επεξεργασί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πανάληψη του πάνω βήματος, σημειώνοντας ποιές σελίδες έχει επισκεφτεί προκειμένου να τις αποφύγει στο εξή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υγκεκριμένα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t a set on known sites on a 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 until queue emp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ke first page off of the que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 page has not yet been proce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SzPct val="11740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ss and record info (positions of words, outgoing links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SzPct val="117409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 links of current page to the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SzPct val="117409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 the this page has been 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3D39A-3FFB-4C0F-B5EA-D446EC1B9A7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Διαφορετικοί κόσμοι: Ιστός κα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δεκάδες χιλιάδες κείμεν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Ιστός: δισεκατομύρια σελίδε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μογένε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διαχείριση εγγράφων από επαγγελματίες, προσεκτική προετοιμασία, ταξινόμηση σε ομογενείς κατηγορίε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Ιστός: δημιουργία εγγράφων και αναζήτηση από απλούς χρήστες, θεματικά ανομοιογενή έγγραφα, περιέχουν πολυμεσική πληροφορί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Η είσοδος τη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..πρόσθεσε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μεταδεδομέν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(περιγραφική πληροφορί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ό ελεύθερο κείμενο σ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textual object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09FCE-C990-456F-A32B-AE2046401D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Ζητήματ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awl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Χρονοβόρο: 1 έγγραφο ανά λεπτό ο κάθ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w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ύσκολη και πολύπλοκη υλοποίηση: διάφορα πρακτικά προβλή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λαχιστοποίηση καθυστερήσεων λόγω δικτύο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αραλληλισμός του αλγορίθμο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αχείριση πιθανων αποτυχιών κατά την σύνδεσ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εβασμός σ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s (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awling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δεν πρέπει να «καθίζει» το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serv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αρχεί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norobots.txt”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αναφέρει «απαγορευμένα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shness: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βρίσκουμε ποιές σελίδες αλλάζουν συχνά, και επιμένουμε περισσότερο σε αυτέ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wling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ίναι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δύσκολο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να υλοποιηθεί επαγγελματικ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1B0B9-0438-47B2-9E5A-C8C796BA048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Διαδικασία δημιουργία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371600"/>
            <a:ext cx="5486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εριοδική ανανέωση, στο ενδιάμεσο παραμένουν στατικ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 έγγραφα γίνοντα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sed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ια να εξαχθούν όροι, που αποθηκεύονται μαζί με τ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D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του αντίστοιχου εγγράφο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4038480"/>
            <a:ext cx="2209680" cy="2133720"/>
          </a:xfrm>
          <a:prstGeom prst="rect">
            <a:avLst/>
          </a:prstGeom>
          <a:noFill/>
          <a:ln w="9360">
            <a:solidFill>
              <a:srgbClr val="cc9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s th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ll good 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e to the 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ir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2000" y="358128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038480"/>
            <a:ext cx="2362320" cy="2286000"/>
          </a:xfrm>
          <a:prstGeom prst="rect">
            <a:avLst/>
          </a:prstGeom>
          <a:noFill/>
          <a:ln w="9360">
            <a:solidFill>
              <a:srgbClr val="cc9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dark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my night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un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or. The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past midn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92920" y="358128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858000" y="228600"/>
          <a:ext cx="2133720" cy="642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228600"/>
                    <a:ext cx="21337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5867280" y="4876920"/>
            <a:ext cx="838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766F1-DF16-48F6-9420-7293890970B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680" y="425160"/>
            <a:ext cx="327672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Διαδικασία δημιουργία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90720" y="2286000"/>
            <a:ext cx="3276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ετά την επεξεργασία όλων των εγγράφων, τ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erted file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ξινομείται αλφαβητικ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7086600" y="130320"/>
          <a:ext cx="1981080" cy="6422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130320"/>
                    <a:ext cx="1981080" cy="64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4495680" y="130320"/>
          <a:ext cx="2078280" cy="64227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95680" y="130320"/>
                    <a:ext cx="2078280" cy="64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6629400" y="340668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04871-1888-41D2-809A-CEA48BC7A40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680" y="463320"/>
            <a:ext cx="289584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Διαδικασία δημιουργία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(3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2120" y="2286000"/>
            <a:ext cx="312408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υγχώνευση πολλαπλών εμφανίσεων ενός όρου στο ίδιο έγγραφ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Υπολογισμό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rm frequency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 για κάθε όρο σε έγγραφ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6505560" y="76320"/>
          <a:ext cx="2562120" cy="6300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05560" y="76320"/>
                    <a:ext cx="2562120" cy="63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4038480" y="76320"/>
          <a:ext cx="2027520" cy="6324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76320"/>
                    <a:ext cx="202752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6095880" y="3733920"/>
            <a:ext cx="381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FFE58-89F9-4AA5-975B-1A27F2F7CE3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Διαδικασία δημιουργία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(4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038480" y="11430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ionary/Lexicon        Pos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52280" y="1143000"/>
          <a:ext cx="2819520" cy="531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2819520" cy="53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7315200" y="1752480"/>
          <a:ext cx="1752480" cy="470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1752480"/>
                    <a:ext cx="1752480" cy="47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3657600" y="1774800"/>
          <a:ext cx="2860560" cy="4219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774800"/>
                    <a:ext cx="286056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3048120" y="373392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504120" y="2003400"/>
            <a:ext cx="811080" cy="4343400"/>
            <a:chOff x="6504120" y="2003400"/>
            <a:chExt cx="811080" cy="4343400"/>
          </a:xfrm>
        </p:grpSpPr>
        <p:sp>
          <p:nvSpPr>
            <p:cNvPr id="346" name=""/>
            <p:cNvSpPr/>
            <p:nvPr/>
          </p:nvSpPr>
          <p:spPr>
            <a:xfrm flipV="1">
              <a:off x="6504120" y="2003400"/>
              <a:ext cx="81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504120" y="2155320"/>
              <a:ext cx="811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504120" y="2308320"/>
              <a:ext cx="81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504120" y="2460600"/>
              <a:ext cx="81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504120" y="2612520"/>
              <a:ext cx="811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504120" y="2994120"/>
              <a:ext cx="811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504120" y="3146400"/>
              <a:ext cx="811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504120" y="3298680"/>
              <a:ext cx="811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504120" y="3451320"/>
              <a:ext cx="811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04120" y="3603600"/>
              <a:ext cx="811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504120" y="3832200"/>
              <a:ext cx="8110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504120" y="3984480"/>
              <a:ext cx="8110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504120" y="4137120"/>
              <a:ext cx="811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04120" y="4289400"/>
              <a:ext cx="811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504120" y="4441680"/>
              <a:ext cx="811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04120" y="4594320"/>
              <a:ext cx="811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04120" y="4746600"/>
              <a:ext cx="811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04120" y="4975200"/>
              <a:ext cx="8110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504120" y="5127480"/>
              <a:ext cx="811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504120" y="5280120"/>
              <a:ext cx="811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04120" y="5432400"/>
              <a:ext cx="811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04120" y="5584680"/>
              <a:ext cx="811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04120" y="5737320"/>
              <a:ext cx="811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04120" y="5889600"/>
              <a:ext cx="811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504120" y="2841120"/>
              <a:ext cx="811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ED7F2-3C68-4C08-B95A-202F6F27F45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Δημιουργία και αποθήκευση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ισεκατομμύρια σελίδες – λύση: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αραλληλισμό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άθε έγγραφο αναλύεται ξεχωριστ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ημιουργούντα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ted list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ια κάθε όρο στο έγγραφ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υγχώνευση σε μι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ted list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υ όρου για όλα τα έγγραφ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Υπολογισμό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F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το στάδιο της συγχώνευσ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αποθηκεύεται σε συστοιχία πολλών φθηνών μηχανημάτω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ι όροι αντιστοιχούνται σε μηχανήματα μέσω καποιας συνάρτησης κατακερματισμού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άθε μηχάνημα αποθηκεύει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ted index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ων αντίστοιχων όρ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ερωτήματα αποτελούνται συνήθως από 1 ή 2 όρους: στέλνονται σε 1 ή 2 μηχανήμα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CC924-FCC1-4F1E-8DEE-443298CF65E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ντιμετώπιση φόρτου ερωτημάτω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εράστιος αριθμός: σ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150 εκατομμύρια ερωτήματα κάθε ημέρ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μοιοτυπία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ication)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των δεδομένων σε συστοιχίες μηχανημά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άθε τμήμα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ted index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ανατίθεται σε πολλά μηχανήματα αντί μόνο σε έν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άθε μηχάνημα έχει ένα ακριβές αντίγραφο του τμήματος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ted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 ερωτήματα διανέμονται στα μηχανήματα με βάσ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ν φόρτο των μηχανημάτ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..ή πχ. με κατάτμηση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ου ερωτούντ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πιπλέον κέρδος: πρόβλημα σε ένα μηχάνημα δεν βγάζει εκτός λειτουργίας την μηχανή αναζήτησ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65ED9-3AB2-4214-A823-74CC37364BF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υστοιχίες μηχανημάτω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971800" y="1085760"/>
            <a:ext cx="6019920" cy="53150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57200" y="990720"/>
            <a:ext cx="2514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Τα δεδομένα για τις σελίδες κατατμημένα σε μηχανήματ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Επιπλέον, κάθε κατάτμηση έχει πολλά μηχανήματα που χειρίζονται ερωτήματ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Κάθε σειρα μπορεί να χειριστεί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120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ερωτήματα το δευτερόλεπτ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Κάθε στήλη αντέχε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7M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σελίδ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Για να «σηκώσει» περισσότερα ερωτήματα, προσθέτουμε σειρέ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C4869-392A-4208-9065-782F18DC1FA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Χρήση τω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όβλημα: οι πιο σχετικές σελίδες ίσως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ε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περιέχουν τους όρους του ερωτήμα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ean text query “Web browser”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δεν επιστρέφει τις σχετικές σελίδες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scape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ή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search engine”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δεν επιστρέφει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 page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h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Είναι όμως πιθανό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μια σελίδα που δείχνει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 στο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me page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του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ahoo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 να περιέχει τον όρο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search engi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έχρι τώρα θεωρούσαμε τις σελίδες απομονωμένες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..για να εκτιμήσουμε το πόσο σχετικές είναι με το ερώτη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ως χρησιμοποιούμε την πληροφορία τω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84CB1-EED5-45E0-A894-5D2862EC51C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λγόριθμο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ιαπίστωση: οι «καλές» σελίδες δείχνονται από πολλά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πίσης «καλών» σελίδ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ύο τύποι σελίδ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ολύ σχετική με το θέμα, αναγνώριση από άλλες σελίδε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ub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όχι πολύ γνωστή σελίδα, λίγα εισερχόμεν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περιέχε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αραδειγμ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b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λισ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χετικών με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bbie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άποιο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link-bas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οντελοποιεί τον Ιστό σαν κατευθυνόμενο γράφ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ι σελίδες είναι κόμβοι και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ακμέ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υο βήματα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mp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D6B67-B4A1-4F0D-BBF2-9574043DDCD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Διαφορετικοί κόσμοι: ΒΔ κα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οινός καταρχήν στόχο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Υποστήριξη αναζητήσεων πάνω σε μεγάλες συλλογές δεδομέν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αζητήσεις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e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 αντί ερωτημάτω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que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arch ter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άνω σε συλλογή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αδόμητων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ειμένων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ων αποτελεσμάτ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ΒΔ: ευρύ φάσμα ερωτημάτων με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κριβή σημασιολογί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αυστηρά δομημένα δεδομένα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ranked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οτελέσμα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λεονεκτή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εν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ίναι απαραίτητη η γνώση σχήματος και γλώσσας ερωτημάτ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ΒΔ: τα αποτελέσματα είναι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λήρη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αι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κριβ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B8CF3-D7DA-41E1-9040-C255F61965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Βήμ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υλλέγει με συμβατικό τρόπο (πχ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lean query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 ένα σύνολο σελίδων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ot set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 που περιέχει τους όρους του ερωτήμα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ιθανόν να μην περιέχει όλα τα σχετικά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iti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θεωρούμε όμως οτι τα πιο σχετικά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itie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υνδέονται μέσω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ε σελίδες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παυξάνει 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set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οσθέτοντας το σύνολο των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 p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ελίδες που συνδέονται (δείχνουν ή δείχνονται) μέσω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ε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οτέλεσμα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e 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oot set + link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41F5D-2F20-410F-A473-D082423D728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Βήμ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όχος: ανεύρεση καλώ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itie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αι καλώ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πιστροφή των καλύτερω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tie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κ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b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αν απάντησ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ως αξιολογείται η ποιότητα τω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b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itie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λ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b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= σελίδα με πολλά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ks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προς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καλά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λ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= σελίδα με πολλά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ks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από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καλά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άθε σελίδα συσχετίζεται με ένα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ub we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ένα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ority w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ρχικοποίηση όλων τω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ε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νημέρωση τω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ight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από διαδοχικές επαναλήψει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ε μια επανάληψη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= Σ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ll base pages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 that have a link to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= Σ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ll base pages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 has a link to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ποδεικνύεται ότι 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γκλίνουν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point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, ανεξάρτητα της αρχικής τιμή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9B68B-FE44-4FA2-A994-AB9FEBAEE60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ριθμό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exed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σελίδω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676520" y="1224000"/>
            <a:ext cx="6172200" cy="511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98D54-6FDE-4B3E-B397-DCC148275E0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οσοστό κάλυψης του Ιστο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97376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4E74A-6BA2-4B24-B111-96802ED9840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ελλοντικός στόχος: σημασιολογί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κοπό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οι μηχανές αναζήτησης να εκμεταλεύονται την μεταπληροφορία που θα υπάρχει στο μέλλον στον Ιστ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Λογικό επίπεδο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ημασιολογικό επίπεδ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DF, OW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αράδειγμα: βρες φωτογραφία το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n 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πιστρέφει: φωτογραφία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an …, Rector of …Ch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ως θα πούμε στις μηχανές αναζήτησης οτι 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tor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στην μια περίπτωση είναι επώνυμο, ενώ στην άλλη επάγγελμα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πισημείωση της πληροφορίας μ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gs (X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ρισμός του λεξιλογίου τω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gs (RDF, OW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υνατό (πλέον) το ερώτημα: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est Alan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139D3-6620-45ED-984B-37DD05080AB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Διαφορετικοί κόσμοι: ΒΔ κα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νημερώσεις και δοσοληψί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προσανατολισμός σ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-only workload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χωρις δοσοληψίε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περιοδική ενημέρωση ή επαναδημιουργία ευρετηρί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σχετικά έγγραφα μπορεί ν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μην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ντοπίζονται λόγω μη ενημερωμένων ευρετηρί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ΒΔ: προσανατολισμό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και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-intensive work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ρευνητική δραστηριότη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μέθοδοι γι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king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χρήση γλωσσικών τεχνολογιών για βελτίωση των αναζητήσε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ΒΔ: επεξεργασία ερωτημάτων, έλεγχος ταυτοχρονισμού, κτ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E8F46-2925-4D2B-ADB8-47D36686F4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895480"/>
            <a:ext cx="6899400" cy="17172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2115720"/>
            <a:ext cx="640080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οντέλ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υρετήρια για ανεύρεση κει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ηχανές αναζήτησης στον Ιστ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ναζητήσει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ύο κατηγορίες ερωτημάτω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άνω σε συλλογές εγγράφων στα συστήμα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lean querie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βρες όλα τα έγγραφα που ικανοποιούν μι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έκφρασ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 AND (Microsoft OR IB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ταν μια μηχανη αναζήτησης αναφέρει «βρέθηκαν 10000 έγγραφα», αυτό είναι το μέγεθος του αποτελέσματος ενό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ean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(ισως «κομμένο» λόγω ανώτατου επιτρεπτού ορίο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nked quer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ο χρήστης δίνει μερικούς όρους, και το αποτέλεσμα είναι μια λίστα εγγράφων ταξινομημένων ως προς «σχετικότητα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rosoft, IB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το έγγραφο περιέχει ΙΒΜ είναι σχετικ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περιέχει πολλά ΙΒΜ, ή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και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ΙΒΜ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κα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icrosoft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ακόμη πιο σχετικ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Επέκταση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: βρες έγγραφα σχετικά με μια πρόταση φυσικής γλώσσα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74254-2077-4455-B798-D2DF967D86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olean queri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ως αντιμετωπίζουμε το «όρος1» ή «όρος2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Ένωση των δύο συνόλων εγγράφ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«όρος1» και «όρος2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μή των δύο συνόλων εγγράφ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λφαβητική ταξινομηση και συγχώνευση των λιστ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«όρος1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ot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«όρος2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φαίρεση, και πάλι μέσω ταξινόμησ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«όρος1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not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«όρος2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νωση του «όρος1» και του «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όρος2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λα τα έγγραφα που δεν περιέχουν το «όρος2» - πάρα πολλ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υνήθως δεν επιτρέπετα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24748-8B90-4AD2-84F6-DC2D63FE5D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2T12:49:12Z</dcterms:created>
  <dc:creator/>
  <dc:description/>
  <dc:language>en-US</dc:language>
  <cp:lastModifiedBy>ys</cp:lastModifiedBy>
  <cp:lastPrinted>1995-09-17T00:17:34Z</cp:lastPrinted>
  <dcterms:modified xsi:type="dcterms:W3CDTF">2004-03-18T14:20:04Z</dcterms:modified>
  <cp:revision>123</cp:revision>
  <dc:subject/>
  <dc:title/>
</cp:coreProperties>
</file>