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C00F-D3BD-4B48-8F74-3757FDEFB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1545-0C2A-478A-A555-378278870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5301-671D-4D55-A548-3A1087D3D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0DDC-EF34-451A-9586-B30B95766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BA56-339B-45E1-8ADA-393FF955D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FF7A-34B0-4375-BA02-DE9F60A4D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651D-95DD-45DB-9603-EDBF90923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C09E-3E7D-4E3A-81EA-6CB89571E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05E1-920E-43A4-8108-6BD76611C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2337-ACB6-435D-94DD-DCE913169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EB26-24A7-4BDA-AC32-BB4A0FC56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4AA4-BB6B-4CEB-9EBB-A68A55553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c6cb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8F4C-FBF1-40BC-BBDB-35F61C882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mailto:cos@yahoo.com" TargetMode="External"/><Relationship Id="rId8" Type="http://schemas.openxmlformats.org/officeDocument/2006/relationships/hyperlink" Target="mailto:p72@freemail.com" TargetMode="External"/><Relationship Id="rId9" Type="http://schemas.openxmlformats.org/officeDocument/2006/relationships/hyperlink" Target="mailto:yan@yahoo.com" TargetMode="External"/><Relationship Id="rId10" Type="http://schemas.openxmlformats.org/officeDocument/2006/relationships/hyperlink" Target="mailto:nikk@cosmote.gr" TargetMode="Externa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ισαγωγικά στοιχεία Βάσεων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εξαρτησία δεδομέν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Είναι από τα σημαντικότερα πλεονεκτήματα χρήσης ενός ΣΔΒ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εφαρμογές είναι αποσυνδεδεμένες από την δομή και τον τρόπο αποθήκευσης των δεδομέν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Λογική ανεξαρτησία δεδομέν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προστασία από αλλαγές στην λογική δομή των δεδομέν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Ή από διαφοροποιήσεις στην επιλογή του ποιές σχέσεις τελικά αποθηκεύοντα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Φυσική ανεξαρτησία δεδομέν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προστασία από αλλαγές στην φυσική δομή των δεδομέν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ήσιμες για την βελτίωση της απόδοση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729A-FE6D-4C86-9877-BF55F74C52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ρωτήματα πάνω στα ΣΔΒ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σχεσιακά ΣΔΒΔ επιτρέπουν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ύκολη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υέλικτη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νάκτηση της πληροφορία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ιό είναι το όνομα του φοιτητή 12345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ιός είναι ο μέσος μισθός των καθηγητώ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όσοι φοιτητές έχουν πάρει το μάθημα Β1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ποσοστό έχει πάρει βαθμό &gt; 8 στο μάθημα Β1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ερωτήματα διατυπώνονται μέσω ειδική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λώσσας ερωτημάτ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εσιακός λογισμός, σχεσιακή άλγεβρ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γάλη σημασία σ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ποδοτικ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ποτίμηση ερωτημάτ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7B65-9FDA-4B32-AD2C-D882348C9E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αυτοχρονισμ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ταυτόχρονη εκτέλεση προγραμμάτων είναι ουσιώδης για ένα αποδοτικό ΣΔΒ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ν πρέπει να περιμένει τις προσπελάσεις στον δίσκ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διαπλοκή στην εκτέλεση μεταξύ διαφορετικών προγραμμάτων μπορεί να οδηγήσει σε ασυνέπει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Ένας ταξιδιωτικός πράκτορας βλέπει μια κενή θέση την οποία μόλις έχει κλείσει ένας άλλος πράκτορα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Μεταφορά χρημάτων ενώ υπολογίζεται η συνολική κίνησ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ΣΔΒΔ διασφαλίζει ότι δεν παρουσιάζονται τέτοια προβλήματα: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οι χρήστες φέρονται σαν να έχουν το σύστημα καθένας μόνος του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24B3-E234-459D-9A17-9D207E8486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οσοληψίε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οσοληψί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μια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ατομικ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ειρα πράξεων στην βάση δεδομένων (αναγνώσεις / εγγραφέ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ασική μονάδα αλλαγών, δεν επιτρέπεται η μερική εκτέλεσή τη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ΣΔΒΔ διαπλέκει πράξεις από διάφορες δοσοληψίε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α) Ωστε να αυξανει την αποδοτικότητά το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β) Με τρόπο ώστε το τελικό αποτέλεσμα να είναι ισοδύναμο με κάποια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ειριακή εκτέλε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όλων των δοσοληψιώ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υτό επιτυγχάνεται με τ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λειδώ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ιαμοιραζόμεν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λειδώματα (ανάγνωση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ποκλειστικ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λειδώματα (εγγραφή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δοσοληψία κλειδώνει τα σχετικά τμήματα της βάση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34D9-1DD1-4CDD-93C1-74FA63C646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άκαμψ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α δοσοληψία μπορεί να διακοπεί στην μέση, λόγω πχ. αποτυχίας του συστήματ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φαίρεση ποσού από λογαριασμό Α, και διακοπή ρεύματος πριν την πρόσθεση σε λογαριασμό 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ΣΔΒΔ επαναφέρει την βάση σ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οηγούμεν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τάστασ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τηρεί ένα αρχείο καταγραφής όλων των αλλαγώ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θε αλλαγή καταγράφεται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οτού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κτελεστεί στην ίδια την βάσ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επίσης χρήσιμο για την επιβεβαίωση ότι οι επιτυχείς δοσοληψίες δεν χάθηκαν μετά από μια αποτυχία του συστήματ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C6EC-7434-440D-AA7A-0830F3DF5F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χιτεκτονική ενός ΣΔΒ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218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Συνήθως η αρχιτεκτονική αποτελείται από στρώματα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ιάφορες δυνατές παραλλαγέ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SzPct val="1122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άθε σύστημα ακολουθεί την δική του παραλλαγή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427640" y="1125360"/>
          <a:ext cx="4343400" cy="554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125360"/>
                    <a:ext cx="43434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7C34-4553-4DAF-B6B0-B414B02C99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89728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νοψη των ΣΔΒ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σιακέ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Όψ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ικειμενοστρεφεί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εδιασμός Β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άλυση απαιτήσε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δεδομένα πρέπει να αποθηκευτούν στην βάση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εφαρμογές θα χρησιμοποιούν την βάση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λειτουργίες θα εκτελούνται συχνα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νοιολογικός σχεδιασμός βά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ντοτήτων-συσχετίσε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διευκολύνει την συνενόηση με μη-τεχνικού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ογικός σχεδιασμός βά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τρέπεται στο μοντέλο δεδομένων της βά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τέλεσμα: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ογικό σχή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ς βά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νονικοποίηση, φυσικός σχεδιασμός, ασφάλε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E17C-DD5C-42D4-9709-F8E4182839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682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ντότητ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αντικείμενο πραγματικού κόσμ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γράφεται σαν ένα σύνολ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γνωρισ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όμοιες οντότητες (ίδια γνωρίσματα):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ύνολο οντότητ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γνώρισμα έχει ένα πεδίο τιμ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συνολο οντότητας μπορεί να έχει έ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λειδ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σχέτιση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μια σχέση μεταξύ οντοτή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Ο Κώστας δουλεύει στο τμήμα πωλή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συσχέτιση μπορεί επίσης να έχει γνωρίσ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ύνολο συσχετίσε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συλλογή παρόμοιων συσχετί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564000" y="4890960"/>
          <a:ext cx="5111640" cy="1562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64000" y="4890960"/>
                    <a:ext cx="511164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6375-6ED7-43EF-8165-40EA108CCA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εριορισμο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75332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ιορισμοί κλειδιού (1-1, 1-πολλά, πολλά-πολλ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ιορισμοί συμμετοχής (ολική, μερική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08000" y="2708280"/>
          <a:ext cx="5958000" cy="35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708280"/>
                    <a:ext cx="595800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292C-11BE-46C9-996E-8D363BB9DA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421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νοψη των ΣΔΒ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σιακέ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Όψ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ικειμενοστρεφεί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ήμ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βάση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ύκολη μετατροπή απ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ε σχέσεις (πίνακε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οντότητα γίνεται μια σχέση, και τα γνωρίσματά της γίνονται στήλες του πίνακ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συσχέτιση γίνεται επίσης σχέση: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ξένα κλειδι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εριορισμοί ορθότητα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ity constraint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tial integ.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D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2η προσέγγιση καλύτερη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E TABLE Manages (ssn CHAR(11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d INTEG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ce DA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MARY KEY (did)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cc9b10"/>
                </a:solidFill>
                <a:latin typeface="Wingdings"/>
                <a:ea typeface="Wingdings"/>
              </a:rPr>
              <a:t>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IGN KEY (ssn) REFERENCES Employe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IGN KEY (did) REFERENCES Depart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E TABLE Dept_Mang (did INTEG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name CHAR(20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dget RE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sn CHAR(11) NOT NUL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ce DA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MARY KEY (did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IGN KEY (ssn) REFERENCES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N DELETE NO A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8761-51D4-40A1-AF30-8BCDA97B7A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λώσσες Ερωτημάτ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Ένα από τα δυνατότερα σημεία του σχεσιακού μοντέλο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οστηρίζει ερωτήματα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μεγάλης εκφραστικής δύναμης με απλό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ηλωτικό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ρόπ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ν δεκαετια ‘70, τελευταία εκδοσ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-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ΣΔΒΔ είναι υπεύθυνο για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ποδοτικ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ποτίμηση των ερωτημα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σημείο κλειδι: η ακριβής σημασιολογία των σχεσιακών ερωτ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εσιακός λογισμός, σχεσιακή άλγεβρ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τρέπει 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νακατάταξ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επι μέρους πράξεων με τρόπο που δεν αλλοιώνει την απάντηση, αλλά βελτιώνει τον χρόνο απόκριση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E756-7167-4260-99DE-4367CE1F9B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άκτηση με τη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τμήματα με υψηλό προϋπολογισ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Depar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budget &gt; 1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υπάλληλοι του τμήματο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ύνδεση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E.name, W.s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E, Departments D, Works_in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.dname = “R&amp;D”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.did = D.did   AND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l-GR" sz="1800" spc="-1" strike="noStrike">
                <a:solidFill>
                  <a:srgbClr val="cc9b10"/>
                </a:solidFill>
                <a:latin typeface="Wingdings"/>
                <a:ea typeface="Wingdings"/>
              </a:rPr>
              <a:t></a:t>
            </a:r>
            <a:r>
              <a:rPr b="0" lang="el-GR" sz="1800" spc="-1" strike="noStrike">
                <a:solidFill>
                  <a:srgbClr val="cc9b1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cc9b10"/>
                </a:solidFill>
                <a:latin typeface="Courier New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.ssn = E.ssn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l-GR" sz="1800" spc="-1" strike="noStrike">
                <a:solidFill>
                  <a:srgbClr val="cc9b1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cc9b1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cc9b10"/>
                </a:solidFill>
                <a:latin typeface="Courier New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τέλεσμα: σχέση (πίνακα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A33A-CAFC-42A2-A129-98ABFF86DE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άκτηση με τη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τμήματα με τον υψηλότερο προϋπολογισμ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.d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Departments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.budget &gt;= ALL (SELECT D2.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Departments D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μεγαλύτερος βαθμός ανά ηλικία για τους φοιτητές 21 ετών και πάν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S.age, MAX(S.grade) as max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Students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S.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VING S.age &gt; 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670D-574B-4310-BF73-7731EE7249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λλαγές με τη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ισαγωγ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ERT INTO Employees(ssn,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S (83542, ‘Aris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ημερ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Depar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 budget = 2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id = 12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γραφ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name = “Ari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0EF2-13B2-4148-9830-4636DA783E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εσιακή άλγεβρα &amp; λογισμ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ερά μαθηματικά θεμέλια του σχεσιακού μοντέλ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ρίζονται στην μαθηματική λογικ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τρέπουν βελτιστοποίηση της απόδοσης στην εκτέλεση των ερωτημάτω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σιακή άλγεβρ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δικαστική, μια σειρά απο πράξεις που εκτελούνται βήμα-βήμ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σιακός λογισμό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λωτικός, δεν περιγράφει τα βήματα αποτίμησης της απάντη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κφραστική δύναμη: ισοδύναμη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χεσιακά πλήρει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ally complet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γλώσσες ερωτ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3157-FD51-4943-97ED-D88E373CD5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εσιακή άλγεβρ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άθε λειτουργία επιστρέφει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σχέση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κλειστή άλγεβρ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on 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on, Intersection, Difference, Division, Ren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οι υπάλληλοι του τμήματο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για απλότητα χωρί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 = Employees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partments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orks_in(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2 =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E.dname=‘R&amp;D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S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3 =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W.did=D.did, W.ssn=E.ss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S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4 =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E.name, W.si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S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E9E4-4D4F-461B-A28B-D7C188D08E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εσιακός λογισμ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απλό υποσύνολο της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λογικής πρώτης τάξη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logi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ησιμοποιεί τον υπαρξιακό (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και καθολικό (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τελεστή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τα τμήματα με υψηλό προϋπολογισ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 = {P | 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epart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.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bud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 100000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.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S.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S.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.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bud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S.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bud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0FAB-3BE0-42BA-9DE1-A6C84C68D0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εσιακό μοντέλο: σύνοψ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απαράσταση δεδομένων σε μορφή πίνακ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λό και ευκολονόητο, το ευρύτερα διαδεδομένο σήμερ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ιορισμοί ορθότητας εξαρτώνται από την σημασιολογία της εφαρμογής, το ΣΔΒΔ ελέγχει παραβά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ορισμοί πρωτεύοντος κλειδιού και ξένων κλειδι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ορισμοί πεδίου τιμ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Ισχυρη δηλωτική γλώσσα ερωτη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νόνες μετάφρασ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ο σχεσιακό μοντέλ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F525-8D5F-44FD-B1B4-42660E851A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3577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νοψη των ΣΔΒ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σιακέ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Όψ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ικειμενοστρεφεί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ι είναι ένα ΣΔΒΔ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Όταν η πληροφορία είναι πολλή, το κόστος διαχείρισης μπορεί ν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υπερβαίνε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α οφέλ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Βάση Δεδομέν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μια μεγάλη συλλογή δεδομένων, μοντελοποιεί μια επιχείρηση του πραγματικού κόσμο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ντότητες (πχ. Φοιτητές, Μαθήματ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σχετίσεις (πχ. Ο Γιάννης παρακολουθεί το Β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ύστημα Διαχείρισης Βάσεων Δεδομέν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ένα πακέτο λογισμικού σχεδιασμένο να αποθηκεύει και να διαχειρίζεται Βάσεις Δεδομέν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ώτο ΣΔΒΔ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γενική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χρήσης: αρχές 1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γάλη εμπορική επιτυχία έκτοτ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CD53-1650-4430-9BA4-93616CEBB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Όψ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ηχανισμός για να ελέγχουμε τ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ως οι χρήστες βλέπουν τα δεδομέ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ίνακα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όμως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φυλάσσεται στην βάση, αλλά υπολογίζεται όποτε χρειάζετα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ρισμού όψη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definitio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: υπάλληλοι σε «πλούσια» τμ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EATE VIEW Important_empl (name, dname, si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 SELECT E.name, D.dname, W.si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M Employees E, Departments D, Works_in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 D.budget &gt; 10000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.did = D.did  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.ssn = E.s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1F79-F554-4435-B722-4DA0E462CD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ρησιμότητα όψε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696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α όψη μπορεί να χρησιμοποιηθεί σαν οποιοδήποτε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ίνακα βάση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ούμε να θέσουμε ερωτήματα στην όψ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ούμε να χρησιμοποιήσουμε μια όψη για τον ορισμό νέων όψ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Πώς και πότε αποτιμούνται οι όψει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φεύγουμε να έχουμε τα ίδια δεδομένα πολλές φορ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άγμα που οδηγεί σε πιθανές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συνέπει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σφάλει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δίνουμε σε ομάδες χρηστών πρόσβαση αποκλειστικά στην πληροφορία που επιτρέπε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ογική ανεξαρτησία δεδομένων: το εξωτερικό σχήμα απομονώνει τις εφαρμογές από αλλαγές στο λογικό σχή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8643-77A8-4233-993E-80330736D6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νημέρωση όψε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ημερώσιμες όψει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able vie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&amp; projectio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εναν πίνακα, χωρις αθροιστικές πράξ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ημέρωση της όψης μεταφράζεται σε ενημέρωση του πίνακ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 VIEW GoodStudents (sid, gr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SELECT S.sid, S.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Students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.grade &gt; 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ή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δυνατόν να αλλάξουν τον πίνακα βάση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χωρί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η νέα εγγραφή να ανήκει στην όψ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59DE-F501-45BA-929E-62E99B5E19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η ενημερώσιμες όψ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6089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Παράδειγμα: πως διαγράφουμε τ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, smith@ee, hiking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31800" y="2421000"/>
          <a:ext cx="2103480" cy="1095480"/>
        </p:xfrm>
        <a:graphic>
          <a:graphicData uri="http://schemas.openxmlformats.org/drawingml/2006/table">
            <a:tbl>
              <a:tblPr/>
              <a:tblGrid>
                <a:gridCol w="1052640"/>
                <a:gridCol w="1050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284720" y="2276640"/>
          <a:ext cx="4535280" cy="146016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51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e@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nes@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@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@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908600" y="4202280"/>
          <a:ext cx="3911400" cy="1674720"/>
        </p:xfrm>
        <a:graphic>
          <a:graphicData uri="http://schemas.openxmlformats.org/drawingml/2006/table">
            <a:tbl>
              <a:tblPr/>
              <a:tblGrid>
                <a:gridCol w="1302840"/>
                <a:gridCol w="1305000"/>
                <a:gridCol w="1303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e@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i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@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@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@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th@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258920" y="4076640"/>
          <a:ext cx="3457440" cy="1887480"/>
        </p:xfrm>
        <a:graphic>
          <a:graphicData uri="http://schemas.openxmlformats.org/drawingml/2006/table">
            <a:tbl>
              <a:tblPr/>
              <a:tblGrid>
                <a:gridCol w="3457440"/>
              </a:tblGrid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 VIEW Active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name,login,clu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S SEL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sname,S.login,C.c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ROM Students S, Club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RE S.sname = C.sna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 S.grade &gt; 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4834-4C2E-43C4-A90B-4681B989C2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ρωτήματα σε όψ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60896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δεν καθορίζει πως αποτιμούντα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πορούμε να θεωρήσουμε μια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προσαρμογ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ερωτήματο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58920" y="2565360"/>
          <a:ext cx="7056000" cy="1368360"/>
        </p:xfrm>
        <a:graphic>
          <a:graphicData uri="http://schemas.openxmlformats.org/drawingml/2006/table">
            <a:tbl>
              <a:tblPr/>
              <a:tblGrid>
                <a:gridCol w="7056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 VIEW RegionalSales(category,sales,st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SELECT P.category, S.sales, L.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FROM Products P, Sales S, Locations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WHERE P.pid=S.pid AND S.locid= L.lo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258920" y="4292640"/>
          <a:ext cx="7057800" cy="136836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 R.category, R.state, SUM(R.sa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969696"/>
                          </a:solidFill>
                          <a:latin typeface="Courier New"/>
                        </a:rPr>
                        <a:t>FROM RegionalSales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FROM 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...</a:t>
                      </a: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) AS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OUP BY R.category, R.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8F51-1843-4197-96A9-9CCCB7DC45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Υλοποιημένες όψ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βλήματα με την αποτίμηση του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ροσαρμοσμένου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ρωτήματο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γή απάντηση ερωτημάτων πάνω σε πολύπλοκους ορισμούς όψ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 οι πίνακες βάσης είναι σε απομακρυσμένες Β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-ϋπολογισμός της όψης, αποθήκευση του αποτελέσ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λύ γρηγορότερη αποτίμηση των ερωτ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πως οι κανονικές σχέσεις, δυνατότητα ευρετηρί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ιονέκτημα: διατήρηση συνέπειας όταν αλλάζουν οι πίνακες βά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FBE7-8DA0-4588-B8A1-9F728F299D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υξηντική συντήρηση όψε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λές λύσεις: επανα-υπολογισμός όψης όταν αλλάζει κάποιος από τους πίνακες, περιοδικός επανα-υπολογισμ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maintenanc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κόστος ανάλογο με την αλλαγ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άθε σειρά στην όψη διατηρεί έναν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μετρητ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ισαγωγ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, ενημέρωση όψης και μετρητ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γραφ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, ενημέρωση μετρητών και όψ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Ενημέρωση: διαγραφή + εισαγωγ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: R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|&gt;&lt;|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ισαγωγ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|&gt;&lt;|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ενημέρωση όψης και μετρητ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γραφ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|&gt;&lt;|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ενημέρωση μετρητών και όψ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BF09-BCCE-45AD-AD74-26169D80E2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εν δουλεύει πάν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όβλημ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ν οι πίνακες βάσης είναι σε διαφορετικ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(suppli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) :- r1(supplier, prod), r2(prod,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δικασί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όψη ειδοποιείται όταν ενημερώνονται οι πίνακες βάση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όταν προστίθεται μια εγγραφή στ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όψη ισως χρειάζεται επιπλέον πληροφορία για να προχωρήσει με την ενημέρωσ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περιέχει τ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πίνακες βάσης δινουν την επιπλέον πληροφορία και η όψη μπορεί να ανανεωθε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ι γίνεται αν οι πίνακες βάσεις αλλάξουν μεταξύ του βήματος 1 και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DA84-31EB-4119-953D-84A74DE155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 πρόβλη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view(supplier</a:t>
            </a:r>
            <a:r>
              <a:rPr b="0" lang="el-GR" sz="2000" spc="-1" strike="noStrike">
                <a:solidFill>
                  <a:srgbClr val="cc9b1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cost) :- r1(supplier, prod), r2(prod,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ικ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χουμε</a:t>
            </a:r>
            <a:r>
              <a:rPr b="0" lang="en-US" sz="2000" spc="-1" strike="noStrike">
                <a:solidFill>
                  <a:srgbClr val="c6cb6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r1(1,2), r2 </a:t>
            </a:r>
            <a:r>
              <a:rPr b="0" lang="el-GR" sz="2000" spc="-1" strike="noStrike">
                <a:solidFill>
                  <a:srgbClr val="cc9b10"/>
                </a:solidFill>
                <a:latin typeface="Times New Roman"/>
              </a:rPr>
              <a:t>κεν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insert r2(2,3)</a:t>
            </a:r>
            <a:r>
              <a:rPr b="0" lang="en-US" sz="2000" spc="-1" strike="noStrike">
                <a:solidFill>
                  <a:srgbClr val="c6cb65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βάση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ιδοποίηση όψ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όψη ρωτάει</a:t>
            </a:r>
            <a:r>
              <a:rPr b="0" lang="en-US" sz="2000" spc="-1" strike="noStrike">
                <a:solidFill>
                  <a:srgbClr val="c6cb6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?r1(supplier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Ψάχνει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να το εισάγει στην όψ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insert r1(4,2)</a:t>
            </a:r>
            <a:r>
              <a:rPr b="0" lang="en-US" sz="2000" spc="-1" strike="noStrike">
                <a:solidFill>
                  <a:srgbClr val="c6cb65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βάσ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ιδοποίηση όψ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όψη ρωτάε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?r2(2,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να δει αν χρειαζεται αυξηση μετρητη για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(4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βάση απαντάει στο πρώτο ερώτημ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supplier=1, supplier=4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υξάνονται δυο μετρητές στην όψ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βάση απαντάει στο δεύτερο ερώτημ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ο μετρητής το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υξάνεται την όψ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υτό είναι λάθο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Ο μετρητής για τ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view(4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,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ρέπει να είνα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F56F-A0BD-43CA-8F6B-F428F4C49D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Όψεις &amp;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ιστός σαν μια βάση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βλήματα που θυμίζουν την περίπτωση των όψ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υο γενικές προσεγγίσεις για ανάκτηση πληροφορ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υναμική προσέγγ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ερωτήματα εκτελούνται κατευθείαν πάνω στι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όβλημα χρόνου απόκρισης, δυσκολης ή ανύπαρκτης σύνδε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σέγγιση υλοποιημένης όψ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ερωτήματα εκτελούνται πάνω σε μια υλοποιημένη όψ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όβλημα συνέπειας με τις πηγές καθώς αυτές αλλάζου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D22D-5B73-49AA-90BD-8004512090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τί όχι αρχεία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ρέπει να ερωτούνται γρήγορα, να ενημερώνονται με συνέπεια, ελεγχόμενη προσπέλασ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εφαρμογή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πιβαρύνετα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ίριση δευτερεύοντος αποθηκευτικού μέσου (πρόσβαση στις κατάλληλες σελίδες, εναλλαγή τους στην κύρια μνήμ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ύνθετος κώδικας για κάθε διαφορετικό ερώτημ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στασία των δεδομένων απο ασυνέπειες, λόγω πολλαπλών ταυτόχρονων αλλαγώ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άκαμψη από αποτυχίες του συστήματο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σφάλεια και έλεγχος πρόσβαση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ΔΒΔ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δεν χρειάζεται να υλοποιούμε τα ίδια πράγματα από την αρχή για κάθε νέα εφαρμογή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68DA-AE00-4B40-A577-21A3D7461A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386064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371600" y="2115720"/>
            <a:ext cx="6400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νοψη των ΣΔΒ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σιακέ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Όψ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ικειμενοστρεφείς βάσει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τί αντικειμενοστρεφείς βάσεις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άγκη εφαρμογώ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, Smalltalk, …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διαρκή αποθήκευση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o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endance mis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(O-O)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στ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άγκη υποστήριξης σύνθετων τύπων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B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α σχεσιακά συστ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relational (O-R)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στ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φαρμογές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φαρμογέ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βάσεις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ικειμενοστρεφή μοντέλα δεδομένω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MG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γλώσσες ερωτημάτω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QL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πηρέασαν μοντέλα και γλώσσες για 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72F1-252B-47A0-8E24-D0E5F3A81D9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τικείμεν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«Μια δομή που προσπαθεί να μοντελοποίησει και να προσεγγίσει κατα το δυνατόν μια ξεχωριστή οντότητα στον φυσικό κόσμο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σωματώνει δεδομένα και συμπεριφορ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αντικείμενα επικοινωνούν με μηνύ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μηνύματα υλοποιούνται απο μεθόδ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αντικείμενο επικοινωνει με το περιβάλλον του μονον μέσω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θε αντικείμενο έχει ένα μοναδικό αναγνωριστικ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μοειδή αντικείμενα ανήκουν στην ίδια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λά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8113-9862-4723-846E-A603510434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ασικές έννοιε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θυλάκωση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= interface part + implementation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part = data part + procedural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κρύπτει τον τρόπο υλοποίησης των μεθόδ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εξαρτά την διαχείριση του αντικειμένου από την δομή τ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ληρονομ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ξειδικευμένα χαρακτηριστικά, χωρίς να χαθούν οι γενικότερες ιδιότητ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έρβαση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iding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binding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ολυμορφισμό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2FE4-58C8-42F0-B50D-B95B6C5C36C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M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οντέλο αντίστοιχο του σχεσιακού, αλλά για αντικειμενοστρεφείς βά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άση = συλλογή αντικει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Ιδιότητες κλάσης: γνωρίσματα, μέθοδοι, συσχετί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ύπος γνωρισμάτων: ατομικοί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, bag, list, array,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έθοδοι: υλοποιούν συμπεριφορά αντικειμέν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σχετίσεις: συνδέσεις μεταξύ κλάσεω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rsal pa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αφορά σε ένα αντικείμεν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λλογή τέτοιων αναφορ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μφίδρομες συσχετίσει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vers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ίκτε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8352-FC86-4C4C-A98B-B6FA81B662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772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Μια γλώσσα ορισμού αντικειμένων για 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DM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32000" y="2205000"/>
          <a:ext cx="4608360" cy="180180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face 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extent Movies key movieName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 string movieNam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 Set&lt;Person&gt; actor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lationship Set&lt;Theater&gt; shown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verse Theater::nowShowing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332000" y="4005360"/>
          <a:ext cx="5759280" cy="2346120"/>
        </p:xfrm>
        <a:graphic>
          <a:graphicData uri="http://schemas.openxmlformats.org/drawingml/2006/table">
            <a:tbl>
              <a:tblPr/>
              <a:tblGrid>
                <a:gridCol w="5759280"/>
              </a:tblGrid>
              <a:tr h="23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face The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extent Theaters key theaterName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 string theaterNam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 string addres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 integer ticketPric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lationship Set&lt;Movie&gt; nowShow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verse Movie::shown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 numshowing() raises(errCountMovie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156360" y="1773360"/>
          <a:ext cx="2736720" cy="17920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face SpecialShow extends Mov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extent SpecialShows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 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Attendee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tribute st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nefitCharit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CF21-B33F-4902-88D0-829BCFF975C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α ερωτημάτων για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εδιάστηκε για να μοιάζει 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κφράσεις μονοπατιο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ath expression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ρες ζευγάρια ώστε η ταινία παίζεται σε σινεμά που δείχνει περισσότερες από μια ταινί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mname: M.movieName, tname: T.theater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Movies M, M.shownA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T.numshowing() &g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CED9-4144-4FC9-9BCF-0142671997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γκριση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, O-O, O-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σιακό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εν υποστηρίζει επεκτεταμένους τύπους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ιγότερο ευέλικτ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λό, ευκολότερο στην βελτιστοποίηση ερωτη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υκολότερο στην χρήση (λιγότερ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-O vs. O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-Ο προσθέτει λειτουργίες ΒΔ σε μια προγραμματιστική γλώσσ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ροσθέτει εκφραστικότερους τύπους στο σχεσιακ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-Ο: ανάκτηση λίγων και μεγάλων αντικειμένων, εργασία για μεγάλο διάστη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ολλά αντικείμενα, γρήγορ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βελτιστοποίηση πρόσβασης στον δίσκ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8AF0-BD33-49D1-B52E-2B872DB20C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λεονεκτήματα χρήσης ΣΔΒ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εξαρτησία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λεπτομέρειες οργάνωσης δεν επηρεάζουν τις εφαρμογέ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ρήγορη πρόσβαση στην πληροφορ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τάλληλη αποθήκευση, βελτιστοποίη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Έλεγχος πρόσβασης, περιορισμοί ορθότητ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υτόχρονη πρόσβαση, ανάκαμ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χρήστης νομίζει ότι είναι ο μόν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εντρική διαχείριση της πληροφορ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ρηγορότερη και ασφαλέστερη ανάπτυξη εφαρμογ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B750-ABC0-4B24-94B6-62FA10E929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οντέλα δεδομέν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λλογή δομικών στοιχείων για περιγραφή δεδομένων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σε αφαιρετικό επίπεδο, κρύβουν τις λεπτομέρειες αποθήκευση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ογικό μοντέλο δεδομέν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πιο κοντά στις έννοιες της Β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εσιακό, αντικειμενοστρεφές, ιεραρχικό, δικτυωτό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ημασιολογικό μοντέλο δεδομέν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πιο κοντά στον πραγματικό κόσμ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μοντέλο οντοτήτων-συσχετίσεων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χήμ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περιγραφή της δομής μιας συγκεκριμένης συλλογής δεδομένων, μέσω ενός δεδομένου μοντέλο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F732-2DD1-4BE5-89E6-F944542174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 σχεσιακό μοντέλ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πιο διαδεδομένο μοντέλο ΒΔ σήμερ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ασικό δομικό στοιχείο: η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χέ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ένα σύνολ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γγραφώ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Ή επίσης ένα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ίνακα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τήλ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ειρέ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σχέση έχει το δικό τη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χή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που περιγράφει τις στήλες του πίνακα, ή αλλιώς τα πεδί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ορισμοί ορθότητας εξασφαλίζουν συνθήκες για τις εγγραφέ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332000" y="4365720"/>
          <a:ext cx="6335640" cy="197640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2160360"/>
                <a:gridCol w="19432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9f83bd"/>
                          </a:solidFill>
                          <a:uFillTx/>
                          <a:latin typeface="Times New Roman"/>
                          <a:hlinkClick r:id="rId7"/>
                        </a:rPr>
                        <a:t>cos@yahoo.c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9f83bd"/>
                          </a:solidFill>
                          <a:uFillTx/>
                          <a:latin typeface="Times New Roman"/>
                          <a:hlinkClick r:id="rId8"/>
                        </a:rPr>
                        <a:t>p72@freemail.c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nn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9f83bd"/>
                          </a:solidFill>
                          <a:uFillTx/>
                          <a:latin typeface="Times New Roman"/>
                          <a:hlinkClick r:id="rId9"/>
                        </a:rPr>
                        <a:t>yan@yahoo.c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k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9f83bd"/>
                          </a:solidFill>
                          <a:uFillTx/>
                          <a:latin typeface="Times New Roman"/>
                          <a:hlinkClick r:id="rId10"/>
                        </a:rPr>
                        <a:t>nikk@cosmote.g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C191-49CF-4CBA-BEF5-B7010CD53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πίπεδα αφαίρεση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93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ιάφορες </a:t>
            </a:r>
            <a:r>
              <a:rPr b="1" lang="el-GR" sz="2200" spc="-1" strike="noStrike">
                <a:solidFill>
                  <a:srgbClr val="000000"/>
                </a:solidFill>
                <a:latin typeface="Times New Roman"/>
              </a:rPr>
              <a:t>όψεις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σε πολλαπλά εξωτερικά σχήματα, ένα εννοιολογικό (ή λογικό) σχήμα, ένα φυσικό σχήμ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εξωτερικά σχήματα περιγράφουν πως ομάδες χρηστών βλεπουν τα δεδομέν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λογικό σχήμα ορίζει την λογική δομή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φυσικό σχήμα περιγράφει την οργάνωση αρχείων και τα ευρετήρι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Ορισμός σχημάτων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SzPct val="1122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ιαχείριση δεδομένων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148360" y="1844640"/>
            <a:ext cx="3549600" cy="3600360"/>
            <a:chOff x="5148360" y="1844640"/>
            <a:chExt cx="3549600" cy="3600360"/>
          </a:xfrm>
        </p:grpSpPr>
        <p:cxnSp>
          <p:nvCxnSpPr>
            <p:cNvPr id="98" name="_s67601"/>
            <p:cNvCxnSpPr>
              <a:stCxn id="99" idx="0"/>
              <a:endCxn id="100" idx="2"/>
            </p:cNvCxnSpPr>
            <p:nvPr/>
          </p:nvCxnSpPr>
          <p:spPr>
            <a:xfrm flipH="1" flipV="1" rot="5400000">
              <a:off x="6703560" y="4012560"/>
              <a:ext cx="406800" cy="10440"/>
            </a:xfrm>
            <a:prstGeom prst="bentConnector3">
              <a:avLst>
                <a:gd name="adj1" fmla="val 280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67599"/>
            <p:cNvCxnSpPr>
              <a:stCxn id="100" idx="0"/>
              <a:endCxn id="102" idx="2"/>
            </p:cNvCxnSpPr>
            <p:nvPr/>
          </p:nvCxnSpPr>
          <p:spPr>
            <a:xfrm flipH="1" flipV="1" rot="5400000">
              <a:off x="6816240" y="3260520"/>
              <a:ext cx="192960" cy="2160"/>
            </a:xfrm>
            <a:prstGeom prst="bentConnector3">
              <a:avLst>
                <a:gd name="adj1" fmla="val 495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67597"/>
            <p:cNvCxnSpPr>
              <a:stCxn id="104" idx="2"/>
              <a:endCxn id="102" idx="3"/>
            </p:cNvCxnSpPr>
            <p:nvPr/>
          </p:nvCxnSpPr>
          <p:spPr>
            <a:xfrm rot="5400000">
              <a:off x="7589880" y="2380320"/>
              <a:ext cx="635760" cy="47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67596"/>
            <p:cNvCxnSpPr>
              <a:stCxn id="106" idx="2"/>
              <a:endCxn id="102" idx="0"/>
            </p:cNvCxnSpPr>
            <p:nvPr/>
          </p:nvCxnSpPr>
          <p:spPr>
            <a:xfrm flipH="1" rot="16200000">
              <a:off x="6703560" y="2499120"/>
              <a:ext cx="407160" cy="1188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67595"/>
            <p:cNvCxnSpPr>
              <a:stCxn id="108" idx="2"/>
              <a:endCxn id="102" idx="1"/>
            </p:cNvCxnSpPr>
            <p:nvPr/>
          </p:nvCxnSpPr>
          <p:spPr>
            <a:xfrm flipH="1" rot="16200000">
              <a:off x="5610240" y="2390400"/>
              <a:ext cx="63576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67591"/>
            <p:cNvSpPr/>
            <p:nvPr/>
          </p:nvSpPr>
          <p:spPr>
            <a:xfrm>
              <a:off x="6156360" y="2708280"/>
              <a:ext cx="1512720" cy="457200"/>
            </a:xfrm>
            <a:prstGeom prst="roundRect">
              <a:avLst>
                <a:gd name="adj" fmla="val 16667"/>
              </a:avLst>
            </a:prstGeom>
            <a:solidFill>
              <a:srgbClr val="cc9b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ceptual Sch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67592"/>
            <p:cNvSpPr/>
            <p:nvPr/>
          </p:nvSpPr>
          <p:spPr>
            <a:xfrm>
              <a:off x="5148360" y="1844640"/>
              <a:ext cx="1101600" cy="457200"/>
            </a:xfrm>
            <a:prstGeom prst="roundRect">
              <a:avLst>
                <a:gd name="adj" fmla="val 16667"/>
              </a:avLst>
            </a:prstGeom>
            <a:solidFill>
              <a:srgbClr val="cc9b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t. Sch.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67593"/>
            <p:cNvSpPr/>
            <p:nvPr/>
          </p:nvSpPr>
          <p:spPr>
            <a:xfrm>
              <a:off x="6351480" y="1844640"/>
              <a:ext cx="1100160" cy="457200"/>
            </a:xfrm>
            <a:prstGeom prst="roundRect">
              <a:avLst>
                <a:gd name="adj" fmla="val 16667"/>
              </a:avLst>
            </a:prstGeom>
            <a:solidFill>
              <a:srgbClr val="cc9b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t. Sch.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67594"/>
            <p:cNvSpPr/>
            <p:nvPr/>
          </p:nvSpPr>
          <p:spPr>
            <a:xfrm>
              <a:off x="7596360" y="1844640"/>
              <a:ext cx="1101600" cy="457200"/>
            </a:xfrm>
            <a:prstGeom prst="roundRect">
              <a:avLst>
                <a:gd name="adj" fmla="val 16667"/>
              </a:avLst>
            </a:prstGeom>
            <a:solidFill>
              <a:srgbClr val="cc9b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t. Sch.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67598"/>
            <p:cNvSpPr/>
            <p:nvPr/>
          </p:nvSpPr>
          <p:spPr>
            <a:xfrm>
              <a:off x="6227640" y="3357720"/>
              <a:ext cx="1368720" cy="457200"/>
            </a:xfrm>
            <a:prstGeom prst="roundRect">
              <a:avLst>
                <a:gd name="adj" fmla="val 16667"/>
              </a:avLst>
            </a:prstGeom>
            <a:solidFill>
              <a:srgbClr val="cc9b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sical Sch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7600"/>
            <p:cNvSpPr/>
            <p:nvPr/>
          </p:nvSpPr>
          <p:spPr>
            <a:xfrm>
              <a:off x="6351480" y="4221000"/>
              <a:ext cx="1100160" cy="1224000"/>
            </a:xfrm>
            <a:custGeom>
              <a:avLst/>
              <a:gdLst>
                <a:gd name="textAreaLeft" fmla="*/ 53640 w 1100160"/>
                <a:gd name="textAreaRight" fmla="*/ 1046520 w 1100160"/>
                <a:gd name="textAreaTop" fmla="*/ 53640 h 1224000"/>
                <a:gd name="textAreaBottom" fmla="*/ 1170360 h 1224000"/>
              </a:gdLst>
              <a:ahLst/>
              <a:rect l="textAreaLeft" t="textAreaTop" r="textAreaRight" b="textAreaBottom"/>
              <a:pathLst>
                <a:path w="21600" h="24031">
                  <a:moveTo>
                    <a:pt x="3600" y="0"/>
                  </a:moveTo>
                  <a:arcTo wR="3600" hR="3600" stAng="16200000" swAng="-5400000"/>
                  <a:lnTo>
                    <a:pt x="0" y="20431"/>
                  </a:lnTo>
                  <a:arcTo wR="3600" hR="3600" stAng="10800000" swAng="-5400000"/>
                  <a:lnTo>
                    <a:pt x="18000" y="24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f83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A8D2-009F-44C0-88F0-BBBCC16F00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: βάση Πανεπ/μίο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ογικό σχήμ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d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name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login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ge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id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cname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credits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roll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d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cid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grade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Φυσικό σχήμ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θήκευση σχέσεων σαν μη διατεταγμένα αρχεί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υρετήρι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ο πρώτο πεδίο το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ξωτερικό σχήμα (σύνολο όψεων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se_inf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id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enrollments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όψεις μπορούν να ερωτήθουν αυτόνομα, δεν χρειάζεται όμως να αποθηκευτούν ξεχωριστά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7480-C5AD-401C-B389-BE0CD47037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1:04:58Z</dcterms:created>
  <dc:creator>Yannis Stavrakas</dc:creator>
  <dc:description/>
  <dc:language>en-US</dc:language>
  <cp:lastModifiedBy>Yannis Stavrakas</cp:lastModifiedBy>
  <dcterms:modified xsi:type="dcterms:W3CDTF">2004-03-11T13:14:09Z</dcterms:modified>
  <cp:revision>124</cp:revision>
  <dc:subject/>
  <dc:title>Βάσεις Δεδομένων και Ιστός</dc:title>
</cp:coreProperties>
</file>