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D8D71-53CE-4CDC-B741-E9054472B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9D4BF-26FA-4A03-82D2-F19647E7F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2A461-6D4E-447A-B321-048E770F0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840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048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840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048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C3394-EFFD-476B-9114-EF8734C46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66680" y="47088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AAD9D-1698-4C25-A27C-1E1DC22D6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840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7048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840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7048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D6CF3-0299-4DF6-A6EF-04B719BF6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A30E9-A2A9-4634-A22E-404381A6F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76A14-5CF5-4C4C-9FE5-7F0581992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47088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10E93-387F-4806-BE6D-9DBF8A068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38413-911E-4698-B81B-2D1BEBCD1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DF96C-3971-4860-9B5B-DAAB702B2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4EE1B-1A5A-412A-861B-FDDE6CF97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2400" y="152280"/>
            <a:ext cx="71568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32448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324480"/>
            <a:ext cx="609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BAF9-0EB0-4BF2-A251-113A34C92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1.png"/><Relationship Id="rId11" Type="http://schemas.openxmlformats.org/officeDocument/2006/relationships/hyperlink" Target="file:///hotel.html" TargetMode="External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image" Target="../media/image6.png"/><Relationship Id="rId11" Type="http://schemas.openxmlformats.org/officeDocument/2006/relationships/image" Target="../media/image1.png"/><Relationship Id="rId12" Type="http://schemas.openxmlformats.org/officeDocument/2006/relationships/hyperlink" Target="file:///MarqueeApplet/MarqueeApplet.html" TargetMode="External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6.png"/><Relationship Id="rId10" Type="http://schemas.openxmlformats.org/officeDocument/2006/relationships/image" Target="../media/image1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hyperlink" Target="file:///web_model/central_forall.html" TargetMode="External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69592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Βάσεις Δεδομένων και Παγκόσμιος Ιστό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-intensiv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φαρμογές στον Ιστ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ρχιτεκτονική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ee-ti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να βήμα μακρύτερα απ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Ξεχωριστά μηχανήματα για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sentation ti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management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tier: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υνήθως κάποι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-based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αν γλώσσα παρουσίασης δεδο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σοδος δεδομένων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χρηστών προς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έσ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T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φορμ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αρουσιάζει απαντήσεις που κατασκευάζονται σ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ροσαρμογή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στις διαφορετικές δυνατότητες των συσκευώ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s, palm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ινητά, κλ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ίτε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πό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ίτε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 tie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έσω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yleshe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96C5-EA0F-4391-A978-096C1C34D6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ρχιτεκτονική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ee-tier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tier: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κτελεί την λογική της εφαρμογή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ε κάποια προγραμματιστική γλώσσα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, Java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λέγχει τα δεδομένα εισόδου, την σωστή ροή της κάθε διαδικασίας, την πρόσβαση στην Β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εννάει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υναμικά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ελίδες με βάση τα αποτελέσματα τω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ie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ο την Β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λοποιεί όλους του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ρόλου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ε μια εφαρμογή: πχ.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πελάτη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πωλητή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dministrato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ues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anagement tier: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υπικά κάποι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30987-3666-4CF1-BCC1-6EF0F22AD3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χήμα γι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ee-ti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58920" y="1341360"/>
          <a:ext cx="7488360" cy="46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341360"/>
                    <a:ext cx="748836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F347B-0A77-4B0A-92C6-A5DD41B041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αδειγμα 1: αεροπορικές κρατήσει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Υλοποίηση συστήματος για αεροπορικές κρατή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ι κάνει το κάθ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ύστημα βάσης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ληροφορίες για δρομολόγια, διαθέσιμες θέσεις, πληροφορίες για τους πελάτες, κτ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λοποίηση κρατήσεων, ακυρώσεις, προσθήκη δρομολογίων, κτ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n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ια διάφορους χρήστες, παρουσίαση δεδομένων, είσοδος μέσω φορμ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A9F4-6C0F-4AEF-98E7-FED2DC1999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αδειγμα 2: εγγραφή σε μαθήματ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Υλοποίηση συστήματος πού επιτρέπει σε φοιτητές να γραφτούν σε μαθήματα επιλογή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ύστημα βάσης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ληροφορίες για φοιτητές, για τα μαθήματα, για τους διδάσκοντες, για την διαθεσιμότητα των μαθημάτων, για προαπαιτούμενα, κτ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λοποίηση για προσθήκη μαθημάτων, εγγραφή σε μάθημα, κτ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n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ια διάφορους ρόλους (φοιτητές, διδάσκοντες, προσωπικό), παρουσίαση δεδομένων, είσοδος μέσω φορμ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81F8-FD51-4C2E-8BF2-A318B4AA9A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λεονεκτήματ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ee-ti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τερογενή συστήματ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χρήση των καλύτερων πλατφορμών και εργαλείων για κάθε ξεχωριστ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υκολότερη συντήρησ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αλλαγές σε έν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δεν επηρεάζουν αναγκαστικά και τα άλλ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n cli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φθηνοί, μόνο για παρουσίαση πληροφορ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ρόσβαση στα δεδομέν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για εφαρμογές που χρειάζονται πρόσβαση σε πολλές πηγές,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χειρίζεται κεντρικά όλα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on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ις διάφορες Β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Κλιμάκωση σε πολλού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ο κώδικας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πορεί να τρέχει σε πολλά μηχανήματα ταυτόχρον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μοιοτυπί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eplication)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και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το επίπεδο το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management tier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αν είναι απαραιτητ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υκολότερη ανάπτυξη λογισμικού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ευκολη η αλλαγή / συντήρηση της λογικής της εφαρμογή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A0658-6DB3-4FD9-A44C-67A89AC07C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14172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2355120"/>
            <a:ext cx="6400800" cy="14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ρχιτεκτονικέ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-intensiv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φαρμογ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εχνολογίες ανάπτυ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άδειγμα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lin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βιβλιοπωλ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εχνολογίες αν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66720" y="4761000"/>
            <a:ext cx="426744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Database System</a:t>
            </a:r>
            <a:br>
              <a:rPr sz="2400"/>
            </a:b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acle,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DB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66720" y="3008160"/>
            <a:ext cx="426744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Application Server</a:t>
            </a:r>
            <a:br>
              <a:rPr sz="2400"/>
            </a:b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(Tomcat, Apach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66720" y="1712880"/>
            <a:ext cx="426744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Client Program</a:t>
            </a:r>
            <a:br>
              <a:rPr sz="2400"/>
            </a:b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(Web Brows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15040" y="1484280"/>
            <a:ext cx="2604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cc3300"/>
                </a:solidFill>
                <a:latin typeface="Times New Roman"/>
              </a:rPr>
              <a:t>Java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</a:rPr>
              <a:t>S</a:t>
            </a:r>
            <a:r>
              <a:rPr b="0" i="1" lang="el-GR" sz="2400" spc="-1" strike="noStrike">
                <a:solidFill>
                  <a:srgbClr val="cc3300"/>
                </a:solidFill>
                <a:latin typeface="Times New Roman"/>
              </a:rPr>
              <a:t>cript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</a:rPr>
              <a:t>, 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</a:rPr>
              <a:t>CSS, </a:t>
            </a:r>
            <a:r>
              <a:rPr b="0" i="1" lang="el-GR" sz="2400" spc="-1" strike="noStrike">
                <a:solidFill>
                  <a:srgbClr val="cc3300"/>
                </a:solidFill>
                <a:latin typeface="Times New Roman"/>
              </a:rPr>
              <a:t>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70480" y="2932200"/>
            <a:ext cx="1973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Cook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70120" y="483696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12880" y="5218200"/>
            <a:ext cx="246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2492280"/>
            <a:ext cx="107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4221000"/>
            <a:ext cx="180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DBC, SQL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EA60D-2D29-45A9-9832-662DADDE5C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τόχο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να προσθέσουμε λειτουργικότητα σ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νήθεις ανάγκε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 validation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- για 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 field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ια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φόρμ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λεγχος το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– άνοιγμα και κλείσιμο παραθύρων (πχ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p-up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διαφημίσει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αγνώριση του τύπου το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wser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φόρτωμα ειδικής σελίδας για τον συγκεκριμέν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οιάζει συντακτικά με 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αλλα διαφορετική στην φιλοσοφί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-based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αν τη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 B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οσανατολισμένη στην «συνύπαρξη» μ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έγγραφ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οκαθορισμένα («έτοιμα») αντικείμενα κ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δίνουν πρόσβαση από τον κώδικα σε κάθε στοιχείο της συγκεκριμένη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ελίδ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αράδειγμα: </a:t>
            </a:r>
            <a:r>
              <a:rPr b="0" lang="en-US" sz="2000" spc="-1" strike="noStrike" u="sng">
                <a:solidFill>
                  <a:srgbClr val="9f83bd"/>
                </a:solidFill>
                <a:uFillTx/>
                <a:latin typeface="Times New Roman"/>
                <a:hlinkClick r:id="rId11"/>
              </a:rPr>
              <a:t>hotel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CEBE8-E6DD-4ADE-B3A5-8B95ACF992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: παράδειγμ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&lt;TITLE&gt;HOTEL ROOM&lt;/TIT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&lt;!-- Hide script from non-JavaScript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function calc_total (form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var ammount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if (form.Room.selectedIndex == 0) ammount = 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if (form.Room.selectedIndex == 1) ammount = 3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if (form.Room.selectedIndex == 2) ammount = 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if (form.Room.selectedIndex == 3) ammount = 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if (form.Breakfast.checked) ammount +=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if (form.Lunch.checked) ammount +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if (form.Dinner.checked) ammount +=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ammount *= parseInt (form.Day.value, 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form.Price.value = am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// 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&lt;BODY ONLOAD="calc_total (document.forms[0])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&lt;FORM NAME=RoomOrd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Select between these room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&lt;SELECT NAME="Room" ONCHANGE="calc_total (this.form)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&lt;INPUT TYPE="button" VALUE="Calculate Price" ONCLICK="calc_total (this.form)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85541-E616-436D-AA0F-F57BCDBE20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666880"/>
            <a:ext cx="6899400" cy="17172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355120"/>
            <a:ext cx="6400800" cy="14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ρχιτεκτονικέ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-intensiv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φαρμογ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εχνολογίες ανάπτυ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άδειγμα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lin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βιβλιοπωλ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va Appl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ε αντίθεση με 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et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πραγματική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πως με 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Script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et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χρειαζονται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ι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ελίδα σαν πλαίσιο για να «τρέξουν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νω 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«τρέχουν» εντελώς ανεξάρτητα, σαν τα εκτελέσιμα αρχεί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φορά μ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avaScrip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εν «ενσωματώνεται» στην δομή τη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ML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λλά καταλαμβάνει ένα συγκεκριμένο χώρο τον οποίο ελέγχει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πόλυτα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applet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οιαζουν πάρα πολύ με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χετικά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 εύκολο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να μετατρέψεις εν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και αντίστροφα, αλλάζοντας λίγες γραμμές κώδικ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μω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λόγους ασφάλειας έν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εν έχει τις ιδιες δυνατότητες πρόσβασης στον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σκληρό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δίσκο (εγγραφή / ανάγνωση) και στο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δίκτυο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όπως έν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FAFAE-E165-4620-AE06-15B6137BF6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Η δομή τω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ppl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et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κληρονομεί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Apple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και μπορεί να κάνε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rid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έσσερις προκαθορισμένες μεθόδους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...που καλούνται αυτόματα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πό τον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ην κατάλληλη στιγμ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λείται μια φορά στην αρχή, πχ. φορτώνει μια εικόν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ύρια λειτουργία μπαίνει εδώ, πχ. παίζει κάποιος ήχος σ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κτ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αματά την λειτουργία (πχ. τον ήχο), καλείται όταν αλλάζει η σελίδα ή όταν 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wser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ίνετ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o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ιθανή χρήση για καθαρισμό μνήμης κ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rbage collection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νήθως όμως δεν χρησιμοποιείτα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α απλό </a:t>
            </a:r>
            <a:r>
              <a:rPr b="0" lang="en-US" sz="2000" spc="-1" strike="noStrike" u="sng">
                <a:solidFill>
                  <a:srgbClr val="9f83bd"/>
                </a:solidFill>
                <a:uFillTx/>
                <a:latin typeface="Times New Roman"/>
                <a:hlinkClick r:id="rId12"/>
              </a:rPr>
              <a:t>app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11C1-6E2F-41C3-A55D-6B1427C50E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va Appl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196640"/>
            <a:ext cx="7696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&lt;TITLE&gt;Text Scroll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&lt;BODY BGCOLOR="#FFFFFF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Start of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&lt;H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&lt;CEN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&lt;APPLET CODE="MarqueeApplet.class" ALIGN="middle" WIDTH=760 HEIGHT=30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&lt;PARAM NAME=width VALUE="760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&lt;PARAM NAME=height VALUE="30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&lt;PARAM NAME=msg VALUE="The marquee message!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&lt;/APPLE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&lt;/CEN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&lt;H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End of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public class MarqueeApplet extends Apple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int w, h;  //fixed applet width and he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String messag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MarqueeCanvas marque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tinued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ACF6-A6C9-48BB-B3E1-DD3C091BAA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va Applet 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052640"/>
            <a:ext cx="7696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//standard applet meth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//set html-file-dependent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w = Integer.parseInt(getParameter("width"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h = Integer.parseInt(getParameter("height"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message = getParameter("msg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setBackground(Color.whit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marquee = new MarqueeCanvas(w, h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setLayout(new BorderLayout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add("Center", marque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marquee.setMsg(messag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marquee.initPo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marquee.mov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public void stop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marquee.hold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remove(marque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public void destroy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String[][] parameterInfo =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{"width", "int", "the applet width"}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{"height", "int", "the applet height"}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{"msg", "String", "the marquee message"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class MarqueeCanvas extends Canvas implements Runnabl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4567-B327-493B-A736-B893CEC01B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yleshe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Ιδέα: διαχωρισμό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αρουσίαση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πο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εριεχόμενο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και προσαρμογή παρουσίασης σε διάφορ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ύο πλευρές στην χρήση τω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yleshe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Μετασχηματισμό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γγραφου για να δείξουμε μόνο μερικά τμήματα του εγγράφου με την σειρά της επιλογής μ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(πχ. απ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ε χρήσ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XSL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χηματίζουμε διάφορ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ndering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ου εγγράφου καθορίζει πως εμφανίζονται τα διάφορα μέρη του εγγράφ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ιατί είναι καλά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ylesheet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παναχρησιμοποίηση του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ίδιου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γγράφου για διαφορετικές παρουσίασει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Προσαρμογή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ης παρουσίασης στις επιλογές του χρήστη, ή τις δυνατότητες τη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σκευή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υο γλώσσε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yle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cading Stylesheets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τη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nsible Stylesheet Language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S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: για τη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D1A7C-FB9D-4304-B5C8-9CC5225D22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S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ρίζει πως να εμφανίζονται τα έγγραφ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ολλά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μπορούν να αναφέρονται στο ίδι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λλάζουμε την εμφάνιση ενός ολόκληρ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λλάζοντας ένα και μόν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άθε γραμμή σ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or {property: value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 tag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ου οποίου ορίζουμε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η ιδιότητα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ην οποία αναθέτουμε τιμ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η τιμή της ιδιότητας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B2389-99A2-4605-9C18-B557146864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SS: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παράδειγμ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άδειγμ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body {background-color: yellow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1 {font-size: 36pt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3 {color: blue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 {margin-left: 50px; color: re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 πρώτη γραμμή έχει το ίδιο αποτέλεσμα μ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body background-color=“yellow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λήση απ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τε ενσωμάτωση σ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τε αναφορά σε εξωτερικ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ρχεί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K REL=“style sheet” TYPE=“text/css” HREF=“books.css”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8180-73E1-498B-AD6D-9E240E86DA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ποτελείται από τρια ξεχωριστα τμή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SL Formating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ρίζει τ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ma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αρουσίασης ενός εγγράφ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P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XML Path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ιλέγει τμήματα ενός εγγράφ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λοποιημένη μορφή, επιστρέφει τα βιβλία σε έν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πίσω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base/biblio/book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ονόμα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tag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ιστρέφει τους πρώτους συγγραφείς των βιβλίων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ot()/descendant::book/child::author[position()=first(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S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XSL Transformatio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τατρέπει ένα έγγραφ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ε κάποιο άλλο έγγραφ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B25E0-82E4-4B1D-8605-79BA9C27C4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SLT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: παράδειγμ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280" y="907920"/>
            <a:ext cx="501804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atabase id=“db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iblio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ook id=“n1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author&gt;Roux&lt;/auth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author&gt;Combalusier&lt;/auth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ate&gt;1976&lt;/d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itle&gt;Database Systems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book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ook id=“n2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author&gt;Smith&lt;/auth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ate&gt;1999&lt;/d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itle&gt;Database Systems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book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paper&gt;...&lt;/pap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biblio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databas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3789360"/>
            <a:ext cx="51116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l:template match=“/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itle&gt;Book Titles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h1&gt;Book Titles&lt;/h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l:for-e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lect=“database/biblio/book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l:value-of select=“title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&gt;&lt;/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xsl:for-eac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780000" y="371592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779640" y="371628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51640" y="1413000"/>
            <a:ext cx="302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τατρέπει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ε ένα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τάλογο τω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τίτλω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ων βιβλί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84235-3CF7-48F9-8C61-5632ED1776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εχνολογίες αν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66720" y="4761000"/>
            <a:ext cx="426744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Database System</a:t>
            </a:r>
            <a:br>
              <a:rPr sz="2400"/>
            </a:b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acle,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DB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6720" y="3008160"/>
            <a:ext cx="426744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cc3300"/>
                </a:solidFill>
                <a:latin typeface="Times New Roman"/>
              </a:rPr>
              <a:t>Application Server</a:t>
            </a:r>
            <a:br>
              <a:rPr sz="2400"/>
            </a:b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(Tomcat, Apach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6720" y="1712880"/>
            <a:ext cx="426744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Client Program</a:t>
            </a:r>
            <a:br>
              <a:rPr sz="2400"/>
            </a:b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(Web Brows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15040" y="1484280"/>
            <a:ext cx="2678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crip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SS,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70480" y="2932200"/>
            <a:ext cx="1973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cc3300"/>
                </a:solidFill>
                <a:latin typeface="Times New Roman"/>
              </a:rPr>
              <a:t>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</a:rPr>
              <a:t>Java </a:t>
            </a:r>
            <a:r>
              <a:rPr b="0" i="1" lang="el-GR" sz="2400" spc="-1" strike="noStrike">
                <a:solidFill>
                  <a:srgbClr val="cc3300"/>
                </a:solidFill>
                <a:latin typeface="Times New Roman"/>
              </a:rPr>
              <a:t>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cc3300"/>
                </a:solidFill>
                <a:latin typeface="Times New Roman"/>
              </a:rPr>
              <a:t>J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cc3300"/>
                </a:solidFill>
                <a:latin typeface="Times New Roman"/>
              </a:rPr>
              <a:t>Cook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70120" y="483696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12880" y="5218200"/>
            <a:ext cx="246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2492280"/>
            <a:ext cx="107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4221000"/>
            <a:ext cx="180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DBC, SQL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6F7A2-273E-45FB-8763-05509A9D4C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ρχιτεκτονικές εφαρμογώ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ρχιτεκτονικέ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data-intensive”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φαρμογώ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φαρμογών που υποστηρίζονται από ΣΔΒ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λασσικές αρχιτεκτονικέ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gle-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-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ή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ti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ρχιτεκτονική γι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-intensive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φαρμογέ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ree-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μήματα αρχιτεκτονικώ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χείριση δεδο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Λογική εφαρμογή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αρουσίαση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Inter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6F487-9C33-4427-971B-E7FD2F27A6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GI: Common Gateway Interfa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όχος: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μεταφορά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gument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πό τι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φόρμες στα προγράμματα που απαρτίζουν την εφαρμογή και που τρέχουν σ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ιονεκτήμα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πρόγραμμα καλείται σε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νέο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άθε φορά που χρειάζεται για κάποιο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(ανασκευή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CGI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α προγράμματα που απαρτίζουν την εφαρμογή δεν μοιράζοντ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s 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χ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 conne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μειονεκτήματα αυτά της απόδοσης αντιμετωπίζουν ο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ol of threads of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 pool of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Is for sess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A208B-E8EC-4CC1-9906-B853F71B6C3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GI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: παράδειγμ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Φόρμ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T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form action=“findbooks.cgi” method=POS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Type an author n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input type=“text” name=“authorName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input type=“submit” value=“Send it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input type=“reset” value=“Clear form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ώδικα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use CG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$dataIn=new CG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$dataIn-&gt;head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$authorName=$dataIn-&gt;param(‘authorName’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print(“&lt;HTML&gt;&lt;TITLE&gt;Argument passing test&lt;/TITLE&gt;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print(“The author name is “ + $author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print(“&lt;/HTML&gt;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ex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EEB8B-762A-48A3-8EA2-15BECE7840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cation serv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88920" y="1449360"/>
            <a:ext cx="8001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Process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51080" y="2135160"/>
            <a:ext cx="203508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03160" y="2135160"/>
            <a:ext cx="163440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89040" y="3624120"/>
            <a:ext cx="249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Applic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58840" y="3809880"/>
            <a:ext cx="1276200" cy="45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DBM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58840" y="4495680"/>
            <a:ext cx="1276200" cy="45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DBM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81920" y="5411880"/>
            <a:ext cx="213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Pool of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74960" y="3583080"/>
            <a:ext cx="3429000" cy="243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79880" y="4649760"/>
            <a:ext cx="457200" cy="228600"/>
          </a:xfrm>
          <a:prstGeom prst="rect">
            <a:avLst/>
          </a:prstGeom>
          <a:solidFill>
            <a:srgbClr val="cc9b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65680" y="4649760"/>
            <a:ext cx="457200" cy="228600"/>
          </a:xfrm>
          <a:prstGeom prst="rect">
            <a:avLst/>
          </a:prstGeom>
          <a:solidFill>
            <a:srgbClr val="cc9b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51480" y="4649760"/>
            <a:ext cx="457200" cy="228600"/>
          </a:xfrm>
          <a:prstGeom prst="rect">
            <a:avLst/>
          </a:prstGeom>
          <a:solidFill>
            <a:srgbClr val="cc9b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60960" y="4649760"/>
            <a:ext cx="457200" cy="228600"/>
          </a:xfrm>
          <a:prstGeom prst="rect">
            <a:avLst/>
          </a:prstGeom>
          <a:solidFill>
            <a:srgbClr val="cc9b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79880" y="5106960"/>
            <a:ext cx="457200" cy="228600"/>
          </a:xfrm>
          <a:prstGeom prst="rect">
            <a:avLst/>
          </a:prstGeom>
          <a:solidFill>
            <a:srgbClr val="cc9b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65680" y="5106960"/>
            <a:ext cx="457200" cy="228600"/>
          </a:xfrm>
          <a:prstGeom prst="rect">
            <a:avLst/>
          </a:prstGeom>
          <a:solidFill>
            <a:srgbClr val="cc9b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51480" y="5106960"/>
            <a:ext cx="457200" cy="228600"/>
          </a:xfrm>
          <a:prstGeom prst="rect">
            <a:avLst/>
          </a:prstGeom>
          <a:solidFill>
            <a:srgbClr val="cc9b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60960" y="5106960"/>
            <a:ext cx="457200" cy="228600"/>
          </a:xfrm>
          <a:prstGeom prst="rect">
            <a:avLst/>
          </a:prstGeom>
          <a:solidFill>
            <a:srgbClr val="cc9b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27240" y="4573440"/>
            <a:ext cx="312444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84440" y="236376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08840" y="1982880"/>
            <a:ext cx="94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84640" y="266868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80280" y="4040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80280" y="4726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65160" y="3548160"/>
            <a:ext cx="9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81360" y="4268880"/>
            <a:ext cx="1029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O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F1D9D-471D-48CE-BABB-5E1C1C8A6AF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ώδικα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ου τρέχει σ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έσω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ρέχει ανεξαρτήτως πλατφόρμ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λο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I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η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διαθέσιμο, συμπεριλαμβανομένου το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δικασία κλήσης ενό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ρέπει να έχει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δηλωθεί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το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τέλνει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ο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er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ημιουργεί έν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let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λώντας την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riden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 μέθοδ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() – destroy()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τά 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()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λεί 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()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λεί τη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et()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 GET,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ή τη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Post()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 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νήθως δεν κάνουμ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ride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η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()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λλά μια από τι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et()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Po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8FCB-4D8C-455A-B338-2DD6D31735D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let: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παράδειγμ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import java.servle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import java.servlet.http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public class ReadUserName extends HttpServle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public void doGet(HttpServletRequest reques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HttpSevletResponse respon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throws ServletException, IOExce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reponse.setContentType(“text/html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PrintWriter out = response.getWrit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out.println(“&lt;HTML&gt;&lt;BODY&gt;\n &lt;UL&gt; \n”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        “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LI&gt;” + request.getParameter(“userid”) + “\n”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        “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LI&gt;” + request.getParameter(“password”) + “\n”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        “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UL&gt;\n&lt;BODY&gt;&lt;/HTML&gt;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public void doPost(HttpServletRequest reques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HttpSevletResponse respon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throws ServletException, IOExce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doGet(request,respons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BB92E-8997-4279-9913-C9B349B4B51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SP: Java Server Pag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l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ημιουργού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γράφοντάς την στο αντικείμεν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Wr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ράφουμε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ρώτ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ον κώδικα, και την ιστοσελίδα στην συνέχεια (μέσα στον κώδικ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Φασαρί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ν θέλουμε μια πολύπλοκη ιστοσελίδα με λίγο απλό κώδικα για δυναμική συμπεριφορ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Λύση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Server Page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γραμμένα σ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λλά με κώδικα σαν απ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νσωματωμένο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ράφουμε πρώτα τη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ιστοσελίδ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και τον κώδικ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την συνέχεια (στα σημεία που θέλουμ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νήθως γίνοντα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C3A7A-E6F8-45CA-ACE7-C59176D9DA3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SP: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head&gt;&lt;title&gt;Welcome to B&amp;N&lt;/title&gt;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h1&gt;Welcome back!&lt;/h1&gt;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String name=“NewUser”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if (request.getParameter(“username”) != null) {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name=request.getParameter(“usernam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You are logged on as user &lt;%=name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λλο παράδειγμα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SP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για καταγραφή σε αρχείο όσων επισκέπτονται μια ιστοσελίδ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ια να δουλέψει με το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ach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ρέπει να εγκαταστήσει κανείς το αντίστοιχο ειδικ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e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έκτασ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C528-478C-4409-B592-F6453E85DA5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της εφαρμογή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ίνα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les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οχ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rt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ύτ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lo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ρεις κατηγορίες λύσε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-sid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δεδομένα φυλάσσονται στον δίσκο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ε την μορφή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k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dden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δεδομένα είναι κρυμμένα μέσα και ακολουθούν δυναμικά δημιουργημένες σελίδε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-sid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δεδομένα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ρατούνται στην Β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αλλακτικά στην τοπική μνήμη στο επίπεδο της εφαρμογή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ED64C-FDAD-474D-B2C9-E8F23D5822D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ent-side state: cooki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ποθήκευση κειμένου σε αρχείο του δίσκου το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οστέλλεται στην αντίστοιχη εφαρμογή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με κάθε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πορεί να το απενεργοποιήσε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Θεωρούνται αδίκως «επικίνδυνα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μια συλλογή απο ζεύγη 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όνομ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τιμή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λεονεκτή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υκολη χρήση με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Servlet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ι τ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ίνει την δυνατότητα κάποια πληροφορία να αποθηκευτεί εκεί που ανήκει (πχ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ειονεκτή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έγιστο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όριο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α 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ilo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ι χρήστες συχνα τα απενεργοποιού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AE7CF-F105-4BE0-A0C7-CD8DE79F973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kies: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παράδειγμ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ημιουργία ενό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k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Cookie myCookie = new Cookie(“username", “jeffd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response.addCookie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Cooki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όσβαση σ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k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Cookie[] cookies = request.getCookies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String theUs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for(int i=0; i&lt;cookies.length; i++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Cookie cookie = cookies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if(cookie.getName().equals(“username”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theUser = cookie.getValu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//at this po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theUs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lds the 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user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B6667-95FB-4305-8833-313396C89CE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-ti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σωμάτωση του ΣΔΒΔ, της λογικής της εφαρμογής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logic)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και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ε ένα «στρώμα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αρχική αρχιτεκτονική τω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intensiv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φαρμογώ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ρέχει σ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όσβαση χρηστών μέσω «κουτών τερματικών»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mp terminal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όνο για είσοδο δεδομένων και παρουσίαση δεδομέν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λεονέκτημ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κεντρική διαχείριση και συντήρηση της εφαρμογή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Μειονέκτημ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mp terminal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ι χρήστες όμως απαιτούν γραφικές διεπαφέ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GU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ν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frame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εν μπορεί να υποστηρίξει μεγάλο αριθμό χρηστώ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επιφορτιστεί με 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Λύση: φθηνά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PC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και αρχιτεκτονική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wo-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6CEC1-62E9-468E-9D7E-9F11BBCF17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dden &amp; Server-side sta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den state: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ρυφή ενσωμάτωση σε κάθ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σελίδ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dden fiel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ις φορμες δεν φαίνονται στον χρήστη (εκτός αν δεί τον κώδικ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&lt;input type=‘hidden’ name=‘user’ value=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rg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’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πληροφορία περνά στην εφαρμογή μέσω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η εφαρμογή τη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ξαναστέλνει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βάζοντάς την και στην επόμενη σελίδ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κή λύση από πλευρά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πόδοσ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-side state: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ύο κατηγορί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οθήκευση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την ΒΔ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καλή λύση αλλά σχετικά δαπανηρή λόγω της ανάγκης πρόσβασης στην Β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οθήκευση στη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μνήμ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laye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το κακό είναι οτι δεν είναι μόνιμη, και ότι η μνήμη χρειάζεται για την εφαρμογ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8518B-41C6-477A-B8B5-B81AB0844FA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ι χρησιμοποιούμε, και που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Χρησιμοποιούνται όλες οι μέθοδοι γι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νδεικτικά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 login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k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ki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ή στην μνήμη της εφαρμογή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dit c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ην Β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-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ός χρήστη σ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για μετέπειτα ανάλυσ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αλιέ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αραγγελίε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την Β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όνιμε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πιλογέ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/ προτιμήσεις ενός χρήστη στην Β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Μη μονιμε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πιλογές ενός χρήστη σ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k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5DBB-D07A-4824-BC1F-6D54F9B4F0F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εχνολογίες αν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66720" y="4761000"/>
            <a:ext cx="426744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Database System</a:t>
            </a:r>
            <a:br>
              <a:rPr sz="2400"/>
            </a:b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acle,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DB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66720" y="3008160"/>
            <a:ext cx="426744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Application Server</a:t>
            </a:r>
            <a:br>
              <a:rPr sz="2400"/>
            </a:b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(Tomcat, Apach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66720" y="1712880"/>
            <a:ext cx="426744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Client Program</a:t>
            </a:r>
            <a:br>
              <a:rPr sz="2400"/>
            </a:b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(Web Brows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15040" y="1484280"/>
            <a:ext cx="2604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crip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SS,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70480" y="2932200"/>
            <a:ext cx="1973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Cook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70120" y="483696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12880" y="5218200"/>
            <a:ext cx="246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cc3300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2492280"/>
            <a:ext cx="107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48000" y="4221000"/>
            <a:ext cx="180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</a:rPr>
              <a:t>JDBC, SQL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F56A-CC8B-4392-B959-F65AB818D82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DBC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ι είνα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Βιβλιοθήκες που επιτρέπουν την ενσωμάτωσ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ε μια γλώσσα προγραμματισμού (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DBC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ξειδικεύει γι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αρέχουν στον προγραμματιστή ένα σταθερό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πικοινωνίας με (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σχεδό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 οποιοδήποτε ΣΔΒΔ, και όχι μόνο (πχ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 Excel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ια εφαρμογή μπορεί να χρησιμοποιήσει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ταυτόχρονα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ολλά διαφορετικά ΣΔΒ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εκτελέσιμο μπορεί να λειτουργήσει με διαφορετικά ΣΔΒΔ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χωρι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mp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DBC / JDBC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ίν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MS-independent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και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το επίπεδο του κώδικα, αλλά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και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το επίπεδο του εκτελέσιμ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ελτίωση σε σχέση με την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bedded 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εταφράζεται σ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MS-specific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κατά την διαρκεια ενό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ηλ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MS-independent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κώδικας, αλλά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MS-dependent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κτελέσιμ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F8B20-A6A6-4173-8B00-3927295CFD0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ως λειτουργούν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ευελιξία αυτή οφείλεται στην εισαγωγή ενός επιπλέον «στρώματο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άθε επικοινωνία με ένα συγκεκριμένο ΣΔΒΔ λαμβάνει χώρα μέσω ενό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MS-specific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οδηγού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i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ι οδηγοί που χρειάζονται φορτώνοντ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ru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ας οδηγός μετατρέπει κλήσεις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BC / JDBC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MS-specific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για το αντίστοιχ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M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εν χρειαζεται καν να «μιλάει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τσι, μιλάμε πια για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sour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τί γι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4 κύρια τμήμα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Εφαρμογή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: ανοίγε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ε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ourc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υποβάλλε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αίρνει τα αποτελέσματ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iver manag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φορτώνει τους κατάλληλου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ivers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ερνά 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νδέεται με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ource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άνει τον μεταφραστή, διαχειρίζεται λάθ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sour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κτελεί εντολές το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επιστρέφει αποτελέσματ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395B2-70E9-427B-9147-71F0E3D8F9F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ενάρια αρχιτεκτονική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 I – brid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BMS-independent, no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λήσεις σ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DBC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μεταφράζονται σε κλήσει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DBC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μέσω ενός και μόν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το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DBC-ODBC 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DBC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αναλαμβάνει από εκεί και μετ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λό, αλλά όχι καλύτερο σε απόδοση, κ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DBC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εριοριστικ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 II – direct translation to the native API via non-Java dri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BMS-dependent, no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DBC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λήσεις καλούν συναρτήσεις μια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LL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ένα ΣΔΒ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λή απόδοση, αλλά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LL driver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αιτει ξεχωριστή εγκατάστα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 III – network brid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BMS-independent,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 bridg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το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ιλάει σε άλλο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κάπου αλλο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 IV – direct translation to the native API via Java dri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BMS-dependent,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iver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ο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μιλάει απευθείας σ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M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έσω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9E5E8-D599-4B2C-8ADB-85AC841C4D0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DBC: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onnection con =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DriverManager.get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(url, ”login"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”pass"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tatement stmt = con.createStatem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tring query = "SELECT name, rating FROM Sailors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sultSet rs = stmt.executeQuery(quer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hile (rs.next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tring s = rs.getString(“name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nt n = rs.getFloat(“rating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ystem.out.println(s + "   " + 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 catch(SQLException 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ystem.out.println(e.getMessage 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+ e.getSQLState () + e.getErrorCode 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s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tmt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on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CADB9-71AB-4C1F-BAE5-D54A3D7A2BA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J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υμπληρώνει τον δυναμικό τρόπο δημιουργία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το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με ένα πιο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τατικό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μοντέλ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οιάζει στην φιλοσοφία με 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bedded 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ε αντίθεση με 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λέγχε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compile tim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ην ορθή σύνταξη τη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ι την συνέπειά της με το σχήμα της βάσ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ι μεταβλητές δεσμεύονται στατικά σε κάποια συγκεκριμέν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χωρίς αναθέσεις όπως σ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ως δουλεύε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κώδικα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J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ερνάει απ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ου αντικαθιστά τα τμήμα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J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ε κλήσεις σε μια βιβλιοθήκ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νήθως χρησιμοποιεί κάποιο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 drive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ια επαφή με την Β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F527-A617-4E1D-B369-38BC7EC4D1E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J: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παράδειγμ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int sid; String name; int rat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ting = 8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#sql iterator Sailors(int sid, String 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Sailors sailo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ql 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sailors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SELECT sid, sname INTO :sid, :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FROM Sailors WHERE rating = :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while (sailors.next(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System.out.println(sailors.sid + “ “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sailors.name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sailors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8B849-9CAB-466F-8376-20804506368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ed procedur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ι είναι τ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ored procedure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μήματα της λογικής της εφαρμογής που αποθηκεύονται και εκτελούνται σ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 space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υ συστήματος Β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πορεί να είναι κ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λεονεκτήμα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λαχιστοποίηση των δεδομένων που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μεταφέρονται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ανάμεσα από εφαρμογή κ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 server 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έλεγχος γίνεται στο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 server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Χρήση το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 server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(δυνατό μηχάνημ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οφεύγεται η χρήση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sor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ου κρατούν επί μακρόν δεσμευμέν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όπως μνήμη και κλειδώματ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λογική της εφαρμογής μπορεί να εκτελεστεί απευθείας στο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 server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χωρί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καθόλου επιστροφή αποτελεσμάτ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λεονεκτήματα στην ανάπτυξη λογισμικο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ύκολη η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επαναχρησιμοποίηση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από διαφορετικού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er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δεν χρειάζονται να ξέρουν το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σχήμα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ης Β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8A50D-85BC-4BCB-A244-E54A9DAC02D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-ti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ιο γνωστή σαν αρχιτεκτονική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άγκη γι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ρωτόκολλο επικοινωνία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νάμεσα από τα δύο μηχανήμα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ι κάνει 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ι τι 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ξαρτάται από την περίπτωση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n client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ή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ck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ients: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εριέχουν μόνο το τμήμα το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serve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πεύθυνο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και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για την λογική της εφαρμογή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και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για την διαχείριση των δεδο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ient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περιέχουν 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, αλλά και τμήμα (ή ολόκληρη) της λογικής της εφαρμογή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πεύθυνος για ότι απομένε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7CA9C-8827-4F31-A5E6-CA6DEA9608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ed procedures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: παράδειγμ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αράμετροι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, OU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κα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REATE PROCEDURE IncreaseRating(IN sailor_sid INTEG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N increase INTEG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UPDATE Sail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	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ET rating = rating + increase</a:t>
            </a:r>
            <a:br>
              <a:rPr sz="1400"/>
            </a:b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HERE sid = sailor_s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εν χρειάζεται να είναι γραμμένη σ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REATE PROCEDURE TopSailors(IN num INTEG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LANGUAGE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XTERNAL NAME “file:///c:/storedProcs/rank.ja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λήσ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ored procedure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allableStatement c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on.prepareCall(“{ca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howSailors}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”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sultSet rs = cstmt.executeQue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hile (rs.next()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λήση απ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#sql iterator ShowSailors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...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howSailors showsailor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#sql showsailors={CALL ShowSailors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hile (showsailors.next()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598FF-577E-49FD-8BE1-3D358769365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361800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371600" y="2355120"/>
            <a:ext cx="6400800" cy="14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ρχιτεκτονικέ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-intensiv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φαρμογ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εχνολογίες ανάπτυ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άδειγμα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lin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βιβλιοπωλ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εριγραφ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li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Web σελίδες στο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γι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υς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ελάτ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υνατοτητα ανευρεσης προιοντ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λλογη πληροφοριων για πελατε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ταγραφη παραγγελι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αρακολουθηση πορειας παραγγελι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λεκτρονικη πληρωμ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φημισεις - ενημερωτικες σελιδε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Web σελίδες στο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για την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ιαχειριστικη εφαρμογ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ανεωση βασης απο προσωπικο εταιρι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χειριση χρονικα μεταβαλλομενων στοιχειων των Web σελιδων (διαφημισεις, προσφορες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κμεταλευση στοιχειων για χαραξη πολιτικης της εταιριας (marketing, decision-mak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654C1-F685-4AB2-8B16-4DA13EE3BDE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εριγραφή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αση Δεδομε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Legacy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χειριση μεγαλου ογκου δεδομε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ευκολυνση στην αναζητηση στοιχει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Λογικη εφαρμογης (αναμεσα σε client και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Validation στοιχειων που εισαγει ο πελατ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Transaction με βαση μετα απο καποια εντολη του πελατ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ημιουργια δυναμικων HTML σελιδων σαν απαντηση σε καποια επιλογη πελατ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9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Times New Roman"/>
              </a:rPr>
              <a:t>Βασισμένο σε πραγματικό έργο του 199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6181-C64F-45D2-B78A-F8D42B2187C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ργαλεί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76"/>
              </a:spcBef>
              <a:buSzPct val="1176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Times New Roman"/>
              </a:rPr>
              <a:t>Η τελικη εφαρμογη χρησιμοποιει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Times New Roman"/>
              </a:rPr>
              <a:t>Netscape Enterprise Web Serv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irewall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Times New Roman"/>
              </a:rPr>
              <a:t>Informix DB Server 7.x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Times New Roman"/>
              </a:rPr>
              <a:t>Ελληνικο εργαλειο full text search (“Αρχειον“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1576"/>
              </a:spcBef>
              <a:buSzPct val="1176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Times New Roman"/>
              </a:rPr>
              <a:t>Εργαλεια αναπτυξη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Times New Roman"/>
              </a:rPr>
              <a:t>Netscape LiveWire (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rver-side JavaScript, </a:t>
            </a:r>
            <a:r>
              <a:rPr b="0" lang="el-GR" sz="2100" spc="-1" strike="noStrike">
                <a:solidFill>
                  <a:srgbClr val="000000"/>
                </a:solidFill>
                <a:latin typeface="Times New Roman"/>
              </a:rPr>
              <a:t>κατι σαν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Java Server Pages </a:t>
            </a:r>
            <a:r>
              <a:rPr b="0" lang="el-GR" sz="2100" spc="-1" strike="noStrike">
                <a:solidFill>
                  <a:srgbClr val="000000"/>
                </a:solidFill>
                <a:latin typeface="Times New Roman"/>
              </a:rPr>
              <a:t>αλλα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pecific </a:t>
            </a:r>
            <a:r>
              <a:rPr b="0" lang="el-GR" sz="2100" spc="-1" strike="noStrike">
                <a:solidFill>
                  <a:srgbClr val="000000"/>
                </a:solidFill>
                <a:latin typeface="Times New Roman"/>
              </a:rPr>
              <a:t>για τον Netscape Enterprise Web Serve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JavaScript (client sid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D56A5-9E00-4C56-9B56-10D93FA5979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Η Βάση Δεδομένω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258920" y="1263600"/>
          <a:ext cx="7345440" cy="49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263600"/>
                    <a:ext cx="734544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D21FC-64A7-4579-A8B0-CD40F69347B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χεδιασμός και υλοποίηση εφαρμογή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πό που αρχίζει κανεί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χι από το μηδε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τανόηση των απαιτήσε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ιλογή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ργαλεί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όνοια για να μην διαταραχθουν οι τρέχουσες λειτουργίε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εχν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εικαστικό μέρος ξεχωριστό και τελευταί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οντέλο βάσ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οντέλο σελίδ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λοποίηση βάσ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λοποίηση σελίδ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9f83bd"/>
                </a:solidFill>
                <a:uFillTx/>
                <a:latin typeface="Times New Roman"/>
                <a:hlinkClick r:id="rId12"/>
              </a:rPr>
              <a:t>web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71F9F-447C-4C29-B062-BE6DE4BA519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χήματα γι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-tier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-ti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47640" y="1392120"/>
          <a:ext cx="6624720" cy="51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392120"/>
                    <a:ext cx="662472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DDF8B-CC76-4E7B-9987-624978C17C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ύγκρισ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ρχιτεκτονικέ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-tier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-ser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-serve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χωρίζει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I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ό την διαχείριση των δεδομένων σε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φυσικό επίπεδο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διαφορετικά μηχανήματα)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με το κόστος της ανάγκης γι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υστηρά καθορισμένο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ρωτόκολλο επικοινωνίας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αλλά και υπολογιστών ικανών να τρέξου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ακριβότερων απ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mp termina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 επιτυχία το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-server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οντέλου οφείλεται και στην πληθώρα καλών εργαλείων ανάπτυξης εφαρμογ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χ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 Basic, PowerBuilder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τ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DACD8-7BFB-4AA5-B67E-0381C8E263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ύγκριση 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Μειονεκτήματ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ck client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ως προ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n 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η κεντρική διαχείριση και συντήρηση της λογικής της εφαρμογής (τρέχει σε πολλούς ξεχωριστού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ρέπει να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εμπιστευτεί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ου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οτι δεν θα δημιουργούν ασυνέπειες στα δεδομένα τ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(μια λύση: όλες οι επαφές με την ΒΔ μέσω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red procedure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σχημη κλιμάκωση: μέχρι μερικές εκατοντάδε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(επεξεργασία και μεταφορά μεγάλων αποτελεσμάτων απ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ie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για επεξεργασία στο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όβλημα απόδοσης αν Χ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οσπελεύνου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βάσεις δεδομένων: Χ * Υ μόνιμα ανοιχτές συνδέσει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λεονέκτημ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ck client: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αίρνει τον φόρτο από το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ην υιοθέτηση της αρχιτεκτονική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n clien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διευκόλυνε και η επικράτηση τω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0FB2B-6A54-42B6-900D-D1CAEF42C7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ee-ti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46480" y="4676760"/>
            <a:ext cx="426744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Databas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46480" y="2924280"/>
            <a:ext cx="426744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Applic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70520" y="1628640"/>
            <a:ext cx="426708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Client Program (Web Brow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98600" y="1781280"/>
            <a:ext cx="2179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cc3300"/>
                </a:solidFill>
                <a:latin typeface="Times New Roman"/>
              </a:rPr>
              <a:t>Presentation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99680" y="3305160"/>
            <a:ext cx="1551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cc3300"/>
                </a:solidFill>
                <a:latin typeface="Times New Roman"/>
              </a:rPr>
              <a:t>Middl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98960" y="4905360"/>
            <a:ext cx="239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cc3300"/>
                </a:solidFill>
                <a:latin typeface="Times New Roman"/>
              </a:rPr>
              <a:t>Data management</a:t>
            </a:r>
            <a:br>
              <a:rPr sz="2400"/>
            </a:br>
            <a:r>
              <a:rPr b="0" lang="el-GR" sz="2400" spc="-1" strike="noStrike">
                <a:solidFill>
                  <a:srgbClr val="cc33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0612-D1BF-47B0-8906-1E6E1CCA31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2:14:51Z</dcterms:created>
  <dc:creator>Yannis Stavrakas</dc:creator>
  <dc:description/>
  <dc:language>en-US</dc:language>
  <cp:lastModifiedBy>Yannis Stavrakas</cp:lastModifiedBy>
  <dcterms:modified xsi:type="dcterms:W3CDTF">2004-04-26T10:19:30Z</dcterms:modified>
  <cp:revision>104</cp:revision>
  <dc:subject/>
  <dc:title>Βάσεις Δεδομένων και Παγκόσμιος Ιστός</dc:title>
</cp:coreProperties>
</file>