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</a:t>
            </a:r>
            <a:fld id="{90C3457B-5784-472F-A0CB-F8AC8695B5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457200" y="2474640"/>
            <a:ext cx="2286000" cy="1676520"/>
            <a:chOff x="457200" y="2474640"/>
            <a:chExt cx="2286000" cy="1676520"/>
          </a:xfrm>
        </p:grpSpPr>
        <p:sp>
          <p:nvSpPr>
            <p:cNvPr id="40" name=""/>
            <p:cNvSpPr/>
            <p:nvPr/>
          </p:nvSpPr>
          <p:spPr>
            <a:xfrm>
              <a:off x="457200" y="2475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V="1">
              <a:off x="457200" y="24742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43000" y="4151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43000" y="2475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3000" y="2475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3236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352680" y="3007800"/>
            <a:ext cx="2286000" cy="1676520"/>
            <a:chOff x="3352680" y="3007800"/>
            <a:chExt cx="2286000" cy="1676520"/>
          </a:xfrm>
        </p:grpSpPr>
        <p:sp>
          <p:nvSpPr>
            <p:cNvPr id="47" name=""/>
            <p:cNvSpPr/>
            <p:nvPr/>
          </p:nvSpPr>
          <p:spPr>
            <a:xfrm>
              <a:off x="3352680" y="30081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352680" y="300744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038480" y="46843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038480" y="3008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300816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86400" y="376992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172200" y="1103040"/>
            <a:ext cx="2286000" cy="1676520"/>
            <a:chOff x="6172200" y="1103040"/>
            <a:chExt cx="2286000" cy="1676520"/>
          </a:xfrm>
        </p:grpSpPr>
        <p:sp>
          <p:nvSpPr>
            <p:cNvPr id="54" name=""/>
            <p:cNvSpPr/>
            <p:nvPr/>
          </p:nvSpPr>
          <p:spPr>
            <a:xfrm>
              <a:off x="6172200" y="1103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172200" y="11023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858000" y="27795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858000" y="1103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0" y="11034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05920" y="18651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72200" y="4455720"/>
            <a:ext cx="2286000" cy="1676520"/>
            <a:chOff x="6172200" y="4455720"/>
            <a:chExt cx="2286000" cy="1676520"/>
          </a:xfrm>
        </p:grpSpPr>
        <p:sp>
          <p:nvSpPr>
            <p:cNvPr id="61" name=""/>
            <p:cNvSpPr/>
            <p:nvPr/>
          </p:nvSpPr>
          <p:spPr>
            <a:xfrm>
              <a:off x="6172200" y="4456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72200" y="44553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858000" y="6132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858000" y="4456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0" y="4456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05920" y="5217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352680" y="4989240"/>
            <a:ext cx="2286000" cy="1676520"/>
            <a:chOff x="3352680" y="4989240"/>
            <a:chExt cx="2286000" cy="1676520"/>
          </a:xfrm>
        </p:grpSpPr>
        <p:sp>
          <p:nvSpPr>
            <p:cNvPr id="68" name=""/>
            <p:cNvSpPr/>
            <p:nvPr/>
          </p:nvSpPr>
          <p:spPr>
            <a:xfrm>
              <a:off x="3352680" y="4989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352680" y="4988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38480" y="6665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038480" y="4989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8480" y="4989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86400" y="5751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990720" y="569520"/>
            <a:ext cx="2286000" cy="1676520"/>
            <a:chOff x="990720" y="569520"/>
            <a:chExt cx="2286000" cy="1676520"/>
          </a:xfrm>
        </p:grpSpPr>
        <p:sp>
          <p:nvSpPr>
            <p:cNvPr id="75" name=""/>
            <p:cNvSpPr/>
            <p:nvPr/>
          </p:nvSpPr>
          <p:spPr>
            <a:xfrm>
              <a:off x="990720" y="56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990720" y="56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676520" y="22460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676520" y="569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76520" y="5698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24440" y="13316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276720" y="1407960"/>
            <a:ext cx="358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58276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3130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1941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8200" y="529416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552720" y="2475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552720" y="4761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24750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846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8600" y="19414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28600" y="3846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09480" y="277956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09480" y="194148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86516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28240" y="437976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04560" y="6361200"/>
            <a:ext cx="373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76720" y="5218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23676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276720" y="33130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0" y="41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00" y="338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3922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0" y="5904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5880" y="950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20960" y="285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9080" y="399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5040" y="537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2280" y="148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612280" y="4836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4000" y="228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8600" y="874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64960"/>
            <a:ext cx="6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093760"/>
            <a:ext cx="6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313080"/>
            <a:ext cx="7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456080"/>
            <a:ext cx="7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520" y="582768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120" y="2246400"/>
            <a:ext cx="80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7720" y="1407960"/>
            <a:ext cx="80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240" y="346536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320" y="27036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000" y="468468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000" y="8748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4640" y="331308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2720" y="2809800"/>
            <a:ext cx="839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2720" y="3922560"/>
            <a:ext cx="80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7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6920" y="5904000"/>
            <a:ext cx="80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240" y="20178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240" y="538632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4760" y="4065480"/>
            <a:ext cx="52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0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1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¬10 + ¬1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10)(3 + 10)(¬1 + ¬3 + ¬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4760" y="4065480"/>
            <a:ext cx="52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1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¬1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3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¬1 + ¬3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3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¬1 + ¬3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3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¬1 + ¬3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0760" y="293688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3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¬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1)(6 + 11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¬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¬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¬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¬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¬1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¬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77240" y="3546360"/>
            <a:ext cx="124740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2 3 6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0 0 x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5120" y="4065480"/>
            <a:ext cx="52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¬23(19 + 23)(16 + 23)(¬19 + ¬16 + ¬2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120" y="4065480"/>
            <a:ext cx="52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¬23(19 + 23)(16 + 23)(¬19 + ¬16 + ¬2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2514240"/>
            <a:ext cx="2286000" cy="1676520"/>
            <a:chOff x="457200" y="2514240"/>
            <a:chExt cx="2286000" cy="1676520"/>
          </a:xfrm>
        </p:grpSpPr>
        <p:sp>
          <p:nvSpPr>
            <p:cNvPr id="131" name=""/>
            <p:cNvSpPr/>
            <p:nvPr/>
          </p:nvSpPr>
          <p:spPr>
            <a:xfrm>
              <a:off x="457200" y="2514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2513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143000" y="4190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143000" y="251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3000" y="2514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90920" y="3276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352680" y="3047760"/>
            <a:ext cx="2286000" cy="1676520"/>
            <a:chOff x="3352680" y="3047760"/>
            <a:chExt cx="2286000" cy="1676520"/>
          </a:xfrm>
        </p:grpSpPr>
        <p:sp>
          <p:nvSpPr>
            <p:cNvPr id="138" name=""/>
            <p:cNvSpPr/>
            <p:nvPr/>
          </p:nvSpPr>
          <p:spPr>
            <a:xfrm>
              <a:off x="3352680" y="3048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352680" y="3047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038480" y="30481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30481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72200" y="1142640"/>
            <a:ext cx="2286000" cy="1676520"/>
            <a:chOff x="6172200" y="1142640"/>
            <a:chExt cx="2286000" cy="1676520"/>
          </a:xfrm>
        </p:grpSpPr>
        <p:sp>
          <p:nvSpPr>
            <p:cNvPr id="145" name=""/>
            <p:cNvSpPr/>
            <p:nvPr/>
          </p:nvSpPr>
          <p:spPr>
            <a:xfrm>
              <a:off x="6172200" y="1143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172200" y="11419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858000" y="2819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858000" y="1143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0" y="1143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05920" y="1904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172200" y="4495320"/>
            <a:ext cx="2286000" cy="1676520"/>
            <a:chOff x="6172200" y="4495320"/>
            <a:chExt cx="2286000" cy="1676520"/>
          </a:xfrm>
        </p:grpSpPr>
        <p:sp>
          <p:nvSpPr>
            <p:cNvPr id="152" name=""/>
            <p:cNvSpPr/>
            <p:nvPr/>
          </p:nvSpPr>
          <p:spPr>
            <a:xfrm>
              <a:off x="6172200" y="44956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172200" y="44949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858000" y="6171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85800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44956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05920" y="5257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352680" y="5028840"/>
            <a:ext cx="2286000" cy="1676520"/>
            <a:chOff x="3352680" y="5028840"/>
            <a:chExt cx="2286000" cy="1676520"/>
          </a:xfrm>
        </p:grpSpPr>
        <p:sp>
          <p:nvSpPr>
            <p:cNvPr id="159" name=""/>
            <p:cNvSpPr/>
            <p:nvPr/>
          </p:nvSpPr>
          <p:spPr>
            <a:xfrm>
              <a:off x="3352680" y="5029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352680" y="5028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038480" y="6705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038480" y="5029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38480" y="5029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6400" y="5790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990720" y="609120"/>
            <a:ext cx="2286000" cy="1676520"/>
            <a:chOff x="990720" y="609120"/>
            <a:chExt cx="2286000" cy="1676520"/>
          </a:xfrm>
        </p:grpSpPr>
        <p:sp>
          <p:nvSpPr>
            <p:cNvPr id="166" name=""/>
            <p:cNvSpPr/>
            <p:nvPr/>
          </p:nvSpPr>
          <p:spPr>
            <a:xfrm>
              <a:off x="990720" y="609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990720" y="608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676520" y="2285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676520" y="609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6520" y="609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440" y="1371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276720" y="1447920"/>
            <a:ext cx="358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33526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55272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55272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5146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28600" y="19810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860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09480" y="28195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19807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28240" y="441972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04560" y="6400800"/>
            <a:ext cx="373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2767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32767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2767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00" y="45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588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20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908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504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6122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1228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4000" y="268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28600" y="9144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304920"/>
            <a:ext cx="6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133720"/>
            <a:ext cx="6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352680"/>
            <a:ext cx="6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495680"/>
            <a:ext cx="6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520" y="586728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120" y="22860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7720" y="144792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240" y="350532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320" y="27432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000" y="472428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000" y="9144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4640" y="335268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2720" y="29718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2720" y="396252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6920" y="59436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29240" y="20574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29240" y="542592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5120" y="4065480"/>
            <a:ext cx="521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¬23(19 + 23)(16 + 23)(¬19 + ¬16 + ¬2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5120" y="4065480"/>
            <a:ext cx="521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¬23(19 + 23)(16 + 23)(¬19 + ¬16 + ¬2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4760" y="4065480"/>
            <a:ext cx="52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9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1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¬19 + ¬1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4760" y="4065480"/>
            <a:ext cx="52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1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¬1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080760" y="29368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11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¬3 + ¬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¬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177240" y="3546360"/>
            <a:ext cx="124740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2 3 6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x 1 1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457200" y="2514240"/>
            <a:ext cx="2286000" cy="1676520"/>
            <a:chOff x="457200" y="2514240"/>
            <a:chExt cx="2286000" cy="1676520"/>
          </a:xfrm>
        </p:grpSpPr>
        <p:sp>
          <p:nvSpPr>
            <p:cNvPr id="222" name=""/>
            <p:cNvSpPr/>
            <p:nvPr/>
          </p:nvSpPr>
          <p:spPr>
            <a:xfrm>
              <a:off x="457200" y="2514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57200" y="2513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43000" y="4190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143000" y="251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2514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90920" y="3276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352680" y="3047760"/>
            <a:ext cx="2286000" cy="1676520"/>
            <a:chOff x="3352680" y="3047760"/>
            <a:chExt cx="2286000" cy="1676520"/>
          </a:xfrm>
        </p:grpSpPr>
        <p:sp>
          <p:nvSpPr>
            <p:cNvPr id="229" name=""/>
            <p:cNvSpPr/>
            <p:nvPr/>
          </p:nvSpPr>
          <p:spPr>
            <a:xfrm>
              <a:off x="3352680" y="3048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352680" y="3047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038480" y="30481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38480" y="30481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64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172200" y="1142640"/>
            <a:ext cx="2286000" cy="1676520"/>
            <a:chOff x="6172200" y="1142640"/>
            <a:chExt cx="2286000" cy="1676520"/>
          </a:xfrm>
        </p:grpSpPr>
        <p:sp>
          <p:nvSpPr>
            <p:cNvPr id="236" name=""/>
            <p:cNvSpPr/>
            <p:nvPr/>
          </p:nvSpPr>
          <p:spPr>
            <a:xfrm>
              <a:off x="6172200" y="1143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172200" y="11419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858000" y="2819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858000" y="1143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0" y="1143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05920" y="1904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72200" y="4495320"/>
            <a:ext cx="2286000" cy="1676520"/>
            <a:chOff x="6172200" y="4495320"/>
            <a:chExt cx="2286000" cy="1676520"/>
          </a:xfrm>
        </p:grpSpPr>
        <p:sp>
          <p:nvSpPr>
            <p:cNvPr id="243" name=""/>
            <p:cNvSpPr/>
            <p:nvPr/>
          </p:nvSpPr>
          <p:spPr>
            <a:xfrm>
              <a:off x="6172200" y="44956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172200" y="44949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858000" y="6171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5800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0" y="44956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05920" y="5257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352680" y="5028840"/>
            <a:ext cx="2286000" cy="1676520"/>
            <a:chOff x="3352680" y="5028840"/>
            <a:chExt cx="2286000" cy="1676520"/>
          </a:xfrm>
        </p:grpSpPr>
        <p:sp>
          <p:nvSpPr>
            <p:cNvPr id="250" name=""/>
            <p:cNvSpPr/>
            <p:nvPr/>
          </p:nvSpPr>
          <p:spPr>
            <a:xfrm>
              <a:off x="3352680" y="5029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5028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038480" y="6705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038480" y="5029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38480" y="5029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86400" y="5790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990720" y="609120"/>
            <a:ext cx="2286000" cy="1676520"/>
            <a:chOff x="990720" y="609120"/>
            <a:chExt cx="2286000" cy="1676520"/>
          </a:xfrm>
        </p:grpSpPr>
        <p:sp>
          <p:nvSpPr>
            <p:cNvPr id="257" name=""/>
            <p:cNvSpPr/>
            <p:nvPr/>
          </p:nvSpPr>
          <p:spPr>
            <a:xfrm>
              <a:off x="990720" y="609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990720" y="608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676520" y="2285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676520" y="609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76520" y="609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24440" y="1371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276720" y="1447920"/>
            <a:ext cx="358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3526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582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55272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55272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25146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8600" y="19810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2860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9480" y="28195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09480" y="19807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28240" y="441972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04560" y="6400800"/>
            <a:ext cx="373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32767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00" y="45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0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588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20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908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504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6122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61228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4000" y="268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28600" y="9144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04920"/>
            <a:ext cx="6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133720"/>
            <a:ext cx="6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3352680"/>
            <a:ext cx="6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4495680"/>
            <a:ext cx="6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520" y="586728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120" y="22860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7720" y="144792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4240" y="350532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320" y="27432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6000" y="472428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000" y="9144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4640" y="335268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2720" y="29718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2720" y="396252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6920" y="59436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9240" y="205740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9240" y="5425920"/>
            <a:ext cx="76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-a-1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080760" y="293688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2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080760" y="293688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7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080760" y="293688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3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1)(6 + 11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¬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177240" y="3546360"/>
            <a:ext cx="124740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2 3 6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0 0 x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4760" y="4065480"/>
            <a:ext cx="52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pl-PL" sz="2400" spc="-1" strike="noStrike">
                <a:solidFill>
                  <a:srgbClr val="00ff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6 +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¬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¬6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¬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177240" y="3546360"/>
            <a:ext cx="124740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2 3 6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0 0 x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93080" y="4572000"/>
            <a:ext cx="1247400" cy="825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2 3 6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0 0 x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730880" y="1719000"/>
            <a:ext cx="559800" cy="457560"/>
            <a:chOff x="1730880" y="1719000"/>
            <a:chExt cx="559800" cy="457560"/>
          </a:xfrm>
        </p:grpSpPr>
        <p:sp>
          <p:nvSpPr>
            <p:cNvPr id="425" name=""/>
            <p:cNvSpPr/>
            <p:nvPr/>
          </p:nvSpPr>
          <p:spPr>
            <a:xfrm>
              <a:off x="1730880" y="171936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730880" y="171864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1898280" y="217656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898280" y="171936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98640" y="17193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53600" y="192708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178800" y="1871280"/>
            <a:ext cx="559800" cy="457560"/>
            <a:chOff x="3178800" y="1871280"/>
            <a:chExt cx="559800" cy="457560"/>
          </a:xfrm>
        </p:grpSpPr>
        <p:sp>
          <p:nvSpPr>
            <p:cNvPr id="432" name=""/>
            <p:cNvSpPr/>
            <p:nvPr/>
          </p:nvSpPr>
          <p:spPr>
            <a:xfrm>
              <a:off x="3178800" y="187164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178800" y="187092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346200" y="232884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3346200" y="187164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6560" y="18716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1520" y="207936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474080" y="1109160"/>
            <a:ext cx="559800" cy="457560"/>
            <a:chOff x="4474080" y="1109160"/>
            <a:chExt cx="559800" cy="457560"/>
          </a:xfrm>
        </p:grpSpPr>
        <p:sp>
          <p:nvSpPr>
            <p:cNvPr id="439" name=""/>
            <p:cNvSpPr/>
            <p:nvPr/>
          </p:nvSpPr>
          <p:spPr>
            <a:xfrm>
              <a:off x="4474080" y="110952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474080" y="110880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641480" y="156672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641480" y="110952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41840" y="110952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96800" y="131724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74080" y="2480760"/>
            <a:ext cx="559800" cy="457560"/>
            <a:chOff x="4474080" y="2480760"/>
            <a:chExt cx="559800" cy="457560"/>
          </a:xfrm>
        </p:grpSpPr>
        <p:sp>
          <p:nvSpPr>
            <p:cNvPr id="446" name=""/>
            <p:cNvSpPr/>
            <p:nvPr/>
          </p:nvSpPr>
          <p:spPr>
            <a:xfrm>
              <a:off x="4474080" y="248112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474080" y="248040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641480" y="293832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4641480" y="248112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41840" y="248112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96800" y="268884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178800" y="2633400"/>
            <a:ext cx="559800" cy="457560"/>
            <a:chOff x="3178800" y="2633400"/>
            <a:chExt cx="559800" cy="457560"/>
          </a:xfrm>
        </p:grpSpPr>
        <p:sp>
          <p:nvSpPr>
            <p:cNvPr id="453" name=""/>
            <p:cNvSpPr/>
            <p:nvPr/>
          </p:nvSpPr>
          <p:spPr>
            <a:xfrm>
              <a:off x="3178800" y="263376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178800" y="263304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346200" y="309096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346200" y="263376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46560" y="26337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01520" y="284148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730880" y="956880"/>
            <a:ext cx="559800" cy="457560"/>
            <a:chOff x="1730880" y="956880"/>
            <a:chExt cx="559800" cy="457560"/>
          </a:xfrm>
        </p:grpSpPr>
        <p:sp>
          <p:nvSpPr>
            <p:cNvPr id="460" name=""/>
            <p:cNvSpPr/>
            <p:nvPr/>
          </p:nvSpPr>
          <p:spPr>
            <a:xfrm>
              <a:off x="1730880" y="95724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730880" y="95652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898280" y="141444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898280" y="95724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98640" y="9572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3600" y="116496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279520" y="118584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27440" y="286236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79520" y="194796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2720" y="133812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22720" y="27097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565160" y="1488960"/>
            <a:ext cx="87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565160" y="2557440"/>
            <a:ext cx="87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65520" y="1490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27440" y="210024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447920" y="1295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441440" y="2100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669680" y="17953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670040" y="1338120"/>
            <a:ext cx="14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593720" y="1219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257200" y="2252520"/>
            <a:ext cx="1089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441440" y="3013200"/>
            <a:ext cx="19051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812680" y="2709720"/>
            <a:ext cx="52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13040" y="2023560"/>
            <a:ext cx="14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61640" y="88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1640" y="118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61640" y="1871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61640" y="2405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61640" y="2862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99920" y="880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14120" y="1643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0800" y="1719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0800" y="2557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0120" y="1033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93640" y="2373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447920" y="1066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736720" y="187164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79520" y="22525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441440" y="255744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730880" y="4387320"/>
            <a:ext cx="559800" cy="457560"/>
            <a:chOff x="1730880" y="4387320"/>
            <a:chExt cx="559800" cy="457560"/>
          </a:xfrm>
        </p:grpSpPr>
        <p:sp>
          <p:nvSpPr>
            <p:cNvPr id="500" name=""/>
            <p:cNvSpPr/>
            <p:nvPr/>
          </p:nvSpPr>
          <p:spPr>
            <a:xfrm>
              <a:off x="1730880" y="438768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730880" y="438696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898280" y="484488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1898280" y="438768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98640" y="43876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53600" y="459540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178800" y="4539960"/>
            <a:ext cx="559800" cy="457560"/>
            <a:chOff x="3178800" y="4539960"/>
            <a:chExt cx="559800" cy="457560"/>
          </a:xfrm>
        </p:grpSpPr>
        <p:sp>
          <p:nvSpPr>
            <p:cNvPr id="507" name=""/>
            <p:cNvSpPr/>
            <p:nvPr/>
          </p:nvSpPr>
          <p:spPr>
            <a:xfrm>
              <a:off x="3178800" y="454032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178800" y="453960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346200" y="499752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346200" y="454032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46560" y="454032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01520" y="474804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474080" y="3777840"/>
            <a:ext cx="559800" cy="457560"/>
            <a:chOff x="4474080" y="3777840"/>
            <a:chExt cx="559800" cy="457560"/>
          </a:xfrm>
        </p:grpSpPr>
        <p:sp>
          <p:nvSpPr>
            <p:cNvPr id="514" name=""/>
            <p:cNvSpPr/>
            <p:nvPr/>
          </p:nvSpPr>
          <p:spPr>
            <a:xfrm>
              <a:off x="4474080" y="377820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4474080" y="377748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641480" y="423540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641480" y="377820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41840" y="37782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96800" y="398592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474080" y="5149440"/>
            <a:ext cx="559800" cy="457560"/>
            <a:chOff x="4474080" y="5149440"/>
            <a:chExt cx="559800" cy="457560"/>
          </a:xfrm>
        </p:grpSpPr>
        <p:sp>
          <p:nvSpPr>
            <p:cNvPr id="521" name=""/>
            <p:cNvSpPr/>
            <p:nvPr/>
          </p:nvSpPr>
          <p:spPr>
            <a:xfrm>
              <a:off x="4474080" y="514980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474080" y="514908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641480" y="560700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4641480" y="514980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41840" y="51498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96800" y="535752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178800" y="5301720"/>
            <a:ext cx="559800" cy="457560"/>
            <a:chOff x="3178800" y="5301720"/>
            <a:chExt cx="559800" cy="457560"/>
          </a:xfrm>
        </p:grpSpPr>
        <p:sp>
          <p:nvSpPr>
            <p:cNvPr id="528" name=""/>
            <p:cNvSpPr/>
            <p:nvPr/>
          </p:nvSpPr>
          <p:spPr>
            <a:xfrm>
              <a:off x="3178800" y="530208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178800" y="530136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3346200" y="575928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346200" y="530208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46560" y="53020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01520" y="550980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730880" y="3625560"/>
            <a:ext cx="559800" cy="457560"/>
            <a:chOff x="1730880" y="3625560"/>
            <a:chExt cx="559800" cy="457560"/>
          </a:xfrm>
        </p:grpSpPr>
        <p:sp>
          <p:nvSpPr>
            <p:cNvPr id="535" name=""/>
            <p:cNvSpPr/>
            <p:nvPr/>
          </p:nvSpPr>
          <p:spPr>
            <a:xfrm>
              <a:off x="1730880" y="362592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730880" y="3625200"/>
              <a:ext cx="5220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1898280" y="408312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1898280" y="3625920"/>
              <a:ext cx="93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98640" y="362592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53600" y="3833640"/>
              <a:ext cx="37080" cy="41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79520" y="38545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27440" y="5530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79520" y="46162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022720" y="4005360"/>
            <a:ext cx="838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022720" y="5376960"/>
            <a:ext cx="5335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565160" y="4157640"/>
            <a:ext cx="87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565160" y="5226120"/>
            <a:ext cx="87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65520" y="4159080"/>
            <a:ext cx="0" cy="106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27440" y="47689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447920" y="3962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441440" y="4768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669680" y="4464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670040" y="4038480"/>
            <a:ext cx="6480" cy="425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593720" y="3886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257200" y="4921200"/>
            <a:ext cx="1089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441440" y="5681520"/>
            <a:ext cx="1905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812680" y="5378400"/>
            <a:ext cx="52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813040" y="4692240"/>
            <a:ext cx="14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61640" y="3549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61640" y="3854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1640" y="4540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1640" y="5073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61640" y="5530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99920" y="35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14120" y="4311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80800" y="438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80800" y="5226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0120" y="3700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0120" y="5040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44792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736720" y="4540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79520" y="4921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441440" y="52261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66440" y="1936800"/>
            <a:ext cx="761040" cy="45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6166440" y="1947240"/>
            <a:ext cx="761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6470280" y="2405160"/>
            <a:ext cx="9036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470280" y="1947960"/>
            <a:ext cx="9036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481800" y="1947960"/>
            <a:ext cx="90360" cy="4572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380280" y="1947960"/>
            <a:ext cx="90360" cy="4572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66440" y="4146480"/>
            <a:ext cx="761040" cy="45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166440" y="4156920"/>
            <a:ext cx="761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470280" y="4614840"/>
            <a:ext cx="9036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6470280" y="4157640"/>
            <a:ext cx="9036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81800" y="4157640"/>
            <a:ext cx="90360" cy="4572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80280" y="4157640"/>
            <a:ext cx="90360" cy="4572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61160" y="2023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61160" y="1338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5860800" y="232884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61160" y="232884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5556240" y="423396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56240" y="270972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556240" y="45385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56240" y="45385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308360" y="309096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308360" y="33955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233120" y="3003480"/>
            <a:ext cx="761040" cy="45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233120" y="3013920"/>
            <a:ext cx="761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7537320" y="3471840"/>
            <a:ext cx="9072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537320" y="3014640"/>
            <a:ext cx="9072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48480" y="3014640"/>
            <a:ext cx="90720" cy="4572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27840" y="217656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27840" y="438624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08720" y="217656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308720" y="339552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994520" y="324324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28920" y="1871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28920" y="408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995600" y="293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6840" y="4065480"/>
            <a:ext cx="504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(10 + 22)(16 + 22)(¬10 + ¬16 + ¬2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120" y="4065480"/>
            <a:ext cx="52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¬22(10 + 22)(16 + 22)(¬10 + ¬16 + ¬2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5120" y="4065480"/>
            <a:ext cx="52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¬22(10 + 22)(16 + 22)(¬10 + ¬16 + ¬2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5120" y="4065480"/>
            <a:ext cx="521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¬22(10 + 22)(16 + 22)(¬10 + ¬16 + ¬2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10)(3 + 10)(¬1 + ¬3 + ¬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5120" y="4065480"/>
            <a:ext cx="521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¬22(10 + 22)(16 + 22)(¬10 + ¬16 + ¬2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10)(3 + 10)(¬1 + ¬3 + ¬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629760" y="4572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5120" y="4065480"/>
            <a:ext cx="521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¬22(10 + 22)(16 + 22)(¬10 + ¬16 + ¬2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(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+ 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 + 10)(3 + 10)(¬1 + ¬3 + ¬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 + 11)(6 + 11)(¬3 + ¬6 + ¬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04:18Z</dcterms:created>
  <dc:creator> </dc:creator>
  <dc:description/>
  <dc:language>en-US</dc:language>
  <cp:lastModifiedBy>georges</cp:lastModifiedBy>
  <dcterms:modified xsi:type="dcterms:W3CDTF">2005-11-14T22:54:14Z</dcterms:modified>
  <cp:revision>236</cp:revision>
  <dc:subject/>
  <dc:title>PowerPoint Presentation</dc:title>
</cp:coreProperties>
</file>