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360" y="6243480"/>
            <a:ext cx="9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-</a:t>
            </a:r>
            <a:fld id="{DC7A62BF-6D3A-4221-B98E-DCB14C354A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ault-oriented ATG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 = 1/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 = 0/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62120" y="24382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20574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20574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10080" y="304812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41148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41148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411480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563868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048120" y="2971440"/>
            <a:ext cx="2286000" cy="1676520"/>
            <a:chOff x="3048120" y="2971440"/>
            <a:chExt cx="2286000" cy="1676520"/>
          </a:xfrm>
        </p:grpSpPr>
        <p:sp>
          <p:nvSpPr>
            <p:cNvPr id="132" name=""/>
            <p:cNvSpPr/>
            <p:nvPr/>
          </p:nvSpPr>
          <p:spPr>
            <a:xfrm>
              <a:off x="3048120" y="2971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048120" y="2971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733920" y="464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733920" y="297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33920" y="297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1840" y="373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H="1">
            <a:off x="342864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864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428640" y="38098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334120" y="38098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7236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220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22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22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9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6840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46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7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8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2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3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4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5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6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7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58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6859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65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6866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7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9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72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76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6877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8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9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0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83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4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5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6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7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8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9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0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4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5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6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00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6901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2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3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4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07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6908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9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0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1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14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6915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21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2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3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4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5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6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7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8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9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0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1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2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3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4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5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6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7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8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9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0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1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2" name=""/>
          <p:cNvSpPr/>
          <p:nvPr/>
        </p:nvSpPr>
        <p:spPr>
          <a:xfrm>
            <a:off x="-319320" y="4613400"/>
            <a:ext cx="976500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 b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3" name=""/>
          <p:cNvSpPr/>
          <p:nvPr/>
        </p:nvSpPr>
        <p:spPr>
          <a:xfrm>
            <a:off x="4343400" y="5334120"/>
            <a:ext cx="457200" cy="457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4" name=""/>
          <p:cNvSpPr/>
          <p:nvPr/>
        </p:nvSpPr>
        <p:spPr>
          <a:xfrm>
            <a:off x="0" y="5334120"/>
            <a:ext cx="914400" cy="457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8120" y="2971440"/>
            <a:ext cx="2286000" cy="1676520"/>
            <a:chOff x="3048120" y="2971440"/>
            <a:chExt cx="2286000" cy="1676520"/>
          </a:xfrm>
        </p:grpSpPr>
        <p:sp>
          <p:nvSpPr>
            <p:cNvPr id="148" name=""/>
            <p:cNvSpPr/>
            <p:nvPr/>
          </p:nvSpPr>
          <p:spPr>
            <a:xfrm>
              <a:off x="3048120" y="2971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048120" y="2971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733920" y="464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733920" y="297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33920" y="297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81840" y="373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 flipH="1">
            <a:off x="342864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2864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28640" y="38098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334120" y="38098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7236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220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22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22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048120" y="2971440"/>
            <a:ext cx="2286000" cy="1676520"/>
            <a:chOff x="3048120" y="2971440"/>
            <a:chExt cx="2286000" cy="1676520"/>
          </a:xfrm>
        </p:grpSpPr>
        <p:sp>
          <p:nvSpPr>
            <p:cNvPr id="164" name=""/>
            <p:cNvSpPr/>
            <p:nvPr/>
          </p:nvSpPr>
          <p:spPr>
            <a:xfrm>
              <a:off x="3048120" y="2971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048120" y="2971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733920" y="464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733920" y="297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33920" y="297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81840" y="373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H="1">
            <a:off x="342864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42864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428640" y="38098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334120" y="38098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7236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220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22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22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agate(l,er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l to er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l is PO then 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 = the fanout of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= controlling value of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= inversion of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very input j of k other than 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ify(j,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agate(k,err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480060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286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9144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9144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84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6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62680" y="1603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362680" y="1598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580920" y="3276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580920" y="1600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160020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6600" y="2590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96600" y="2590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78132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781320" y="2590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89320" y="5105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1440" y="54864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189320" y="55627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8932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80880" y="5562720"/>
            <a:ext cx="381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968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971800" y="19810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971800" y="2895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320" y="1371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1371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971800" y="2895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248160" y="28954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248160" y="3962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39625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296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76160" y="803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5284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532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4796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5197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286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144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9144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84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6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62680" y="1603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362680" y="1598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580920" y="3276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580920" y="1600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60020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6600" y="2590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096600" y="2590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78132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781320" y="2590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89320" y="5105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51440" y="54864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189320" y="55627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8932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80880" y="5562720"/>
            <a:ext cx="381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968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971800" y="19810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971800" y="2895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62320" y="1371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1371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971800" y="2895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248160" y="28954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48160" y="3962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39625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96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76160" y="803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5284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532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4796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197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64520" y="990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286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9144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9144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384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6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62680" y="1603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362680" y="1598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580920" y="3276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580920" y="1600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60020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6600" y="2590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096600" y="2590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78132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781320" y="2590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8168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89320" y="5105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1440" y="54864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189320" y="55627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8932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80880" y="5562720"/>
            <a:ext cx="381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968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971800" y="19810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2971800" y="2895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1371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71800" y="1371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971800" y="2895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248160" y="28954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248160" y="3962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48520" y="39625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296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76160" y="803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5284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532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4796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197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65960" y="99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286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9144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9144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84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6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680" y="1603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362680" y="1598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580920" y="3276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580920" y="1600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81280" y="160020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6600" y="2590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096600" y="2590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78132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781320" y="2590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89320" y="5105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51440" y="54864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189320" y="55627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8932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80880" y="5562720"/>
            <a:ext cx="381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968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971800" y="19810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971800" y="2895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62320" y="1371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1371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971800" y="2895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248160" y="28954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6248160" y="3962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6272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39625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2296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76160" y="803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5284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532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4796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5197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65960" y="99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12800" y="4222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ify(f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286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9144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9144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144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84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6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62680" y="1603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362680" y="1598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580920" y="3276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580920" y="1600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81280" y="160020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6600" y="2590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096600" y="2590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78132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6781320" y="2590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8168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89320" y="5105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1440" y="54864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189320" y="55627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8932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80880" y="5562720"/>
            <a:ext cx="381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968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2971800" y="19810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971800" y="2895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362320" y="1371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971800" y="1371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971800" y="2895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248160" y="28954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248160" y="3962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6272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48520" y="39625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2296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76160" y="803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5284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8532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4796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5197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65960" y="99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12800" y="4222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ify(f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9000" y="38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9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286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9144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9144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84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6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62680" y="1603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362680" y="1598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580920" y="3276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3580920" y="1600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81280" y="160020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6600" y="2590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096600" y="2590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678132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6781320" y="2590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8168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89320" y="5105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951440" y="54864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189320" y="55627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8932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80880" y="5562720"/>
            <a:ext cx="381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968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971800" y="19810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971800" y="2895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62320" y="1371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71800" y="1371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971800" y="2895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6248160" y="28954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248160" y="3962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56272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48520" y="39625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296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76160" y="803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5284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8532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4796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5197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65960" y="99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13160" y="4222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agate(f,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59000" y="38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9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ault-oriented ATG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4382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0574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20574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59092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41148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1148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411480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286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9144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9144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84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16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680" y="1603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362680" y="1598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580920" y="3276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580920" y="1600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81280" y="160020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6600" y="2590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6096600" y="2590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678132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6781320" y="2590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8168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89320" y="5105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1440" y="54864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189320" y="55627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8932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380880" y="5562720"/>
            <a:ext cx="381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968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971800" y="19810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971800" y="2895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62320" y="1371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1371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971800" y="2895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6248160" y="28954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248160" y="3962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6272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248520" y="39625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2296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76160" y="803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5284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532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4796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5197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65960" y="99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13160" y="4222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ify(g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9000" y="38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9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286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9144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9144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1384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16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62680" y="1603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362680" y="1598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580920" y="3276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580920" y="1600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1280" y="160020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096600" y="2590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096600" y="2590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678132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6781320" y="2590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8168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89320" y="5105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951440" y="54864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4189320" y="55627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8932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80880" y="5562720"/>
            <a:ext cx="381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968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971800" y="19810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971800" y="2895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62320" y="1371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1371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2971800" y="2895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6248160" y="28954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6248160" y="3962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56272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248520" y="39625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2296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76160" y="803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5284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8532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54796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5197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65960" y="99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413160" y="4222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ify(g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59000" y="38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9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2280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86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286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9144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9144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144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84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16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362680" y="1603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2362680" y="1598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3580920" y="3276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3580920" y="1600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81280" y="160020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6600" y="2590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6600" y="2590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678132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781320" y="2590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78168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89320" y="5105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1440" y="54864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189320" y="55627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8932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380880" y="5562720"/>
            <a:ext cx="381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968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2971800" y="19810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971800" y="2895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62320" y="1371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1371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2971800" y="2895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6248160" y="28954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6248160" y="3962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6272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248520" y="39625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2296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76160" y="803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65284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532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4796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5197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65960" y="99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413160" y="4222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ify(g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9000" y="38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9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32280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90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59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86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286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9144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9144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9144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384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16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362680" y="1603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362680" y="1598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580920" y="3276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580920" y="1600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81280" y="160020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6600" y="2590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096600" y="2590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78132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781320" y="2590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8168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89320" y="5105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951440" y="54864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4189320" y="55627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8932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80880" y="5562720"/>
            <a:ext cx="381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968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971800" y="19810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2971800" y="2895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62320" y="1371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971800" y="1371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971800" y="2895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6248160" y="28954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6248160" y="3962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56272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248520" y="39625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2296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576160" y="803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65284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532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54796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197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865960" y="99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13160" y="42228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agate(h,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9000" y="38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9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32280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590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9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2286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9144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9144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9144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1384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16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62680" y="1603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362680" y="1598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3580920" y="3276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580920" y="1600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581280" y="160020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096600" y="2590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096600" y="2590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678132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781320" y="2590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8168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189320" y="5105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951440" y="54864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4189320" y="55627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18932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380880" y="5562720"/>
            <a:ext cx="381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968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2971800" y="19810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2971800" y="2895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362320" y="1371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71800" y="1371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2971800" y="2895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6248160" y="28954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6248160" y="3962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56272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248520" y="39625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2296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576160" y="803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65284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8532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54796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5197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865960" y="99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413160" y="42228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agate(h,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9000" y="38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59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32280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590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59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1743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86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2286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9144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9144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144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384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6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362680" y="1603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2362680" y="1598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3580920" y="3276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580920" y="1600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581280" y="160020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96600" y="2590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6096600" y="2590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678132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6781320" y="2590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78168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89320" y="5105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951440" y="54864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189320" y="55627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8932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80880" y="5562720"/>
            <a:ext cx="381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968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2971800" y="19810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2971800" y="2895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62320" y="1371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971800" y="1371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2971800" y="2895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248160" y="28954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48160" y="3962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248520" y="39625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2296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76160" y="803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65284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8532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54796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5197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65960" y="99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12440" y="42228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ify(i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59000" y="38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32280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90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9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1743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286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2286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9144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9144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9144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1384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16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362680" y="1603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2362680" y="1598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3580920" y="3276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580920" y="1600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581280" y="160020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6600" y="2590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6096600" y="2590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678132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6781320" y="2590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8168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189320" y="5105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51440" y="54864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4189320" y="55627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18932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80880" y="5562720"/>
            <a:ext cx="381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2968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2971800" y="19810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2971800" y="2895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362320" y="1371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971800" y="1371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2971800" y="2895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6248160" y="28954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6248160" y="3962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56272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248520" y="39625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2296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76160" y="803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65284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8532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54796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5197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865960" y="99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12440" y="42228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ify(i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59000" y="38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9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32280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590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9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743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25032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286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2286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9144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9144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9144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384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6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62680" y="1603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362680" y="1598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580920" y="3276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3580920" y="1600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581280" y="160020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096600" y="2590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6096600" y="2590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678132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6781320" y="2590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78168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189320" y="5105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951440" y="54864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189320" y="55627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18932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380880" y="5562720"/>
            <a:ext cx="381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968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2971800" y="19810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2971800" y="2895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62320" y="1371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71800" y="1371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2971800" y="2895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6248160" y="28954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6248160" y="3962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56272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248520" y="39625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2296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576160" y="803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65284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8532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54796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5197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865960" y="99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412440" y="42228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ify(i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59000" y="38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59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32280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590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59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1743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25032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590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286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2286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9144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9144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9144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1384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6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362680" y="1603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362680" y="1598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3580920" y="3276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3580920" y="1600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581280" y="160020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096600" y="2590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6096600" y="2590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678132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6781320" y="2590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78168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189320" y="5105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951440" y="54864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189320" y="55627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18932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380880" y="5562720"/>
            <a:ext cx="381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968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2971800" y="19810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2971800" y="2895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362320" y="1371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971800" y="1371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2971800" y="2895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6248160" y="28954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6248160" y="3962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56272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248520" y="39625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2296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576160" y="803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65284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8532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54796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5197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865960" y="99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412800" y="42228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agate(j,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59000" y="38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59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2280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90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59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743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25032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0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286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2286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9144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9144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144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1384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6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362680" y="1603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2362680" y="1598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3580920" y="3276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3580920" y="1600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581280" y="160020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096600" y="2590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096600" y="2590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6781320" y="4267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6781320" y="2590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78168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89320" y="5105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951440" y="54864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4189320" y="55627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89320" y="5105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80880" y="5562720"/>
            <a:ext cx="381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2968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2971800" y="19810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2971800" y="2895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362320" y="1371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971800" y="1371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2971800" y="2895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6248160" y="28954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6248160" y="3962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56272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248520" y="24382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248520" y="39625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2296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576160" y="803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65284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8532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54796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51976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865960" y="99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412800" y="42228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agate(j,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59000" y="38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59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32280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380880" y="3124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380880" y="4191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590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90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1743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25032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590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846036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st gener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στω ότ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 s-a-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all values to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ify(l,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v = 0 then Propagate(l,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e Propagate(l,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41148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510552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490200" y="3089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60720" y="1936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f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860720" y="1936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f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860720" y="1936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f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860720" y="1936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pagate(f,D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61080" y="1936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g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861080" y="1936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g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32936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861080" y="1936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g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32936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3988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8398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861080" y="1936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g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32936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83988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8398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609480" y="1295280"/>
            <a:ext cx="762120" cy="1905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ify(l,v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l to 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l is PI then 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controlling value of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 = inversion of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al = val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(inval =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for every input j of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ify(j,inv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 one input j of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ify(j,inv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31240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4861080" y="1936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g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432936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83988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8398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62120" y="1447920"/>
            <a:ext cx="45720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61760" y="14479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62120" y="533520"/>
            <a:ext cx="45720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flipH="1">
            <a:off x="761760" y="5335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4267080" y="685800"/>
            <a:ext cx="45720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4267080" y="685800"/>
            <a:ext cx="53352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860360" y="19368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i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860360" y="19368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i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707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860720" y="19368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e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6707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860720" y="19368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e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707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8398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861080" y="1936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h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707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8398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861080" y="1936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h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6707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8398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430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860720" y="19368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c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707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8398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3430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4860720" y="19368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c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6707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8398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3430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8398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4860720" y="19368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c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6707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8398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3430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8398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685800" y="3581280"/>
            <a:ext cx="609480" cy="18288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048120" y="2971440"/>
            <a:ext cx="2286000" cy="1676520"/>
            <a:chOff x="3048120" y="2971440"/>
            <a:chExt cx="2286000" cy="1676520"/>
          </a:xfrm>
        </p:grpSpPr>
        <p:sp>
          <p:nvSpPr>
            <p:cNvPr id="66" name=""/>
            <p:cNvSpPr/>
            <p:nvPr/>
          </p:nvSpPr>
          <p:spPr>
            <a:xfrm>
              <a:off x="3048120" y="2971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3048120" y="2971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733920" y="464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733920" y="297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33920" y="297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81840" y="373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>
            <a:off x="342864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42864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428640" y="38098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334120" y="38098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4861080" y="1936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pagate(k,D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6707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8398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3430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4861080" y="1936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pagate(k,D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6707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8398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3430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8612640" y="3124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76680" y="612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 flipV="1">
            <a:off x="76680" y="608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 flipH="1">
            <a:off x="1294920" y="2286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 flipH="1">
            <a:off x="1294920" y="6094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1295280" y="6094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3276720" y="1371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144792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 flipV="1">
            <a:off x="1447920" y="53341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1447920" y="48769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2895840" y="4803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 flipV="1">
            <a:off x="2895840" y="47995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 flipH="1">
            <a:off x="4114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 flipH="1">
            <a:off x="4114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4114800" y="48006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6095880" y="55627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4572000" y="8380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 flipV="1">
            <a:off x="4572000" y="83736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 flipH="1"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 flipH="1">
            <a:off x="5257800" y="838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5257800" y="838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400800" y="2819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6400800" y="2818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 flipH="1">
            <a:off x="7086600" y="4495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 flipH="1">
            <a:off x="70866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7086600" y="2819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 flipH="1">
            <a:off x="22824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 flipH="1">
            <a:off x="228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 flipH="1">
            <a:off x="228240" y="3581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 flipH="1">
            <a:off x="762120" y="1905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76212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 flipH="1">
            <a:off x="22860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 flipH="1">
            <a:off x="76176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762120" y="41148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2362320" y="533412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 flipH="1">
            <a:off x="3352680" y="5181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3352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 flipH="1">
            <a:off x="228600" y="609588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 flipH="1">
            <a:off x="6781320" y="4191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6781680" y="41911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62485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 flipH="1">
            <a:off x="4571640" y="31240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2895480" y="35812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 flipH="1">
            <a:off x="457164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4572000" y="22096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 flipH="1">
            <a:off x="4190760" y="1143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3429000" y="14479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6705720" y="167652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8534520" y="36576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7740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78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774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78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77400" y="56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125520" y="3089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3567240" y="9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2652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6309720" y="5146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7087680" y="1184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8596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4861080" y="1936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pagate(k,D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643920" y="3089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839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8398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839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6707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8398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3430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8612640" y="3124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7639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610200" y="6858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 flipV="1">
            <a:off x="610200" y="68436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flipH="1">
            <a:off x="12949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 flipH="1">
            <a:off x="1294920" y="6858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295280" y="6858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743200" y="14479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10200" y="48006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 flipV="1">
            <a:off x="610200" y="47995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 flipH="1">
            <a:off x="1294920" y="6477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 flipH="1">
            <a:off x="1294920" y="48006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295280" y="48006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2743200" y="55627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 flipH="1">
            <a:off x="228240" y="9907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 flipH="1">
            <a:off x="990720" y="20574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H="1">
            <a:off x="990720" y="30481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 flipH="1">
            <a:off x="990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 flipH="1">
            <a:off x="990720" y="51055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 flipH="1">
            <a:off x="228240" y="61722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990720" y="20574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990720" y="41148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228240" y="2514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 flipH="1">
            <a:off x="228240" y="4648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53720" y="498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1540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1537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1540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4267440" y="2746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 flipV="1">
            <a:off x="4267440" y="2741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H="1">
            <a:off x="5486400" y="4419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flipH="1">
            <a:off x="54864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5486400" y="27432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895480" y="358128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7467480" y="358128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2895480" y="15238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895480" y="56386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 flipH="1">
            <a:off x="4647960" y="40384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 flipH="1">
            <a:off x="4647960" y="31240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464832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4648320" y="15238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3049200" y="1066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3049200" y="3124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3094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75456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610200" y="6858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 flipV="1">
            <a:off x="610200" y="68436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 flipH="1">
            <a:off x="12949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 flipH="1">
            <a:off x="1294920" y="6858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1295280" y="6858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2743200" y="14479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610200" y="48006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 flipV="1">
            <a:off x="610200" y="47995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 flipH="1">
            <a:off x="1294920" y="6477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 flipH="1">
            <a:off x="1294920" y="48006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295280" y="48006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743200" y="55627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 flipH="1">
            <a:off x="228240" y="9907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flipH="1">
            <a:off x="990720" y="20574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 flipH="1">
            <a:off x="990720" y="30481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 flipH="1">
            <a:off x="990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 flipH="1">
            <a:off x="990720" y="51055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 flipH="1">
            <a:off x="228240" y="61722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990720" y="20574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990720" y="41148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 flipH="1">
            <a:off x="228240" y="2514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 flipH="1">
            <a:off x="228240" y="4648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153720" y="498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1540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1537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1540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4267440" y="2746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 flipV="1">
            <a:off x="4267440" y="2741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 flipH="1">
            <a:off x="5486400" y="4419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 flipH="1">
            <a:off x="54864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5486400" y="27432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2895480" y="358128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7467480" y="358128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2895480" y="15238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2895480" y="56386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 flipH="1">
            <a:off x="4647960" y="40384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 flipH="1">
            <a:off x="4647960" y="31240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464832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4648320" y="15238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3049200" y="1066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3049200" y="3124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3094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75456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3490200" y="3089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610200" y="6858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 flipV="1">
            <a:off x="610200" y="68436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 flipH="1">
            <a:off x="12949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 flipH="1">
            <a:off x="1294920" y="6858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1295280" y="6858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2743200" y="14479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610200" y="48006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V="1">
            <a:off x="610200" y="47995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 flipH="1">
            <a:off x="1294920" y="6477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1294920" y="48006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1295280" y="48006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2743200" y="55627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 flipH="1">
            <a:off x="228240" y="9907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 flipH="1">
            <a:off x="990720" y="20574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 flipH="1">
            <a:off x="990720" y="30481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 flipH="1">
            <a:off x="990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 flipH="1">
            <a:off x="990720" y="51055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 flipH="1">
            <a:off x="228240" y="61722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990720" y="20574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990720" y="41148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 flipH="1">
            <a:off x="228240" y="2514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 flipH="1">
            <a:off x="228240" y="4648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153720" y="498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1540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1537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1540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267440" y="2746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 flipV="1">
            <a:off x="4267440" y="2741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 flipH="1">
            <a:off x="5486400" y="4419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 flipH="1">
            <a:off x="54864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5486400" y="27432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2895480" y="358128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7467480" y="358128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2895480" y="15238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2895480" y="56386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647960" y="40384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 flipH="1">
            <a:off x="4647960" y="31240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464832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4648320" y="15238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3049200" y="1066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3049200" y="3124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3094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75456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5241600" y="1936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f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610200" y="6858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 flipV="1">
            <a:off x="610200" y="68436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 flipH="1">
            <a:off x="12949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 flipH="1">
            <a:off x="1294920" y="6858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1295280" y="6858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2743200" y="14479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610200" y="48006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 flipV="1">
            <a:off x="610200" y="47995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 flipH="1">
            <a:off x="1294920" y="6477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H="1">
            <a:off x="1294920" y="48006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295280" y="48006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2743200" y="55627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 flipH="1">
            <a:off x="228240" y="9907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flipH="1">
            <a:off x="990720" y="20574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flipH="1">
            <a:off x="990720" y="30481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 flipH="1">
            <a:off x="990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H="1">
            <a:off x="990720" y="51055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 flipH="1">
            <a:off x="228240" y="61722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990720" y="20574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990720" y="41148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 flipH="1">
            <a:off x="228240" y="2514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 flipH="1">
            <a:off x="228240" y="4648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153720" y="498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1540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1537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1540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4267440" y="2746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 flipV="1">
            <a:off x="4267440" y="2741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flipH="1">
            <a:off x="5486400" y="4419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54864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5486400" y="27432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2895480" y="358128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7467480" y="358128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2895480" y="15238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895480" y="56386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 flipH="1">
            <a:off x="4647960" y="40384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 flipH="1">
            <a:off x="4647960" y="31240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464832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4648320" y="15238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3049200" y="1066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3049200" y="3124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3094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75456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5241600" y="1936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f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3643920" y="3089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610200" y="6858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 flipV="1">
            <a:off x="610200" y="68436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 flipH="1">
            <a:off x="12949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 flipH="1">
            <a:off x="1294920" y="6858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1295280" y="6858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2743200" y="14479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610200" y="48006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 flipV="1">
            <a:off x="610200" y="47995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 flipH="1">
            <a:off x="1294920" y="6477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 flipH="1">
            <a:off x="1294920" y="48006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1295280" y="48006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2743200" y="55627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 flipH="1">
            <a:off x="228240" y="9907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 flipH="1">
            <a:off x="990720" y="20574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 flipH="1">
            <a:off x="990720" y="30481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 flipH="1">
            <a:off x="990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 flipH="1">
            <a:off x="990720" y="51055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 flipH="1">
            <a:off x="228240" y="61722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990720" y="20574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990720" y="41148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 flipH="1">
            <a:off x="228240" y="2514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 flipH="1">
            <a:off x="228240" y="4648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153720" y="498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1540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1537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1540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4267440" y="2746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 flipV="1">
            <a:off x="4267440" y="2741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 flipH="1">
            <a:off x="5486400" y="4419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 flipH="1">
            <a:off x="54864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5486400" y="27432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2895480" y="358128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7467480" y="358128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2895480" y="15238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2895480" y="56386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 flipH="1">
            <a:off x="4647960" y="40384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 flipH="1">
            <a:off x="4647960" y="31240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464832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4648320" y="15238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3049200" y="1066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3049200" y="3124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3094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75456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5241600" y="1936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f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3643920" y="3089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45900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4590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610200" y="6858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 flipV="1">
            <a:off x="610200" y="68436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 flipH="1">
            <a:off x="12949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 flipH="1">
            <a:off x="1294920" y="6858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1295280" y="6858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2743200" y="14479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610200" y="48006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 flipV="1">
            <a:off x="610200" y="47995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 flipH="1">
            <a:off x="1294920" y="6477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 flipH="1">
            <a:off x="1294920" y="48006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1295280" y="48006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2743200" y="55627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 flipH="1">
            <a:off x="228240" y="9907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 flipH="1">
            <a:off x="990720" y="20574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 flipH="1">
            <a:off x="990720" y="30481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 flipH="1">
            <a:off x="990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 flipH="1">
            <a:off x="990720" y="51055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 flipH="1">
            <a:off x="228240" y="61722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990720" y="20574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990720" y="41148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 flipH="1">
            <a:off x="228240" y="2514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 flipH="1">
            <a:off x="228240" y="4648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153720" y="498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1540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1537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1540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4267440" y="2746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 flipV="1">
            <a:off x="4267440" y="2741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 flipH="1">
            <a:off x="5486400" y="4419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 flipH="1">
            <a:off x="54864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5486400" y="27432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2895480" y="358128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7467480" y="358128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2895480" y="15238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2895480" y="56386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 flipH="1">
            <a:off x="4647960" y="40384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 flipH="1">
            <a:off x="4647960" y="31240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464832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4648320" y="15238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3049200" y="1066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3049200" y="3124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3094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75456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5241960" y="1936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pagate(f,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3643920" y="3089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45900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4590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610200" y="6858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 flipV="1">
            <a:off x="610200" y="68436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 flipH="1">
            <a:off x="12949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 flipH="1">
            <a:off x="1294920" y="6858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1295280" y="6858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2743200" y="14479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610200" y="48006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 flipV="1">
            <a:off x="610200" y="47995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 flipH="1">
            <a:off x="1294920" y="6477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 flipH="1">
            <a:off x="1294920" y="48006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1295280" y="48006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2743200" y="55627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 flipH="1">
            <a:off x="228240" y="9907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 flipH="1">
            <a:off x="990720" y="20574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 flipH="1">
            <a:off x="990720" y="30481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 flipH="1">
            <a:off x="990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 flipH="1">
            <a:off x="990720" y="51055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 flipH="1">
            <a:off x="228240" y="61722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990720" y="20574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990720" y="41148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 flipH="1">
            <a:off x="228240" y="2514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 flipH="1">
            <a:off x="228240" y="4648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153720" y="498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1540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1537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1540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4267440" y="2746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 flipV="1">
            <a:off x="4267440" y="2741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 flipH="1">
            <a:off x="5486400" y="4419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 flipH="1">
            <a:off x="54864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5486400" y="27432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2895480" y="358128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7467480" y="358128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2895480" y="15238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2895480" y="56386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 flipH="1">
            <a:off x="4647960" y="40384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flipH="1">
            <a:off x="4647960" y="31240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464832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4648320" y="15238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3049200" y="1066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3049200" y="3124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3094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75456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5241600" y="19368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e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3643920" y="3089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45900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4590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048120" y="2971440"/>
            <a:ext cx="2286000" cy="1676520"/>
            <a:chOff x="3048120" y="2971440"/>
            <a:chExt cx="2286000" cy="1676520"/>
          </a:xfrm>
        </p:grpSpPr>
        <p:sp>
          <p:nvSpPr>
            <p:cNvPr id="78" name=""/>
            <p:cNvSpPr/>
            <p:nvPr/>
          </p:nvSpPr>
          <p:spPr>
            <a:xfrm>
              <a:off x="3048120" y="2971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048120" y="2971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733920" y="464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733920" y="297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33920" y="297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81840" y="373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 flipH="1">
            <a:off x="342864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2864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428640" y="38098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334120" y="38098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7236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610200" y="6858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 flipV="1">
            <a:off x="610200" y="68436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12949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1294920" y="6858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1295280" y="6858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2743200" y="14479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610200" y="48006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 flipV="1">
            <a:off x="610200" y="47995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 flipH="1">
            <a:off x="1294920" y="6477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1294920" y="48006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1295280" y="48006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2743200" y="55627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 flipH="1">
            <a:off x="228240" y="9907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 flipH="1">
            <a:off x="990720" y="20574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 flipH="1">
            <a:off x="990720" y="30481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990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990720" y="51055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228240" y="61722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990720" y="20574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990720" y="41148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228240" y="2514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>
            <a:off x="228240" y="4648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153720" y="498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1540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1537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1540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4267440" y="2746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 flipV="1">
            <a:off x="4267440" y="2741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5486400" y="4419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 flipH="1">
            <a:off x="54864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5486400" y="27432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2895480" y="358128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7467480" y="358128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2895480" y="15238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2895480" y="56386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 flipH="1">
            <a:off x="4647960" y="40384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 flipH="1">
            <a:off x="4647960" y="31240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464832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4648320" y="15238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3049200" y="1066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3049200" y="3124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3094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75456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5241600" y="19368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e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3643920" y="3089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45900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4590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363564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"/>
          <p:cNvSpPr/>
          <p:nvPr/>
        </p:nvSpPr>
        <p:spPr>
          <a:xfrm>
            <a:off x="6102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 flipV="1">
            <a:off x="6102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 flipH="1">
            <a:off x="12949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 flipH="1">
            <a:off x="12949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12952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2743200" y="3505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610200" y="6858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 flipV="1">
            <a:off x="610200" y="68436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 flipH="1">
            <a:off x="12949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 flipH="1">
            <a:off x="1294920" y="6858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1295280" y="6858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2743200" y="14479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610200" y="48006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 flipV="1">
            <a:off x="610200" y="47995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 flipH="1">
            <a:off x="1294920" y="6477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 flipH="1">
            <a:off x="1294920" y="48006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1295280" y="48006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2743200" y="55627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 flipH="1">
            <a:off x="228240" y="9907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 flipH="1">
            <a:off x="990720" y="20574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 flipH="1">
            <a:off x="990720" y="30481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 flipH="1">
            <a:off x="990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 flipH="1">
            <a:off x="990720" y="51055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 flipH="1">
            <a:off x="228240" y="61722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990720" y="20574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990720" y="41148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 flipH="1">
            <a:off x="228240" y="2514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 flipH="1">
            <a:off x="228240" y="4648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153720" y="498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1540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1537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1540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4267440" y="2746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 flipV="1">
            <a:off x="4267440" y="274176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 flipH="1">
            <a:off x="5486400" y="4419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 flipH="1">
            <a:off x="54864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5486400" y="27432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2895480" y="358128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7467480" y="358128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2895480" y="15238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2895480" y="56386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 flipH="1">
            <a:off x="4647960" y="40384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 flipH="1">
            <a:off x="4647960" y="31240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464832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4648320" y="15238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3049200" y="1066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3049200" y="3124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3094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75456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5241600" y="19368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stify(e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3643920" y="3089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45900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4590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363564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443160" y="49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96048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 rot="19480800">
            <a:off x="304920" y="1676160"/>
            <a:ext cx="12952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-fronti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Όλες οι πύλες που έχου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την έξοδό τους και έχουν ένα ή περισσότερα σήματα σφάλματος στις εισόδους του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πιλέγοντας μια πύλη από 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-frontier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και δίνοντας κατάλληλες τιμές στις μη προσδιορισμένες εισόδους έτσι ώστε η έξοδος να γίνε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ή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’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προωθούμε τα σφάλματα προς την έξοδ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 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-frontier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ένει κενό, τότε πρέπει να κάνουμ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trac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-fronti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Όλες οι πύλες που έχουν γνωστή τιμή εξόδου η οποία δεν εξάγεται από τις τιμές των εισόδω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"/>
          <p:cNvSpPr/>
          <p:nvPr/>
        </p:nvSpPr>
        <p:spPr>
          <a:xfrm>
            <a:off x="838440" y="98892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flipV="1">
            <a:off x="838440" y="98784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 flipH="1">
            <a:off x="1294920" y="190332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 flipH="1">
            <a:off x="1294920" y="98748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1295280" y="988920"/>
            <a:ext cx="180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685440" y="12193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685440" y="16765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2209680" y="14479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838440" y="243684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flipV="1">
            <a:off x="838440" y="243612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 flipH="1">
            <a:off x="1294920" y="335124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 flipH="1">
            <a:off x="1294920" y="243540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1295280" y="2436840"/>
            <a:ext cx="180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 flipH="1">
            <a:off x="685440" y="26668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685440" y="31240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2209680" y="2895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838440" y="388476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 flipV="1">
            <a:off x="838440" y="388404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 flipH="1">
            <a:off x="1294920" y="479916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 flipH="1">
            <a:off x="1294920" y="388296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1295280" y="3884760"/>
            <a:ext cx="180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 flipH="1">
            <a:off x="685440" y="4114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 flipH="1">
            <a:off x="685440" y="45720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209680" y="4343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838440" y="533232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 flipV="1">
            <a:off x="838440" y="533160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 flipH="1">
            <a:off x="1294920" y="624672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 flipH="1">
            <a:off x="1294920" y="533088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1295280" y="5332320"/>
            <a:ext cx="180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 flipH="1">
            <a:off x="685440" y="55627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 flipH="1">
            <a:off x="685440" y="60199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2209680" y="57913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5029560" y="99216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 flipV="1">
            <a:off x="5029560" y="99108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 flipH="1">
            <a:off x="5486040" y="190656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5486040" y="99072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5486400" y="99216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 flipH="1">
            <a:off x="4876560" y="12222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 flipH="1">
            <a:off x="4876560" y="1679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6400800" y="1450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5029560" y="244008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 flipV="1">
            <a:off x="5029560" y="243936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 flipH="1">
            <a:off x="5486040" y="335448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 flipH="1">
            <a:off x="5486040" y="243828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5486400" y="244008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 flipH="1">
            <a:off x="4876560" y="26701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 flipH="1">
            <a:off x="4876560" y="31273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6400800" y="2898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5029560" y="388764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 flipV="1">
            <a:off x="5029560" y="388692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 flipH="1">
            <a:off x="5486040" y="480204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 flipH="1">
            <a:off x="5486040" y="388620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5486400" y="388764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 flipH="1">
            <a:off x="4876560" y="411804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 flipH="1">
            <a:off x="4876560" y="457524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6400800" y="43466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5029560" y="533556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 flipV="1">
            <a:off x="5029560" y="533484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 flipH="1">
            <a:off x="5486040" y="624996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 flipH="1">
            <a:off x="5486040" y="533412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5486400" y="533556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 flipH="1">
            <a:off x="4876560" y="5565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 flipH="1">
            <a:off x="4876560" y="6022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6400800" y="57942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28954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2895480" y="5562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2895480" y="6019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708660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7086600" y="5562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7086600" y="6019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4590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474840" y="1254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459000" y="232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47484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487440" y="376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503280" y="41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466596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4678560" y="377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46944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2515680" y="9907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2542680" y="24382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2542680" y="38862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2515680" y="4267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2055960" y="350532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-frontier = {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2999880" y="5105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244008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31258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67075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4676400" y="7621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4676400" y="12193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670752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4676400" y="22860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6706800" y="4267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6707520" y="381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72406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6428880" y="53341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7191000" y="55627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6141960" y="350532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-frontier = {..., a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"/>
          <p:cNvSpPr/>
          <p:nvPr/>
        </p:nvSpPr>
        <p:spPr>
          <a:xfrm>
            <a:off x="838440" y="136692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 flipV="1">
            <a:off x="838440" y="136584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 flipH="1">
            <a:off x="1294920" y="228132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 flipH="1">
            <a:off x="1294920" y="136512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1295280" y="1366920"/>
            <a:ext cx="180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 flipH="1">
            <a:off x="685440" y="159696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 flipH="1">
            <a:off x="685440" y="205416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2209680" y="182556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838440" y="281448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 flipV="1">
            <a:off x="838440" y="281376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 flipH="1">
            <a:off x="1294920" y="372888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 flipH="1">
            <a:off x="1294920" y="281304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295280" y="2814480"/>
            <a:ext cx="180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 flipH="1">
            <a:off x="685440" y="30448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 flipH="1">
            <a:off x="685440" y="35020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2209680" y="3273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838440" y="426240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 flipV="1">
            <a:off x="838440" y="426168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 flipH="1">
            <a:off x="1294920" y="517680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 flipH="1">
            <a:off x="1294920" y="426096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1295280" y="4262400"/>
            <a:ext cx="180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 flipH="1">
            <a:off x="685440" y="4492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 flipH="1">
            <a:off x="685440" y="49500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2209680" y="4721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5029560" y="137016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 flipV="1">
            <a:off x="5029560" y="136908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 flipH="1">
            <a:off x="5486040" y="228456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 flipH="1">
            <a:off x="5486040" y="136836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5486400" y="137016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 flipH="1">
            <a:off x="4876560" y="16002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 flipH="1">
            <a:off x="4876560" y="2057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6400800" y="1828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5029560" y="281772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 flipV="1">
            <a:off x="5029560" y="281700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5486040" y="373212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 flipH="1">
            <a:off x="5486040" y="281628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5486400" y="281772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 flipH="1">
            <a:off x="4876560" y="30481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 flipH="1">
            <a:off x="4876560" y="35053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6400800" y="3276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5029560" y="426564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 flipV="1">
            <a:off x="5029560" y="426492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 flipH="1">
            <a:off x="5486040" y="518004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 flipH="1">
            <a:off x="5486040" y="426420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5486400" y="426564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 flipH="1">
            <a:off x="4876560" y="44956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 flipH="1">
            <a:off x="4876560" y="49528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6400800" y="4724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474840" y="163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485280" y="259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47484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513720" y="40384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503280" y="456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4665960" y="312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467856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4694400" y="456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2489400" y="137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2516400" y="282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2516400" y="4270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515680" y="4645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2055600" y="388296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-frontier = {..., a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6505200" y="13622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4650120" y="1146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4650120" y="160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6505200" y="28098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4650120" y="26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6706800" y="4645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6707520" y="4194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6142320" y="388296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-frontier = {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485280" y="11430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"/>
          <p:cNvSpPr/>
          <p:nvPr/>
        </p:nvSpPr>
        <p:spPr>
          <a:xfrm>
            <a:off x="838440" y="190008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 flipV="1">
            <a:off x="838440" y="189936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 flipH="1">
            <a:off x="1294920" y="281448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 flipH="1">
            <a:off x="1294920" y="189864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1295280" y="1900080"/>
            <a:ext cx="180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 flipH="1">
            <a:off x="685440" y="21304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 flipH="1">
            <a:off x="685440" y="25876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2209680" y="2359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5029560" y="190332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 flipV="1">
            <a:off x="5029560" y="190260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 flipH="1">
            <a:off x="5486040" y="281772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 flipH="1">
            <a:off x="5486040" y="190188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5486400" y="190332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 flipH="1">
            <a:off x="4876560" y="21337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 flipH="1">
            <a:off x="4876560" y="25909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6400800" y="23623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513720" y="1676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503280" y="2200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467856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4720680" y="22003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2516400" y="1908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2515680" y="2282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2055600" y="152100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-frontier = {..., a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6706800" y="2282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6707520" y="18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6142320" y="152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-frontier = {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838440" y="334800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 flipV="1">
            <a:off x="838440" y="334728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 flipH="1">
            <a:off x="1294920" y="426240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 flipH="1">
            <a:off x="1294920" y="334656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1295280" y="3348000"/>
            <a:ext cx="180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 flipH="1">
            <a:off x="685440" y="3578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 flipH="1">
            <a:off x="685440" y="40356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2209680" y="3807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5029560" y="335124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5029560" y="335052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 flipH="1">
            <a:off x="5486040" y="426564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 flipH="1">
            <a:off x="5486040" y="334980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5486400" y="335124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 flipH="1">
            <a:off x="4876560" y="35812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 flipH="1">
            <a:off x="4876560" y="40384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640080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487800" y="313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529560" y="3641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467892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4694400" y="365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2516400" y="33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2515680" y="3730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056320" y="296856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-frontier = {..., a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6706800" y="3730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6734520" y="3273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6143040" y="2968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-frontier = {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838440" y="479592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 flipV="1">
            <a:off x="838440" y="479520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 flipH="1">
            <a:off x="1294920" y="571032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 flipH="1">
            <a:off x="1294920" y="479412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1295280" y="4795920"/>
            <a:ext cx="180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 flipH="1">
            <a:off x="685440" y="502596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 flipH="1">
            <a:off x="685440" y="548316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209680" y="525456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5029560" y="479916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 flipV="1">
            <a:off x="5029560" y="479844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 flipH="1">
            <a:off x="5486040" y="571356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 flipH="1">
            <a:off x="5486040" y="479736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5486400" y="479916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 flipH="1">
            <a:off x="4876560" y="50292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H="1">
            <a:off x="487656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6400800" y="5257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487800" y="45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529560" y="50896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4678920" y="464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4694400" y="510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2516400" y="4803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2515680" y="5178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2056320" y="441648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-frontier = {..., a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6706800" y="5178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6733800" y="47214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6143040" y="441648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-frontier = {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"/>
          <p:cNvSpPr/>
          <p:nvPr/>
        </p:nvSpPr>
        <p:spPr>
          <a:xfrm>
            <a:off x="856080" y="98892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 flipV="1">
            <a:off x="856080" y="98784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1312560" y="190332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 flipH="1">
            <a:off x="1312560" y="98748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1312920" y="98892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 flipH="1">
            <a:off x="703080" y="12193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 flipH="1">
            <a:off x="703080" y="16765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2227320" y="14479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856080" y="243684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 flipV="1">
            <a:off x="856080" y="243612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 flipH="1">
            <a:off x="1312560" y="335124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 flipH="1">
            <a:off x="1312560" y="243540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1312920" y="243684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 flipH="1">
            <a:off x="703080" y="26668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 flipH="1">
            <a:off x="703080" y="31240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2227320" y="2895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856080" y="388476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 flipV="1">
            <a:off x="856080" y="388404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 flipH="1">
            <a:off x="1312560" y="479916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 flipH="1">
            <a:off x="1312560" y="388296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1312920" y="388476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 flipH="1">
            <a:off x="703080" y="4114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 flipH="1">
            <a:off x="703080" y="45720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2227320" y="4343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5047200" y="99216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 flipV="1">
            <a:off x="5047200" y="99108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 flipH="1">
            <a:off x="5503680" y="190656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 flipH="1">
            <a:off x="5503680" y="99072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5504040" y="99216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 flipH="1">
            <a:off x="4894200" y="122220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 flipH="1">
            <a:off x="4894200" y="167940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6418440" y="1450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5047200" y="244008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 flipV="1">
            <a:off x="5047200" y="243936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 flipH="1">
            <a:off x="5503680" y="335448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 flipH="1">
            <a:off x="5503680" y="243828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5504040" y="244008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 flipH="1">
            <a:off x="4894200" y="267012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 flipH="1">
            <a:off x="4894200" y="312732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6418440" y="2898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5047200" y="388764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 flipV="1">
            <a:off x="5047200" y="388692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 flipH="1">
            <a:off x="5503680" y="480204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 flipH="1">
            <a:off x="5503680" y="388620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5504040" y="388764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 flipH="1">
            <a:off x="4894200" y="411804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 flipH="1">
            <a:off x="4894200" y="457524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6418440" y="434664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503640" y="838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492120" y="1254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477000" y="228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4921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5054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547920" y="41781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468324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469656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471240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2506680" y="99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2533680" y="244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2533680" y="389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2533320" y="4267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2073960" y="350532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-frontier = {..., a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672480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4667760" y="768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4667400" y="122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6429600" y="24321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4667760" y="229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6724440" y="4267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6429600" y="3886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6160320" y="350532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-frontier = {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856080" y="532908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 flipV="1">
            <a:off x="856080" y="532836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 flipH="1">
            <a:off x="1312560" y="624348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 flipH="1">
            <a:off x="1312560" y="532764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1312920" y="532908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 flipH="1">
            <a:off x="703080" y="55594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 flipH="1">
            <a:off x="703080" y="60166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2227320" y="5788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5047200" y="533232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 flipV="1">
            <a:off x="5047200" y="533160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 flipH="1">
            <a:off x="5503680" y="624672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 flipH="1">
            <a:off x="5503680" y="533088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5504040" y="533232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 flipH="1">
            <a:off x="4894200" y="556272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 flipH="1">
            <a:off x="4894200" y="601992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6418440" y="57913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505440" y="51814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547920" y="5622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4696200" y="51814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4712400" y="563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2533680" y="53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2533320" y="5711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2073960" y="495000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-frontier = {..., a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6724440" y="5711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6428880" y="53341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6160320" y="49500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-frontier = {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2074320" y="53352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-frontier = {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6159960" y="53352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-frontier = {..., a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2515680" y="137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6706800" y="137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"/>
          <p:cNvSpPr/>
          <p:nvPr/>
        </p:nvSpPr>
        <p:spPr>
          <a:xfrm>
            <a:off x="856080" y="304632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 flipV="1">
            <a:off x="856080" y="304560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 flipH="1">
            <a:off x="1312560" y="3960720"/>
            <a:ext cx="244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 flipH="1">
            <a:off x="1312560" y="304488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1312920" y="304632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 flipH="1">
            <a:off x="703080" y="32767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 flipH="1">
            <a:off x="703080" y="37339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2227320" y="35053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5047200" y="304956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 flipV="1">
            <a:off x="5047200" y="3048840"/>
            <a:ext cx="13708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 flipH="1">
            <a:off x="5503680" y="396396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 flipH="1">
            <a:off x="5503680" y="3048120"/>
            <a:ext cx="244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5504040" y="3049560"/>
            <a:ext cx="14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 flipH="1">
            <a:off x="4894200" y="327960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 flipH="1">
            <a:off x="4894200" y="373680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6418440" y="35082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50544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52092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469656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4738320" y="33465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2533680" y="3054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53332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2073960" y="2666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-frontier = {a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672444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6429600" y="30481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6160320" y="26668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-frontier = 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5" name=""/>
          <p:cNvGrpSpPr/>
          <p:nvPr/>
        </p:nvGrpSpPr>
        <p:grpSpPr>
          <a:xfrm>
            <a:off x="777960" y="2549160"/>
            <a:ext cx="2286000" cy="1676520"/>
            <a:chOff x="777960" y="2549160"/>
            <a:chExt cx="2286000" cy="1676520"/>
          </a:xfrm>
        </p:grpSpPr>
        <p:sp>
          <p:nvSpPr>
            <p:cNvPr id="3656" name=""/>
            <p:cNvSpPr/>
            <p:nvPr/>
          </p:nvSpPr>
          <p:spPr>
            <a:xfrm>
              <a:off x="777960" y="254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V="1">
              <a:off x="777960" y="254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 flipH="1">
              <a:off x="1463760" y="422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 flipH="1">
              <a:off x="1463760" y="254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463760" y="254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911680" y="331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2" name=""/>
          <p:cNvGrpSpPr/>
          <p:nvPr/>
        </p:nvGrpSpPr>
        <p:grpSpPr>
          <a:xfrm>
            <a:off x="3597120" y="568080"/>
            <a:ext cx="2286000" cy="1676520"/>
            <a:chOff x="3597120" y="568080"/>
            <a:chExt cx="2286000" cy="1676520"/>
          </a:xfrm>
        </p:grpSpPr>
        <p:sp>
          <p:nvSpPr>
            <p:cNvPr id="3663" name=""/>
            <p:cNvSpPr/>
            <p:nvPr/>
          </p:nvSpPr>
          <p:spPr>
            <a:xfrm>
              <a:off x="3597120" y="56844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V="1">
              <a:off x="3597120" y="5673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 flipH="1">
              <a:off x="4282920" y="2244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 flipH="1">
              <a:off x="4282920" y="5684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4282920" y="56844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5730840" y="133020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9" name=""/>
          <p:cNvGrpSpPr/>
          <p:nvPr/>
        </p:nvGrpSpPr>
        <p:grpSpPr>
          <a:xfrm>
            <a:off x="6111720" y="2472840"/>
            <a:ext cx="2286000" cy="1676520"/>
            <a:chOff x="6111720" y="2472840"/>
            <a:chExt cx="2286000" cy="1676520"/>
          </a:xfrm>
        </p:grpSpPr>
        <p:sp>
          <p:nvSpPr>
            <p:cNvPr id="3670" name=""/>
            <p:cNvSpPr/>
            <p:nvPr/>
          </p:nvSpPr>
          <p:spPr>
            <a:xfrm>
              <a:off x="6111720" y="247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 flipV="1">
              <a:off x="6111720" y="247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H="1">
              <a:off x="6797520" y="414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 flipH="1">
              <a:off x="6797520" y="247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797520" y="247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8245440" y="323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6" name=""/>
          <p:cNvSpPr/>
          <p:nvPr/>
        </p:nvSpPr>
        <p:spPr>
          <a:xfrm flipH="1">
            <a:off x="853560" y="94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 flipH="1">
            <a:off x="853560" y="582624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 flipH="1">
            <a:off x="1234800" y="285444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 flipV="1">
            <a:off x="1235160" y="94932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 flipH="1">
            <a:off x="1234800" y="392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1235160" y="392112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 flipH="1">
            <a:off x="3825720" y="186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 flipH="1">
            <a:off x="3825720" y="49118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3825720" y="1863720"/>
            <a:ext cx="0" cy="304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3063960" y="33876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 flipH="1">
            <a:off x="6340320" y="2854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 flipH="1">
            <a:off x="6340320" y="37688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5883120" y="140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6340320" y="140652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5883120" y="5369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6340320" y="376884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8397720" y="331164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550440" y="380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627120" y="521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8535600" y="2819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6" name=""/>
          <p:cNvGrpSpPr/>
          <p:nvPr/>
        </p:nvGrpSpPr>
        <p:grpSpPr>
          <a:xfrm>
            <a:off x="3597120" y="4530240"/>
            <a:ext cx="2286000" cy="1676520"/>
            <a:chOff x="3597120" y="4530240"/>
            <a:chExt cx="2286000" cy="1676520"/>
          </a:xfrm>
        </p:grpSpPr>
        <p:sp>
          <p:nvSpPr>
            <p:cNvPr id="3697" name=""/>
            <p:cNvSpPr/>
            <p:nvPr/>
          </p:nvSpPr>
          <p:spPr>
            <a:xfrm>
              <a:off x="3597120" y="453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 flipV="1">
              <a:off x="3597120" y="452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 flipH="1">
              <a:off x="4282920" y="620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 flipH="1">
              <a:off x="4282920" y="453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282920" y="453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5730840" y="529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3" name=""/>
          <p:cNvSpPr/>
          <p:nvPr/>
        </p:nvSpPr>
        <p:spPr>
          <a:xfrm>
            <a:off x="3354120" y="274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60976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6097320" y="5410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3870720" y="27846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 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8120" y="2971440"/>
            <a:ext cx="2286000" cy="1676520"/>
            <a:chOff x="3048120" y="2971440"/>
            <a:chExt cx="2286000" cy="1676520"/>
          </a:xfrm>
        </p:grpSpPr>
        <p:sp>
          <p:nvSpPr>
            <p:cNvPr id="91" name=""/>
            <p:cNvSpPr/>
            <p:nvPr/>
          </p:nvSpPr>
          <p:spPr>
            <a:xfrm>
              <a:off x="3048120" y="2971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048120" y="2971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733920" y="464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733920" y="297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33920" y="297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81840" y="373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 flipH="1">
            <a:off x="342864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42864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428640" y="38098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4120" y="38098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36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220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22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22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7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3708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4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 flipH="1">
            <a:off x="1142640" y="190512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1143000" y="914400"/>
            <a:ext cx="144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2362320" y="129528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2057400" y="2057400"/>
            <a:ext cx="30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2058840" y="1676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1" name=""/>
          <p:cNvGrpSpPr/>
          <p:nvPr/>
        </p:nvGrpSpPr>
        <p:grpSpPr>
          <a:xfrm>
            <a:off x="1084680" y="1676160"/>
            <a:ext cx="956880" cy="803520"/>
            <a:chOff x="1084680" y="1676160"/>
            <a:chExt cx="956880" cy="803520"/>
          </a:xfrm>
        </p:grpSpPr>
        <p:sp>
          <p:nvSpPr>
            <p:cNvPr id="3732" name=""/>
            <p:cNvSpPr/>
            <p:nvPr/>
          </p:nvSpPr>
          <p:spPr>
            <a:xfrm>
              <a:off x="1084680" y="16765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V="1">
              <a:off x="1084680" y="16758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 flipH="1">
              <a:off x="1371240" y="24796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 flipH="1">
              <a:off x="1371240" y="16765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371600" y="16765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977840" y="20415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8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3739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45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3746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2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 flipV="1">
            <a:off x="1143000" y="22860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 flipH="1">
            <a:off x="1142640" y="228456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8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3759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65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2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3783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89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3790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96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3797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3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2423520" y="171468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 s-a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2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3823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9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 flipH="1">
            <a:off x="1142640" y="190512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 flipV="1">
            <a:off x="1143000" y="914400"/>
            <a:ext cx="144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2362320" y="129528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2057400" y="2057400"/>
            <a:ext cx="30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2058840" y="1676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46" name=""/>
          <p:cNvGrpSpPr/>
          <p:nvPr/>
        </p:nvGrpSpPr>
        <p:grpSpPr>
          <a:xfrm>
            <a:off x="1084680" y="1676160"/>
            <a:ext cx="956880" cy="803520"/>
            <a:chOff x="1084680" y="1676160"/>
            <a:chExt cx="956880" cy="803520"/>
          </a:xfrm>
        </p:grpSpPr>
        <p:sp>
          <p:nvSpPr>
            <p:cNvPr id="3847" name=""/>
            <p:cNvSpPr/>
            <p:nvPr/>
          </p:nvSpPr>
          <p:spPr>
            <a:xfrm>
              <a:off x="1084680" y="16765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 flipV="1">
              <a:off x="1084680" y="16758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 flipH="1">
              <a:off x="1371240" y="24796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 flipH="1">
              <a:off x="1371240" y="16765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1371600" y="16765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1977840" y="20415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53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3854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0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3861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67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 flipV="1">
            <a:off x="1143000" y="22860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 flipH="1">
            <a:off x="1142640" y="228456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3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3874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0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7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3898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04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3905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1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3912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8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2423520" y="171468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 s-a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1219320" y="1523880"/>
            <a:ext cx="76176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 flipH="1">
            <a:off x="1219320" y="1523880"/>
            <a:ext cx="76176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9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3940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6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8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3959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65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3966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2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6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3977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3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0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4001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07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4008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4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4015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1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1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4042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8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0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4061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7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4068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4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8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4079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5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2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4103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09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4110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16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4117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23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4176360" y="281160"/>
            <a:ext cx="48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 (z+k+¬m)(z+¬k+m)(¬z+k+m)(¬z+¬k+¬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5867280" y="2743200"/>
            <a:ext cx="16002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5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4146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2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4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4165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1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4172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8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82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4183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9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4207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3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4214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20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4221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27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4176360" y="281160"/>
            <a:ext cx="488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 (z+k+¬m)(z+¬k+m)(¬z+k+m)(¬z+¬k+¬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 + z)(e + z)(¬d + ¬e + ¬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3886200" y="1143000"/>
            <a:ext cx="16002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9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4250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6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68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4269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5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4276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2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6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4287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3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0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4311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7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4318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24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4325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1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4176360" y="281160"/>
            <a:ext cx="488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 (z+k+¬m)(z+¬k+m)(¬z+k+m)(¬z+¬k+¬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 + z)(e + z)(¬d + ¬e + ¬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d)(0 + d)(¬a + 1 + ¬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2286000" y="304920"/>
            <a:ext cx="16002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3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4354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60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2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4373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9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4380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86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90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4391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97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4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4415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21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4422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28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4429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5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4176360" y="281160"/>
            <a:ext cx="4887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 (z+k+¬m)(z+¬k+m)(¬z+k+m)(¬z+¬k+¬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 + z)(e + z)(¬d + ¬e + ¬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d)(0 + d)(¬a + 1 + ¬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0 + e)(b + e)(1 + ¬b + ¬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2286000" y="2057400"/>
            <a:ext cx="16002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7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4458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4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6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4477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83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4484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90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1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4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4495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01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18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4519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25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4526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2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4533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39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6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7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4176360" y="281160"/>
            <a:ext cx="4887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 (z+k+¬m)(z+¬k+m)(¬z+k+m)(¬z+¬k+¬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 + z)(e + z)(¬d + ¬e + ¬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d)(0 + d)(¬a + 1 + ¬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0 + e)(b + e)(1 + ¬b + ¬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 + k)(h + k)(¬g + ¬h + ¬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3962520" y="4191120"/>
            <a:ext cx="16002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1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4562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8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80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4581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7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4588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4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98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4599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5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2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4623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9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4630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6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4637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3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4176360" y="281160"/>
            <a:ext cx="488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 (z+k+¬m)(z+¬k+m)(¬z+k+m)(¬z+¬k+¬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 + z)(e + z)(¬d + ¬e + ¬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d)(0 + d)(¬a + 1 + ¬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0 + e)(b + e)(1 + ¬b + ¬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 + k)(h + k)(¬g + ¬h + ¬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g)(f + g)(¬a + ¬f + ¬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2362320" y="3352680"/>
            <a:ext cx="16002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5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4666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72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4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4685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1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4692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8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2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4703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09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6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4727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4734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0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4741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7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8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9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0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1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2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7" name=""/>
          <p:cNvSpPr/>
          <p:nvPr/>
        </p:nvSpPr>
        <p:spPr>
          <a:xfrm>
            <a:off x="4176360" y="281160"/>
            <a:ext cx="4887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 (z+k+¬m)(z+¬k+m)(¬z+k+m)(¬z+¬k+¬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 + z)(e + z)(¬d + ¬e + ¬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d)(0 + d)(¬a + 1 + ¬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0 + e)(b + e)(1 + ¬b + ¬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 + k)(h + k)(¬g + ¬h + ¬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g)(f + g)(¬a + ¬f + ¬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 + h)(b + h)(¬f + ¬b + ¬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>
            <a:off x="2362320" y="5105520"/>
            <a:ext cx="16002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48120" y="2971440"/>
            <a:ext cx="2286000" cy="1676520"/>
            <a:chOff x="3048120" y="2971440"/>
            <a:chExt cx="2286000" cy="1676520"/>
          </a:xfrm>
        </p:grpSpPr>
        <p:sp>
          <p:nvSpPr>
            <p:cNvPr id="107" name=""/>
            <p:cNvSpPr/>
            <p:nvPr/>
          </p:nvSpPr>
          <p:spPr>
            <a:xfrm>
              <a:off x="3048120" y="2971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048120" y="2971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33920" y="464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733920" y="297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33920" y="297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1840" y="373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 flipH="1">
            <a:off x="342864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42864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428640" y="38098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34120" y="38098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9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4770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76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88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4789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95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4796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02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3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4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5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6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4807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3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4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5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6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7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8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9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30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4831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7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4838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44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4845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1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3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6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7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8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9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2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3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4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5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8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>
            <a:off x="4176360" y="281160"/>
            <a:ext cx="4887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 (z+k+¬m)(z+¬k+m)(¬z+k+m)(¬z+¬k+¬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 + z)(e + z)(¬d + ¬e + ¬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d)(0 + d)(¬a + 1 + ¬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0 + e)(b + e)(1 + ¬b + ¬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 + k)(h + k)(¬g + ¬h + ¬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g)(f + g)(¬a + ¬f + ¬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 + h)(b + h)(¬f + ¬b + ¬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f)(b + f)(¬a + ¬b + ¬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914400" y="4343400"/>
            <a:ext cx="16002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3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4874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80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7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8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9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0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92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4893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99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4900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6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10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4911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7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8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9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1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2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3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4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5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6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7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8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9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0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34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4935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41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4942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48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4949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55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2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3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4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5" name=""/>
          <p:cNvSpPr/>
          <p:nvPr/>
        </p:nvSpPr>
        <p:spPr>
          <a:xfrm>
            <a:off x="4176360" y="281160"/>
            <a:ext cx="4887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 (z+k+¬m)(z+¬k+m)(¬z+k+m)(¬z+¬k+¬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 + z)(e + z)(¬d + ¬e + ¬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d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d)(¬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e)(b + e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¬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 + k)(h + k)(¬g + ¬h + ¬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g)(f + g)(¬a + ¬f + ¬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 + h)(b + h)(¬f + ¬b + ¬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f)(b + f)(¬a + ¬b + ¬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6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4977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3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4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5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6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7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8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9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95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4996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02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5003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09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3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5014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20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1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2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3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4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5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6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37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5038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4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5045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51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5052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8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1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2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3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4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6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7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8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9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2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3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4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5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6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7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8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z+k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z+¬k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z+k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z+¬k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 + z)(e + z)(¬d + ¬e + ¬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d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d)(¬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e)(b + e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¬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 + k)(h + k)(¬g + ¬h + ¬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g)(f + g)(¬a + ¬f + ¬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 + h)(b + h)(¬f + ¬b + ¬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f)(b + f)(¬a + ¬b + ¬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9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5080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6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7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4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5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6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7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98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5099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05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5106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2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6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5117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23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9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0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1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0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5141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47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5148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4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5155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1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2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3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4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5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z+k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z+¬k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z+k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z+¬k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z)(e + z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e + ¬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e)(b + e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¬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 + k)(h + k)(¬g + ¬h + ¬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g)(f + g)(¬a + ¬f + ¬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 + h)(b + h)(¬f + ¬b + ¬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f)(b + f)(¬a + ¬b + ¬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2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5183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9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01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5202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08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5209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15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9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5220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26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8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9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1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2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3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5244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50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5251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57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5258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64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z+k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z+¬k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z+k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z+¬k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z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z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b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 + k)(h + k)(¬g + ¬h + ¬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g)(f + g)(¬a + ¬f + ¬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 + h)(b + h)(¬f + ¬b + ¬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f)(b + f)(¬a + ¬b + ¬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5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5286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92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4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5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7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8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9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0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1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2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3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4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5305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11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5312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8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2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5323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29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1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46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5347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53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5354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60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5361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67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8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9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0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1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2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3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4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5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6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7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2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3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4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5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6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7" name=""/>
          <p:cNvSpPr/>
          <p:nvPr/>
        </p:nvSpPr>
        <p:spPr>
          <a:xfrm>
            <a:off x="4177440" y="281160"/>
            <a:ext cx="488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k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¬k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k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¬k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b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 + k)(h + k)(¬g + ¬h + ¬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g)(f + g)(¬a + ¬f + ¬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 + h)(b + h)(¬f + ¬b + ¬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f)(b + f)(¬a + ¬b + ¬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8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5389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5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07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5408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14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5415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1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25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5426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32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9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0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3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49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5450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6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5457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63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5464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70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2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3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4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5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6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1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2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3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4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5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0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b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h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g + ¬h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g)(f + g)(¬a + ¬f + ¬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 + h)(b + h)(¬f + ¬b + ¬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f)(b + f)(¬a + ¬b + ¬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1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5492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98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9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1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2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3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4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5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6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7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8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9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10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5511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17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5518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24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5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28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5529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35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7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3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4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5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6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7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8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9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0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1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52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5553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59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5560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6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5567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3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4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5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6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7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8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9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b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h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g + ¬h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g)(f + g)(¬a + ¬f + ¬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 + h)(b + h)(¬f + ¬b + ¬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f)(b + f)(¬a + ¬b + ¬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5489640" y="5146560"/>
            <a:ext cx="247140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Ή 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=0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ή 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>
            <a:off x="7086600" y="2514600"/>
            <a:ext cx="1498680" cy="2590920"/>
          </a:xfrm>
          <a:custGeom>
            <a:avLst/>
            <a:gdLst/>
            <a:ahLst/>
            <a:rect l="l" t="t" r="r" b="b"/>
            <a:pathLst>
              <a:path w="944" h="1872">
                <a:moveTo>
                  <a:pt x="0" y="1872"/>
                </a:moveTo>
                <a:cubicBezTo>
                  <a:pt x="344" y="1692"/>
                  <a:pt x="688" y="1512"/>
                  <a:pt x="816" y="1200"/>
                </a:cubicBezTo>
                <a:cubicBezTo>
                  <a:pt x="944" y="888"/>
                  <a:pt x="856" y="444"/>
                  <a:pt x="768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>
            <a:off x="7238880" y="914400"/>
            <a:ext cx="16002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7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5598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04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5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6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7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8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6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5617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3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5624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30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1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2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4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5635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41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8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5659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5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5666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72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5673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79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2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3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5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6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7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8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b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h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h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f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a + ¬f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 + h)(b + h)(¬f + ¬b + ¬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f)(b + f)(¬a + ¬b + ¬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0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5701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07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19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5720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26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5727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3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37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5738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44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61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5762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8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5769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75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5776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2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0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1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2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3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4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5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6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7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8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9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b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h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h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f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f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 + h)(b + h)(¬f + ¬b + ¬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f)(b + f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¬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48120" y="2971440"/>
            <a:ext cx="2286000" cy="1676520"/>
            <a:chOff x="3048120" y="2971440"/>
            <a:chExt cx="2286000" cy="1676520"/>
          </a:xfrm>
        </p:grpSpPr>
        <p:sp>
          <p:nvSpPr>
            <p:cNvPr id="119" name=""/>
            <p:cNvSpPr/>
            <p:nvPr/>
          </p:nvSpPr>
          <p:spPr>
            <a:xfrm>
              <a:off x="3048120" y="2971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048120" y="2971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733920" y="464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733920" y="297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920" y="297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840" y="373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H="1">
            <a:off x="342864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42864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28640" y="38098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334120" y="38098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7236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3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5804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0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5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6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2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5823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29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5830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36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40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5841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47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64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5865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71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5872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78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5879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5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8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9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1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2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3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4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6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7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8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9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0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b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h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h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h)(b + h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¬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b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6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5907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13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6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25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5926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32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5933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39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43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5944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50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1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2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4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5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6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7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8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9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0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1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67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5968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4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5975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81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5982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8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4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6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7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0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2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3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h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h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h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h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9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6010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16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7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8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9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0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1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2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3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4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5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6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7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8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6029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5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6036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42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3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4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5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6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6047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53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4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5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6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7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8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9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3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4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5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7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8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9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70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6071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77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6078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84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6085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91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3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4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5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2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6113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9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31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6132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38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6139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45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6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7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8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49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6150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6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6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7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8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3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6174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80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6181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87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6188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4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-319320" y="4613400"/>
            <a:ext cx="976500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 b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6" name=""/>
          <p:cNvSpPr/>
          <p:nvPr/>
        </p:nvSpPr>
        <p:spPr>
          <a:xfrm>
            <a:off x="4343400" y="5715000"/>
            <a:ext cx="457200" cy="457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7" name=""/>
          <p:cNvSpPr/>
          <p:nvPr/>
        </p:nvSpPr>
        <p:spPr>
          <a:xfrm>
            <a:off x="0" y="5715000"/>
            <a:ext cx="914400" cy="457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8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6219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5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6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7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8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9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0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1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6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37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6238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44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6245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51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4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55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6256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62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6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7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79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6280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86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6287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93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6294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00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1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2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4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5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6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7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b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h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g + ¬h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g)(f + g)(¬a + ¬f + ¬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 + h)(b + h)(¬f + ¬b + ¬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f)(b + f)(¬a + ¬b + ¬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5489640" y="5146560"/>
            <a:ext cx="247140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Ή 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=0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ή 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7086600" y="2514600"/>
            <a:ext cx="1498680" cy="2590920"/>
          </a:xfrm>
          <a:custGeom>
            <a:avLst/>
            <a:gdLst/>
            <a:ahLst/>
            <a:rect l="l" t="t" r="r" b="b"/>
            <a:pathLst>
              <a:path w="944" h="1872">
                <a:moveTo>
                  <a:pt x="0" y="1872"/>
                </a:moveTo>
                <a:cubicBezTo>
                  <a:pt x="344" y="1692"/>
                  <a:pt x="688" y="1512"/>
                  <a:pt x="816" y="1200"/>
                </a:cubicBezTo>
                <a:cubicBezTo>
                  <a:pt x="944" y="888"/>
                  <a:pt x="856" y="444"/>
                  <a:pt x="768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7238880" y="914400"/>
            <a:ext cx="16002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4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6325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31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2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3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4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5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6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7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8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9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0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1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2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3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6344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50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6351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57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61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6362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68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1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2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3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4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5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8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9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0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1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2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3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85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6386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92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6393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99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6400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6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7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8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9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0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1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2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3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4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5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6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7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8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9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0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5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6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b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g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g)(f + g)(¬a + ¬f + ¬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b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f + ¬b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f)(b + f)(¬a + ¬b + ¬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7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6428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4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3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4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5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46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6447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53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6454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0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1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3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4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6465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71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2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88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6489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95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6496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02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6503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09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8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9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0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1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2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3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4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5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6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7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8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9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b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g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g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g)(¬a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b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b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b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a + ¬b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0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6531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37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8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9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0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1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2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3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4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5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6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7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8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49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6550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56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6557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63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4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5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6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67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6568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4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5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6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7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8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9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0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1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2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3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5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6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7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8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9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0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1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6592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98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6599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05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6606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12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4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5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6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7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8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9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2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3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4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5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6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7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8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9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0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1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g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g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g)(¬a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a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3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6634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5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6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40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5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6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9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0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1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52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6653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4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5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59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6660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3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6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7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8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9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70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6671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2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3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77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8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9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0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1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2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3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4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5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6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0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1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2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3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94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6695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6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7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8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01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6702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3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4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5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08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6709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0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1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2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15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6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7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8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9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0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1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2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3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4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5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6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7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8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9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0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1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2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3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4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¬g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g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g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¬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6" name=""/>
          <p:cNvGrpSpPr/>
          <p:nvPr/>
        </p:nvGrpSpPr>
        <p:grpSpPr>
          <a:xfrm>
            <a:off x="2548440" y="720360"/>
            <a:ext cx="956880" cy="803520"/>
            <a:chOff x="2548440" y="720360"/>
            <a:chExt cx="956880" cy="803520"/>
          </a:xfrm>
        </p:grpSpPr>
        <p:sp>
          <p:nvSpPr>
            <p:cNvPr id="6737" name=""/>
            <p:cNvSpPr/>
            <p:nvPr/>
          </p:nvSpPr>
          <p:spPr>
            <a:xfrm>
              <a:off x="2548440" y="720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 flipV="1">
              <a:off x="2548440" y="7196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 flipH="1">
              <a:off x="2835000" y="1523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 flipH="1">
              <a:off x="2835000" y="720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2835360" y="720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3441600" y="1085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43" name=""/>
          <p:cNvSpPr/>
          <p:nvPr/>
        </p:nvSpPr>
        <p:spPr>
          <a:xfrm flipH="1">
            <a:off x="761760" y="9144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4" name=""/>
          <p:cNvSpPr/>
          <p:nvPr/>
        </p:nvSpPr>
        <p:spPr>
          <a:xfrm flipH="1">
            <a:off x="2362320" y="12952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5" name=""/>
          <p:cNvSpPr/>
          <p:nvPr/>
        </p:nvSpPr>
        <p:spPr>
          <a:xfrm flipH="1">
            <a:off x="2362320" y="27417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6" name=""/>
          <p:cNvSpPr/>
          <p:nvPr/>
        </p:nvSpPr>
        <p:spPr>
          <a:xfrm flipH="1">
            <a:off x="3962520" y="17524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7" name=""/>
          <p:cNvSpPr/>
          <p:nvPr/>
        </p:nvSpPr>
        <p:spPr>
          <a:xfrm>
            <a:off x="3505320" y="11430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8" name=""/>
          <p:cNvSpPr/>
          <p:nvPr/>
        </p:nvSpPr>
        <p:spPr>
          <a:xfrm>
            <a:off x="3962520" y="1143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 flipV="1">
            <a:off x="5105520" y="1980720"/>
            <a:ext cx="3045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0" name=""/>
          <p:cNvSpPr/>
          <p:nvPr/>
        </p:nvSpPr>
        <p:spPr>
          <a:xfrm>
            <a:off x="687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1" name=""/>
          <p:cNvSpPr/>
          <p:nvPr/>
        </p:nvSpPr>
        <p:spPr>
          <a:xfrm>
            <a:off x="763560" y="273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2" name=""/>
          <p:cNvSpPr/>
          <p:nvPr/>
        </p:nvSpPr>
        <p:spPr>
          <a:xfrm>
            <a:off x="51066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3" name=""/>
          <p:cNvSpPr/>
          <p:nvPr/>
        </p:nvSpPr>
        <p:spPr>
          <a:xfrm>
            <a:off x="3582720" y="75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4" name=""/>
          <p:cNvSpPr/>
          <p:nvPr/>
        </p:nvSpPr>
        <p:spPr>
          <a:xfrm>
            <a:off x="3659040" y="2895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55" name=""/>
          <p:cNvGrpSpPr/>
          <p:nvPr/>
        </p:nvGrpSpPr>
        <p:grpSpPr>
          <a:xfrm>
            <a:off x="2532600" y="2514240"/>
            <a:ext cx="956880" cy="803520"/>
            <a:chOff x="2532600" y="2514240"/>
            <a:chExt cx="956880" cy="803520"/>
          </a:xfrm>
        </p:grpSpPr>
        <p:sp>
          <p:nvSpPr>
            <p:cNvPr id="6756" name=""/>
            <p:cNvSpPr/>
            <p:nvPr/>
          </p:nvSpPr>
          <p:spPr>
            <a:xfrm>
              <a:off x="2532600" y="2514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 flipV="1">
              <a:off x="2532600" y="25138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 flipH="1">
              <a:off x="2819160" y="33177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 flipH="1">
              <a:off x="2819160" y="25146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2819520" y="25146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3425760" y="28796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62" name=""/>
          <p:cNvGrpSpPr/>
          <p:nvPr/>
        </p:nvGrpSpPr>
        <p:grpSpPr>
          <a:xfrm>
            <a:off x="4132800" y="1599840"/>
            <a:ext cx="956880" cy="803520"/>
            <a:chOff x="4132800" y="1599840"/>
            <a:chExt cx="956880" cy="803520"/>
          </a:xfrm>
        </p:grpSpPr>
        <p:sp>
          <p:nvSpPr>
            <p:cNvPr id="6763" name=""/>
            <p:cNvSpPr/>
            <p:nvPr/>
          </p:nvSpPr>
          <p:spPr>
            <a:xfrm>
              <a:off x="4132800" y="16002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4" name=""/>
            <p:cNvSpPr/>
            <p:nvPr/>
          </p:nvSpPr>
          <p:spPr>
            <a:xfrm flipV="1">
              <a:off x="4132800" y="159948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5" name=""/>
            <p:cNvSpPr/>
            <p:nvPr/>
          </p:nvSpPr>
          <p:spPr>
            <a:xfrm flipH="1">
              <a:off x="4419360" y="240336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6" name=""/>
            <p:cNvSpPr/>
            <p:nvPr/>
          </p:nvSpPr>
          <p:spPr>
            <a:xfrm flipH="1">
              <a:off x="4419360" y="16002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4419720" y="160020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5025960" y="196524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9" name=""/>
          <p:cNvSpPr/>
          <p:nvPr/>
        </p:nvSpPr>
        <p:spPr>
          <a:xfrm flipH="1">
            <a:off x="761760" y="3124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0" name=""/>
          <p:cNvSpPr/>
          <p:nvPr/>
        </p:nvSpPr>
        <p:spPr>
          <a:xfrm>
            <a:off x="3505320" y="289404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1" name=""/>
          <p:cNvSpPr/>
          <p:nvPr/>
        </p:nvSpPr>
        <p:spPr>
          <a:xfrm>
            <a:off x="3962520" y="22096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 flipH="1">
            <a:off x="3962520" y="220968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73" name=""/>
          <p:cNvGrpSpPr/>
          <p:nvPr/>
        </p:nvGrpSpPr>
        <p:grpSpPr>
          <a:xfrm>
            <a:off x="2624400" y="3768480"/>
            <a:ext cx="956880" cy="803520"/>
            <a:chOff x="2624400" y="3768480"/>
            <a:chExt cx="956880" cy="803520"/>
          </a:xfrm>
        </p:grpSpPr>
        <p:sp>
          <p:nvSpPr>
            <p:cNvPr id="6774" name=""/>
            <p:cNvSpPr/>
            <p:nvPr/>
          </p:nvSpPr>
          <p:spPr>
            <a:xfrm>
              <a:off x="2624400" y="376884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5" name=""/>
            <p:cNvSpPr/>
            <p:nvPr/>
          </p:nvSpPr>
          <p:spPr>
            <a:xfrm flipV="1">
              <a:off x="2624400" y="37681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6" name=""/>
            <p:cNvSpPr/>
            <p:nvPr/>
          </p:nvSpPr>
          <p:spPr>
            <a:xfrm flipH="1">
              <a:off x="2910960" y="45720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7" name=""/>
            <p:cNvSpPr/>
            <p:nvPr/>
          </p:nvSpPr>
          <p:spPr>
            <a:xfrm flipH="1">
              <a:off x="2910960" y="376884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2911320" y="376884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3517560" y="413388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80" name=""/>
          <p:cNvSpPr/>
          <p:nvPr/>
        </p:nvSpPr>
        <p:spPr>
          <a:xfrm flipH="1">
            <a:off x="837720" y="3962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 flipH="1">
            <a:off x="1218960" y="495288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2" name=""/>
          <p:cNvSpPr/>
          <p:nvPr/>
        </p:nvSpPr>
        <p:spPr>
          <a:xfrm flipV="1">
            <a:off x="1219320" y="3962160"/>
            <a:ext cx="144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 flipH="1">
            <a:off x="2438280" y="43434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 flipH="1">
            <a:off x="2438280" y="5789520"/>
            <a:ext cx="457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5" name=""/>
          <p:cNvSpPr/>
          <p:nvPr/>
        </p:nvSpPr>
        <p:spPr>
          <a:xfrm>
            <a:off x="2438280" y="4343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6" name=""/>
          <p:cNvSpPr/>
          <p:nvPr/>
        </p:nvSpPr>
        <p:spPr>
          <a:xfrm>
            <a:off x="2133720" y="5105520"/>
            <a:ext cx="304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7" name=""/>
          <p:cNvSpPr/>
          <p:nvPr/>
        </p:nvSpPr>
        <p:spPr>
          <a:xfrm flipH="1">
            <a:off x="4038480" y="48006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8" name="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9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0" name=""/>
          <p:cNvSpPr/>
          <p:nvPr/>
        </p:nvSpPr>
        <p:spPr>
          <a:xfrm flipV="1">
            <a:off x="5181480" y="5029200"/>
            <a:ext cx="228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1" name=""/>
          <p:cNvSpPr/>
          <p:nvPr/>
        </p:nvSpPr>
        <p:spPr>
          <a:xfrm>
            <a:off x="763200" y="3581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2" name=""/>
          <p:cNvSpPr/>
          <p:nvPr/>
        </p:nvSpPr>
        <p:spPr>
          <a:xfrm>
            <a:off x="839520" y="578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3" name=""/>
          <p:cNvSpPr/>
          <p:nvPr/>
        </p:nvSpPr>
        <p:spPr>
          <a:xfrm>
            <a:off x="510696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4" name=""/>
          <p:cNvSpPr/>
          <p:nvPr/>
        </p:nvSpPr>
        <p:spPr>
          <a:xfrm>
            <a:off x="21351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5" name=""/>
          <p:cNvSpPr/>
          <p:nvPr/>
        </p:nvSpPr>
        <p:spPr>
          <a:xfrm>
            <a:off x="3659040" y="38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6" name=""/>
          <p:cNvSpPr/>
          <p:nvPr/>
        </p:nvSpPr>
        <p:spPr>
          <a:xfrm>
            <a:off x="373536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97" name=""/>
          <p:cNvGrpSpPr/>
          <p:nvPr/>
        </p:nvGrpSpPr>
        <p:grpSpPr>
          <a:xfrm>
            <a:off x="1161000" y="4723920"/>
            <a:ext cx="956880" cy="803880"/>
            <a:chOff x="1161000" y="4723920"/>
            <a:chExt cx="956880" cy="803880"/>
          </a:xfrm>
        </p:grpSpPr>
        <p:sp>
          <p:nvSpPr>
            <p:cNvPr id="6798" name=""/>
            <p:cNvSpPr/>
            <p:nvPr/>
          </p:nvSpPr>
          <p:spPr>
            <a:xfrm>
              <a:off x="1161000" y="472428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9" name=""/>
            <p:cNvSpPr/>
            <p:nvPr/>
          </p:nvSpPr>
          <p:spPr>
            <a:xfrm flipV="1">
              <a:off x="1161000" y="4723560"/>
              <a:ext cx="892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0" name=""/>
            <p:cNvSpPr/>
            <p:nvPr/>
          </p:nvSpPr>
          <p:spPr>
            <a:xfrm flipH="1">
              <a:off x="1447560" y="552780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1" name=""/>
            <p:cNvSpPr/>
            <p:nvPr/>
          </p:nvSpPr>
          <p:spPr>
            <a:xfrm flipH="1">
              <a:off x="1447560" y="47242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1447920" y="4724280"/>
              <a:ext cx="0" cy="80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2054160" y="508932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04" name=""/>
          <p:cNvGrpSpPr/>
          <p:nvPr/>
        </p:nvGrpSpPr>
        <p:grpSpPr>
          <a:xfrm>
            <a:off x="2608560" y="5562360"/>
            <a:ext cx="956880" cy="803520"/>
            <a:chOff x="2608560" y="5562360"/>
            <a:chExt cx="956880" cy="803520"/>
          </a:xfrm>
        </p:grpSpPr>
        <p:sp>
          <p:nvSpPr>
            <p:cNvPr id="6805" name=""/>
            <p:cNvSpPr/>
            <p:nvPr/>
          </p:nvSpPr>
          <p:spPr>
            <a:xfrm>
              <a:off x="2608560" y="55627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6" name=""/>
            <p:cNvSpPr/>
            <p:nvPr/>
          </p:nvSpPr>
          <p:spPr>
            <a:xfrm flipV="1">
              <a:off x="2608560" y="55620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7" name=""/>
            <p:cNvSpPr/>
            <p:nvPr/>
          </p:nvSpPr>
          <p:spPr>
            <a:xfrm flipH="1">
              <a:off x="2895120" y="63658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 flipH="1">
              <a:off x="2895120" y="55627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2895480" y="55627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3501720" y="59277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11" name=""/>
          <p:cNvGrpSpPr/>
          <p:nvPr/>
        </p:nvGrpSpPr>
        <p:grpSpPr>
          <a:xfrm>
            <a:off x="4208760" y="4647960"/>
            <a:ext cx="956880" cy="803520"/>
            <a:chOff x="4208760" y="4647960"/>
            <a:chExt cx="956880" cy="803520"/>
          </a:xfrm>
        </p:grpSpPr>
        <p:sp>
          <p:nvSpPr>
            <p:cNvPr id="6812" name=""/>
            <p:cNvSpPr/>
            <p:nvPr/>
          </p:nvSpPr>
          <p:spPr>
            <a:xfrm>
              <a:off x="4208760" y="464832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3" name=""/>
            <p:cNvSpPr/>
            <p:nvPr/>
          </p:nvSpPr>
          <p:spPr>
            <a:xfrm flipV="1">
              <a:off x="4208760" y="4647600"/>
              <a:ext cx="892800" cy="80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 flipH="1">
              <a:off x="4495320" y="545148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 flipH="1">
              <a:off x="4495320" y="4648320"/>
              <a:ext cx="15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4495680" y="4648320"/>
              <a:ext cx="0" cy="80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5101920" y="5013360"/>
              <a:ext cx="63720" cy="73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18" name=""/>
          <p:cNvSpPr/>
          <p:nvPr/>
        </p:nvSpPr>
        <p:spPr>
          <a:xfrm flipH="1">
            <a:off x="837720" y="61722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9" name=""/>
          <p:cNvSpPr/>
          <p:nvPr/>
        </p:nvSpPr>
        <p:spPr>
          <a:xfrm flipV="1">
            <a:off x="1219320" y="533412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0" name=""/>
          <p:cNvSpPr/>
          <p:nvPr/>
        </p:nvSpPr>
        <p:spPr>
          <a:xfrm flipH="1">
            <a:off x="1218960" y="5332320"/>
            <a:ext cx="2286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1" name=""/>
          <p:cNvSpPr/>
          <p:nvPr/>
        </p:nvSpPr>
        <p:spPr>
          <a:xfrm>
            <a:off x="3581280" y="594216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2" name=""/>
          <p:cNvSpPr/>
          <p:nvPr/>
        </p:nvSpPr>
        <p:spPr>
          <a:xfrm>
            <a:off x="4038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3" name=""/>
          <p:cNvSpPr/>
          <p:nvPr/>
        </p:nvSpPr>
        <p:spPr>
          <a:xfrm flipH="1">
            <a:off x="4038480" y="5257800"/>
            <a:ext cx="457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4" name=""/>
          <p:cNvSpPr/>
          <p:nvPr/>
        </p:nvSpPr>
        <p:spPr>
          <a:xfrm>
            <a:off x="5867640" y="3198960"/>
            <a:ext cx="1370880" cy="6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5" name=""/>
          <p:cNvSpPr/>
          <p:nvPr/>
        </p:nvSpPr>
        <p:spPr>
          <a:xfrm flipV="1">
            <a:off x="5867640" y="3197880"/>
            <a:ext cx="137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6" name=""/>
          <p:cNvSpPr/>
          <p:nvPr/>
        </p:nvSpPr>
        <p:spPr>
          <a:xfrm flipH="1">
            <a:off x="6400800" y="380844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7" name=""/>
          <p:cNvSpPr/>
          <p:nvPr/>
        </p:nvSpPr>
        <p:spPr>
          <a:xfrm flipH="1">
            <a:off x="6400800" y="3198960"/>
            <a:ext cx="1634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8" name=""/>
          <p:cNvSpPr/>
          <p:nvPr/>
        </p:nvSpPr>
        <p:spPr>
          <a:xfrm>
            <a:off x="640080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9" name=""/>
          <p:cNvSpPr/>
          <p:nvPr/>
        </p:nvSpPr>
        <p:spPr>
          <a:xfrm>
            <a:off x="6248520" y="3198960"/>
            <a:ext cx="163440" cy="6094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0" name=""/>
          <p:cNvSpPr/>
          <p:nvPr/>
        </p:nvSpPr>
        <p:spPr>
          <a:xfrm flipH="1"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1" name=""/>
          <p:cNvSpPr/>
          <p:nvPr/>
        </p:nvSpPr>
        <p:spPr>
          <a:xfrm flipH="1"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2" name=""/>
          <p:cNvSpPr/>
          <p:nvPr/>
        </p:nvSpPr>
        <p:spPr>
          <a:xfrm>
            <a:off x="5410080" y="1981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3" name=""/>
          <p:cNvSpPr/>
          <p:nvPr/>
        </p:nvSpPr>
        <p:spPr>
          <a:xfrm>
            <a:off x="5410080" y="36576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4" name="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5" name=""/>
          <p:cNvSpPr/>
          <p:nvPr/>
        </p:nvSpPr>
        <p:spPr>
          <a:xfrm>
            <a:off x="7316640" y="31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6" name=""/>
          <p:cNvSpPr/>
          <p:nvPr/>
        </p:nvSpPr>
        <p:spPr>
          <a:xfrm>
            <a:off x="2058840" y="1066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7" name=""/>
          <p:cNvSpPr/>
          <p:nvPr/>
        </p:nvSpPr>
        <p:spPr>
          <a:xfrm>
            <a:off x="2058840" y="25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8" name=""/>
          <p:cNvSpPr/>
          <p:nvPr/>
        </p:nvSpPr>
        <p:spPr>
          <a:xfrm>
            <a:off x="4176720" y="281160"/>
            <a:ext cx="48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(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¬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¬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22:04:18Z</dcterms:created>
  <dc:creator> </dc:creator>
  <dc:description/>
  <dc:language>en-US</dc:language>
  <cp:lastModifiedBy>georges</cp:lastModifiedBy>
  <dcterms:modified xsi:type="dcterms:W3CDTF">2005-11-07T21:24:03Z</dcterms:modified>
  <cp:revision>278</cp:revision>
  <dc:subject/>
  <dc:title>PowerPoint Presentation</dc:title>
</cp:coreProperties>
</file>