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920360" y="6243480"/>
            <a:ext cx="9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-</a:t>
            </a:r>
            <a:fld id="{91DEBA12-BBD6-4381-BCD9-7D191B2873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ροσομοίωση σφαλμάτων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Ορισμός σφαλμάτω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ορισμός του συνόλου των σφαλμάτων και αναγωγή τους σε κλάσεις ισοδυναμία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Εισαγωγή σφαλμάτω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επιλογή των σφαλμάτων για προσομοίωση και περιγραφή τους στις δομές δεδομένων του προσομοιωτ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ροσομοίωση της επίδρασης των σφαλμάτων στο κύκλωμ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Αναγνώριση των σφαλμάτω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2" name=""/>
          <p:cNvGrpSpPr/>
          <p:nvPr/>
        </p:nvGrpSpPr>
        <p:grpSpPr>
          <a:xfrm>
            <a:off x="457200" y="2514240"/>
            <a:ext cx="2286000" cy="1676520"/>
            <a:chOff x="457200" y="2514240"/>
            <a:chExt cx="2286000" cy="1676520"/>
          </a:xfrm>
        </p:grpSpPr>
        <p:sp>
          <p:nvSpPr>
            <p:cNvPr id="933" name=""/>
            <p:cNvSpPr/>
            <p:nvPr/>
          </p:nvSpPr>
          <p:spPr>
            <a:xfrm>
              <a:off x="457200" y="25146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>
              <a:off x="457200" y="2513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1143000" y="41907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>
              <a:off x="1143000" y="25146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143000" y="25146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590920" y="32763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3352680" y="3047760"/>
            <a:ext cx="2286000" cy="1676520"/>
            <a:chOff x="3352680" y="3047760"/>
            <a:chExt cx="2286000" cy="1676520"/>
          </a:xfrm>
        </p:grpSpPr>
        <p:sp>
          <p:nvSpPr>
            <p:cNvPr id="940" name=""/>
            <p:cNvSpPr/>
            <p:nvPr/>
          </p:nvSpPr>
          <p:spPr>
            <a:xfrm>
              <a:off x="3352680" y="30481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V="1">
              <a:off x="3352680" y="30474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>
              <a:off x="4038480" y="47242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>
              <a:off x="4038480" y="30481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038480" y="30481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486400" y="38098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6172200" y="1142640"/>
            <a:ext cx="2286000" cy="1676520"/>
            <a:chOff x="6172200" y="1142640"/>
            <a:chExt cx="2286000" cy="1676520"/>
          </a:xfrm>
        </p:grpSpPr>
        <p:sp>
          <p:nvSpPr>
            <p:cNvPr id="947" name=""/>
            <p:cNvSpPr/>
            <p:nvPr/>
          </p:nvSpPr>
          <p:spPr>
            <a:xfrm>
              <a:off x="6172200" y="11430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V="1">
              <a:off x="6172200" y="11419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6858000" y="28191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6858000" y="11430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858000" y="11430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305920" y="19047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6172200" y="4495320"/>
            <a:ext cx="2286000" cy="1676520"/>
            <a:chOff x="6172200" y="4495320"/>
            <a:chExt cx="2286000" cy="1676520"/>
          </a:xfrm>
        </p:grpSpPr>
        <p:sp>
          <p:nvSpPr>
            <p:cNvPr id="954" name=""/>
            <p:cNvSpPr/>
            <p:nvPr/>
          </p:nvSpPr>
          <p:spPr>
            <a:xfrm>
              <a:off x="6172200" y="44956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6172200" y="449496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6858000" y="61718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6858000" y="44956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858000" y="44956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305920" y="52574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3352680" y="5028840"/>
            <a:ext cx="2286000" cy="1676520"/>
            <a:chOff x="3352680" y="5028840"/>
            <a:chExt cx="2286000" cy="1676520"/>
          </a:xfrm>
        </p:grpSpPr>
        <p:sp>
          <p:nvSpPr>
            <p:cNvPr id="961" name=""/>
            <p:cNvSpPr/>
            <p:nvPr/>
          </p:nvSpPr>
          <p:spPr>
            <a:xfrm>
              <a:off x="3352680" y="50292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3352680" y="5028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4038480" y="67053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4038480" y="50292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038480" y="50292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486400" y="57909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7" name=""/>
          <p:cNvGrpSpPr/>
          <p:nvPr/>
        </p:nvGrpSpPr>
        <p:grpSpPr>
          <a:xfrm>
            <a:off x="457200" y="609120"/>
            <a:ext cx="2286000" cy="1676520"/>
            <a:chOff x="457200" y="609120"/>
            <a:chExt cx="2286000" cy="1676520"/>
          </a:xfrm>
        </p:grpSpPr>
        <p:sp>
          <p:nvSpPr>
            <p:cNvPr id="968" name=""/>
            <p:cNvSpPr/>
            <p:nvPr/>
          </p:nvSpPr>
          <p:spPr>
            <a:xfrm>
              <a:off x="457200" y="609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457200" y="6084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1143000" y="22856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1143000" y="6094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143000" y="6094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90920" y="13712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4" name=""/>
          <p:cNvSpPr/>
          <p:nvPr/>
        </p:nvSpPr>
        <p:spPr>
          <a:xfrm>
            <a:off x="2743200" y="1447920"/>
            <a:ext cx="4114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638680" y="586728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743200" y="335268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8458200" y="1981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8458200" y="53341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6552720" y="25146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6552720" y="48006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553080" y="2514600"/>
            <a:ext cx="0" cy="228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638680" y="38862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609480" y="1981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609480" y="38862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914040" y="28195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V="1">
            <a:off x="914400" y="1980720"/>
            <a:ext cx="0" cy="838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838080" y="19051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609120" y="44197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609120" y="640080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3276720" y="525780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200400" y="32767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3276720" y="335268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51000" y="42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66840" y="148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510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5100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51000" y="594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125880" y="990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820960" y="2895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869080" y="3429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945040" y="5410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8612280" y="1523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861228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194000" y="2682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1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93600" y="914400"/>
            <a:ext cx="1506600" cy="459720"/>
            <a:chOff x="93600" y="914400"/>
            <a:chExt cx="1506600" cy="459720"/>
          </a:xfrm>
        </p:grpSpPr>
        <p:sp>
          <p:nvSpPr>
            <p:cNvPr id="1006" name=""/>
            <p:cNvSpPr/>
            <p:nvPr/>
          </p:nvSpPr>
          <p:spPr>
            <a:xfrm flipH="1">
              <a:off x="609480" y="914400"/>
              <a:ext cx="533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05120" y="91440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86000" y="91440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867240" y="91440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248120" y="91440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219320" y="91440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838080" y="914400"/>
              <a:ext cx="38124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57200" y="91440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93600" y="914400"/>
              <a:ext cx="38124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76320" y="1981080"/>
            <a:ext cx="1505880" cy="459720"/>
            <a:chOff x="76320" y="1981080"/>
            <a:chExt cx="1505880" cy="459720"/>
          </a:xfrm>
        </p:grpSpPr>
        <p:sp>
          <p:nvSpPr>
            <p:cNvPr id="1016" name=""/>
            <p:cNvSpPr/>
            <p:nvPr/>
          </p:nvSpPr>
          <p:spPr>
            <a:xfrm flipH="1">
              <a:off x="591480" y="1981080"/>
              <a:ext cx="533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7480" y="19810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68360" y="19810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49240" y="19810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230480" y="19810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201680" y="1981080"/>
              <a:ext cx="38052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820440" y="198108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39560" y="1981080"/>
              <a:ext cx="38052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6320" y="198108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3751200" y="990720"/>
            <a:ext cx="1506600" cy="459720"/>
            <a:chOff x="3751200" y="990720"/>
            <a:chExt cx="1506600" cy="459720"/>
          </a:xfrm>
        </p:grpSpPr>
        <p:sp>
          <p:nvSpPr>
            <p:cNvPr id="1026" name=""/>
            <p:cNvSpPr/>
            <p:nvPr/>
          </p:nvSpPr>
          <p:spPr>
            <a:xfrm flipH="1">
              <a:off x="4267080" y="990720"/>
              <a:ext cx="533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762720" y="99072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143600" y="99072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524840" y="99072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905720" y="99072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876920" y="99072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495680" y="990720"/>
              <a:ext cx="38124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114800" y="99072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751200" y="990720"/>
              <a:ext cx="38124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5" name=""/>
          <p:cNvSpPr/>
          <p:nvPr/>
        </p:nvSpPr>
        <p:spPr>
          <a:xfrm>
            <a:off x="5396040" y="9558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3733920" y="1523880"/>
            <a:ext cx="1505880" cy="459720"/>
            <a:chOff x="3733920" y="1523880"/>
            <a:chExt cx="1505880" cy="459720"/>
          </a:xfrm>
        </p:grpSpPr>
        <p:sp>
          <p:nvSpPr>
            <p:cNvPr id="1037" name=""/>
            <p:cNvSpPr/>
            <p:nvPr/>
          </p:nvSpPr>
          <p:spPr>
            <a:xfrm flipH="1">
              <a:off x="4249080" y="1523880"/>
              <a:ext cx="533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745080" y="15238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125960" y="15238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506840" y="15238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888080" y="15238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859280" y="1523880"/>
              <a:ext cx="38052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478040" y="152388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097160" y="1523880"/>
              <a:ext cx="38052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733920" y="152388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5378040" y="14889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3733920" y="2057400"/>
            <a:ext cx="1505880" cy="459720"/>
            <a:chOff x="3733920" y="2057400"/>
            <a:chExt cx="1505880" cy="459720"/>
          </a:xfrm>
        </p:grpSpPr>
        <p:sp>
          <p:nvSpPr>
            <p:cNvPr id="1048" name=""/>
            <p:cNvSpPr/>
            <p:nvPr/>
          </p:nvSpPr>
          <p:spPr>
            <a:xfrm flipH="1">
              <a:off x="4249080" y="2057400"/>
              <a:ext cx="533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745080" y="205740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125960" y="205740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506840" y="205740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888080" y="205740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859280" y="2057400"/>
              <a:ext cx="38052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478040" y="205740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097160" y="2057400"/>
              <a:ext cx="38052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733920" y="205740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7" name=""/>
          <p:cNvSpPr/>
          <p:nvPr/>
        </p:nvSpPr>
        <p:spPr>
          <a:xfrm>
            <a:off x="5378760" y="2022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8" name=""/>
          <p:cNvGrpSpPr/>
          <p:nvPr/>
        </p:nvGrpSpPr>
        <p:grpSpPr>
          <a:xfrm>
            <a:off x="3733920" y="2590920"/>
            <a:ext cx="1505880" cy="459720"/>
            <a:chOff x="3733920" y="2590920"/>
            <a:chExt cx="1505880" cy="459720"/>
          </a:xfrm>
        </p:grpSpPr>
        <p:sp>
          <p:nvSpPr>
            <p:cNvPr id="1059" name=""/>
            <p:cNvSpPr/>
            <p:nvPr/>
          </p:nvSpPr>
          <p:spPr>
            <a:xfrm flipH="1">
              <a:off x="4249080" y="2590920"/>
              <a:ext cx="533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745080" y="259092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125960" y="259092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506840" y="259092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888080" y="259092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859280" y="2590920"/>
              <a:ext cx="38052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478040" y="259092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097160" y="2590920"/>
              <a:ext cx="38052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733920" y="259092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5378400" y="2556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691680" y="3165480"/>
            <a:ext cx="2220120" cy="1557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Το διάνυσμ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11ΧΧΧ δε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εντοπίζει τ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σφάλμα 10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 flipV="1">
            <a:off x="5334120" y="3048120"/>
            <a:ext cx="13716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419720" y="2514600"/>
            <a:ext cx="914400" cy="5335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eductive fault simul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Η τεχνική αυτή προσομοιώνει το κύκλωμα χωρίς σφάλματα και συνάγει τη συμπεριφορά όλων των κυκλωμάτων με σφάλματ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Χρησιμοποιεί λίστες σφαλμάτων σαν μια πιο συμπαγή αναπαράστασή του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Εκτός από την προσομοίωση των λογικών τιμών, μεταφέρει τις λίστες σφαλμάτων από τις εισόδους στην έξοδο κάθε πύλη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Χρησιμοποιεί έναν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ductive fault simulator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για να προσομοιώσει αλλαγές στις λίστες σφαλμάτω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1483200" y="13716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1483200" y="137016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2168640" y="30481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2168640" y="1371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168640" y="13716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1635120" y="27432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1635120" y="16765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616200" y="2209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011960" y="141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003680" y="2514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508640" y="1905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61316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60524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89124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79080" y="4267080"/>
            <a:ext cx="337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{Z s-a-0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1483200" y="13716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1483200" y="137016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2168640" y="30481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2168640" y="1371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168640" y="13716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>
            <a:off x="1635120" y="27432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1635120" y="16765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616200" y="2209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011960" y="141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003680" y="2514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508640" y="1905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61316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60524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89124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093680" y="4267080"/>
            <a:ext cx="6613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(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{Z s-a-1} = (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{Z s-a-1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590920" y="43434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Ορισμό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Για τις βασικές πύλες υπάρχει μια τιμή ελέγχου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ling value)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ου καθορίζει την έξοδο και μια μεταβλητή αντιστροφής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rsion)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ου είναι 0 αν δεν υπάρχει αντιστροφή στην έξοδο και 1 αν υπάρχε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Έστω ότι </a:t>
            </a:r>
            <a:r>
              <a:rPr b="0" lang="el-GR" sz="2800" spc="-1" strike="noStrike">
                <a:solidFill>
                  <a:srgbClr val="ffff00"/>
                </a:solidFill>
                <a:latin typeface="Arial"/>
              </a:rPr>
              <a:t>Ι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είναι το σύνολο των εισόδων της πύλης </a:t>
            </a:r>
            <a:r>
              <a:rPr b="0" lang="el-GR" sz="2800" spc="-1" strike="noStrike">
                <a:solidFill>
                  <a:srgbClr val="ffff00"/>
                </a:solidFill>
                <a:latin typeface="Arial"/>
              </a:rPr>
              <a:t>Ζ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και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το σύνολο των εισόδων που έχουν τιμή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{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}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{Z s-a-(c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)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{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} – {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}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{Z s-a-(c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)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ault list propag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5486400" y="5486400"/>
            <a:ext cx="15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059200" y="4800600"/>
            <a:ext cx="45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983600" y="579132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032640" y="5791320"/>
            <a:ext cx="6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-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998800" y="28954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2998800" y="28951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36846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36846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684600" y="28954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132520" y="37339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2998800" y="28954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2998800" y="28951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>
            <a:off x="36846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H="1">
            <a:off x="36846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684600" y="28954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132520" y="37339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133720" y="2590920"/>
            <a:ext cx="1371600" cy="2133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360960" y="5445000"/>
            <a:ext cx="99144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 flipV="1">
            <a:off x="3124080" y="4648320"/>
            <a:ext cx="609840" cy="761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2998800" y="28954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2998800" y="28951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H="1">
            <a:off x="36846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36846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684600" y="28954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132520" y="37339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798280" y="5597640"/>
            <a:ext cx="3543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{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{Z s-a-(c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)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659400" y="5943600"/>
            <a:ext cx="45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2998800" y="28954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2998800" y="28951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H="1">
            <a:off x="36846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36846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684600" y="28954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132520" y="37339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798280" y="5597640"/>
            <a:ext cx="3543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{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{Z s-a-(c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)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659400" y="5943600"/>
            <a:ext cx="45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299720" y="2021040"/>
            <a:ext cx="85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ault inser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838080" y="2133720"/>
            <a:ext cx="609840" cy="609480"/>
            <a:chOff x="838080" y="2133720"/>
            <a:chExt cx="609840" cy="609480"/>
          </a:xfrm>
        </p:grpSpPr>
        <p:sp>
          <p:nvSpPr>
            <p:cNvPr id="43" name=""/>
            <p:cNvSpPr/>
            <p:nvPr/>
          </p:nvSpPr>
          <p:spPr>
            <a:xfrm>
              <a:off x="838080" y="2133720"/>
              <a:ext cx="60984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76680" y="2173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1447920" y="2133720"/>
            <a:ext cx="609480" cy="609480"/>
            <a:chOff x="1447920" y="2133720"/>
            <a:chExt cx="609480" cy="609480"/>
          </a:xfrm>
        </p:grpSpPr>
        <p:sp>
          <p:nvSpPr>
            <p:cNvPr id="46" name=""/>
            <p:cNvSpPr/>
            <p:nvPr/>
          </p:nvSpPr>
          <p:spPr>
            <a:xfrm>
              <a:off x="1447920" y="2133720"/>
              <a:ext cx="60948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586160" y="2173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2057400" y="2133720"/>
            <a:ext cx="609480" cy="609480"/>
            <a:chOff x="2057400" y="2133720"/>
            <a:chExt cx="609480" cy="609480"/>
          </a:xfrm>
        </p:grpSpPr>
        <p:sp>
          <p:nvSpPr>
            <p:cNvPr id="49" name=""/>
            <p:cNvSpPr/>
            <p:nvPr/>
          </p:nvSpPr>
          <p:spPr>
            <a:xfrm>
              <a:off x="2057400" y="2133720"/>
              <a:ext cx="60948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195640" y="2173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666880" y="2133720"/>
            <a:ext cx="609840" cy="609480"/>
            <a:chOff x="2666880" y="2133720"/>
            <a:chExt cx="609840" cy="609480"/>
          </a:xfrm>
        </p:grpSpPr>
        <p:sp>
          <p:nvSpPr>
            <p:cNvPr id="52" name=""/>
            <p:cNvSpPr/>
            <p:nvPr/>
          </p:nvSpPr>
          <p:spPr>
            <a:xfrm>
              <a:off x="2666880" y="2133720"/>
              <a:ext cx="60984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05480" y="2173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276720" y="2133720"/>
            <a:ext cx="609480" cy="609480"/>
            <a:chOff x="3276720" y="2133720"/>
            <a:chExt cx="609480" cy="609480"/>
          </a:xfrm>
        </p:grpSpPr>
        <p:sp>
          <p:nvSpPr>
            <p:cNvPr id="55" name=""/>
            <p:cNvSpPr/>
            <p:nvPr/>
          </p:nvSpPr>
          <p:spPr>
            <a:xfrm>
              <a:off x="3276720" y="2133720"/>
              <a:ext cx="60948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14960" y="2173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886200" y="2133720"/>
            <a:ext cx="609480" cy="609480"/>
            <a:chOff x="3886200" y="2133720"/>
            <a:chExt cx="609480" cy="609480"/>
          </a:xfrm>
        </p:grpSpPr>
        <p:sp>
          <p:nvSpPr>
            <p:cNvPr id="58" name=""/>
            <p:cNvSpPr/>
            <p:nvPr/>
          </p:nvSpPr>
          <p:spPr>
            <a:xfrm>
              <a:off x="3886200" y="2133720"/>
              <a:ext cx="60948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024440" y="2173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495680" y="2133720"/>
            <a:ext cx="609840" cy="609480"/>
            <a:chOff x="4495680" y="2133720"/>
            <a:chExt cx="609840" cy="609480"/>
          </a:xfrm>
        </p:grpSpPr>
        <p:sp>
          <p:nvSpPr>
            <p:cNvPr id="61" name=""/>
            <p:cNvSpPr/>
            <p:nvPr/>
          </p:nvSpPr>
          <p:spPr>
            <a:xfrm>
              <a:off x="4495680" y="2133720"/>
              <a:ext cx="60984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34280" y="2173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105520" y="2133720"/>
            <a:ext cx="609480" cy="609480"/>
            <a:chOff x="5105520" y="2133720"/>
            <a:chExt cx="609480" cy="609480"/>
          </a:xfrm>
        </p:grpSpPr>
        <p:sp>
          <p:nvSpPr>
            <p:cNvPr id="64" name=""/>
            <p:cNvSpPr/>
            <p:nvPr/>
          </p:nvSpPr>
          <p:spPr>
            <a:xfrm>
              <a:off x="5105520" y="2133720"/>
              <a:ext cx="60948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243760" y="2173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082200" y="220968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ρχική κατάσταση 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836640" y="3200400"/>
            <a:ext cx="609480" cy="609480"/>
            <a:chOff x="836640" y="3200400"/>
            <a:chExt cx="609480" cy="609480"/>
          </a:xfrm>
        </p:grpSpPr>
        <p:sp>
          <p:nvSpPr>
            <p:cNvPr id="68" name=""/>
            <p:cNvSpPr/>
            <p:nvPr/>
          </p:nvSpPr>
          <p:spPr>
            <a:xfrm>
              <a:off x="836640" y="3200400"/>
              <a:ext cx="60948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74880" y="3240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446120" y="3200400"/>
            <a:ext cx="609840" cy="609480"/>
            <a:chOff x="1446120" y="3200400"/>
            <a:chExt cx="609840" cy="609480"/>
          </a:xfrm>
        </p:grpSpPr>
        <p:sp>
          <p:nvSpPr>
            <p:cNvPr id="71" name=""/>
            <p:cNvSpPr/>
            <p:nvPr/>
          </p:nvSpPr>
          <p:spPr>
            <a:xfrm>
              <a:off x="1446120" y="3200400"/>
              <a:ext cx="60984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84720" y="3240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055960" y="3200400"/>
            <a:ext cx="609480" cy="609480"/>
            <a:chOff x="2055960" y="3200400"/>
            <a:chExt cx="609480" cy="609480"/>
          </a:xfrm>
        </p:grpSpPr>
        <p:sp>
          <p:nvSpPr>
            <p:cNvPr id="74" name=""/>
            <p:cNvSpPr/>
            <p:nvPr/>
          </p:nvSpPr>
          <p:spPr>
            <a:xfrm>
              <a:off x="2055960" y="3200400"/>
              <a:ext cx="60948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94200" y="3240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2665440" y="3200400"/>
            <a:ext cx="609480" cy="609480"/>
            <a:chOff x="2665440" y="3200400"/>
            <a:chExt cx="609480" cy="609480"/>
          </a:xfrm>
        </p:grpSpPr>
        <p:sp>
          <p:nvSpPr>
            <p:cNvPr id="77" name=""/>
            <p:cNvSpPr/>
            <p:nvPr/>
          </p:nvSpPr>
          <p:spPr>
            <a:xfrm>
              <a:off x="2665440" y="3200400"/>
              <a:ext cx="60948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03680" y="3240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274920" y="3200400"/>
            <a:ext cx="609840" cy="609480"/>
            <a:chOff x="3274920" y="3200400"/>
            <a:chExt cx="609840" cy="609480"/>
          </a:xfrm>
        </p:grpSpPr>
        <p:sp>
          <p:nvSpPr>
            <p:cNvPr id="80" name=""/>
            <p:cNvSpPr/>
            <p:nvPr/>
          </p:nvSpPr>
          <p:spPr>
            <a:xfrm>
              <a:off x="3274920" y="3200400"/>
              <a:ext cx="60984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413520" y="3240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884760" y="3200400"/>
            <a:ext cx="609480" cy="609480"/>
            <a:chOff x="3884760" y="3200400"/>
            <a:chExt cx="609480" cy="609480"/>
          </a:xfrm>
        </p:grpSpPr>
        <p:sp>
          <p:nvSpPr>
            <p:cNvPr id="83" name=""/>
            <p:cNvSpPr/>
            <p:nvPr/>
          </p:nvSpPr>
          <p:spPr>
            <a:xfrm>
              <a:off x="3884760" y="3200400"/>
              <a:ext cx="60948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23000" y="3240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494240" y="3200400"/>
            <a:ext cx="609480" cy="609480"/>
            <a:chOff x="4494240" y="3200400"/>
            <a:chExt cx="609480" cy="609480"/>
          </a:xfrm>
        </p:grpSpPr>
        <p:sp>
          <p:nvSpPr>
            <p:cNvPr id="86" name=""/>
            <p:cNvSpPr/>
            <p:nvPr/>
          </p:nvSpPr>
          <p:spPr>
            <a:xfrm>
              <a:off x="4494240" y="3200400"/>
              <a:ext cx="60948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32480" y="3240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5103720" y="3200400"/>
            <a:ext cx="609840" cy="609480"/>
            <a:chOff x="5103720" y="3200400"/>
            <a:chExt cx="609840" cy="609480"/>
          </a:xfrm>
        </p:grpSpPr>
        <p:sp>
          <p:nvSpPr>
            <p:cNvPr id="89" name=""/>
            <p:cNvSpPr/>
            <p:nvPr/>
          </p:nvSpPr>
          <p:spPr>
            <a:xfrm>
              <a:off x="5103720" y="3200400"/>
              <a:ext cx="60984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42320" y="3240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6081840" y="3276720"/>
            <a:ext cx="26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φάλματα κόμβου 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4267080"/>
            <a:ext cx="609840" cy="609480"/>
            <a:chOff x="838080" y="4267080"/>
            <a:chExt cx="609840" cy="609480"/>
          </a:xfrm>
        </p:grpSpPr>
        <p:sp>
          <p:nvSpPr>
            <p:cNvPr id="93" name=""/>
            <p:cNvSpPr/>
            <p:nvPr/>
          </p:nvSpPr>
          <p:spPr>
            <a:xfrm>
              <a:off x="838080" y="4267080"/>
              <a:ext cx="60984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76680" y="4306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447920" y="4267080"/>
            <a:ext cx="609480" cy="609480"/>
            <a:chOff x="1447920" y="4267080"/>
            <a:chExt cx="609480" cy="609480"/>
          </a:xfrm>
        </p:grpSpPr>
        <p:sp>
          <p:nvSpPr>
            <p:cNvPr id="96" name=""/>
            <p:cNvSpPr/>
            <p:nvPr/>
          </p:nvSpPr>
          <p:spPr>
            <a:xfrm>
              <a:off x="1447920" y="4267080"/>
              <a:ext cx="60948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86160" y="4306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057400" y="4267080"/>
            <a:ext cx="609480" cy="609480"/>
            <a:chOff x="2057400" y="4267080"/>
            <a:chExt cx="609480" cy="609480"/>
          </a:xfrm>
        </p:grpSpPr>
        <p:sp>
          <p:nvSpPr>
            <p:cNvPr id="99" name=""/>
            <p:cNvSpPr/>
            <p:nvPr/>
          </p:nvSpPr>
          <p:spPr>
            <a:xfrm>
              <a:off x="2057400" y="4267080"/>
              <a:ext cx="60948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95640" y="4306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666880" y="4267080"/>
            <a:ext cx="609840" cy="609480"/>
            <a:chOff x="2666880" y="4267080"/>
            <a:chExt cx="609840" cy="609480"/>
          </a:xfrm>
        </p:grpSpPr>
        <p:sp>
          <p:nvSpPr>
            <p:cNvPr id="102" name=""/>
            <p:cNvSpPr/>
            <p:nvPr/>
          </p:nvSpPr>
          <p:spPr>
            <a:xfrm>
              <a:off x="2666880" y="4267080"/>
              <a:ext cx="60984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05480" y="4306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276720" y="4267080"/>
            <a:ext cx="609480" cy="609480"/>
            <a:chOff x="3276720" y="4267080"/>
            <a:chExt cx="609480" cy="609480"/>
          </a:xfrm>
        </p:grpSpPr>
        <p:sp>
          <p:nvSpPr>
            <p:cNvPr id="105" name=""/>
            <p:cNvSpPr/>
            <p:nvPr/>
          </p:nvSpPr>
          <p:spPr>
            <a:xfrm>
              <a:off x="3276720" y="4267080"/>
              <a:ext cx="60948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14960" y="4306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886200" y="4267080"/>
            <a:ext cx="609480" cy="609480"/>
            <a:chOff x="3886200" y="4267080"/>
            <a:chExt cx="609480" cy="609480"/>
          </a:xfrm>
        </p:grpSpPr>
        <p:sp>
          <p:nvSpPr>
            <p:cNvPr id="108" name=""/>
            <p:cNvSpPr/>
            <p:nvPr/>
          </p:nvSpPr>
          <p:spPr>
            <a:xfrm>
              <a:off x="3886200" y="4267080"/>
              <a:ext cx="60948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24440" y="4306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95680" y="4267080"/>
            <a:ext cx="609840" cy="609480"/>
            <a:chOff x="4495680" y="4267080"/>
            <a:chExt cx="609840" cy="609480"/>
          </a:xfrm>
        </p:grpSpPr>
        <p:sp>
          <p:nvSpPr>
            <p:cNvPr id="111" name=""/>
            <p:cNvSpPr/>
            <p:nvPr/>
          </p:nvSpPr>
          <p:spPr>
            <a:xfrm>
              <a:off x="4495680" y="4267080"/>
              <a:ext cx="60984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34280" y="4306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105520" y="4267080"/>
            <a:ext cx="609480" cy="609480"/>
            <a:chOff x="5105520" y="4267080"/>
            <a:chExt cx="609480" cy="609480"/>
          </a:xfrm>
        </p:grpSpPr>
        <p:sp>
          <p:nvSpPr>
            <p:cNvPr id="114" name=""/>
            <p:cNvSpPr/>
            <p:nvPr/>
          </p:nvSpPr>
          <p:spPr>
            <a:xfrm>
              <a:off x="5105520" y="4267080"/>
              <a:ext cx="60948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43760" y="4306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084000" y="4343400"/>
            <a:ext cx="26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ιμές σφαλμάτων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838080" y="5334120"/>
            <a:ext cx="609840" cy="609480"/>
            <a:chOff x="838080" y="5334120"/>
            <a:chExt cx="609840" cy="609480"/>
          </a:xfrm>
        </p:grpSpPr>
        <p:sp>
          <p:nvSpPr>
            <p:cNvPr id="118" name=""/>
            <p:cNvSpPr/>
            <p:nvPr/>
          </p:nvSpPr>
          <p:spPr>
            <a:xfrm>
              <a:off x="838080" y="5334120"/>
              <a:ext cx="60984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76680" y="5373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447920" y="5334120"/>
            <a:ext cx="609480" cy="609480"/>
            <a:chOff x="1447920" y="5334120"/>
            <a:chExt cx="609480" cy="609480"/>
          </a:xfrm>
        </p:grpSpPr>
        <p:sp>
          <p:nvSpPr>
            <p:cNvPr id="121" name=""/>
            <p:cNvSpPr/>
            <p:nvPr/>
          </p:nvSpPr>
          <p:spPr>
            <a:xfrm>
              <a:off x="1447920" y="5334120"/>
              <a:ext cx="60948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86160" y="5373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057400" y="5334120"/>
            <a:ext cx="609480" cy="609480"/>
            <a:chOff x="2057400" y="5334120"/>
            <a:chExt cx="609480" cy="609480"/>
          </a:xfrm>
        </p:grpSpPr>
        <p:sp>
          <p:nvSpPr>
            <p:cNvPr id="124" name=""/>
            <p:cNvSpPr/>
            <p:nvPr/>
          </p:nvSpPr>
          <p:spPr>
            <a:xfrm>
              <a:off x="2057400" y="5334120"/>
              <a:ext cx="60948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95640" y="5373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666880" y="5334120"/>
            <a:ext cx="609840" cy="609480"/>
            <a:chOff x="2666880" y="5334120"/>
            <a:chExt cx="609840" cy="609480"/>
          </a:xfrm>
        </p:grpSpPr>
        <p:sp>
          <p:nvSpPr>
            <p:cNvPr id="127" name=""/>
            <p:cNvSpPr/>
            <p:nvPr/>
          </p:nvSpPr>
          <p:spPr>
            <a:xfrm>
              <a:off x="2666880" y="5334120"/>
              <a:ext cx="60984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05480" y="5373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276720" y="5334120"/>
            <a:ext cx="609480" cy="609480"/>
            <a:chOff x="3276720" y="5334120"/>
            <a:chExt cx="609480" cy="609480"/>
          </a:xfrm>
        </p:grpSpPr>
        <p:sp>
          <p:nvSpPr>
            <p:cNvPr id="130" name=""/>
            <p:cNvSpPr/>
            <p:nvPr/>
          </p:nvSpPr>
          <p:spPr>
            <a:xfrm>
              <a:off x="3276720" y="5334120"/>
              <a:ext cx="60948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14960" y="5373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886200" y="5334120"/>
            <a:ext cx="609480" cy="609480"/>
            <a:chOff x="3886200" y="5334120"/>
            <a:chExt cx="609480" cy="609480"/>
          </a:xfrm>
        </p:grpSpPr>
        <p:sp>
          <p:nvSpPr>
            <p:cNvPr id="133" name=""/>
            <p:cNvSpPr/>
            <p:nvPr/>
          </p:nvSpPr>
          <p:spPr>
            <a:xfrm>
              <a:off x="3886200" y="5334120"/>
              <a:ext cx="60948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24440" y="5373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495680" y="5334120"/>
            <a:ext cx="609840" cy="609480"/>
            <a:chOff x="4495680" y="5334120"/>
            <a:chExt cx="609840" cy="609480"/>
          </a:xfrm>
        </p:grpSpPr>
        <p:sp>
          <p:nvSpPr>
            <p:cNvPr id="136" name=""/>
            <p:cNvSpPr/>
            <p:nvPr/>
          </p:nvSpPr>
          <p:spPr>
            <a:xfrm>
              <a:off x="4495680" y="5334120"/>
              <a:ext cx="60984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34280" y="5373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105520" y="5334120"/>
            <a:ext cx="609480" cy="609480"/>
            <a:chOff x="5105520" y="5334120"/>
            <a:chExt cx="609480" cy="609480"/>
          </a:xfrm>
        </p:grpSpPr>
        <p:sp>
          <p:nvSpPr>
            <p:cNvPr id="139" name=""/>
            <p:cNvSpPr/>
            <p:nvPr/>
          </p:nvSpPr>
          <p:spPr>
            <a:xfrm>
              <a:off x="5105520" y="5334120"/>
              <a:ext cx="609480" cy="609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43760" y="5373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082200" y="5410080"/>
            <a:ext cx="28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ελική κατάσταση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Z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77440" y="990720"/>
            <a:ext cx="198216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* = Z I’ + I 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2998800" y="28954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2998800" y="28951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36846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H="1">
            <a:off x="36846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684600" y="28954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132520" y="37339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2817720" y="5597640"/>
            <a:ext cx="3376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{Z s-a-0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2998800" y="28954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2998800" y="28951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36846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36846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684600" y="28954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132520" y="37339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2998800" y="28954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2998800" y="28951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H="1">
            <a:off x="36846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H="1">
            <a:off x="36846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684600" y="28954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132520" y="37339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133720" y="2666880"/>
            <a:ext cx="1218960" cy="1219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356640" y="5450040"/>
            <a:ext cx="115596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= {A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 flipV="1">
            <a:off x="3276720" y="3657600"/>
            <a:ext cx="457200" cy="1752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2998800" y="28954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2998800" y="28951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H="1">
            <a:off x="36846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>
            <a:off x="36846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684600" y="28954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132520" y="37339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795040" y="5597640"/>
            <a:ext cx="453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{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– {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{Z s-a-(c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)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629400" y="5638680"/>
            <a:ext cx="15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601080" y="594360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497840" y="5943600"/>
            <a:ext cx="6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-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2998800" y="28954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2998800" y="28951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36846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H="1">
            <a:off x="36846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684600" y="28954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132520" y="37339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7299720" y="2021040"/>
            <a:ext cx="85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795040" y="5597640"/>
            <a:ext cx="453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{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– {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{Z s-a-(c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)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629400" y="5638680"/>
            <a:ext cx="15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601080" y="594360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497840" y="5943600"/>
            <a:ext cx="6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-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2998800" y="28954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2998800" y="28951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36846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36846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684600" y="28954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132520" y="37339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822040" y="5597640"/>
            <a:ext cx="3236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{Z s-a-1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998800" y="28954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V="1">
            <a:off x="2998800" y="28951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H="1">
            <a:off x="36846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36846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684600" y="28954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132520" y="37339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2998800" y="28954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2998800" y="28951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H="1">
            <a:off x="36846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36846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684600" y="28954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132520" y="37339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133720" y="2666880"/>
            <a:ext cx="1218960" cy="1981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355560" y="5450040"/>
            <a:ext cx="152964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= {A, B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H="1" flipV="1">
            <a:off x="3124080" y="4495680"/>
            <a:ext cx="60984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2998800" y="28954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2998800" y="28951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H="1">
            <a:off x="36846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H="1">
            <a:off x="36846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684600" y="28954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132520" y="37339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795040" y="5597640"/>
            <a:ext cx="453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{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– {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{Z s-a-(c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)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629400" y="5638680"/>
            <a:ext cx="15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601080" y="594360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497840" y="5943600"/>
            <a:ext cx="6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-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2998800" y="28954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2998800" y="28951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H="1">
            <a:off x="36846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H="1">
            <a:off x="36846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3684600" y="28954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132520" y="37339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7299720" y="2021040"/>
            <a:ext cx="85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795040" y="5597640"/>
            <a:ext cx="453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{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– {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{Z s-a-(c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)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6629400" y="5638680"/>
            <a:ext cx="15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601080" y="594360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497840" y="5943600"/>
            <a:ext cx="6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-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457200" y="2514240"/>
            <a:ext cx="2286000" cy="1676520"/>
            <a:chOff x="457200" y="2514240"/>
            <a:chExt cx="2286000" cy="1676520"/>
          </a:xfrm>
        </p:grpSpPr>
        <p:sp>
          <p:nvSpPr>
            <p:cNvPr id="144" name=""/>
            <p:cNvSpPr/>
            <p:nvPr/>
          </p:nvSpPr>
          <p:spPr>
            <a:xfrm>
              <a:off x="457200" y="25146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57200" y="2513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143000" y="41907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143000" y="25146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43000" y="25146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90920" y="32763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52680" y="3047760"/>
            <a:ext cx="2286000" cy="1676520"/>
            <a:chOff x="3352680" y="3047760"/>
            <a:chExt cx="2286000" cy="1676520"/>
          </a:xfrm>
        </p:grpSpPr>
        <p:sp>
          <p:nvSpPr>
            <p:cNvPr id="151" name=""/>
            <p:cNvSpPr/>
            <p:nvPr/>
          </p:nvSpPr>
          <p:spPr>
            <a:xfrm>
              <a:off x="3352680" y="30481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352680" y="30474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038480" y="47242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038480" y="30481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38480" y="30481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86400" y="38098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172200" y="1142640"/>
            <a:ext cx="2286000" cy="1676520"/>
            <a:chOff x="6172200" y="1142640"/>
            <a:chExt cx="2286000" cy="1676520"/>
          </a:xfrm>
        </p:grpSpPr>
        <p:sp>
          <p:nvSpPr>
            <p:cNvPr id="158" name=""/>
            <p:cNvSpPr/>
            <p:nvPr/>
          </p:nvSpPr>
          <p:spPr>
            <a:xfrm>
              <a:off x="6172200" y="11430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6172200" y="11419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6858000" y="28191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6858000" y="11430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58000" y="11430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305920" y="19047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172200" y="4495320"/>
            <a:ext cx="2286000" cy="1676520"/>
            <a:chOff x="6172200" y="4495320"/>
            <a:chExt cx="2286000" cy="1676520"/>
          </a:xfrm>
        </p:grpSpPr>
        <p:sp>
          <p:nvSpPr>
            <p:cNvPr id="165" name=""/>
            <p:cNvSpPr/>
            <p:nvPr/>
          </p:nvSpPr>
          <p:spPr>
            <a:xfrm>
              <a:off x="6172200" y="44956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6172200" y="449496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858000" y="61718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6858000" y="44956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58000" y="44956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305920" y="52574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352680" y="5028840"/>
            <a:ext cx="2286000" cy="1676520"/>
            <a:chOff x="3352680" y="5028840"/>
            <a:chExt cx="2286000" cy="1676520"/>
          </a:xfrm>
        </p:grpSpPr>
        <p:sp>
          <p:nvSpPr>
            <p:cNvPr id="172" name=""/>
            <p:cNvSpPr/>
            <p:nvPr/>
          </p:nvSpPr>
          <p:spPr>
            <a:xfrm>
              <a:off x="3352680" y="50292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3352680" y="5028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038480" y="67053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038480" y="50292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38480" y="50292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86400" y="57909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57200" y="609120"/>
            <a:ext cx="2286000" cy="1676520"/>
            <a:chOff x="457200" y="609120"/>
            <a:chExt cx="2286000" cy="1676520"/>
          </a:xfrm>
        </p:grpSpPr>
        <p:sp>
          <p:nvSpPr>
            <p:cNvPr id="179" name=""/>
            <p:cNvSpPr/>
            <p:nvPr/>
          </p:nvSpPr>
          <p:spPr>
            <a:xfrm>
              <a:off x="457200" y="609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57200" y="6084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1143000" y="22856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1143000" y="6094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43000" y="6094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90920" y="13712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743200" y="1447920"/>
            <a:ext cx="4114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586728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335268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458200" y="1981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458200" y="53341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6552720" y="25146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6552720" y="48006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3080" y="2514600"/>
            <a:ext cx="0" cy="228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38862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609480" y="1981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609480" y="38862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914040" y="28195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914400" y="1980720"/>
            <a:ext cx="0" cy="838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19051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09120" y="44197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609120" y="640080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276720" y="525780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00400" y="32767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276720" y="335268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1000" y="42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6840" y="148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10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100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1000" y="594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25880" y="990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20960" y="2895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9080" y="3429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45040" y="5410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612280" y="1523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61228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94000" y="2682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1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09480" y="9144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2998800" y="28954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V="1">
            <a:off x="2998800" y="28951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36846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H="1">
            <a:off x="36846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684600" y="28954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132520" y="37339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817360" y="5597640"/>
            <a:ext cx="3580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{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{Z s-a-1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AN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2998800" y="28954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V="1">
            <a:off x="2998800" y="28951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 flipH="1">
            <a:off x="36846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flipH="1">
            <a:off x="36846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684600" y="28954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132520" y="37339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5105520" y="36576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AN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998800" y="28954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2998800" y="28951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 flipH="1">
            <a:off x="36846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 flipH="1">
            <a:off x="36846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684600" y="28954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132520" y="37339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133720" y="2590920"/>
            <a:ext cx="1371600" cy="2133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360960" y="5445000"/>
            <a:ext cx="99144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 flipV="1">
            <a:off x="3124080" y="4648320"/>
            <a:ext cx="609840" cy="761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105520" y="36576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AN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2998800" y="28954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V="1">
            <a:off x="2998800" y="28951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 flipH="1">
            <a:off x="36846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H="1">
            <a:off x="36846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3684600" y="28954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5132520" y="37339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798280" y="5597640"/>
            <a:ext cx="3543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{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{Z s-a-(c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)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659400" y="5943600"/>
            <a:ext cx="45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105520" y="36576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AN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2998800" y="28954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2998800" y="28951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36846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flipH="1">
            <a:off x="36846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684600" y="28954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132520" y="37339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2798280" y="5597640"/>
            <a:ext cx="3543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{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{Z s-a-(c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)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659400" y="5943600"/>
            <a:ext cx="45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7299720" y="2021040"/>
            <a:ext cx="85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105520" y="36576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AN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2998800" y="28954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 flipV="1">
            <a:off x="2998800" y="28951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36846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H="1">
            <a:off x="36846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684600" y="28954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5132520" y="37339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817720" y="5597640"/>
            <a:ext cx="3376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{Z s-a-1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5105520" y="36576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AN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2998800" y="28954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 flipV="1">
            <a:off x="2998800" y="28951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 flipH="1">
            <a:off x="36846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flipH="1">
            <a:off x="36846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684600" y="28954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132520" y="37339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5105520" y="36576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AN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2998800" y="28954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V="1">
            <a:off x="2998800" y="28951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H="1">
            <a:off x="36846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36846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684600" y="28954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5132520" y="37339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2133720" y="2666880"/>
            <a:ext cx="1218960" cy="1219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356640" y="5450040"/>
            <a:ext cx="115596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= {A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H="1" flipV="1">
            <a:off x="3276720" y="3657600"/>
            <a:ext cx="457200" cy="1752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105520" y="36576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AN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998800" y="28954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V="1">
            <a:off x="2998800" y="28951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H="1">
            <a:off x="36846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36846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3684600" y="28954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5132520" y="37339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2795040" y="5597640"/>
            <a:ext cx="453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{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– {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{Z s-a-(c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)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629400" y="5638680"/>
            <a:ext cx="15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601080" y="594360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497840" y="5943600"/>
            <a:ext cx="6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-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5105520" y="36576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AN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2998800" y="28954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V="1">
            <a:off x="2998800" y="28951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flipH="1">
            <a:off x="36846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 flipH="1">
            <a:off x="36846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3684600" y="28954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5132520" y="37339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7299720" y="2021040"/>
            <a:ext cx="85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2795040" y="5597640"/>
            <a:ext cx="453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{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– {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{Z s-a-(c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)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6629400" y="5638680"/>
            <a:ext cx="15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3601080" y="594360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497840" y="5943600"/>
            <a:ext cx="6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-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5105520" y="36576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457200" y="2514240"/>
            <a:ext cx="2286000" cy="1676520"/>
            <a:chOff x="457200" y="2514240"/>
            <a:chExt cx="2286000" cy="1676520"/>
          </a:xfrm>
        </p:grpSpPr>
        <p:sp>
          <p:nvSpPr>
            <p:cNvPr id="218" name=""/>
            <p:cNvSpPr/>
            <p:nvPr/>
          </p:nvSpPr>
          <p:spPr>
            <a:xfrm>
              <a:off x="457200" y="25146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57200" y="2513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1143000" y="41907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1143000" y="25146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43000" y="25146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90920" y="32763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3352680" y="3047760"/>
            <a:ext cx="2286000" cy="1676520"/>
            <a:chOff x="3352680" y="3047760"/>
            <a:chExt cx="2286000" cy="1676520"/>
          </a:xfrm>
        </p:grpSpPr>
        <p:sp>
          <p:nvSpPr>
            <p:cNvPr id="225" name=""/>
            <p:cNvSpPr/>
            <p:nvPr/>
          </p:nvSpPr>
          <p:spPr>
            <a:xfrm>
              <a:off x="3352680" y="30481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352680" y="30474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038480" y="47242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038480" y="30481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38480" y="30481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86400" y="38098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172200" y="1142640"/>
            <a:ext cx="2286000" cy="1676520"/>
            <a:chOff x="6172200" y="1142640"/>
            <a:chExt cx="2286000" cy="1676520"/>
          </a:xfrm>
        </p:grpSpPr>
        <p:sp>
          <p:nvSpPr>
            <p:cNvPr id="232" name=""/>
            <p:cNvSpPr/>
            <p:nvPr/>
          </p:nvSpPr>
          <p:spPr>
            <a:xfrm>
              <a:off x="6172200" y="11430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172200" y="11419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6858000" y="28191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858000" y="11430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58000" y="11430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05920" y="19047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172200" y="4495320"/>
            <a:ext cx="2286000" cy="1676520"/>
            <a:chOff x="6172200" y="4495320"/>
            <a:chExt cx="2286000" cy="1676520"/>
          </a:xfrm>
        </p:grpSpPr>
        <p:sp>
          <p:nvSpPr>
            <p:cNvPr id="239" name=""/>
            <p:cNvSpPr/>
            <p:nvPr/>
          </p:nvSpPr>
          <p:spPr>
            <a:xfrm>
              <a:off x="6172200" y="44956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6172200" y="449496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858000" y="61718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6858000" y="44956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58000" y="44956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05920" y="52574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352680" y="5028840"/>
            <a:ext cx="2286000" cy="1676520"/>
            <a:chOff x="3352680" y="5028840"/>
            <a:chExt cx="2286000" cy="1676520"/>
          </a:xfrm>
        </p:grpSpPr>
        <p:sp>
          <p:nvSpPr>
            <p:cNvPr id="246" name=""/>
            <p:cNvSpPr/>
            <p:nvPr/>
          </p:nvSpPr>
          <p:spPr>
            <a:xfrm>
              <a:off x="3352680" y="50292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3352680" y="5028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4038480" y="67053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038480" y="50292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38480" y="50292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86400" y="57909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57200" y="609120"/>
            <a:ext cx="2286000" cy="1676520"/>
            <a:chOff x="457200" y="609120"/>
            <a:chExt cx="2286000" cy="1676520"/>
          </a:xfrm>
        </p:grpSpPr>
        <p:sp>
          <p:nvSpPr>
            <p:cNvPr id="253" name=""/>
            <p:cNvSpPr/>
            <p:nvPr/>
          </p:nvSpPr>
          <p:spPr>
            <a:xfrm>
              <a:off x="457200" y="609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57200" y="6084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1143000" y="22856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1143000" y="6094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43000" y="6094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90920" y="13712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743200" y="1447920"/>
            <a:ext cx="4114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586728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43200" y="335268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458200" y="1981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458200" y="53341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552720" y="25146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6552720" y="48006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553080" y="2514600"/>
            <a:ext cx="0" cy="228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38680" y="38862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609480" y="1981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609480" y="38862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914040" y="28195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914400" y="1980720"/>
            <a:ext cx="0" cy="838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38080" y="19051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09120" y="44197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609120" y="640080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276720" y="525780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00400" y="32767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276720" y="335268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1000" y="42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6840" y="148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10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100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1000" y="594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5880" y="990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20960" y="2895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69080" y="3429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945040" y="5410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612280" y="1523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61228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94000" y="2682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1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93600" y="914400"/>
            <a:ext cx="1506600" cy="459720"/>
            <a:chOff x="93600" y="914400"/>
            <a:chExt cx="1506600" cy="459720"/>
          </a:xfrm>
        </p:grpSpPr>
        <p:sp>
          <p:nvSpPr>
            <p:cNvPr id="291" name=""/>
            <p:cNvSpPr/>
            <p:nvPr/>
          </p:nvSpPr>
          <p:spPr>
            <a:xfrm flipH="1">
              <a:off x="609480" y="914400"/>
              <a:ext cx="533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5120" y="91440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86000" y="91440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67240" y="91440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248120" y="91440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19320" y="91440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38080" y="914400"/>
              <a:ext cx="38124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" y="91440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3600" y="914400"/>
              <a:ext cx="38124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76320" y="1981080"/>
            <a:ext cx="1505880" cy="459720"/>
            <a:chOff x="76320" y="1981080"/>
            <a:chExt cx="1505880" cy="459720"/>
          </a:xfrm>
        </p:grpSpPr>
        <p:sp>
          <p:nvSpPr>
            <p:cNvPr id="301" name=""/>
            <p:cNvSpPr/>
            <p:nvPr/>
          </p:nvSpPr>
          <p:spPr>
            <a:xfrm flipH="1">
              <a:off x="591480" y="1981080"/>
              <a:ext cx="533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7480" y="19810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8360" y="19810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9240" y="19810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230480" y="19810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01680" y="1981080"/>
              <a:ext cx="38052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20440" y="198108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39560" y="1981080"/>
              <a:ext cx="38052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320" y="198108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3568680" y="2403360"/>
            <a:ext cx="18648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Αρχικές τιμέ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1676160" y="1219320"/>
            <a:ext cx="1904760" cy="1371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1676160" y="2209680"/>
            <a:ext cx="190476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AN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2998800" y="28954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flipV="1">
            <a:off x="2998800" y="28951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H="1">
            <a:off x="36846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H="1">
            <a:off x="36846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684600" y="28954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5132520" y="37339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2822040" y="5597640"/>
            <a:ext cx="3236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{Z s-a-0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5105520" y="36576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AN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2998800" y="28954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V="1">
            <a:off x="2998800" y="28951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 flipH="1">
            <a:off x="36846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H="1">
            <a:off x="36846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3684600" y="28954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5132520" y="37339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5105520" y="36576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AN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2998800" y="28954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 flipV="1">
            <a:off x="2998800" y="28951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H="1">
            <a:off x="36846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 flipH="1">
            <a:off x="36846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684600" y="28954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132520" y="37339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2133720" y="2666880"/>
            <a:ext cx="1218960" cy="1981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355560" y="5450040"/>
            <a:ext cx="152964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= {A, B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flipH="1" flipV="1">
            <a:off x="3124080" y="4495680"/>
            <a:ext cx="60984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105520" y="36576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AN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2998800" y="28954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 flipV="1">
            <a:off x="2998800" y="28951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flipH="1">
            <a:off x="36846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H="1">
            <a:off x="36846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3684600" y="28954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5132520" y="37339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2795040" y="5597640"/>
            <a:ext cx="453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{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– {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{Z s-a-(c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)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629400" y="5638680"/>
            <a:ext cx="15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601080" y="594360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4497840" y="5943600"/>
            <a:ext cx="6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-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5105520" y="36576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AN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2998800" y="28954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V="1">
            <a:off x="2998800" y="28951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H="1">
            <a:off x="36846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H="1">
            <a:off x="36846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684600" y="28954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5132520" y="37339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7299720" y="2021040"/>
            <a:ext cx="85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795040" y="5597640"/>
            <a:ext cx="453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{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– {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{Z s-a-(c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)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629400" y="5638680"/>
            <a:ext cx="15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3601080" y="594360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497840" y="5943600"/>
            <a:ext cx="6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-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105520" y="36576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AN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2998800" y="2895480"/>
            <a:ext cx="213336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 flipV="1">
            <a:off x="2998800" y="28951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36846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 flipH="1">
            <a:off x="36846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684600" y="28954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132520" y="37339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817360" y="5597640"/>
            <a:ext cx="3580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{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{Z s-a-0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5105520" y="36576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5410080" y="3733920"/>
            <a:ext cx="865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2210040" y="2898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V="1">
            <a:off x="2210040" y="289476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 flipH="1">
            <a:off x="34290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flipH="1">
            <a:off x="34290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429000" y="289548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133720" y="2590920"/>
            <a:ext cx="1371600" cy="2133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360960" y="5445000"/>
            <a:ext cx="99144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 flipH="1" flipV="1">
            <a:off x="3124080" y="4648320"/>
            <a:ext cx="609840" cy="761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2210040" y="2898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 flipV="1">
            <a:off x="2210040" y="289476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 flipH="1">
            <a:off x="34290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 flipH="1">
            <a:off x="34290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3429000" y="289548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5410080" y="3733920"/>
            <a:ext cx="865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2798280" y="5597640"/>
            <a:ext cx="3543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{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{Z s-a-(c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)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659400" y="5943600"/>
            <a:ext cx="45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2210040" y="2898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 flipV="1">
            <a:off x="2210040" y="289476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 flipH="1">
            <a:off x="34290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 flipH="1">
            <a:off x="34290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3429000" y="289548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5410080" y="3733920"/>
            <a:ext cx="865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2798280" y="5597640"/>
            <a:ext cx="3543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{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{Z s-a-(c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)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659400" y="5943600"/>
            <a:ext cx="45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7299720" y="2021040"/>
            <a:ext cx="85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2210040" y="2898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 flipV="1">
            <a:off x="2210040" y="289476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 flipH="1">
            <a:off x="34290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 flipH="1">
            <a:off x="34290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3429000" y="289548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410080" y="3733920"/>
            <a:ext cx="865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457200" y="2514240"/>
            <a:ext cx="2286000" cy="1676520"/>
            <a:chOff x="457200" y="2514240"/>
            <a:chExt cx="2286000" cy="1676520"/>
          </a:xfrm>
        </p:grpSpPr>
        <p:sp>
          <p:nvSpPr>
            <p:cNvPr id="314" name=""/>
            <p:cNvSpPr/>
            <p:nvPr/>
          </p:nvSpPr>
          <p:spPr>
            <a:xfrm>
              <a:off x="457200" y="25146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457200" y="2513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1143000" y="41907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1143000" y="25146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43000" y="25146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90920" y="32763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352680" y="3047760"/>
            <a:ext cx="2286000" cy="1676520"/>
            <a:chOff x="3352680" y="3047760"/>
            <a:chExt cx="2286000" cy="1676520"/>
          </a:xfrm>
        </p:grpSpPr>
        <p:sp>
          <p:nvSpPr>
            <p:cNvPr id="321" name=""/>
            <p:cNvSpPr/>
            <p:nvPr/>
          </p:nvSpPr>
          <p:spPr>
            <a:xfrm>
              <a:off x="3352680" y="30481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3352680" y="30474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038480" y="47242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4038480" y="30481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038480" y="30481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486400" y="38098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6172200" y="1142640"/>
            <a:ext cx="2286000" cy="1676520"/>
            <a:chOff x="6172200" y="1142640"/>
            <a:chExt cx="2286000" cy="1676520"/>
          </a:xfrm>
        </p:grpSpPr>
        <p:sp>
          <p:nvSpPr>
            <p:cNvPr id="328" name=""/>
            <p:cNvSpPr/>
            <p:nvPr/>
          </p:nvSpPr>
          <p:spPr>
            <a:xfrm>
              <a:off x="6172200" y="11430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6172200" y="11419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858000" y="28191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6858000" y="11430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8000" y="11430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305920" y="19047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172200" y="4495320"/>
            <a:ext cx="2286000" cy="1676520"/>
            <a:chOff x="6172200" y="4495320"/>
            <a:chExt cx="2286000" cy="1676520"/>
          </a:xfrm>
        </p:grpSpPr>
        <p:sp>
          <p:nvSpPr>
            <p:cNvPr id="335" name=""/>
            <p:cNvSpPr/>
            <p:nvPr/>
          </p:nvSpPr>
          <p:spPr>
            <a:xfrm>
              <a:off x="6172200" y="44956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172200" y="449496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6858000" y="61718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6858000" y="44956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858000" y="44956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305920" y="52574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352680" y="5028840"/>
            <a:ext cx="2286000" cy="1676520"/>
            <a:chOff x="3352680" y="5028840"/>
            <a:chExt cx="2286000" cy="1676520"/>
          </a:xfrm>
        </p:grpSpPr>
        <p:sp>
          <p:nvSpPr>
            <p:cNvPr id="342" name=""/>
            <p:cNvSpPr/>
            <p:nvPr/>
          </p:nvSpPr>
          <p:spPr>
            <a:xfrm>
              <a:off x="3352680" y="50292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3352680" y="5028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038480" y="67053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4038480" y="50292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038480" y="50292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486400" y="57909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457200" y="609120"/>
            <a:ext cx="2286000" cy="1676520"/>
            <a:chOff x="457200" y="609120"/>
            <a:chExt cx="2286000" cy="1676520"/>
          </a:xfrm>
        </p:grpSpPr>
        <p:sp>
          <p:nvSpPr>
            <p:cNvPr id="349" name=""/>
            <p:cNvSpPr/>
            <p:nvPr/>
          </p:nvSpPr>
          <p:spPr>
            <a:xfrm>
              <a:off x="457200" y="609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457200" y="6084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1143000" y="22856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1143000" y="6094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43000" y="6094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90920" y="13712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2743200" y="1447920"/>
            <a:ext cx="4114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638680" y="586728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43200" y="335268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458200" y="1981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458200" y="53341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6552720" y="25146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6552720" y="48006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553080" y="2514600"/>
            <a:ext cx="0" cy="228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638680" y="38862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609480" y="1981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609480" y="38862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914040" y="28195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914400" y="1980720"/>
            <a:ext cx="0" cy="838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19051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609120" y="44197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609120" y="640080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3276720" y="525780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00400" y="32767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3276720" y="335268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1000" y="42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6840" y="148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10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100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1000" y="594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5880" y="990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20960" y="2895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9080" y="3429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45040" y="5410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612280" y="1523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1228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194000" y="2682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1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93600" y="914400"/>
            <a:ext cx="1506600" cy="459720"/>
            <a:chOff x="93600" y="914400"/>
            <a:chExt cx="1506600" cy="459720"/>
          </a:xfrm>
        </p:grpSpPr>
        <p:sp>
          <p:nvSpPr>
            <p:cNvPr id="387" name=""/>
            <p:cNvSpPr/>
            <p:nvPr/>
          </p:nvSpPr>
          <p:spPr>
            <a:xfrm flipH="1">
              <a:off x="609480" y="914400"/>
              <a:ext cx="533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5120" y="91440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86000" y="91440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67240" y="91440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48120" y="91440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19320" y="91440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38080" y="914400"/>
              <a:ext cx="38124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7200" y="91440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3600" y="914400"/>
              <a:ext cx="38124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76320" y="1981080"/>
            <a:ext cx="1505880" cy="459720"/>
            <a:chOff x="76320" y="1981080"/>
            <a:chExt cx="1505880" cy="459720"/>
          </a:xfrm>
        </p:grpSpPr>
        <p:sp>
          <p:nvSpPr>
            <p:cNvPr id="397" name=""/>
            <p:cNvSpPr/>
            <p:nvPr/>
          </p:nvSpPr>
          <p:spPr>
            <a:xfrm flipH="1">
              <a:off x="591480" y="1981080"/>
              <a:ext cx="533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7480" y="19810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68360" y="19810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49240" y="19810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230480" y="19810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01680" y="1981080"/>
              <a:ext cx="38052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20440" y="198108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39560" y="1981080"/>
              <a:ext cx="38052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320" y="198108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3751200" y="990720"/>
            <a:ext cx="1506600" cy="459720"/>
            <a:chOff x="3751200" y="990720"/>
            <a:chExt cx="1506600" cy="459720"/>
          </a:xfrm>
        </p:grpSpPr>
        <p:sp>
          <p:nvSpPr>
            <p:cNvPr id="407" name=""/>
            <p:cNvSpPr/>
            <p:nvPr/>
          </p:nvSpPr>
          <p:spPr>
            <a:xfrm flipH="1">
              <a:off x="4267080" y="990720"/>
              <a:ext cx="533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762720" y="99072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43600" y="99072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524840" y="99072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905720" y="99072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76920" y="99072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95680" y="990720"/>
              <a:ext cx="38124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114800" y="99072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751200" y="990720"/>
              <a:ext cx="38124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5396040" y="9558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67960" y="2403360"/>
            <a:ext cx="2201400" cy="825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Τιμή κόμβο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χωρίς σφάλματ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572000" y="1523880"/>
            <a:ext cx="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2817720" y="5597640"/>
            <a:ext cx="3376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{Z s-a-1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2210040" y="2898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 flipV="1">
            <a:off x="2210040" y="289476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 flipH="1">
            <a:off x="34290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 flipH="1">
            <a:off x="34290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3429000" y="289548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5410080" y="3733920"/>
            <a:ext cx="865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2210040" y="2898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 flipV="1">
            <a:off x="2210040" y="289476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 flipH="1">
            <a:off x="34290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 flipH="1">
            <a:off x="34290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3429000" y="289548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5410080" y="3733920"/>
            <a:ext cx="865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2133720" y="2666880"/>
            <a:ext cx="1218960" cy="1219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3356640" y="5450040"/>
            <a:ext cx="115596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= {A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 flipH="1" flipV="1">
            <a:off x="3276720" y="3657600"/>
            <a:ext cx="457200" cy="1752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2210040" y="2898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 flipV="1">
            <a:off x="2210040" y="289476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 flipH="1">
            <a:off x="34290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 flipH="1">
            <a:off x="34290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3429000" y="289548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5410080" y="3733920"/>
            <a:ext cx="865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2795040" y="5597640"/>
            <a:ext cx="453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{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– {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{Z s-a-(c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)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629400" y="5638680"/>
            <a:ext cx="15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3601080" y="594360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4497840" y="5943600"/>
            <a:ext cx="6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-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2210040" y="2898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 flipV="1">
            <a:off x="2210040" y="289476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 flipH="1">
            <a:off x="34290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 flipH="1">
            <a:off x="34290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3429000" y="289548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5410080" y="3733920"/>
            <a:ext cx="865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299720" y="2021040"/>
            <a:ext cx="85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2795040" y="5597640"/>
            <a:ext cx="453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{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– {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{Z s-a-(c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)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6629400" y="5638680"/>
            <a:ext cx="15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3601080" y="594360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4497840" y="5943600"/>
            <a:ext cx="6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-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2210040" y="2898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 flipV="1">
            <a:off x="2210040" y="289476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 flipH="1">
            <a:off x="34290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 flipH="1">
            <a:off x="34290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429000" y="289548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5410080" y="3733920"/>
            <a:ext cx="865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2822040" y="5597640"/>
            <a:ext cx="3236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{Z s-a-0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2210040" y="2898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 flipV="1">
            <a:off x="2210040" y="289476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 flipH="1">
            <a:off x="34290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 flipH="1">
            <a:off x="34290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429000" y="289548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5410080" y="3733920"/>
            <a:ext cx="865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2210040" y="2898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 flipV="1">
            <a:off x="2210040" y="289476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flipH="1">
            <a:off x="34290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 flipH="1">
            <a:off x="34290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429000" y="289548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410080" y="3733920"/>
            <a:ext cx="865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2133720" y="2666880"/>
            <a:ext cx="1218960" cy="1981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3355560" y="5450040"/>
            <a:ext cx="152964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= {A, B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 flipH="1" flipV="1">
            <a:off x="3124080" y="4495680"/>
            <a:ext cx="60984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2210040" y="2898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 flipV="1">
            <a:off x="2210040" y="289476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 flipH="1">
            <a:off x="34290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 flipH="1">
            <a:off x="34290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3429000" y="289548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5410080" y="3733920"/>
            <a:ext cx="865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2795040" y="5597640"/>
            <a:ext cx="453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{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– {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{Z s-a-(c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)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629400" y="5638680"/>
            <a:ext cx="15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3601080" y="594360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4497840" y="5943600"/>
            <a:ext cx="6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-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2210040" y="2898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V="1">
            <a:off x="2210040" y="289476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 flipH="1">
            <a:off x="34290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 flipH="1">
            <a:off x="34290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3429000" y="289548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5410080" y="3733920"/>
            <a:ext cx="865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7299720" y="2021040"/>
            <a:ext cx="85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2795040" y="5597640"/>
            <a:ext cx="453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{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– {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{Z s-a-(c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)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6629400" y="5638680"/>
            <a:ext cx="15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3601080" y="594360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4497840" y="5943600"/>
            <a:ext cx="6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-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2210040" y="2898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 flipV="1">
            <a:off x="2210040" y="289476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H="1">
            <a:off x="34290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flipH="1">
            <a:off x="34290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3429000" y="289548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5410080" y="3733920"/>
            <a:ext cx="865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"/>
          <p:cNvGrpSpPr/>
          <p:nvPr/>
        </p:nvGrpSpPr>
        <p:grpSpPr>
          <a:xfrm>
            <a:off x="457200" y="2514240"/>
            <a:ext cx="2286000" cy="1676520"/>
            <a:chOff x="457200" y="2514240"/>
            <a:chExt cx="2286000" cy="1676520"/>
          </a:xfrm>
        </p:grpSpPr>
        <p:sp>
          <p:nvSpPr>
            <p:cNvPr id="420" name=""/>
            <p:cNvSpPr/>
            <p:nvPr/>
          </p:nvSpPr>
          <p:spPr>
            <a:xfrm>
              <a:off x="457200" y="25146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457200" y="2513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1143000" y="41907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1143000" y="25146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43000" y="25146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90920" y="32763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352680" y="3047760"/>
            <a:ext cx="2286000" cy="1676520"/>
            <a:chOff x="3352680" y="3047760"/>
            <a:chExt cx="2286000" cy="1676520"/>
          </a:xfrm>
        </p:grpSpPr>
        <p:sp>
          <p:nvSpPr>
            <p:cNvPr id="427" name=""/>
            <p:cNvSpPr/>
            <p:nvPr/>
          </p:nvSpPr>
          <p:spPr>
            <a:xfrm>
              <a:off x="3352680" y="30481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3352680" y="30474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4038480" y="47242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4038480" y="30481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038480" y="30481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486400" y="38098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6172200" y="1142640"/>
            <a:ext cx="2286000" cy="1676520"/>
            <a:chOff x="6172200" y="1142640"/>
            <a:chExt cx="2286000" cy="1676520"/>
          </a:xfrm>
        </p:grpSpPr>
        <p:sp>
          <p:nvSpPr>
            <p:cNvPr id="434" name=""/>
            <p:cNvSpPr/>
            <p:nvPr/>
          </p:nvSpPr>
          <p:spPr>
            <a:xfrm>
              <a:off x="6172200" y="11430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6172200" y="11419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6858000" y="28191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6858000" y="11430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858000" y="11430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05920" y="19047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6172200" y="4495320"/>
            <a:ext cx="2286000" cy="1676520"/>
            <a:chOff x="6172200" y="4495320"/>
            <a:chExt cx="2286000" cy="1676520"/>
          </a:xfrm>
        </p:grpSpPr>
        <p:sp>
          <p:nvSpPr>
            <p:cNvPr id="441" name=""/>
            <p:cNvSpPr/>
            <p:nvPr/>
          </p:nvSpPr>
          <p:spPr>
            <a:xfrm>
              <a:off x="6172200" y="44956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6172200" y="449496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6858000" y="61718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6858000" y="44956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858000" y="44956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05920" y="52574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3352680" y="5028840"/>
            <a:ext cx="2286000" cy="1676520"/>
            <a:chOff x="3352680" y="5028840"/>
            <a:chExt cx="2286000" cy="1676520"/>
          </a:xfrm>
        </p:grpSpPr>
        <p:sp>
          <p:nvSpPr>
            <p:cNvPr id="448" name=""/>
            <p:cNvSpPr/>
            <p:nvPr/>
          </p:nvSpPr>
          <p:spPr>
            <a:xfrm>
              <a:off x="3352680" y="50292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3352680" y="5028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4038480" y="67053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4038480" y="50292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38480" y="50292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86400" y="57909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457200" y="609120"/>
            <a:ext cx="2286000" cy="1676520"/>
            <a:chOff x="457200" y="609120"/>
            <a:chExt cx="2286000" cy="1676520"/>
          </a:xfrm>
        </p:grpSpPr>
        <p:sp>
          <p:nvSpPr>
            <p:cNvPr id="455" name=""/>
            <p:cNvSpPr/>
            <p:nvPr/>
          </p:nvSpPr>
          <p:spPr>
            <a:xfrm>
              <a:off x="457200" y="609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457200" y="6084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1143000" y="22856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1143000" y="6094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43000" y="6094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590920" y="13712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2743200" y="1447920"/>
            <a:ext cx="4114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638680" y="586728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743200" y="335268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458200" y="1981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458200" y="53341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6552720" y="25146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6552720" y="48006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553080" y="2514600"/>
            <a:ext cx="0" cy="228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638680" y="38862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609480" y="1981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609480" y="38862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914040" y="28195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914400" y="1980720"/>
            <a:ext cx="0" cy="838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38080" y="19051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609120" y="44197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609120" y="640080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276720" y="525780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200400" y="32767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276720" y="335268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51000" y="42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66840" y="148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10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100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51000" y="594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5880" y="990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820960" y="2895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869080" y="3429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945040" y="5410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612280" y="1523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61228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194000" y="2682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1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93600" y="914400"/>
            <a:ext cx="1506600" cy="459720"/>
            <a:chOff x="93600" y="914400"/>
            <a:chExt cx="1506600" cy="459720"/>
          </a:xfrm>
        </p:grpSpPr>
        <p:sp>
          <p:nvSpPr>
            <p:cNvPr id="493" name=""/>
            <p:cNvSpPr/>
            <p:nvPr/>
          </p:nvSpPr>
          <p:spPr>
            <a:xfrm flipH="1">
              <a:off x="609480" y="914400"/>
              <a:ext cx="533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05120" y="91440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86000" y="91440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67240" y="91440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248120" y="91440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219320" y="91440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080" y="914400"/>
              <a:ext cx="38124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57200" y="91440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93600" y="914400"/>
              <a:ext cx="38124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76320" y="1981080"/>
            <a:ext cx="1505880" cy="459720"/>
            <a:chOff x="76320" y="1981080"/>
            <a:chExt cx="1505880" cy="459720"/>
          </a:xfrm>
        </p:grpSpPr>
        <p:sp>
          <p:nvSpPr>
            <p:cNvPr id="503" name=""/>
            <p:cNvSpPr/>
            <p:nvPr/>
          </p:nvSpPr>
          <p:spPr>
            <a:xfrm flipH="1">
              <a:off x="591480" y="1981080"/>
              <a:ext cx="533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7480" y="19810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68360" y="19810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49240" y="19810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230480" y="19810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201680" y="1981080"/>
              <a:ext cx="38052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20440" y="198108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39560" y="1981080"/>
              <a:ext cx="38052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6320" y="198108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3751200" y="990720"/>
            <a:ext cx="1506600" cy="459720"/>
            <a:chOff x="3751200" y="990720"/>
            <a:chExt cx="1506600" cy="459720"/>
          </a:xfrm>
        </p:grpSpPr>
        <p:sp>
          <p:nvSpPr>
            <p:cNvPr id="513" name=""/>
            <p:cNvSpPr/>
            <p:nvPr/>
          </p:nvSpPr>
          <p:spPr>
            <a:xfrm flipH="1">
              <a:off x="4267080" y="990720"/>
              <a:ext cx="533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62720" y="99072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143600" y="99072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524840" y="99072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905720" y="99072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876920" y="99072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495680" y="990720"/>
              <a:ext cx="38124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114800" y="99072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751200" y="990720"/>
              <a:ext cx="38124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5396040" y="9558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3733920" y="1523880"/>
            <a:ext cx="1505880" cy="459720"/>
            <a:chOff x="3733920" y="1523880"/>
            <a:chExt cx="1505880" cy="459720"/>
          </a:xfrm>
        </p:grpSpPr>
        <p:sp>
          <p:nvSpPr>
            <p:cNvPr id="524" name=""/>
            <p:cNvSpPr/>
            <p:nvPr/>
          </p:nvSpPr>
          <p:spPr>
            <a:xfrm flipH="1">
              <a:off x="4249080" y="1523880"/>
              <a:ext cx="533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745080" y="15238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25960" y="15238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506840" y="15238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888080" y="15238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859280" y="1523880"/>
              <a:ext cx="38052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478040" y="152388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097160" y="1523880"/>
              <a:ext cx="38052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733920" y="152388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5378040" y="14889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329160" y="2971800"/>
            <a:ext cx="25308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Θέσεις σφαλμάτω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4724280" y="1981080"/>
            <a:ext cx="1524240" cy="10670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4343400" y="1980720"/>
            <a:ext cx="19051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 flipH="1">
            <a:off x="2998440" y="3352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 flipH="1">
            <a:off x="2998440" y="4114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290880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2924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50556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25927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25927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5913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2817360" y="5597640"/>
            <a:ext cx="3580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{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{Z s-a-0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2210040" y="2898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 flipV="1">
            <a:off x="2210040" y="289476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 flipH="1">
            <a:off x="3429000" y="4572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flipH="1">
            <a:off x="3429000" y="2895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3429000" y="289548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5410080" y="3733920"/>
            <a:ext cx="865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ύλη ΝΟΤ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3063960" y="251460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5103720" y="251460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5699160" y="1905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4189320" y="20574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4951440" y="243828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 flipV="1">
            <a:off x="4189320" y="251460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4189320" y="205740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297396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265284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631044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2906280" y="3124080"/>
            <a:ext cx="267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{Z s-a-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3079800" y="49528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5119560" y="49528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5715000" y="4343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4205160" y="449568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4967280" y="487692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 flipV="1">
            <a:off x="4205160" y="495288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4205160" y="449568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298980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2668680" y="46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6326280" y="46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2922120" y="5562720"/>
            <a:ext cx="267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{Z s-a-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Διακλάδωση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2541600" y="2438280"/>
            <a:ext cx="4191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4370400" y="2362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4446720" y="243828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4446720" y="3200400"/>
            <a:ext cx="2133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214668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681084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6810840" y="297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2680200" y="1946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261120" y="19461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3134880" y="3429000"/>
            <a:ext cx="267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{Z s-a-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2530440" y="4724280"/>
            <a:ext cx="4191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435924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4435560" y="472428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4435560" y="5486400"/>
            <a:ext cx="2133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135520" y="4495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799680" y="4495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6799680" y="5257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2669040" y="4232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6249960" y="42321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3179160" y="5638680"/>
            <a:ext cx="267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{Z s-a-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"/>
          <p:cNvSpPr/>
          <p:nvPr/>
        </p:nvSpPr>
        <p:spPr>
          <a:xfrm>
            <a:off x="228600" y="533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 flipV="1">
            <a:off x="228600" y="53244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 flipH="1">
            <a:off x="914400" y="2209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 flipH="1">
            <a:off x="914400" y="533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914400" y="533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1981440" y="9936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 flipV="1">
            <a:off x="1981440" y="9896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 flipH="1">
            <a:off x="3200400" y="2666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 flipH="1">
            <a:off x="3200400" y="9907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3200400" y="990720"/>
            <a:ext cx="38088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1219680" y="380988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flipV="1">
            <a:off x="1219680" y="38095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 flipH="1">
            <a:off x="1905120" y="54864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 flipH="1">
            <a:off x="1905120" y="3809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905120" y="38098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2972160" y="42703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 flipV="1">
            <a:off x="2972160" y="4266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 flipH="1">
            <a:off x="4191120" y="5943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 flipH="1">
            <a:off x="4191120" y="4267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4191120" y="426708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5334480" y="14508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 flipV="1">
            <a:off x="5334480" y="1446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 flipH="1">
            <a:off x="6552720" y="3124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 flipH="1">
            <a:off x="6552720" y="1447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6553080" y="1447920"/>
            <a:ext cx="38124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5181480" y="175248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 flipH="1">
            <a:off x="380880" y="838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 flipH="1">
            <a:off x="380880" y="1905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 flipH="1">
            <a:off x="380880" y="518148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380880" y="32004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 flipH="1">
            <a:off x="1447920" y="4114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 flipV="1">
            <a:off x="1447920" y="32004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2362320" y="13716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 flipV="1">
            <a:off x="2743200" y="22860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2743200" y="2286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3352680" y="464832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3124080" y="556272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3124080" y="55627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 flipH="1">
            <a:off x="380880" y="6019920"/>
            <a:ext cx="274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5334120" y="1828800"/>
            <a:ext cx="1447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6400800" y="2743200"/>
            <a:ext cx="0" cy="2362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6172200" y="51055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6400800" y="27432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8534520" y="2286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213840" y="422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1600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215640" y="2743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2160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215640" y="5562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2363400" y="9144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152568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152568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3430080" y="41911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5411160" y="13716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64026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8611560" y="1828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"/>
          <p:cNvSpPr/>
          <p:nvPr/>
        </p:nvSpPr>
        <p:spPr>
          <a:xfrm>
            <a:off x="228600" y="533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 flipV="1">
            <a:off x="228600" y="53244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 flipH="1">
            <a:off x="914400" y="2209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 flipH="1">
            <a:off x="914400" y="533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914400" y="533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1981440" y="9936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 flipV="1">
            <a:off x="1981440" y="9896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 flipH="1">
            <a:off x="3200400" y="2666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 flipH="1">
            <a:off x="3200400" y="9907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3200400" y="990720"/>
            <a:ext cx="38088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1219680" y="380988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 flipV="1">
            <a:off x="1219680" y="38095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 flipH="1">
            <a:off x="1905120" y="54864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1905120" y="3809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1905120" y="38098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2972160" y="42703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 flipV="1">
            <a:off x="2972160" y="4266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 flipH="1">
            <a:off x="4191120" y="5943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 flipH="1">
            <a:off x="4191120" y="4267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4191120" y="426708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5334480" y="14508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 flipV="1">
            <a:off x="5334480" y="1446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 flipH="1">
            <a:off x="6552720" y="3124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 flipH="1">
            <a:off x="6552720" y="1447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6553080" y="1447920"/>
            <a:ext cx="38124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5181480" y="175248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 flipH="1">
            <a:off x="380880" y="838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 flipH="1">
            <a:off x="380880" y="1905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H="1">
            <a:off x="380880" y="518148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80880" y="32004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 flipH="1">
            <a:off x="1447920" y="4114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 flipV="1">
            <a:off x="1447920" y="32004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2362320" y="13716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 flipV="1">
            <a:off x="2743200" y="22860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2743200" y="2286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3352680" y="464832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3124080" y="556272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3124080" y="55627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 flipH="1">
            <a:off x="380880" y="6019920"/>
            <a:ext cx="274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5334120" y="1828800"/>
            <a:ext cx="1447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6400800" y="2743200"/>
            <a:ext cx="0" cy="2362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6172200" y="51055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6400800" y="27432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8534520" y="2286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226800" y="42228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228960" y="1447920"/>
            <a:ext cx="73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228240" y="274320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228960" y="4724280"/>
            <a:ext cx="73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228240" y="556272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376360" y="914400"/>
            <a:ext cx="6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538640" y="2743200"/>
            <a:ext cx="73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538640" y="3276720"/>
            <a:ext cx="73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442320" y="4191120"/>
            <a:ext cx="60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5423400" y="1371600"/>
            <a:ext cx="60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j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415560" y="3809880"/>
            <a:ext cx="73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8618040" y="1828800"/>
            <a:ext cx="506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"/>
          <p:cNvSpPr/>
          <p:nvPr/>
        </p:nvSpPr>
        <p:spPr>
          <a:xfrm>
            <a:off x="228600" y="533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 flipV="1">
            <a:off x="228600" y="53244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 flipH="1">
            <a:off x="914400" y="2209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 flipH="1">
            <a:off x="914400" y="533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914400" y="533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1981440" y="9936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 flipV="1">
            <a:off x="1981440" y="9896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 flipH="1">
            <a:off x="3200400" y="2666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 flipH="1">
            <a:off x="3200400" y="9907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3200400" y="990720"/>
            <a:ext cx="38088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1219680" y="380988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 flipV="1">
            <a:off x="1219680" y="38095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 flipH="1">
            <a:off x="1905120" y="54864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 flipH="1">
            <a:off x="1905120" y="3809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1905120" y="38098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2972160" y="42703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 flipV="1">
            <a:off x="2972160" y="4266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 flipH="1">
            <a:off x="4191120" y="5943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 flipH="1">
            <a:off x="4191120" y="4267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191120" y="426708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5334480" y="14508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 flipV="1">
            <a:off x="5334480" y="1446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 flipH="1">
            <a:off x="6552720" y="3124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 flipH="1">
            <a:off x="6552720" y="1447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6553080" y="1447920"/>
            <a:ext cx="38124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5181480" y="175248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 flipH="1">
            <a:off x="380880" y="838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 flipH="1">
            <a:off x="380880" y="1905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 flipH="1">
            <a:off x="380880" y="518148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80880" y="32004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 flipH="1">
            <a:off x="1447920" y="4114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 flipV="1">
            <a:off x="1447920" y="32004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2362320" y="13716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 flipV="1">
            <a:off x="2743200" y="22860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2743200" y="2286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3352680" y="464832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124080" y="556272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124080" y="55627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 flipH="1">
            <a:off x="380880" y="6019920"/>
            <a:ext cx="274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5334120" y="1828800"/>
            <a:ext cx="1447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6400800" y="2743200"/>
            <a:ext cx="0" cy="2362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6172200" y="51055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6400800" y="27432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8534520" y="2286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226800" y="42228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222480" y="14479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228240" y="274320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222480" y="4724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22120" y="5562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1532160" y="27432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538640" y="3276720"/>
            <a:ext cx="73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"/>
          <p:cNvSpPr/>
          <p:nvPr/>
        </p:nvSpPr>
        <p:spPr>
          <a:xfrm>
            <a:off x="228600" y="533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 flipV="1">
            <a:off x="228600" y="53244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 flipH="1">
            <a:off x="914400" y="2209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 flipH="1">
            <a:off x="914400" y="533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914400" y="533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981440" y="9936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 flipV="1">
            <a:off x="1981440" y="9896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 flipH="1">
            <a:off x="3200400" y="2666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 flipH="1">
            <a:off x="3200400" y="9907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3200400" y="990720"/>
            <a:ext cx="38088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1219680" y="380988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 flipV="1">
            <a:off x="1219680" y="38095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flipH="1">
            <a:off x="1905120" y="54864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 flipH="1">
            <a:off x="1905120" y="3809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1905120" y="38098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2972160" y="42703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 flipV="1">
            <a:off x="2972160" y="4266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 flipH="1">
            <a:off x="4191120" y="5943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 flipH="1">
            <a:off x="4191120" y="4267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4191120" y="426708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5334480" y="14508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 flipV="1">
            <a:off x="5334480" y="1446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 flipH="1">
            <a:off x="6552720" y="3124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 flipH="1">
            <a:off x="6552720" y="1447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6553080" y="1447920"/>
            <a:ext cx="38124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5181480" y="175248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 flipH="1">
            <a:off x="380880" y="838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 flipH="1">
            <a:off x="380880" y="1905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 flipH="1">
            <a:off x="380880" y="518148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380880" y="32004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 flipH="1">
            <a:off x="1447920" y="4114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 flipV="1">
            <a:off x="1447920" y="32004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2362320" y="13716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 flipV="1">
            <a:off x="2743200" y="22860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2743200" y="2286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3352680" y="464832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3124080" y="556272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3124080" y="55627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H="1">
            <a:off x="380880" y="6019920"/>
            <a:ext cx="274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5334120" y="1828800"/>
            <a:ext cx="1447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6400800" y="2743200"/>
            <a:ext cx="0" cy="2362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6172200" y="51055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6400800" y="27432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8534520" y="2286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226800" y="42228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222480" y="14479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228240" y="274320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222480" y="4724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222120" y="5562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1532160" y="27432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1538640" y="3276720"/>
            <a:ext cx="73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223200" y="76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223200" y="1859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223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223200" y="5135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223200" y="5973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2509200" y="86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5481000" y="1325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3582360" y="4114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64018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8535600" y="1752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"/>
          <p:cNvSpPr/>
          <p:nvPr/>
        </p:nvSpPr>
        <p:spPr>
          <a:xfrm>
            <a:off x="228600" y="533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 flipV="1">
            <a:off x="228600" y="53244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 flipH="1">
            <a:off x="914400" y="2209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 flipH="1">
            <a:off x="914400" y="533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914400" y="533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1981440" y="9936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 flipV="1">
            <a:off x="1981440" y="9896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 flipH="1">
            <a:off x="3200400" y="2666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 flipH="1">
            <a:off x="3200400" y="9907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3200400" y="990720"/>
            <a:ext cx="38088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1219680" y="380988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 flipV="1">
            <a:off x="1219680" y="38095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 flipH="1">
            <a:off x="1905120" y="54864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 flipH="1">
            <a:off x="1905120" y="3809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1905120" y="38098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2972160" y="42703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 flipV="1">
            <a:off x="2972160" y="4266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 flipH="1">
            <a:off x="4191120" y="5943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 flipH="1">
            <a:off x="4191120" y="4267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4191120" y="426708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5334480" y="14508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 flipV="1">
            <a:off x="5334480" y="1446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 flipH="1">
            <a:off x="6552720" y="3124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 flipH="1">
            <a:off x="6552720" y="1447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6553080" y="1447920"/>
            <a:ext cx="38124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5181480" y="175248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 flipH="1">
            <a:off x="380880" y="838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 flipH="1">
            <a:off x="380880" y="1905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 flipH="1">
            <a:off x="380880" y="518148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380880" y="32004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 flipH="1">
            <a:off x="1447920" y="4114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 flipV="1">
            <a:off x="1447920" y="32004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2362320" y="13716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 flipV="1">
            <a:off x="2743200" y="22860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743200" y="2286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352680" y="464832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124080" y="556272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3124080" y="55627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 flipH="1">
            <a:off x="380880" y="6019920"/>
            <a:ext cx="274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5334120" y="1828800"/>
            <a:ext cx="1447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6400800" y="2743200"/>
            <a:ext cx="0" cy="2362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6172200" y="51055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6400800" y="27432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8534520" y="2286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226800" y="42228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222480" y="14479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228240" y="274320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222480" y="4724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222120" y="5562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1532160" y="27432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1538640" y="3276720"/>
            <a:ext cx="73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223200" y="76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223200" y="1859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223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223200" y="5135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223200" y="5973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2509200" y="86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5481000" y="1325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3582360" y="4114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64018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8535600" y="1752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"/>
          <p:cNvSpPr/>
          <p:nvPr/>
        </p:nvSpPr>
        <p:spPr>
          <a:xfrm>
            <a:off x="228600" y="533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 flipV="1">
            <a:off x="228600" y="53244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 flipH="1">
            <a:off x="914400" y="2209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 flipH="1">
            <a:off x="914400" y="533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914400" y="533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1981440" y="9936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 flipV="1">
            <a:off x="1981440" y="9896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 flipH="1">
            <a:off x="3200400" y="2666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 flipH="1">
            <a:off x="3200400" y="9907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3200400" y="990720"/>
            <a:ext cx="38088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1219680" y="380988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 flipV="1">
            <a:off x="1219680" y="38095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 flipH="1">
            <a:off x="1905120" y="54864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 flipH="1">
            <a:off x="1905120" y="3809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1905120" y="38098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2972160" y="42703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 flipV="1">
            <a:off x="2972160" y="4266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 flipH="1">
            <a:off x="4191120" y="5943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 flipH="1">
            <a:off x="4191120" y="4267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4191120" y="426708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5334480" y="14508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 flipV="1">
            <a:off x="5334480" y="1446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 flipH="1">
            <a:off x="6552720" y="3124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 flipH="1">
            <a:off x="6552720" y="1447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553080" y="1447920"/>
            <a:ext cx="38124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5181480" y="175248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380880" y="838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 flipH="1">
            <a:off x="380880" y="1905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 flipH="1">
            <a:off x="380880" y="518148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380880" y="32004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 flipH="1">
            <a:off x="1447920" y="4114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 flipV="1">
            <a:off x="1447920" y="32004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2362320" y="13716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 flipV="1">
            <a:off x="2743200" y="22860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2743200" y="2286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3352680" y="464832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3124080" y="556272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3124080" y="55627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 flipH="1">
            <a:off x="380880" y="6019920"/>
            <a:ext cx="274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5334120" y="1828800"/>
            <a:ext cx="1447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6400800" y="2743200"/>
            <a:ext cx="0" cy="2362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6172200" y="51055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6400800" y="27432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8534520" y="2286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226800" y="42228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222480" y="14479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228240" y="274320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222480" y="4724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222120" y="5562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1532160" y="27432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1538640" y="3276720"/>
            <a:ext cx="73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223200" y="76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223200" y="1859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223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223200" y="5135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223200" y="5973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2509200" y="86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5481000" y="1325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3582360" y="4114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64018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8535600" y="1752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1064520" y="345960"/>
            <a:ext cx="128556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1081080" y="1676520"/>
            <a:ext cx="131292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b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165960" y="3809880"/>
            <a:ext cx="128556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545400" y="4641840"/>
            <a:ext cx="10220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697680" y="5486400"/>
            <a:ext cx="10112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"/>
          <p:cNvSpPr/>
          <p:nvPr/>
        </p:nvSpPr>
        <p:spPr>
          <a:xfrm>
            <a:off x="228600" y="533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 flipV="1">
            <a:off x="228600" y="53244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 flipH="1">
            <a:off x="914400" y="2209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 flipH="1">
            <a:off x="914400" y="533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914400" y="533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1981440" y="9936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 flipV="1">
            <a:off x="1981440" y="9896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 flipH="1">
            <a:off x="3200400" y="2666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 flipH="1">
            <a:off x="3200400" y="9907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3200400" y="990720"/>
            <a:ext cx="38088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1219680" y="380988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 flipV="1">
            <a:off x="1219680" y="38095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 flipH="1">
            <a:off x="1905120" y="54864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 flipH="1">
            <a:off x="1905120" y="3809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1905120" y="38098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2972160" y="42703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 flipV="1">
            <a:off x="2972160" y="4266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 flipH="1">
            <a:off x="4191120" y="5943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 flipH="1">
            <a:off x="4191120" y="4267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4191120" y="426708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5334480" y="14508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 flipV="1">
            <a:off x="5334480" y="1446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 flipH="1">
            <a:off x="6552720" y="3124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H="1">
            <a:off x="6552720" y="1447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6553080" y="1447920"/>
            <a:ext cx="38124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5181480" y="175248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 flipH="1">
            <a:off x="380880" y="838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 flipH="1">
            <a:off x="380880" y="1905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 flipH="1">
            <a:off x="380880" y="518148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380880" y="32004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 flipH="1">
            <a:off x="1447920" y="4114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V="1">
            <a:off x="1447920" y="32004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2362320" y="13716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 flipV="1">
            <a:off x="2743200" y="22860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2743200" y="2286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3352680" y="464832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3124080" y="556272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3124080" y="55627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 flipH="1">
            <a:off x="380880" y="6019920"/>
            <a:ext cx="274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5334120" y="1828800"/>
            <a:ext cx="1447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6400800" y="2743200"/>
            <a:ext cx="0" cy="2362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6172200" y="51055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6400800" y="27432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8534520" y="2286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226800" y="42228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222480" y="14479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228240" y="274320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222480" y="4724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222120" y="5562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1532160" y="27432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1538640" y="3276720"/>
            <a:ext cx="73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223200" y="76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223200" y="1859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223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223200" y="5135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223200" y="5973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2509200" y="86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5481000" y="1325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3582360" y="4114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64018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8535600" y="1752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1064520" y="345960"/>
            <a:ext cx="128556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1081080" y="1676520"/>
            <a:ext cx="131292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b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165960" y="3809880"/>
            <a:ext cx="128556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545400" y="4641840"/>
            <a:ext cx="10220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697680" y="5486400"/>
            <a:ext cx="10112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2532240" y="380880"/>
            <a:ext cx="225036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"/>
          <p:cNvGrpSpPr/>
          <p:nvPr/>
        </p:nvGrpSpPr>
        <p:grpSpPr>
          <a:xfrm>
            <a:off x="457200" y="2514240"/>
            <a:ext cx="2286000" cy="1676520"/>
            <a:chOff x="457200" y="2514240"/>
            <a:chExt cx="2286000" cy="1676520"/>
          </a:xfrm>
        </p:grpSpPr>
        <p:sp>
          <p:nvSpPr>
            <p:cNvPr id="538" name=""/>
            <p:cNvSpPr/>
            <p:nvPr/>
          </p:nvSpPr>
          <p:spPr>
            <a:xfrm>
              <a:off x="457200" y="25146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457200" y="2513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1143000" y="41907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1143000" y="25146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143000" y="25146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590920" y="32763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3352680" y="3047760"/>
            <a:ext cx="2286000" cy="1676520"/>
            <a:chOff x="3352680" y="3047760"/>
            <a:chExt cx="2286000" cy="1676520"/>
          </a:xfrm>
        </p:grpSpPr>
        <p:sp>
          <p:nvSpPr>
            <p:cNvPr id="545" name=""/>
            <p:cNvSpPr/>
            <p:nvPr/>
          </p:nvSpPr>
          <p:spPr>
            <a:xfrm>
              <a:off x="3352680" y="30481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352680" y="30474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4038480" y="47242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4038480" y="30481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038480" y="30481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486400" y="38098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6172200" y="1142640"/>
            <a:ext cx="2286000" cy="1676520"/>
            <a:chOff x="6172200" y="1142640"/>
            <a:chExt cx="2286000" cy="1676520"/>
          </a:xfrm>
        </p:grpSpPr>
        <p:sp>
          <p:nvSpPr>
            <p:cNvPr id="552" name=""/>
            <p:cNvSpPr/>
            <p:nvPr/>
          </p:nvSpPr>
          <p:spPr>
            <a:xfrm>
              <a:off x="6172200" y="11430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6172200" y="11419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6858000" y="28191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6858000" y="11430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58000" y="11430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305920" y="19047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6172200" y="4495320"/>
            <a:ext cx="2286000" cy="1676520"/>
            <a:chOff x="6172200" y="4495320"/>
            <a:chExt cx="2286000" cy="1676520"/>
          </a:xfrm>
        </p:grpSpPr>
        <p:sp>
          <p:nvSpPr>
            <p:cNvPr id="559" name=""/>
            <p:cNvSpPr/>
            <p:nvPr/>
          </p:nvSpPr>
          <p:spPr>
            <a:xfrm>
              <a:off x="6172200" y="44956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172200" y="449496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6858000" y="61718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6858000" y="44956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858000" y="44956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305920" y="52574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3352680" y="5028840"/>
            <a:ext cx="2286000" cy="1676520"/>
            <a:chOff x="3352680" y="5028840"/>
            <a:chExt cx="2286000" cy="1676520"/>
          </a:xfrm>
        </p:grpSpPr>
        <p:sp>
          <p:nvSpPr>
            <p:cNvPr id="566" name=""/>
            <p:cNvSpPr/>
            <p:nvPr/>
          </p:nvSpPr>
          <p:spPr>
            <a:xfrm>
              <a:off x="3352680" y="50292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3352680" y="5028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4038480" y="67053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4038480" y="50292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038480" y="50292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486400" y="57909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457200" y="609120"/>
            <a:ext cx="2286000" cy="1676520"/>
            <a:chOff x="457200" y="609120"/>
            <a:chExt cx="2286000" cy="1676520"/>
          </a:xfrm>
        </p:grpSpPr>
        <p:sp>
          <p:nvSpPr>
            <p:cNvPr id="573" name=""/>
            <p:cNvSpPr/>
            <p:nvPr/>
          </p:nvSpPr>
          <p:spPr>
            <a:xfrm>
              <a:off x="457200" y="609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457200" y="6084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1143000" y="22856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1143000" y="6094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143000" y="6094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590920" y="13712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2743200" y="1447920"/>
            <a:ext cx="4114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638680" y="586728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743200" y="335268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458200" y="1981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458200" y="53341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6552720" y="25146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6552720" y="48006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553080" y="2514600"/>
            <a:ext cx="0" cy="228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638680" y="38862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609480" y="1981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09480" y="38862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914040" y="28195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914400" y="1980720"/>
            <a:ext cx="0" cy="838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19051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609120" y="44197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609120" y="640080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3276720" y="525780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200400" y="32767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3276720" y="335268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51000" y="42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66840" y="148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510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5100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51000" y="594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125880" y="990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820960" y="2895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869080" y="3429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945040" y="5410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612280" y="1523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61228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94000" y="2682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1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93600" y="914400"/>
            <a:ext cx="1506600" cy="459720"/>
            <a:chOff x="93600" y="914400"/>
            <a:chExt cx="1506600" cy="459720"/>
          </a:xfrm>
        </p:grpSpPr>
        <p:sp>
          <p:nvSpPr>
            <p:cNvPr id="611" name=""/>
            <p:cNvSpPr/>
            <p:nvPr/>
          </p:nvSpPr>
          <p:spPr>
            <a:xfrm flipH="1">
              <a:off x="609480" y="914400"/>
              <a:ext cx="533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05120" y="91440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86000" y="91440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67240" y="91440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248120" y="91440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219320" y="91440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38080" y="914400"/>
              <a:ext cx="38124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57200" y="91440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93600" y="914400"/>
              <a:ext cx="38124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76320" y="1981080"/>
            <a:ext cx="1505880" cy="459720"/>
            <a:chOff x="76320" y="1981080"/>
            <a:chExt cx="1505880" cy="459720"/>
          </a:xfrm>
        </p:grpSpPr>
        <p:sp>
          <p:nvSpPr>
            <p:cNvPr id="621" name=""/>
            <p:cNvSpPr/>
            <p:nvPr/>
          </p:nvSpPr>
          <p:spPr>
            <a:xfrm flipH="1">
              <a:off x="591480" y="1981080"/>
              <a:ext cx="533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7480" y="19810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68360" y="19810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49240" y="19810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30480" y="19810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201680" y="1981080"/>
              <a:ext cx="38052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20440" y="198108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39560" y="1981080"/>
              <a:ext cx="38052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6320" y="198108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3751200" y="990720"/>
            <a:ext cx="1506600" cy="459720"/>
            <a:chOff x="3751200" y="990720"/>
            <a:chExt cx="1506600" cy="459720"/>
          </a:xfrm>
        </p:grpSpPr>
        <p:sp>
          <p:nvSpPr>
            <p:cNvPr id="631" name=""/>
            <p:cNvSpPr/>
            <p:nvPr/>
          </p:nvSpPr>
          <p:spPr>
            <a:xfrm flipH="1">
              <a:off x="4267080" y="990720"/>
              <a:ext cx="533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762720" y="99072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143600" y="99072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524840" y="99072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905720" y="99072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876920" y="99072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495680" y="990720"/>
              <a:ext cx="38124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114800" y="99072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751200" y="990720"/>
              <a:ext cx="38124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5396040" y="9558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3733920" y="1523880"/>
            <a:ext cx="1505880" cy="459720"/>
            <a:chOff x="3733920" y="1523880"/>
            <a:chExt cx="1505880" cy="459720"/>
          </a:xfrm>
        </p:grpSpPr>
        <p:sp>
          <p:nvSpPr>
            <p:cNvPr id="642" name=""/>
            <p:cNvSpPr/>
            <p:nvPr/>
          </p:nvSpPr>
          <p:spPr>
            <a:xfrm flipH="1">
              <a:off x="4249080" y="1523880"/>
              <a:ext cx="533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745080" y="15238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125960" y="15238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506840" y="15238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888080" y="15238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859280" y="1523880"/>
              <a:ext cx="38052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478040" y="152388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097160" y="1523880"/>
              <a:ext cx="38052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733920" y="152388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5378040" y="14889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733920" y="2057400"/>
            <a:ext cx="1505880" cy="459720"/>
            <a:chOff x="3733920" y="2057400"/>
            <a:chExt cx="1505880" cy="459720"/>
          </a:xfrm>
        </p:grpSpPr>
        <p:sp>
          <p:nvSpPr>
            <p:cNvPr id="653" name=""/>
            <p:cNvSpPr/>
            <p:nvPr/>
          </p:nvSpPr>
          <p:spPr>
            <a:xfrm flipH="1">
              <a:off x="4249080" y="2057400"/>
              <a:ext cx="533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745080" y="205740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125960" y="205740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506840" y="205740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888080" y="205740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859280" y="2057400"/>
              <a:ext cx="38052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478040" y="205740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097160" y="2057400"/>
              <a:ext cx="38052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733920" y="205740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5378760" y="2022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690600" y="31654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10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-a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 flipV="1">
            <a:off x="4343400" y="2514600"/>
            <a:ext cx="236232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"/>
          <p:cNvSpPr/>
          <p:nvPr/>
        </p:nvSpPr>
        <p:spPr>
          <a:xfrm>
            <a:off x="228600" y="533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 flipV="1">
            <a:off x="228600" y="53244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 flipH="1">
            <a:off x="914400" y="2209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 flipH="1">
            <a:off x="914400" y="533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914400" y="533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1981440" y="9936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 flipV="1">
            <a:off x="1981440" y="9896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 flipH="1">
            <a:off x="3200400" y="2666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 flipH="1">
            <a:off x="3200400" y="9907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3200400" y="990720"/>
            <a:ext cx="38088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1219680" y="380988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 flipV="1">
            <a:off x="1219680" y="38095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 flipH="1">
            <a:off x="1905120" y="54864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 flipH="1">
            <a:off x="1905120" y="3809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1905120" y="38098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2972160" y="42703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 flipV="1">
            <a:off x="2972160" y="4266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 flipH="1">
            <a:off x="4191120" y="5943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 flipH="1">
            <a:off x="4191120" y="4267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4191120" y="426708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5334480" y="14508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 flipV="1">
            <a:off x="5334480" y="1446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 flipH="1">
            <a:off x="6552720" y="3124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 flipH="1">
            <a:off x="6552720" y="1447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6553080" y="1447920"/>
            <a:ext cx="38124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5181480" y="175248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 flipH="1">
            <a:off x="380880" y="838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 flipH="1">
            <a:off x="380880" y="1905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 flipH="1">
            <a:off x="380880" y="518148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380880" y="32004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 flipH="1">
            <a:off x="1447920" y="4114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 flipV="1">
            <a:off x="1447920" y="32004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2362320" y="13716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 flipV="1">
            <a:off x="2743200" y="22860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2743200" y="2286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3352680" y="464832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3124080" y="556272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3124080" y="55627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 flipH="1">
            <a:off x="380880" y="6019920"/>
            <a:ext cx="274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5334120" y="1828800"/>
            <a:ext cx="1447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6400800" y="2743200"/>
            <a:ext cx="0" cy="2362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6172200" y="51055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6400800" y="27432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8534520" y="2286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226800" y="42228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222480" y="14479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228240" y="274320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222480" y="4724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222120" y="5562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1532160" y="27432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1538640" y="3276720"/>
            <a:ext cx="73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223200" y="76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223200" y="1859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223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223200" y="5135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223200" y="5973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2509200" y="86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5481000" y="1325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3582360" y="4114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64018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8535600" y="1752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1064520" y="345960"/>
            <a:ext cx="128556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1081080" y="1676520"/>
            <a:ext cx="131292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b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165960" y="3809880"/>
            <a:ext cx="128556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545400" y="4641840"/>
            <a:ext cx="10220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697680" y="5486400"/>
            <a:ext cx="10112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2532240" y="380880"/>
            <a:ext cx="225036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2847600" y="2743200"/>
            <a:ext cx="31298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{g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g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"/>
          <p:cNvSpPr/>
          <p:nvPr/>
        </p:nvSpPr>
        <p:spPr>
          <a:xfrm>
            <a:off x="228600" y="533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 flipV="1">
            <a:off x="228600" y="53244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 flipH="1">
            <a:off x="914400" y="2209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 flipH="1">
            <a:off x="914400" y="533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914400" y="533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1981440" y="9936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 flipV="1">
            <a:off x="1981440" y="9896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 flipH="1">
            <a:off x="3200400" y="2666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 flipH="1">
            <a:off x="3200400" y="9907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3200400" y="990720"/>
            <a:ext cx="38088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1219680" y="380988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 flipV="1">
            <a:off x="1219680" y="38095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 flipH="1">
            <a:off x="1905120" y="54864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 flipH="1">
            <a:off x="1905120" y="3809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1905120" y="38098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2972160" y="42703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 flipV="1">
            <a:off x="2972160" y="4266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 flipH="1">
            <a:off x="4191120" y="5943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 flipH="1">
            <a:off x="4191120" y="4267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4191120" y="426708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5334480" y="14508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 flipV="1">
            <a:off x="5334480" y="1446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 flipH="1">
            <a:off x="6552720" y="3124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 flipH="1">
            <a:off x="6552720" y="1447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6553080" y="1447920"/>
            <a:ext cx="38124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5181480" y="175248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 flipH="1">
            <a:off x="380880" y="838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 flipH="1">
            <a:off x="380880" y="1905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 flipH="1">
            <a:off x="380880" y="518148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380880" y="32004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 flipH="1">
            <a:off x="1447920" y="4114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 flipV="1">
            <a:off x="1447920" y="32004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2362320" y="13716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 flipV="1">
            <a:off x="2743200" y="22860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743200" y="2286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3352680" y="464832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3124080" y="556272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3124080" y="55627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 flipH="1">
            <a:off x="380880" y="6019920"/>
            <a:ext cx="274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5334120" y="1828800"/>
            <a:ext cx="1447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6400800" y="2743200"/>
            <a:ext cx="0" cy="2362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6172200" y="51055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6400800" y="27432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8534520" y="2286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226800" y="42228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222480" y="14479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228240" y="274320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22480" y="4724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222120" y="5562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532160" y="27432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1538640" y="3276720"/>
            <a:ext cx="73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223200" y="76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223200" y="1859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223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223200" y="5135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223200" y="5973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2509200" y="86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5481000" y="1325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3582360" y="4114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64018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8535600" y="1752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1064520" y="345960"/>
            <a:ext cx="128556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1081080" y="1676520"/>
            <a:ext cx="131292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b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165960" y="3809880"/>
            <a:ext cx="128556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545400" y="4641840"/>
            <a:ext cx="10220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697680" y="5486400"/>
            <a:ext cx="10112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2532240" y="380880"/>
            <a:ext cx="225036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847600" y="2743200"/>
            <a:ext cx="31298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{g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g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2542680" y="3352680"/>
            <a:ext cx="31298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{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"/>
          <p:cNvSpPr/>
          <p:nvPr/>
        </p:nvSpPr>
        <p:spPr>
          <a:xfrm>
            <a:off x="228600" y="533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 flipV="1">
            <a:off x="228600" y="53244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 flipH="1">
            <a:off x="914400" y="2209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 flipH="1">
            <a:off x="914400" y="533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914400" y="533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1981440" y="9936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 flipV="1">
            <a:off x="1981440" y="9896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 flipH="1">
            <a:off x="3200400" y="2666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 flipH="1">
            <a:off x="3200400" y="9907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3200400" y="990720"/>
            <a:ext cx="38088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1219680" y="380988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 flipV="1">
            <a:off x="1219680" y="38095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 flipH="1">
            <a:off x="1905120" y="54864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 flipH="1">
            <a:off x="1905120" y="3809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1905120" y="38098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2972160" y="42703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 flipV="1">
            <a:off x="2972160" y="4266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 flipH="1">
            <a:off x="4191120" y="5943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 flipH="1">
            <a:off x="4191120" y="4267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4191120" y="426708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5334480" y="14508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 flipV="1">
            <a:off x="5334480" y="1446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 flipH="1">
            <a:off x="6552720" y="3124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 flipH="1">
            <a:off x="6552720" y="1447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6553080" y="1447920"/>
            <a:ext cx="38124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5181480" y="175248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 flipH="1">
            <a:off x="380880" y="838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 flipH="1">
            <a:off x="380880" y="1905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 flipH="1">
            <a:off x="380880" y="518148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380880" y="32004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 flipH="1">
            <a:off x="1447920" y="4114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 flipV="1">
            <a:off x="1447920" y="32004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2362320" y="13716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 flipV="1">
            <a:off x="2743200" y="22860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2743200" y="2286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3352680" y="464832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124080" y="556272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3124080" y="55627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 flipH="1">
            <a:off x="380880" y="6019920"/>
            <a:ext cx="274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5334120" y="1828800"/>
            <a:ext cx="1447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6400800" y="2743200"/>
            <a:ext cx="0" cy="2362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6172200" y="51055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6400800" y="27432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8534520" y="2286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226800" y="42228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222480" y="14479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228240" y="274320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222480" y="4724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222120" y="5562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1532160" y="27432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1538640" y="3276720"/>
            <a:ext cx="73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223200" y="76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223200" y="1859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223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223200" y="5135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223200" y="5973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2509200" y="86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5481000" y="1325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3582360" y="4114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64018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8535600" y="1752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1064520" y="345960"/>
            <a:ext cx="128556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1081080" y="1676520"/>
            <a:ext cx="131292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b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165960" y="3809880"/>
            <a:ext cx="128556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545400" y="4641840"/>
            <a:ext cx="10220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697680" y="5486400"/>
            <a:ext cx="10112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2532240" y="380880"/>
            <a:ext cx="225036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2847600" y="2743200"/>
            <a:ext cx="31298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{g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g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2542680" y="3352680"/>
            <a:ext cx="31298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{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2083320" y="4724280"/>
            <a:ext cx="28418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"/>
          <p:cNvSpPr/>
          <p:nvPr/>
        </p:nvSpPr>
        <p:spPr>
          <a:xfrm>
            <a:off x="228600" y="533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 flipV="1">
            <a:off x="228600" y="53244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 flipH="1">
            <a:off x="914400" y="2209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 flipH="1">
            <a:off x="914400" y="533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914400" y="533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1981440" y="9936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 flipV="1">
            <a:off x="1981440" y="9896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 flipH="1">
            <a:off x="3200400" y="2666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 flipH="1">
            <a:off x="3200400" y="9907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3200400" y="990720"/>
            <a:ext cx="38088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1219680" y="380988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 flipV="1">
            <a:off x="1219680" y="38095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 flipH="1">
            <a:off x="1905120" y="54864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 flipH="1">
            <a:off x="1905120" y="3809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1905120" y="38098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2972160" y="42703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 flipV="1">
            <a:off x="2972160" y="4266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 flipH="1">
            <a:off x="4191120" y="5943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 flipH="1">
            <a:off x="4191120" y="4267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4191120" y="426708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5334480" y="14508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 flipV="1">
            <a:off x="5334480" y="1446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 flipH="1">
            <a:off x="6552720" y="3124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 flipH="1">
            <a:off x="6552720" y="1447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6553080" y="1447920"/>
            <a:ext cx="38124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5181480" y="175248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 flipH="1">
            <a:off x="380880" y="838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 flipH="1">
            <a:off x="380880" y="1905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 flipH="1">
            <a:off x="380880" y="518148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380880" y="32004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 flipH="1">
            <a:off x="1447920" y="4114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 flipV="1">
            <a:off x="1447920" y="32004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2362320" y="13716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 flipV="1">
            <a:off x="2743200" y="22860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2743200" y="2286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3352680" y="464832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3124080" y="556272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3124080" y="55627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 flipH="1">
            <a:off x="380880" y="6019920"/>
            <a:ext cx="274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5334120" y="1828800"/>
            <a:ext cx="1447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6400800" y="2743200"/>
            <a:ext cx="0" cy="2362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6172200" y="51055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6400800" y="27432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8534520" y="2286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226800" y="42228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222480" y="14479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228240" y="274320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222480" y="4724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222120" y="5562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1532160" y="27432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1538640" y="3276720"/>
            <a:ext cx="73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223200" y="76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223200" y="1859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223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223200" y="5135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223200" y="5973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2509200" y="86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5481000" y="1325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3582360" y="4114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64018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8535600" y="1752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1064520" y="345960"/>
            <a:ext cx="128556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1081080" y="1676520"/>
            <a:ext cx="131292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b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165960" y="3809880"/>
            <a:ext cx="128556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545400" y="4641840"/>
            <a:ext cx="10220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697680" y="5486400"/>
            <a:ext cx="10112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2532240" y="380880"/>
            <a:ext cx="225036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2847600" y="2743200"/>
            <a:ext cx="31298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{g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g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2542680" y="3352680"/>
            <a:ext cx="31298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{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2083320" y="4724280"/>
            <a:ext cx="28418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4828680" y="920880"/>
            <a:ext cx="267228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-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g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"/>
          <p:cNvSpPr/>
          <p:nvPr/>
        </p:nvSpPr>
        <p:spPr>
          <a:xfrm>
            <a:off x="228600" y="533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 flipV="1">
            <a:off x="228600" y="53244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 flipH="1">
            <a:off x="914400" y="2209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 flipH="1">
            <a:off x="914400" y="533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914400" y="533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1981440" y="9936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 flipV="1">
            <a:off x="1981440" y="9896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 flipH="1">
            <a:off x="3200400" y="2666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 flipH="1">
            <a:off x="3200400" y="9907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3200400" y="990720"/>
            <a:ext cx="38088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1219680" y="380988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 flipV="1">
            <a:off x="1219680" y="38095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 flipH="1">
            <a:off x="1905120" y="54864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 flipH="1">
            <a:off x="1905120" y="3809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1905120" y="38098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2972160" y="42703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 flipV="1">
            <a:off x="2972160" y="4266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 flipH="1">
            <a:off x="4191120" y="5943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 flipH="1">
            <a:off x="4191120" y="4267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4191120" y="426708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5334480" y="14508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 flipV="1">
            <a:off x="5334480" y="1446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 flipH="1">
            <a:off x="6552720" y="3124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 flipH="1">
            <a:off x="6552720" y="1447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6553080" y="1447920"/>
            <a:ext cx="38124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5181480" y="175248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 flipH="1">
            <a:off x="380880" y="838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 flipH="1">
            <a:off x="380880" y="1905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 flipH="1">
            <a:off x="380880" y="518148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380880" y="32004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 flipH="1">
            <a:off x="1447920" y="4114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 flipV="1">
            <a:off x="1447920" y="32004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2362320" y="13716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 flipV="1">
            <a:off x="2743200" y="22860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2743200" y="2286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3352680" y="464832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3124080" y="556272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3124080" y="55627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 flipH="1">
            <a:off x="380880" y="6019920"/>
            <a:ext cx="274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5334120" y="1828800"/>
            <a:ext cx="1447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6400800" y="2743200"/>
            <a:ext cx="0" cy="2362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6172200" y="51055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6400800" y="27432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8534520" y="2286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226800" y="42228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222480" y="14479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228240" y="274320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222480" y="4724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222120" y="5562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1532160" y="27432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1538640" y="3276720"/>
            <a:ext cx="73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223200" y="76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223200" y="1859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223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223200" y="5135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223200" y="5973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2509200" y="86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5481000" y="1325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3582360" y="4114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64018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8535600" y="1752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1064520" y="345960"/>
            <a:ext cx="128556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1081080" y="1676520"/>
            <a:ext cx="131292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b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165960" y="3809880"/>
            <a:ext cx="128556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545400" y="4641840"/>
            <a:ext cx="10220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697680" y="5486400"/>
            <a:ext cx="10112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2532240" y="380880"/>
            <a:ext cx="225036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2847600" y="2743200"/>
            <a:ext cx="31298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{g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g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2542680" y="3352680"/>
            <a:ext cx="31298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{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2083320" y="4724280"/>
            <a:ext cx="28418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4828680" y="920880"/>
            <a:ext cx="267228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-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g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5364360" y="4419720"/>
            <a:ext cx="26906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-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"/>
          <p:cNvSpPr/>
          <p:nvPr/>
        </p:nvSpPr>
        <p:spPr>
          <a:xfrm>
            <a:off x="228600" y="533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 flipV="1">
            <a:off x="228600" y="53244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 flipH="1">
            <a:off x="914400" y="2209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 flipH="1">
            <a:off x="914400" y="533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914400" y="533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1981440" y="9936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 flipV="1">
            <a:off x="1981440" y="9896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 flipH="1">
            <a:off x="3200400" y="2666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 flipH="1">
            <a:off x="3200400" y="9907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3200400" y="990720"/>
            <a:ext cx="38088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1219680" y="380988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 flipV="1">
            <a:off x="1219680" y="38095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 flipH="1">
            <a:off x="1905120" y="54864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 flipH="1">
            <a:off x="1905120" y="3809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1905120" y="38098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2972160" y="42703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 flipV="1">
            <a:off x="2972160" y="4266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 flipH="1">
            <a:off x="4191120" y="5943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 flipH="1">
            <a:off x="4191120" y="4267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4191120" y="426708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5334480" y="14508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 flipV="1">
            <a:off x="5334480" y="1446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 flipH="1">
            <a:off x="6552720" y="3124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 flipH="1">
            <a:off x="6552720" y="1447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6553080" y="1447920"/>
            <a:ext cx="38124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5181480" y="175248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 flipH="1">
            <a:off x="380880" y="838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 flipH="1">
            <a:off x="380880" y="1905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 flipH="1">
            <a:off x="380880" y="518148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380880" y="32004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 flipH="1">
            <a:off x="1447920" y="4114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 flipV="1">
            <a:off x="1447920" y="32004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2362320" y="13716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 flipV="1">
            <a:off x="2743200" y="22860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2743200" y="2286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3352680" y="464832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3124080" y="556272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3124080" y="55627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 flipH="1">
            <a:off x="380880" y="6019920"/>
            <a:ext cx="274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5334120" y="1828800"/>
            <a:ext cx="1447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6400800" y="2743200"/>
            <a:ext cx="0" cy="2362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6172200" y="51055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6400800" y="27432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8534520" y="2286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226800" y="42228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222480" y="14479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228240" y="274320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222480" y="4724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222120" y="5562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1532160" y="27432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1538640" y="3276720"/>
            <a:ext cx="73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223200" y="76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223200" y="1859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223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223200" y="5135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223200" y="5973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2509200" y="86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5481000" y="1325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3582360" y="4114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64018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8535600" y="1752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1064520" y="345960"/>
            <a:ext cx="128556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1081080" y="1676520"/>
            <a:ext cx="131292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b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165960" y="3809880"/>
            <a:ext cx="128556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545400" y="4641840"/>
            <a:ext cx="10220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697680" y="5486400"/>
            <a:ext cx="10112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2532240" y="380880"/>
            <a:ext cx="225036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2847600" y="2743200"/>
            <a:ext cx="31298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{g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g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2542680" y="3352680"/>
            <a:ext cx="31298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{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2083320" y="4724280"/>
            <a:ext cx="28418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4828680" y="920880"/>
            <a:ext cx="267228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-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g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5364360" y="4419720"/>
            <a:ext cx="26906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-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6513480" y="2590920"/>
            <a:ext cx="24494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-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"/>
          <p:cNvSpPr/>
          <p:nvPr/>
        </p:nvSpPr>
        <p:spPr>
          <a:xfrm>
            <a:off x="228600" y="533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 flipV="1">
            <a:off x="228600" y="53244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 flipH="1">
            <a:off x="914400" y="2209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 flipH="1">
            <a:off x="914400" y="533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914400" y="533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1981440" y="9936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 flipV="1">
            <a:off x="1981440" y="9896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 flipH="1">
            <a:off x="3200400" y="2666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 flipH="1">
            <a:off x="3200400" y="9907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3200400" y="990720"/>
            <a:ext cx="38088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1219680" y="380988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 flipV="1">
            <a:off x="1219680" y="38095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 flipH="1">
            <a:off x="1905120" y="54864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 flipH="1">
            <a:off x="1905120" y="3809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1905120" y="38098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2972160" y="42703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 flipV="1">
            <a:off x="2972160" y="4266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 flipH="1">
            <a:off x="4191120" y="5943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 flipH="1">
            <a:off x="4191120" y="4267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4191120" y="426708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5334480" y="14508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 flipV="1">
            <a:off x="5334480" y="1446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 flipH="1">
            <a:off x="6552720" y="3124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 flipH="1">
            <a:off x="6552720" y="1447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6553080" y="1447920"/>
            <a:ext cx="38124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5181480" y="175248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 flipH="1">
            <a:off x="380880" y="838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 flipH="1">
            <a:off x="380880" y="1905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 flipH="1">
            <a:off x="380880" y="518148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380880" y="32004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 flipH="1">
            <a:off x="1447920" y="4114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 flipV="1">
            <a:off x="1447920" y="32004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2362320" y="13716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 flipV="1">
            <a:off x="2743200" y="22860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2743200" y="2286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3352680" y="464832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3124080" y="556272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3124080" y="55627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 flipH="1">
            <a:off x="380880" y="6019920"/>
            <a:ext cx="274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5334120" y="1828800"/>
            <a:ext cx="1447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6400800" y="2743200"/>
            <a:ext cx="0" cy="2362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6172200" y="51055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6400800" y="27432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8534520" y="2286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226800" y="42228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222480" y="14479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228240" y="274320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222480" y="4724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222120" y="5562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1532160" y="27432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1538640" y="3276720"/>
            <a:ext cx="73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"/>
          <p:cNvSpPr/>
          <p:nvPr/>
        </p:nvSpPr>
        <p:spPr>
          <a:xfrm>
            <a:off x="228600" y="533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 flipV="1">
            <a:off x="228600" y="53244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 flipH="1">
            <a:off x="914400" y="2209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 flipH="1">
            <a:off x="914400" y="533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914400" y="533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1981440" y="9936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 flipV="1">
            <a:off x="1981440" y="9896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 flipH="1">
            <a:off x="3200400" y="2666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 flipH="1">
            <a:off x="3200400" y="9907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3200400" y="990720"/>
            <a:ext cx="38088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1219680" y="380988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 flipV="1">
            <a:off x="1219680" y="38095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 flipH="1">
            <a:off x="1905120" y="54864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 flipH="1">
            <a:off x="1905120" y="3809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1905120" y="38098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2972160" y="42703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 flipV="1">
            <a:off x="2972160" y="4266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 flipH="1">
            <a:off x="4191120" y="5943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 flipH="1">
            <a:off x="4191120" y="4267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4191120" y="426708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5334480" y="14508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 flipV="1">
            <a:off x="5334480" y="1446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 flipH="1">
            <a:off x="6552720" y="3124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 flipH="1">
            <a:off x="6552720" y="1447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6553080" y="1447920"/>
            <a:ext cx="38124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5181480" y="175248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 flipH="1">
            <a:off x="380880" y="838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 flipH="1">
            <a:off x="380880" y="1905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 flipH="1">
            <a:off x="380880" y="518148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380880" y="32004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 flipH="1">
            <a:off x="1447920" y="4114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 flipV="1">
            <a:off x="1447920" y="32004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2362320" y="13716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 flipV="1">
            <a:off x="2743200" y="22860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2743200" y="2286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3352680" y="464832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3124080" y="556272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3124080" y="55627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 flipH="1">
            <a:off x="380880" y="6019920"/>
            <a:ext cx="274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5334120" y="1828800"/>
            <a:ext cx="1447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6400800" y="2743200"/>
            <a:ext cx="0" cy="2362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6172200" y="51055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6400800" y="27432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8534520" y="2286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226800" y="42228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222480" y="14479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228240" y="274320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222480" y="4724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222120" y="5562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1532160" y="27432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1538640" y="3276720"/>
            <a:ext cx="73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223200" y="76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223200" y="1859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223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223200" y="5135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223200" y="5973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2509200" y="86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5481000" y="1325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3582360" y="4114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64018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8535600" y="1752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"/>
          <p:cNvSpPr/>
          <p:nvPr/>
        </p:nvSpPr>
        <p:spPr>
          <a:xfrm>
            <a:off x="228600" y="533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 flipV="1">
            <a:off x="228600" y="53244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 flipH="1">
            <a:off x="914400" y="2209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 flipH="1">
            <a:off x="914400" y="533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914400" y="533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1981440" y="9936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 flipV="1">
            <a:off x="1981440" y="9896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 flipH="1">
            <a:off x="3200400" y="2666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 flipH="1">
            <a:off x="3200400" y="9907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3200400" y="990720"/>
            <a:ext cx="38088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1219680" y="380988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 flipV="1">
            <a:off x="1219680" y="38095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 flipH="1">
            <a:off x="1905120" y="54864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 flipH="1">
            <a:off x="1905120" y="3809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1905120" y="38098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2972160" y="42703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 flipV="1">
            <a:off x="2972160" y="4266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 flipH="1">
            <a:off x="4191120" y="5943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 flipH="1">
            <a:off x="4191120" y="4267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4191120" y="426708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5334480" y="14508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 flipV="1">
            <a:off x="5334480" y="1446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 flipH="1">
            <a:off x="6552720" y="3124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 flipH="1">
            <a:off x="6552720" y="1447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6553080" y="1447920"/>
            <a:ext cx="38124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5181480" y="175248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 flipH="1">
            <a:off x="380880" y="838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 flipH="1">
            <a:off x="380880" y="1905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 flipH="1">
            <a:off x="380880" y="518148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380880" y="32004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 flipH="1">
            <a:off x="1447920" y="4114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 flipV="1">
            <a:off x="1447920" y="32004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2362320" y="13716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 flipV="1">
            <a:off x="2743200" y="22860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2743200" y="2286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3352680" y="464832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3124080" y="556272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3124080" y="55627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 flipH="1">
            <a:off x="380880" y="6019920"/>
            <a:ext cx="274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5334120" y="1828800"/>
            <a:ext cx="1447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6400800" y="2743200"/>
            <a:ext cx="0" cy="2362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6172200" y="51055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6400800" y="27432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8534520" y="2286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226440" y="42228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222480" y="14479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228240" y="274320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222480" y="4724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222120" y="5562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1532160" y="27432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1538640" y="3276720"/>
            <a:ext cx="73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223200" y="76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223200" y="1859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223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223200" y="5135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223200" y="5973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2509200" y="86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5481000" y="1325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3582360" y="4114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64018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8535600" y="1752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"/>
          <p:cNvSpPr/>
          <p:nvPr/>
        </p:nvSpPr>
        <p:spPr>
          <a:xfrm>
            <a:off x="228600" y="533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 flipV="1">
            <a:off x="228600" y="53244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 flipH="1">
            <a:off x="914400" y="2209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 flipH="1">
            <a:off x="914400" y="533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914400" y="533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1981440" y="9936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 flipV="1">
            <a:off x="1981440" y="9896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 flipH="1">
            <a:off x="3200400" y="2666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 flipH="1">
            <a:off x="3200400" y="9907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3200400" y="990720"/>
            <a:ext cx="38088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1219680" y="380988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 flipV="1">
            <a:off x="1219680" y="38095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 flipH="1">
            <a:off x="1905120" y="54864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 flipH="1">
            <a:off x="1905120" y="3809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1905120" y="38098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2972160" y="42703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 flipV="1">
            <a:off x="2972160" y="4266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 flipH="1">
            <a:off x="4191120" y="5943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 flipH="1">
            <a:off x="4191120" y="4267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4191120" y="426708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5334480" y="14508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 flipV="1">
            <a:off x="5334480" y="1446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 flipH="1">
            <a:off x="6552720" y="3124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 flipH="1">
            <a:off x="6552720" y="1447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6553080" y="1447920"/>
            <a:ext cx="38124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5181480" y="175248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 flipH="1">
            <a:off x="380880" y="838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 flipH="1">
            <a:off x="380880" y="1905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 flipH="1">
            <a:off x="380880" y="518148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380880" y="32004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 flipH="1">
            <a:off x="1447920" y="4114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 flipV="1">
            <a:off x="1447920" y="32004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2362320" y="13716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 flipV="1">
            <a:off x="2743200" y="22860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2743200" y="2286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3352680" y="464832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3124080" y="556272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3124080" y="55627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 flipH="1">
            <a:off x="380880" y="6019920"/>
            <a:ext cx="274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5334120" y="1828800"/>
            <a:ext cx="1447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6400800" y="2743200"/>
            <a:ext cx="0" cy="2362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6172200" y="51055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6400800" y="27432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8534520" y="2286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226440" y="42228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222480" y="14479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228240" y="274320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222480" y="4724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222120" y="5562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1532160" y="27432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>
            <a:off x="1538640" y="3276720"/>
            <a:ext cx="73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>
            <a:off x="223200" y="76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223200" y="1859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223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>
            <a:off x="223200" y="5135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223200" y="5973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>
            <a:off x="2509200" y="86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5481000" y="1325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>
            <a:off x="3582360" y="4114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>
            <a:off x="64018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8535600" y="1752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1064520" y="345960"/>
            <a:ext cx="128556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1078560" y="1670040"/>
            <a:ext cx="10220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165960" y="3809880"/>
            <a:ext cx="128556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>
            <a:off x="545400" y="4641840"/>
            <a:ext cx="10220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697680" y="5486400"/>
            <a:ext cx="10112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"/>
          <p:cNvGrpSpPr/>
          <p:nvPr/>
        </p:nvGrpSpPr>
        <p:grpSpPr>
          <a:xfrm>
            <a:off x="457200" y="2514240"/>
            <a:ext cx="2286000" cy="1676520"/>
            <a:chOff x="457200" y="2514240"/>
            <a:chExt cx="2286000" cy="1676520"/>
          </a:xfrm>
        </p:grpSpPr>
        <p:sp>
          <p:nvSpPr>
            <p:cNvPr id="666" name=""/>
            <p:cNvSpPr/>
            <p:nvPr/>
          </p:nvSpPr>
          <p:spPr>
            <a:xfrm>
              <a:off x="457200" y="25146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457200" y="2513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1143000" y="41907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1143000" y="25146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143000" y="25146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590920" y="32763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3352680" y="3047760"/>
            <a:ext cx="2286000" cy="1676520"/>
            <a:chOff x="3352680" y="3047760"/>
            <a:chExt cx="2286000" cy="1676520"/>
          </a:xfrm>
        </p:grpSpPr>
        <p:sp>
          <p:nvSpPr>
            <p:cNvPr id="673" name=""/>
            <p:cNvSpPr/>
            <p:nvPr/>
          </p:nvSpPr>
          <p:spPr>
            <a:xfrm>
              <a:off x="3352680" y="30481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3352680" y="30474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4038480" y="47242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4038480" y="30481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38480" y="30481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486400" y="38098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6172200" y="1142640"/>
            <a:ext cx="2286000" cy="1676520"/>
            <a:chOff x="6172200" y="1142640"/>
            <a:chExt cx="2286000" cy="1676520"/>
          </a:xfrm>
        </p:grpSpPr>
        <p:sp>
          <p:nvSpPr>
            <p:cNvPr id="680" name=""/>
            <p:cNvSpPr/>
            <p:nvPr/>
          </p:nvSpPr>
          <p:spPr>
            <a:xfrm>
              <a:off x="6172200" y="11430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6172200" y="11419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6858000" y="28191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6858000" y="11430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858000" y="11430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305920" y="19047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6172200" y="4495320"/>
            <a:ext cx="2286000" cy="1676520"/>
            <a:chOff x="6172200" y="4495320"/>
            <a:chExt cx="2286000" cy="1676520"/>
          </a:xfrm>
        </p:grpSpPr>
        <p:sp>
          <p:nvSpPr>
            <p:cNvPr id="687" name=""/>
            <p:cNvSpPr/>
            <p:nvPr/>
          </p:nvSpPr>
          <p:spPr>
            <a:xfrm>
              <a:off x="6172200" y="44956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6172200" y="449496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6858000" y="61718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6858000" y="44956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858000" y="44956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05920" y="52574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3352680" y="5028840"/>
            <a:ext cx="2286000" cy="1676520"/>
            <a:chOff x="3352680" y="5028840"/>
            <a:chExt cx="2286000" cy="1676520"/>
          </a:xfrm>
        </p:grpSpPr>
        <p:sp>
          <p:nvSpPr>
            <p:cNvPr id="694" name=""/>
            <p:cNvSpPr/>
            <p:nvPr/>
          </p:nvSpPr>
          <p:spPr>
            <a:xfrm>
              <a:off x="3352680" y="50292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352680" y="5028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4038480" y="67053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4038480" y="50292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038480" y="50292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486400" y="57909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457200" y="609120"/>
            <a:ext cx="2286000" cy="1676520"/>
            <a:chOff x="457200" y="609120"/>
            <a:chExt cx="2286000" cy="1676520"/>
          </a:xfrm>
        </p:grpSpPr>
        <p:sp>
          <p:nvSpPr>
            <p:cNvPr id="701" name=""/>
            <p:cNvSpPr/>
            <p:nvPr/>
          </p:nvSpPr>
          <p:spPr>
            <a:xfrm>
              <a:off x="457200" y="609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457200" y="6084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1143000" y="22856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1143000" y="6094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143000" y="6094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590920" y="13712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2743200" y="1447920"/>
            <a:ext cx="4114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638680" y="586728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43200" y="335268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458200" y="1981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8458200" y="53341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6552720" y="25146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6552720" y="48006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553080" y="2514600"/>
            <a:ext cx="0" cy="228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638680" y="38862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609480" y="1981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609480" y="38862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914040" y="28195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914400" y="1980720"/>
            <a:ext cx="0" cy="838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38080" y="19051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609120" y="44197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09120" y="640080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276720" y="525780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200400" y="32767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3276720" y="335268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1000" y="42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66840" y="148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510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5100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51000" y="594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125880" y="990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820960" y="2895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869080" y="3429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945040" y="5410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612280" y="1523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861228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194000" y="2682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1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93600" y="914400"/>
            <a:ext cx="1506600" cy="459720"/>
            <a:chOff x="93600" y="914400"/>
            <a:chExt cx="1506600" cy="459720"/>
          </a:xfrm>
        </p:grpSpPr>
        <p:sp>
          <p:nvSpPr>
            <p:cNvPr id="739" name=""/>
            <p:cNvSpPr/>
            <p:nvPr/>
          </p:nvSpPr>
          <p:spPr>
            <a:xfrm flipH="1">
              <a:off x="609480" y="914400"/>
              <a:ext cx="533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5120" y="91440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86000" y="91440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67240" y="91440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248120" y="91440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219320" y="91440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38080" y="914400"/>
              <a:ext cx="38124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57200" y="91440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93600" y="914400"/>
              <a:ext cx="38124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76320" y="1981080"/>
            <a:ext cx="1505880" cy="459720"/>
            <a:chOff x="76320" y="1981080"/>
            <a:chExt cx="1505880" cy="459720"/>
          </a:xfrm>
        </p:grpSpPr>
        <p:sp>
          <p:nvSpPr>
            <p:cNvPr id="749" name=""/>
            <p:cNvSpPr/>
            <p:nvPr/>
          </p:nvSpPr>
          <p:spPr>
            <a:xfrm flipH="1">
              <a:off x="591480" y="1981080"/>
              <a:ext cx="533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7480" y="19810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68360" y="19810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49240" y="19810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230480" y="19810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201680" y="1981080"/>
              <a:ext cx="38052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20440" y="198108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39560" y="1981080"/>
              <a:ext cx="38052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6320" y="198108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3751200" y="990720"/>
            <a:ext cx="1506600" cy="459720"/>
            <a:chOff x="3751200" y="990720"/>
            <a:chExt cx="1506600" cy="459720"/>
          </a:xfrm>
        </p:grpSpPr>
        <p:sp>
          <p:nvSpPr>
            <p:cNvPr id="759" name=""/>
            <p:cNvSpPr/>
            <p:nvPr/>
          </p:nvSpPr>
          <p:spPr>
            <a:xfrm flipH="1">
              <a:off x="4267080" y="990720"/>
              <a:ext cx="533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762720" y="99072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143600" y="99072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524840" y="99072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905720" y="99072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876920" y="99072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495680" y="990720"/>
              <a:ext cx="38124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114800" y="99072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751200" y="990720"/>
              <a:ext cx="38124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5396040" y="9558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733920" y="1523880"/>
            <a:ext cx="1505880" cy="459720"/>
            <a:chOff x="3733920" y="1523880"/>
            <a:chExt cx="1505880" cy="459720"/>
          </a:xfrm>
        </p:grpSpPr>
        <p:sp>
          <p:nvSpPr>
            <p:cNvPr id="770" name=""/>
            <p:cNvSpPr/>
            <p:nvPr/>
          </p:nvSpPr>
          <p:spPr>
            <a:xfrm flipH="1">
              <a:off x="4249080" y="1523880"/>
              <a:ext cx="533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745080" y="15238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125960" y="15238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506840" y="15238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888080" y="15238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859280" y="1523880"/>
              <a:ext cx="38052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478040" y="152388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097160" y="1523880"/>
              <a:ext cx="38052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733920" y="152388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5378040" y="14889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3733920" y="2057400"/>
            <a:ext cx="1505880" cy="459720"/>
            <a:chOff x="3733920" y="2057400"/>
            <a:chExt cx="1505880" cy="459720"/>
          </a:xfrm>
        </p:grpSpPr>
        <p:sp>
          <p:nvSpPr>
            <p:cNvPr id="781" name=""/>
            <p:cNvSpPr/>
            <p:nvPr/>
          </p:nvSpPr>
          <p:spPr>
            <a:xfrm flipH="1">
              <a:off x="4249080" y="2057400"/>
              <a:ext cx="533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745080" y="205740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125960" y="205740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506840" y="205740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888080" y="205740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859280" y="2057400"/>
              <a:ext cx="38052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478040" y="205740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97160" y="2057400"/>
              <a:ext cx="38052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733920" y="205740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>
            <a:off x="5378760" y="2022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690600" y="31654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10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-a-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 flipV="1">
            <a:off x="4647960" y="2514600"/>
            <a:ext cx="20574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"/>
          <p:cNvSpPr/>
          <p:nvPr/>
        </p:nvSpPr>
        <p:spPr>
          <a:xfrm>
            <a:off x="228600" y="533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 flipV="1">
            <a:off x="228600" y="53244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 flipH="1">
            <a:off x="914400" y="2209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 flipH="1">
            <a:off x="914400" y="533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914400" y="533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1981440" y="9936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 flipV="1">
            <a:off x="1981440" y="9896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 flipH="1">
            <a:off x="3200400" y="2666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 flipH="1">
            <a:off x="3200400" y="9907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3200400" y="990720"/>
            <a:ext cx="38088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>
            <a:off x="1219680" y="380988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 flipV="1">
            <a:off x="1219680" y="38095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 flipH="1">
            <a:off x="1905120" y="54864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 flipH="1">
            <a:off x="1905120" y="3809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1905120" y="38098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2972160" y="42703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 flipV="1">
            <a:off x="2972160" y="4266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 flipH="1">
            <a:off x="4191120" y="5943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 flipH="1">
            <a:off x="4191120" y="4267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>
            <a:off x="4191120" y="426708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5334480" y="14508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 flipV="1">
            <a:off x="5334480" y="1446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 flipH="1">
            <a:off x="6552720" y="3124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 flipH="1">
            <a:off x="6552720" y="1447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6553080" y="1447920"/>
            <a:ext cx="38124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5181480" y="175248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 flipH="1">
            <a:off x="380880" y="838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 flipH="1">
            <a:off x="380880" y="1905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 flipH="1">
            <a:off x="380880" y="518148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380880" y="32004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 flipH="1">
            <a:off x="1447920" y="4114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 flipV="1">
            <a:off x="1447920" y="32004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>
            <a:off x="2362320" y="13716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 flipV="1">
            <a:off x="2743200" y="22860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>
            <a:off x="2743200" y="2286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>
            <a:off x="3352680" y="464832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3124080" y="556272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>
            <a:off x="3124080" y="55627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 flipH="1">
            <a:off x="380880" y="6019920"/>
            <a:ext cx="274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5334120" y="1828800"/>
            <a:ext cx="1447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2" name=""/>
          <p:cNvSpPr/>
          <p:nvPr/>
        </p:nvSpPr>
        <p:spPr>
          <a:xfrm>
            <a:off x="6400800" y="2743200"/>
            <a:ext cx="0" cy="2362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3" name=""/>
          <p:cNvSpPr/>
          <p:nvPr/>
        </p:nvSpPr>
        <p:spPr>
          <a:xfrm>
            <a:off x="6172200" y="51055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>
            <a:off x="6400800" y="27432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8534520" y="2286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226440" y="42228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7" name=""/>
          <p:cNvSpPr/>
          <p:nvPr/>
        </p:nvSpPr>
        <p:spPr>
          <a:xfrm>
            <a:off x="222480" y="14479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8" name=""/>
          <p:cNvSpPr/>
          <p:nvPr/>
        </p:nvSpPr>
        <p:spPr>
          <a:xfrm>
            <a:off x="228240" y="274320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>
            <a:off x="222480" y="4724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0" name=""/>
          <p:cNvSpPr/>
          <p:nvPr/>
        </p:nvSpPr>
        <p:spPr>
          <a:xfrm>
            <a:off x="222120" y="5562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1" name=""/>
          <p:cNvSpPr/>
          <p:nvPr/>
        </p:nvSpPr>
        <p:spPr>
          <a:xfrm>
            <a:off x="1532160" y="27432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2" name=""/>
          <p:cNvSpPr/>
          <p:nvPr/>
        </p:nvSpPr>
        <p:spPr>
          <a:xfrm>
            <a:off x="1538640" y="3276720"/>
            <a:ext cx="73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3" name=""/>
          <p:cNvSpPr/>
          <p:nvPr/>
        </p:nvSpPr>
        <p:spPr>
          <a:xfrm>
            <a:off x="223200" y="76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4" name=""/>
          <p:cNvSpPr/>
          <p:nvPr/>
        </p:nvSpPr>
        <p:spPr>
          <a:xfrm>
            <a:off x="223200" y="1859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5" name=""/>
          <p:cNvSpPr/>
          <p:nvPr/>
        </p:nvSpPr>
        <p:spPr>
          <a:xfrm>
            <a:off x="223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6" name=""/>
          <p:cNvSpPr/>
          <p:nvPr/>
        </p:nvSpPr>
        <p:spPr>
          <a:xfrm>
            <a:off x="223200" y="5135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223200" y="5973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>
            <a:off x="2509200" y="86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>
            <a:off x="5481000" y="1325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>
            <a:off x="3582360" y="4114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64018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>
            <a:off x="8535600" y="1752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>
            <a:off x="1064520" y="345960"/>
            <a:ext cx="128556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4" name=""/>
          <p:cNvSpPr/>
          <p:nvPr/>
        </p:nvSpPr>
        <p:spPr>
          <a:xfrm>
            <a:off x="1078560" y="1670040"/>
            <a:ext cx="10220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>
            <a:off x="165960" y="3809880"/>
            <a:ext cx="128556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>
            <a:off x="545400" y="4641840"/>
            <a:ext cx="10220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697680" y="5486400"/>
            <a:ext cx="10112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>
            <a:off x="2534040" y="380880"/>
            <a:ext cx="252468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"/>
          <p:cNvSpPr/>
          <p:nvPr/>
        </p:nvSpPr>
        <p:spPr>
          <a:xfrm>
            <a:off x="228600" y="533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 flipV="1">
            <a:off x="228600" y="53244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 flipH="1">
            <a:off x="914400" y="2209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 flipH="1">
            <a:off x="914400" y="533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914400" y="533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>
            <a:off x="1981440" y="9936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 flipV="1">
            <a:off x="1981440" y="9896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 flipH="1">
            <a:off x="3200400" y="2666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 flipH="1">
            <a:off x="3200400" y="9907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>
            <a:off x="3200400" y="990720"/>
            <a:ext cx="38088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1219680" y="380988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 flipV="1">
            <a:off x="1219680" y="38095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 flipH="1">
            <a:off x="1905120" y="54864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 flipH="1">
            <a:off x="1905120" y="3809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1905120" y="38098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2972160" y="42703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 flipV="1">
            <a:off x="2972160" y="4266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 flipH="1">
            <a:off x="4191120" y="5943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 flipH="1">
            <a:off x="4191120" y="4267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4191120" y="426708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5334480" y="14508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 flipV="1">
            <a:off x="5334480" y="1446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 flipH="1">
            <a:off x="6552720" y="3124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 flipH="1">
            <a:off x="6552720" y="1447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6553080" y="1447920"/>
            <a:ext cx="38124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5181480" y="175248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 flipH="1">
            <a:off x="380880" y="838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 flipH="1">
            <a:off x="380880" y="1905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 flipH="1">
            <a:off x="380880" y="518148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380880" y="32004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 flipH="1">
            <a:off x="1447920" y="4114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 flipV="1">
            <a:off x="1447920" y="32004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2362320" y="13716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 flipV="1">
            <a:off x="2743200" y="22860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2743200" y="2286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3352680" y="464832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3124080" y="556272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3124080" y="55627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 flipH="1">
            <a:off x="380880" y="6019920"/>
            <a:ext cx="274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5334120" y="1828800"/>
            <a:ext cx="1447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6400800" y="2743200"/>
            <a:ext cx="0" cy="2362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>
            <a:off x="6172200" y="51055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>
            <a:off x="6400800" y="27432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>
            <a:off x="8534520" y="2286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>
            <a:off x="226440" y="42228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>
            <a:off x="222480" y="14479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>
            <a:off x="228240" y="274320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>
            <a:off x="222480" y="4724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>
            <a:off x="222120" y="5562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>
            <a:off x="1532160" y="27432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>
            <a:off x="1538640" y="3276720"/>
            <a:ext cx="73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223200" y="76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223200" y="1859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>
            <a:off x="223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>
            <a:off x="223200" y="5135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223200" y="5973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2509200" y="86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5481000" y="1325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>
            <a:off x="3582360" y="4114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64018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8535600" y="1752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1064520" y="345960"/>
            <a:ext cx="128556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1078560" y="1670040"/>
            <a:ext cx="10220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>
            <a:off x="165960" y="3809880"/>
            <a:ext cx="128556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545400" y="4641840"/>
            <a:ext cx="10220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697680" y="5486400"/>
            <a:ext cx="10112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2847600" y="2743200"/>
            <a:ext cx="31298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{g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g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2534040" y="380880"/>
            <a:ext cx="252468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"/>
          <p:cNvSpPr/>
          <p:nvPr/>
        </p:nvSpPr>
        <p:spPr>
          <a:xfrm>
            <a:off x="228600" y="533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 flipV="1">
            <a:off x="228600" y="53244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 flipH="1">
            <a:off x="914400" y="2209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 flipH="1">
            <a:off x="914400" y="533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>
            <a:off x="914400" y="533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1981440" y="9936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 flipV="1">
            <a:off x="1981440" y="9896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 flipH="1">
            <a:off x="3200400" y="2666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 flipH="1">
            <a:off x="3200400" y="9907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>
            <a:off x="3200400" y="990720"/>
            <a:ext cx="38088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>
            <a:off x="1219680" y="380988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 flipV="1">
            <a:off x="1219680" y="38095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 flipH="1">
            <a:off x="1905120" y="54864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 flipH="1">
            <a:off x="1905120" y="3809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>
            <a:off x="1905120" y="38098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2" name=""/>
          <p:cNvSpPr/>
          <p:nvPr/>
        </p:nvSpPr>
        <p:spPr>
          <a:xfrm>
            <a:off x="2972160" y="42703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 flipV="1">
            <a:off x="2972160" y="4266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 flipH="1">
            <a:off x="4191120" y="5943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 flipH="1">
            <a:off x="4191120" y="4267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4191120" y="426708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5334480" y="14508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 flipV="1">
            <a:off x="5334480" y="1446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 flipH="1">
            <a:off x="6552720" y="3124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 flipH="1">
            <a:off x="6552720" y="1447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>
            <a:off x="6553080" y="1447920"/>
            <a:ext cx="38124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>
            <a:off x="5181480" y="175248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 flipH="1">
            <a:off x="380880" y="838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 flipH="1">
            <a:off x="380880" y="1905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 flipH="1">
            <a:off x="380880" y="518148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>
            <a:off x="380880" y="32004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 flipH="1">
            <a:off x="1447920" y="4114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 flipV="1">
            <a:off x="1447920" y="32004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>
            <a:off x="2362320" y="13716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 flipV="1">
            <a:off x="2743200" y="22860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2743200" y="2286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3352680" y="464832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3124080" y="556272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3124080" y="55627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 flipH="1">
            <a:off x="380880" y="6019920"/>
            <a:ext cx="274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>
            <a:off x="5334120" y="1828800"/>
            <a:ext cx="1447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6400800" y="2743200"/>
            <a:ext cx="0" cy="2362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>
            <a:off x="6172200" y="51055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6400800" y="27432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8534520" y="2286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226440" y="42228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>
            <a:off x="222480" y="14479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>
            <a:off x="228240" y="274320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222480" y="4724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222120" y="5562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1532160" y="27432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1538640" y="3276720"/>
            <a:ext cx="73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223200" y="76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223200" y="1859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223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223200" y="5135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223200" y="5973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2509200" y="86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4" name=""/>
          <p:cNvSpPr/>
          <p:nvPr/>
        </p:nvSpPr>
        <p:spPr>
          <a:xfrm>
            <a:off x="5481000" y="1325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3582360" y="4114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>
            <a:off x="64018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8535600" y="1752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1064520" y="345960"/>
            <a:ext cx="128556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>
            <a:off x="1078560" y="1670040"/>
            <a:ext cx="10220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>
            <a:off x="165960" y="3809880"/>
            <a:ext cx="128556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1" name=""/>
          <p:cNvSpPr/>
          <p:nvPr/>
        </p:nvSpPr>
        <p:spPr>
          <a:xfrm>
            <a:off x="545400" y="4641840"/>
            <a:ext cx="10220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2" name=""/>
          <p:cNvSpPr/>
          <p:nvPr/>
        </p:nvSpPr>
        <p:spPr>
          <a:xfrm>
            <a:off x="697680" y="5486400"/>
            <a:ext cx="10112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>
            <a:off x="2847600" y="2743200"/>
            <a:ext cx="31298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{g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g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>
            <a:off x="2542680" y="3352680"/>
            <a:ext cx="31298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{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2534040" y="380880"/>
            <a:ext cx="252468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"/>
          <p:cNvSpPr/>
          <p:nvPr/>
        </p:nvSpPr>
        <p:spPr>
          <a:xfrm>
            <a:off x="228600" y="533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 flipV="1">
            <a:off x="228600" y="53244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 flipH="1">
            <a:off x="914400" y="2209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 flipH="1">
            <a:off x="914400" y="533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>
            <a:off x="914400" y="533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1981440" y="9936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 flipV="1">
            <a:off x="1981440" y="9896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 flipH="1">
            <a:off x="3200400" y="2666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 flipH="1">
            <a:off x="3200400" y="9907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3200400" y="990720"/>
            <a:ext cx="38088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1219680" y="380988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 flipV="1">
            <a:off x="1219680" y="38095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 flipH="1">
            <a:off x="1905120" y="54864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 flipH="1">
            <a:off x="1905120" y="3809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1905120" y="38098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2972160" y="42703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 flipV="1">
            <a:off x="2972160" y="4266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 flipH="1">
            <a:off x="4191120" y="5943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 flipH="1">
            <a:off x="4191120" y="4267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>
            <a:off x="4191120" y="426708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5334480" y="14508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 flipV="1">
            <a:off x="5334480" y="1446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 flipH="1">
            <a:off x="6552720" y="3124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 flipH="1">
            <a:off x="6552720" y="1447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6553080" y="1447920"/>
            <a:ext cx="38124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>
            <a:off x="5181480" y="175248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 flipH="1">
            <a:off x="380880" y="838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 flipH="1">
            <a:off x="380880" y="1905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 flipH="1">
            <a:off x="380880" y="518148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>
            <a:off x="380880" y="32004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6" name=""/>
          <p:cNvSpPr/>
          <p:nvPr/>
        </p:nvSpPr>
        <p:spPr>
          <a:xfrm flipH="1">
            <a:off x="1447920" y="4114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7" name=""/>
          <p:cNvSpPr/>
          <p:nvPr/>
        </p:nvSpPr>
        <p:spPr>
          <a:xfrm flipV="1">
            <a:off x="1447920" y="32004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8" name=""/>
          <p:cNvSpPr/>
          <p:nvPr/>
        </p:nvSpPr>
        <p:spPr>
          <a:xfrm>
            <a:off x="2362320" y="13716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9" name=""/>
          <p:cNvSpPr/>
          <p:nvPr/>
        </p:nvSpPr>
        <p:spPr>
          <a:xfrm flipV="1">
            <a:off x="2743200" y="22860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0" name=""/>
          <p:cNvSpPr/>
          <p:nvPr/>
        </p:nvSpPr>
        <p:spPr>
          <a:xfrm>
            <a:off x="2743200" y="2286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3352680" y="464832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>
            <a:off x="3124080" y="556272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>
            <a:off x="3124080" y="55627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 flipH="1">
            <a:off x="380880" y="6019920"/>
            <a:ext cx="274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5334120" y="1828800"/>
            <a:ext cx="1447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6400800" y="2743200"/>
            <a:ext cx="0" cy="2362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6172200" y="51055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6400800" y="27432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8534520" y="2286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226440" y="42228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222480" y="14479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228240" y="274320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222480" y="4724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222120" y="5562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1532160" y="27432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1538640" y="3276720"/>
            <a:ext cx="73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223200" y="76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223200" y="1859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223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223200" y="5135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223200" y="5973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2509200" y="86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5481000" y="1325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3582360" y="4114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64018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8535600" y="1752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1064520" y="345960"/>
            <a:ext cx="128556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>
            <a:off x="1078560" y="1670040"/>
            <a:ext cx="10220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165960" y="3809880"/>
            <a:ext cx="128556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545400" y="4641840"/>
            <a:ext cx="10220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697680" y="5486400"/>
            <a:ext cx="10112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2847600" y="2743200"/>
            <a:ext cx="31298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{g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g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2542680" y="3352680"/>
            <a:ext cx="31298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{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2083320" y="4724280"/>
            <a:ext cx="28418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2534040" y="380880"/>
            <a:ext cx="252468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"/>
          <p:cNvSpPr/>
          <p:nvPr/>
        </p:nvSpPr>
        <p:spPr>
          <a:xfrm>
            <a:off x="228600" y="533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 flipV="1">
            <a:off x="228600" y="53244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 flipH="1">
            <a:off x="914400" y="2209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 flipH="1">
            <a:off x="914400" y="533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914400" y="533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1981440" y="9936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 flipV="1">
            <a:off x="1981440" y="9896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 flipH="1">
            <a:off x="3200400" y="2666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 flipH="1">
            <a:off x="3200400" y="9907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3200400" y="990720"/>
            <a:ext cx="38088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1219680" y="380988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 flipV="1">
            <a:off x="1219680" y="38095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 flipH="1">
            <a:off x="1905120" y="54864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 flipH="1">
            <a:off x="1905120" y="3809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1905120" y="38098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>
            <a:off x="2972160" y="42703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 flipV="1">
            <a:off x="2972160" y="4266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 flipH="1">
            <a:off x="4191120" y="5943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 flipH="1">
            <a:off x="4191120" y="4267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4191120" y="426708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5334480" y="14508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 flipV="1">
            <a:off x="5334480" y="1446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 flipH="1">
            <a:off x="6552720" y="3124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 flipH="1">
            <a:off x="6552720" y="1447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6553080" y="1447920"/>
            <a:ext cx="38124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5181480" y="175248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 flipH="1">
            <a:off x="380880" y="838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 flipH="1">
            <a:off x="380880" y="1905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4" name=""/>
          <p:cNvSpPr/>
          <p:nvPr/>
        </p:nvSpPr>
        <p:spPr>
          <a:xfrm flipH="1">
            <a:off x="380880" y="518148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5" name=""/>
          <p:cNvSpPr/>
          <p:nvPr/>
        </p:nvSpPr>
        <p:spPr>
          <a:xfrm>
            <a:off x="380880" y="32004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 flipH="1">
            <a:off x="1447920" y="4114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 flipV="1">
            <a:off x="1447920" y="32004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2362320" y="13716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 flipV="1">
            <a:off x="2743200" y="22860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2743200" y="2286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1" name=""/>
          <p:cNvSpPr/>
          <p:nvPr/>
        </p:nvSpPr>
        <p:spPr>
          <a:xfrm>
            <a:off x="3352680" y="464832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2" name=""/>
          <p:cNvSpPr/>
          <p:nvPr/>
        </p:nvSpPr>
        <p:spPr>
          <a:xfrm>
            <a:off x="3124080" y="556272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3" name=""/>
          <p:cNvSpPr/>
          <p:nvPr/>
        </p:nvSpPr>
        <p:spPr>
          <a:xfrm>
            <a:off x="3124080" y="55627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 flipH="1">
            <a:off x="380880" y="6019920"/>
            <a:ext cx="274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>
            <a:off x="5334120" y="1828800"/>
            <a:ext cx="1447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>
            <a:off x="6400800" y="2743200"/>
            <a:ext cx="0" cy="2362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>
            <a:off x="6172200" y="51055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>
            <a:off x="6400800" y="27432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>
            <a:off x="8534520" y="2286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>
            <a:off x="226440" y="42228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>
            <a:off x="222480" y="14479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>
            <a:off x="228240" y="274320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>
            <a:off x="222480" y="4724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4" name=""/>
          <p:cNvSpPr/>
          <p:nvPr/>
        </p:nvSpPr>
        <p:spPr>
          <a:xfrm>
            <a:off x="222120" y="5562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>
            <a:off x="1532160" y="27432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6" name=""/>
          <p:cNvSpPr/>
          <p:nvPr/>
        </p:nvSpPr>
        <p:spPr>
          <a:xfrm>
            <a:off x="1538640" y="3276720"/>
            <a:ext cx="73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223200" y="76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>
            <a:off x="223200" y="1859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>
            <a:off x="223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223200" y="5135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223200" y="5973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2509200" y="86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5481000" y="1325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>
            <a:off x="3582360" y="4114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>
            <a:off x="64018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>
            <a:off x="8535600" y="1752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>
            <a:off x="1064520" y="345960"/>
            <a:ext cx="128556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1078560" y="1670040"/>
            <a:ext cx="10220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>
            <a:off x="165960" y="3809880"/>
            <a:ext cx="128556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0" name=""/>
          <p:cNvSpPr/>
          <p:nvPr/>
        </p:nvSpPr>
        <p:spPr>
          <a:xfrm>
            <a:off x="545400" y="4641840"/>
            <a:ext cx="10220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1" name=""/>
          <p:cNvSpPr/>
          <p:nvPr/>
        </p:nvSpPr>
        <p:spPr>
          <a:xfrm>
            <a:off x="697680" y="5486400"/>
            <a:ext cx="10112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2" name=""/>
          <p:cNvSpPr/>
          <p:nvPr/>
        </p:nvSpPr>
        <p:spPr>
          <a:xfrm>
            <a:off x="2847600" y="2743200"/>
            <a:ext cx="31298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{g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g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>
            <a:off x="2542680" y="3352680"/>
            <a:ext cx="31298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{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>
            <a:off x="2083320" y="4724280"/>
            <a:ext cx="28418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>
            <a:off x="4816080" y="914400"/>
            <a:ext cx="222120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>
            <a:off x="2534040" y="380880"/>
            <a:ext cx="252468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7" name=""/>
          <p:cNvSpPr/>
          <p:nvPr/>
        </p:nvSpPr>
        <p:spPr>
          <a:xfrm>
            <a:off x="228600" y="533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8" name=""/>
          <p:cNvSpPr/>
          <p:nvPr/>
        </p:nvSpPr>
        <p:spPr>
          <a:xfrm flipV="1">
            <a:off x="228600" y="53244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9" name=""/>
          <p:cNvSpPr/>
          <p:nvPr/>
        </p:nvSpPr>
        <p:spPr>
          <a:xfrm flipH="1">
            <a:off x="914400" y="2209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 flipH="1">
            <a:off x="914400" y="533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>
            <a:off x="914400" y="533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>
            <a:off x="1981440" y="9936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 flipV="1">
            <a:off x="1981440" y="9896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 flipH="1">
            <a:off x="3200400" y="2666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 flipH="1">
            <a:off x="3200400" y="9907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>
            <a:off x="3200400" y="990720"/>
            <a:ext cx="38088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>
            <a:off x="1219680" y="380988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 flipV="1">
            <a:off x="1219680" y="38095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 flipH="1">
            <a:off x="1905120" y="54864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 flipH="1">
            <a:off x="1905120" y="3809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1905120" y="38098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>
            <a:off x="2972160" y="42703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 flipV="1">
            <a:off x="2972160" y="4266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 flipH="1">
            <a:off x="4191120" y="5943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 flipH="1">
            <a:off x="4191120" y="4267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4191120" y="426708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5334480" y="14508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 flipV="1">
            <a:off x="5334480" y="1446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 flipH="1">
            <a:off x="6552720" y="3124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 flipH="1">
            <a:off x="6552720" y="1447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>
            <a:off x="6553080" y="1447920"/>
            <a:ext cx="38124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>
            <a:off x="5181480" y="175248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 flipH="1">
            <a:off x="380880" y="838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 flipH="1">
            <a:off x="380880" y="1905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 flipH="1">
            <a:off x="380880" y="518148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>
            <a:off x="380880" y="32004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 flipH="1">
            <a:off x="1447920" y="4114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 flipV="1">
            <a:off x="1447920" y="32004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2362320" y="13716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 flipV="1">
            <a:off x="2743200" y="22860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2743200" y="2286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3352680" y="464832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3124080" y="556272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3124080" y="55627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 flipH="1">
            <a:off x="380880" y="6019920"/>
            <a:ext cx="274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5334120" y="1828800"/>
            <a:ext cx="1447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6400800" y="2743200"/>
            <a:ext cx="0" cy="2362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6172200" y="51055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6400800" y="27432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8534520" y="2286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226440" y="42228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>
            <a:off x="222480" y="14479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>
            <a:off x="228240" y="274320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>
            <a:off x="222480" y="4724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222120" y="5562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>
            <a:off x="1532160" y="27432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>
            <a:off x="1538640" y="3276720"/>
            <a:ext cx="73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>
            <a:off x="223200" y="76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>
            <a:off x="223200" y="1859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0" name=""/>
          <p:cNvSpPr/>
          <p:nvPr/>
        </p:nvSpPr>
        <p:spPr>
          <a:xfrm>
            <a:off x="223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223200" y="5135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>
            <a:off x="223200" y="5973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3" name=""/>
          <p:cNvSpPr/>
          <p:nvPr/>
        </p:nvSpPr>
        <p:spPr>
          <a:xfrm>
            <a:off x="2509200" y="86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4" name=""/>
          <p:cNvSpPr/>
          <p:nvPr/>
        </p:nvSpPr>
        <p:spPr>
          <a:xfrm>
            <a:off x="5481000" y="1325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5" name=""/>
          <p:cNvSpPr/>
          <p:nvPr/>
        </p:nvSpPr>
        <p:spPr>
          <a:xfrm>
            <a:off x="3582360" y="4114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6" name=""/>
          <p:cNvSpPr/>
          <p:nvPr/>
        </p:nvSpPr>
        <p:spPr>
          <a:xfrm>
            <a:off x="64018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7" name=""/>
          <p:cNvSpPr/>
          <p:nvPr/>
        </p:nvSpPr>
        <p:spPr>
          <a:xfrm>
            <a:off x="8535600" y="1752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8" name=""/>
          <p:cNvSpPr/>
          <p:nvPr/>
        </p:nvSpPr>
        <p:spPr>
          <a:xfrm>
            <a:off x="1064520" y="345960"/>
            <a:ext cx="128556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9" name=""/>
          <p:cNvSpPr/>
          <p:nvPr/>
        </p:nvSpPr>
        <p:spPr>
          <a:xfrm>
            <a:off x="1078560" y="1670040"/>
            <a:ext cx="10220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0" name=""/>
          <p:cNvSpPr/>
          <p:nvPr/>
        </p:nvSpPr>
        <p:spPr>
          <a:xfrm>
            <a:off x="165960" y="3809880"/>
            <a:ext cx="128556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1" name=""/>
          <p:cNvSpPr/>
          <p:nvPr/>
        </p:nvSpPr>
        <p:spPr>
          <a:xfrm>
            <a:off x="545400" y="4641840"/>
            <a:ext cx="10220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2" name=""/>
          <p:cNvSpPr/>
          <p:nvPr/>
        </p:nvSpPr>
        <p:spPr>
          <a:xfrm>
            <a:off x="697680" y="5486400"/>
            <a:ext cx="10112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3" name=""/>
          <p:cNvSpPr/>
          <p:nvPr/>
        </p:nvSpPr>
        <p:spPr>
          <a:xfrm>
            <a:off x="2847600" y="2743200"/>
            <a:ext cx="31298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{g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g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4" name=""/>
          <p:cNvSpPr/>
          <p:nvPr/>
        </p:nvSpPr>
        <p:spPr>
          <a:xfrm>
            <a:off x="2542680" y="3352680"/>
            <a:ext cx="31298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{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5" name=""/>
          <p:cNvSpPr/>
          <p:nvPr/>
        </p:nvSpPr>
        <p:spPr>
          <a:xfrm>
            <a:off x="2083320" y="4724280"/>
            <a:ext cx="28418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>
            <a:off x="5364360" y="4419720"/>
            <a:ext cx="26906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-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7" name=""/>
          <p:cNvSpPr/>
          <p:nvPr/>
        </p:nvSpPr>
        <p:spPr>
          <a:xfrm>
            <a:off x="2534040" y="380880"/>
            <a:ext cx="252468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>
            <a:off x="4816080" y="914400"/>
            <a:ext cx="222120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"/>
          <p:cNvSpPr/>
          <p:nvPr/>
        </p:nvSpPr>
        <p:spPr>
          <a:xfrm>
            <a:off x="228600" y="533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 flipV="1">
            <a:off x="228600" y="53244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1" name=""/>
          <p:cNvSpPr/>
          <p:nvPr/>
        </p:nvSpPr>
        <p:spPr>
          <a:xfrm flipH="1">
            <a:off x="914400" y="2209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 flipH="1">
            <a:off x="914400" y="533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>
            <a:off x="914400" y="533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>
            <a:off x="1981440" y="9936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5" name=""/>
          <p:cNvSpPr/>
          <p:nvPr/>
        </p:nvSpPr>
        <p:spPr>
          <a:xfrm flipV="1">
            <a:off x="1981440" y="9896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 flipH="1">
            <a:off x="3200400" y="2666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 flipH="1">
            <a:off x="3200400" y="9907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8" name=""/>
          <p:cNvSpPr/>
          <p:nvPr/>
        </p:nvSpPr>
        <p:spPr>
          <a:xfrm>
            <a:off x="3200400" y="990720"/>
            <a:ext cx="38088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>
            <a:off x="1219680" y="380988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 flipV="1">
            <a:off x="1219680" y="38095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1" name=""/>
          <p:cNvSpPr/>
          <p:nvPr/>
        </p:nvSpPr>
        <p:spPr>
          <a:xfrm flipH="1">
            <a:off x="1905120" y="54864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2" name=""/>
          <p:cNvSpPr/>
          <p:nvPr/>
        </p:nvSpPr>
        <p:spPr>
          <a:xfrm flipH="1">
            <a:off x="1905120" y="3809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3" name=""/>
          <p:cNvSpPr/>
          <p:nvPr/>
        </p:nvSpPr>
        <p:spPr>
          <a:xfrm>
            <a:off x="1905120" y="38098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4" name=""/>
          <p:cNvSpPr/>
          <p:nvPr/>
        </p:nvSpPr>
        <p:spPr>
          <a:xfrm>
            <a:off x="2972160" y="42703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5" name=""/>
          <p:cNvSpPr/>
          <p:nvPr/>
        </p:nvSpPr>
        <p:spPr>
          <a:xfrm flipV="1">
            <a:off x="2972160" y="42667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 flipH="1">
            <a:off x="4191120" y="5943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7" name=""/>
          <p:cNvSpPr/>
          <p:nvPr/>
        </p:nvSpPr>
        <p:spPr>
          <a:xfrm flipH="1">
            <a:off x="4191120" y="4267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8" name=""/>
          <p:cNvSpPr/>
          <p:nvPr/>
        </p:nvSpPr>
        <p:spPr>
          <a:xfrm>
            <a:off x="4191120" y="426708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9" name=""/>
          <p:cNvSpPr/>
          <p:nvPr/>
        </p:nvSpPr>
        <p:spPr>
          <a:xfrm>
            <a:off x="5334480" y="14508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0" name=""/>
          <p:cNvSpPr/>
          <p:nvPr/>
        </p:nvSpPr>
        <p:spPr>
          <a:xfrm flipV="1">
            <a:off x="5334480" y="14468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1" name=""/>
          <p:cNvSpPr/>
          <p:nvPr/>
        </p:nvSpPr>
        <p:spPr>
          <a:xfrm flipH="1">
            <a:off x="6552720" y="3124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2" name=""/>
          <p:cNvSpPr/>
          <p:nvPr/>
        </p:nvSpPr>
        <p:spPr>
          <a:xfrm flipH="1">
            <a:off x="6552720" y="1447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3" name=""/>
          <p:cNvSpPr/>
          <p:nvPr/>
        </p:nvSpPr>
        <p:spPr>
          <a:xfrm>
            <a:off x="6553080" y="1447920"/>
            <a:ext cx="38124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4" name=""/>
          <p:cNvSpPr/>
          <p:nvPr/>
        </p:nvSpPr>
        <p:spPr>
          <a:xfrm>
            <a:off x="5181480" y="175248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5" name=""/>
          <p:cNvSpPr/>
          <p:nvPr/>
        </p:nvSpPr>
        <p:spPr>
          <a:xfrm flipH="1">
            <a:off x="380880" y="838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6" name=""/>
          <p:cNvSpPr/>
          <p:nvPr/>
        </p:nvSpPr>
        <p:spPr>
          <a:xfrm flipH="1">
            <a:off x="380880" y="19051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7" name=""/>
          <p:cNvSpPr/>
          <p:nvPr/>
        </p:nvSpPr>
        <p:spPr>
          <a:xfrm flipH="1">
            <a:off x="380880" y="518148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8" name=""/>
          <p:cNvSpPr/>
          <p:nvPr/>
        </p:nvSpPr>
        <p:spPr>
          <a:xfrm>
            <a:off x="380880" y="32004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9" name=""/>
          <p:cNvSpPr/>
          <p:nvPr/>
        </p:nvSpPr>
        <p:spPr>
          <a:xfrm flipH="1">
            <a:off x="1447920" y="4114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0" name=""/>
          <p:cNvSpPr/>
          <p:nvPr/>
        </p:nvSpPr>
        <p:spPr>
          <a:xfrm flipV="1">
            <a:off x="1447920" y="32004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1" name=""/>
          <p:cNvSpPr/>
          <p:nvPr/>
        </p:nvSpPr>
        <p:spPr>
          <a:xfrm>
            <a:off x="2362320" y="13716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2" name=""/>
          <p:cNvSpPr/>
          <p:nvPr/>
        </p:nvSpPr>
        <p:spPr>
          <a:xfrm flipV="1">
            <a:off x="2743200" y="22860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3" name=""/>
          <p:cNvSpPr/>
          <p:nvPr/>
        </p:nvSpPr>
        <p:spPr>
          <a:xfrm>
            <a:off x="2743200" y="2286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>
            <a:off x="3352680" y="464832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5" name=""/>
          <p:cNvSpPr/>
          <p:nvPr/>
        </p:nvSpPr>
        <p:spPr>
          <a:xfrm>
            <a:off x="3124080" y="556272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6" name=""/>
          <p:cNvSpPr/>
          <p:nvPr/>
        </p:nvSpPr>
        <p:spPr>
          <a:xfrm>
            <a:off x="3124080" y="55627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7" name=""/>
          <p:cNvSpPr/>
          <p:nvPr/>
        </p:nvSpPr>
        <p:spPr>
          <a:xfrm flipH="1">
            <a:off x="380880" y="6019920"/>
            <a:ext cx="274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8" name=""/>
          <p:cNvSpPr/>
          <p:nvPr/>
        </p:nvSpPr>
        <p:spPr>
          <a:xfrm>
            <a:off x="5334120" y="1828800"/>
            <a:ext cx="1447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9" name=""/>
          <p:cNvSpPr/>
          <p:nvPr/>
        </p:nvSpPr>
        <p:spPr>
          <a:xfrm>
            <a:off x="6400800" y="2743200"/>
            <a:ext cx="0" cy="2362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>
            <a:off x="6172200" y="51055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>
            <a:off x="6400800" y="27432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>
            <a:off x="8534520" y="22860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3" name=""/>
          <p:cNvSpPr/>
          <p:nvPr/>
        </p:nvSpPr>
        <p:spPr>
          <a:xfrm>
            <a:off x="226440" y="42228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222480" y="14479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228240" y="274320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222480" y="4724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>
            <a:off x="222120" y="5562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>
            <a:off x="1532160" y="27432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1538640" y="3276720"/>
            <a:ext cx="73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223200" y="76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223200" y="1859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223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223200" y="5135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223200" y="5973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2509200" y="86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5481000" y="1325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3582360" y="4114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64018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8535600" y="1752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1064520" y="345960"/>
            <a:ext cx="128556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1078560" y="1670040"/>
            <a:ext cx="10220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165960" y="3809880"/>
            <a:ext cx="128556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545400" y="4641840"/>
            <a:ext cx="10220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697680" y="5486400"/>
            <a:ext cx="10112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2847600" y="2743200"/>
            <a:ext cx="31298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{g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g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2542680" y="3352680"/>
            <a:ext cx="31298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{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>
            <a:off x="2083320" y="4724280"/>
            <a:ext cx="28418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>
            <a:off x="5364360" y="4419720"/>
            <a:ext cx="26906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-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6359040" y="2590920"/>
            <a:ext cx="27500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-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2534040" y="380880"/>
            <a:ext cx="252468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{a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4816080" y="914400"/>
            <a:ext cx="222120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L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Τρόποι αποθήκευση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Λίστε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διατεταγμένη ακολουθία για την απλοποίηση των πράξεων συνόλω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απλή διαδικασία προσθήκης και διαγραφή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επιπλέον χώρος για τους δείκτε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Ακολουθιακοί πίνακε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διατεταγμένοι – μη διατεταγμένο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δεν χρειάζεται χώρος για δείκτε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Χαρακτηριστικό διάνυσμ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απλοποίηση των πράξεων συνόλω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απλοποίηση προσθήκης/διαγραφή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σταθερό μέγεθο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Τρόποι αποθήκευση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464400" y="1488960"/>
            <a:ext cx="182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{3,9,12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26" name=""/>
          <p:cNvGrpSpPr/>
          <p:nvPr/>
        </p:nvGrpSpPr>
        <p:grpSpPr>
          <a:xfrm>
            <a:off x="2819520" y="1447920"/>
            <a:ext cx="1066320" cy="533160"/>
            <a:chOff x="2819520" y="1447920"/>
            <a:chExt cx="1066320" cy="533160"/>
          </a:xfrm>
        </p:grpSpPr>
        <p:grpSp>
          <p:nvGrpSpPr>
            <p:cNvPr id="3527" name=""/>
            <p:cNvGrpSpPr/>
            <p:nvPr/>
          </p:nvGrpSpPr>
          <p:grpSpPr>
            <a:xfrm>
              <a:off x="2819520" y="1447920"/>
              <a:ext cx="533160" cy="533160"/>
              <a:chOff x="2819520" y="1447920"/>
              <a:chExt cx="533160" cy="533160"/>
            </a:xfrm>
          </p:grpSpPr>
          <p:sp>
            <p:nvSpPr>
              <p:cNvPr id="3528" name=""/>
              <p:cNvSpPr/>
              <p:nvPr/>
            </p:nvSpPr>
            <p:spPr>
              <a:xfrm>
                <a:off x="2819520" y="1447920"/>
                <a:ext cx="533160" cy="5331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2896560" y="144792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30" name=""/>
            <p:cNvSpPr/>
            <p:nvPr/>
          </p:nvSpPr>
          <p:spPr>
            <a:xfrm>
              <a:off x="3352680" y="1447920"/>
              <a:ext cx="533160" cy="533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31" name=""/>
          <p:cNvGrpSpPr/>
          <p:nvPr/>
        </p:nvGrpSpPr>
        <p:grpSpPr>
          <a:xfrm>
            <a:off x="4495680" y="1447920"/>
            <a:ext cx="1067040" cy="533160"/>
            <a:chOff x="4495680" y="1447920"/>
            <a:chExt cx="1067040" cy="533160"/>
          </a:xfrm>
        </p:grpSpPr>
        <p:grpSp>
          <p:nvGrpSpPr>
            <p:cNvPr id="3532" name=""/>
            <p:cNvGrpSpPr/>
            <p:nvPr/>
          </p:nvGrpSpPr>
          <p:grpSpPr>
            <a:xfrm>
              <a:off x="4495680" y="1447920"/>
              <a:ext cx="533520" cy="533160"/>
              <a:chOff x="4495680" y="1447920"/>
              <a:chExt cx="533520" cy="533160"/>
            </a:xfrm>
          </p:grpSpPr>
          <p:sp>
            <p:nvSpPr>
              <p:cNvPr id="3533" name=""/>
              <p:cNvSpPr/>
              <p:nvPr/>
            </p:nvSpPr>
            <p:spPr>
              <a:xfrm>
                <a:off x="4495680" y="1447920"/>
                <a:ext cx="533520" cy="5331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4573800" y="144792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35" name=""/>
            <p:cNvSpPr/>
            <p:nvPr/>
          </p:nvSpPr>
          <p:spPr>
            <a:xfrm>
              <a:off x="5029200" y="1447920"/>
              <a:ext cx="533520" cy="533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36" name=""/>
          <p:cNvGrpSpPr/>
          <p:nvPr/>
        </p:nvGrpSpPr>
        <p:grpSpPr>
          <a:xfrm>
            <a:off x="6172200" y="1447920"/>
            <a:ext cx="1066320" cy="533160"/>
            <a:chOff x="6172200" y="1447920"/>
            <a:chExt cx="1066320" cy="533160"/>
          </a:xfrm>
        </p:grpSpPr>
        <p:grpSp>
          <p:nvGrpSpPr>
            <p:cNvPr id="3537" name=""/>
            <p:cNvGrpSpPr/>
            <p:nvPr/>
          </p:nvGrpSpPr>
          <p:grpSpPr>
            <a:xfrm>
              <a:off x="6172200" y="1447920"/>
              <a:ext cx="533160" cy="533160"/>
              <a:chOff x="6172200" y="1447920"/>
              <a:chExt cx="533160" cy="533160"/>
            </a:xfrm>
          </p:grpSpPr>
          <p:sp>
            <p:nvSpPr>
              <p:cNvPr id="3538" name=""/>
              <p:cNvSpPr/>
              <p:nvPr/>
            </p:nvSpPr>
            <p:spPr>
              <a:xfrm>
                <a:off x="6172200" y="1447920"/>
                <a:ext cx="533160" cy="5331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6249600" y="144792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40" name=""/>
            <p:cNvSpPr/>
            <p:nvPr/>
          </p:nvSpPr>
          <p:spPr>
            <a:xfrm>
              <a:off x="6705360" y="1447920"/>
              <a:ext cx="533160" cy="533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41" name=""/>
          <p:cNvGrpSpPr/>
          <p:nvPr/>
        </p:nvGrpSpPr>
        <p:grpSpPr>
          <a:xfrm>
            <a:off x="7848720" y="1447920"/>
            <a:ext cx="1066320" cy="533160"/>
            <a:chOff x="7848720" y="1447920"/>
            <a:chExt cx="1066320" cy="533160"/>
          </a:xfrm>
        </p:grpSpPr>
        <p:grpSp>
          <p:nvGrpSpPr>
            <p:cNvPr id="3542" name=""/>
            <p:cNvGrpSpPr/>
            <p:nvPr/>
          </p:nvGrpSpPr>
          <p:grpSpPr>
            <a:xfrm>
              <a:off x="7848720" y="1447920"/>
              <a:ext cx="563040" cy="533160"/>
              <a:chOff x="7848720" y="1447920"/>
              <a:chExt cx="563040" cy="533160"/>
            </a:xfrm>
          </p:grpSpPr>
          <p:sp>
            <p:nvSpPr>
              <p:cNvPr id="3543" name=""/>
              <p:cNvSpPr/>
              <p:nvPr/>
            </p:nvSpPr>
            <p:spPr>
              <a:xfrm>
                <a:off x="7848720" y="1447920"/>
                <a:ext cx="533160" cy="5331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7926120" y="14479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45" name=""/>
            <p:cNvSpPr/>
            <p:nvPr/>
          </p:nvSpPr>
          <p:spPr>
            <a:xfrm>
              <a:off x="8381880" y="1447920"/>
              <a:ext cx="533160" cy="533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46" name=""/>
          <p:cNvSpPr/>
          <p:nvPr/>
        </p:nvSpPr>
        <p:spPr>
          <a:xfrm>
            <a:off x="3657600" y="175248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7" name=""/>
          <p:cNvSpPr/>
          <p:nvPr/>
        </p:nvSpPr>
        <p:spPr>
          <a:xfrm>
            <a:off x="5334120" y="175248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>
            <a:off x="7010280" y="1752480"/>
            <a:ext cx="838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>
            <a:off x="8444160" y="148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50" name=""/>
          <p:cNvGrpSpPr/>
          <p:nvPr/>
        </p:nvGrpSpPr>
        <p:grpSpPr>
          <a:xfrm>
            <a:off x="685800" y="2743200"/>
            <a:ext cx="1066320" cy="533520"/>
            <a:chOff x="685800" y="2743200"/>
            <a:chExt cx="1066320" cy="533520"/>
          </a:xfrm>
        </p:grpSpPr>
        <p:grpSp>
          <p:nvGrpSpPr>
            <p:cNvPr id="3551" name=""/>
            <p:cNvGrpSpPr/>
            <p:nvPr/>
          </p:nvGrpSpPr>
          <p:grpSpPr>
            <a:xfrm>
              <a:off x="685800" y="2743200"/>
              <a:ext cx="533160" cy="533520"/>
              <a:chOff x="685800" y="2743200"/>
              <a:chExt cx="533160" cy="533520"/>
            </a:xfrm>
          </p:grpSpPr>
          <p:sp>
            <p:nvSpPr>
              <p:cNvPr id="3552" name=""/>
              <p:cNvSpPr/>
              <p:nvPr/>
            </p:nvSpPr>
            <p:spPr>
              <a:xfrm>
                <a:off x="685800" y="2743200"/>
                <a:ext cx="533160" cy="53352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762840" y="274320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54" name=""/>
            <p:cNvSpPr/>
            <p:nvPr/>
          </p:nvSpPr>
          <p:spPr>
            <a:xfrm>
              <a:off x="1218960" y="2743200"/>
              <a:ext cx="533160" cy="5335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5" name=""/>
          <p:cNvSpPr/>
          <p:nvPr/>
        </p:nvSpPr>
        <p:spPr>
          <a:xfrm>
            <a:off x="1447920" y="304812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>
            <a:off x="2362320" y="3048120"/>
            <a:ext cx="0" cy="99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57" name=""/>
          <p:cNvGrpSpPr/>
          <p:nvPr/>
        </p:nvGrpSpPr>
        <p:grpSpPr>
          <a:xfrm>
            <a:off x="2133720" y="4038480"/>
            <a:ext cx="533160" cy="533520"/>
            <a:chOff x="2133720" y="4038480"/>
            <a:chExt cx="533160" cy="533520"/>
          </a:xfrm>
        </p:grpSpPr>
        <p:sp>
          <p:nvSpPr>
            <p:cNvPr id="3558" name=""/>
            <p:cNvSpPr/>
            <p:nvPr/>
          </p:nvSpPr>
          <p:spPr>
            <a:xfrm>
              <a:off x="2133720" y="4038480"/>
              <a:ext cx="533160" cy="5335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2211120" y="40384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60" name=""/>
          <p:cNvGrpSpPr/>
          <p:nvPr/>
        </p:nvGrpSpPr>
        <p:grpSpPr>
          <a:xfrm>
            <a:off x="2133720" y="4572000"/>
            <a:ext cx="533160" cy="533520"/>
            <a:chOff x="2133720" y="4572000"/>
            <a:chExt cx="533160" cy="533520"/>
          </a:xfrm>
        </p:grpSpPr>
        <p:sp>
          <p:nvSpPr>
            <p:cNvPr id="3561" name=""/>
            <p:cNvSpPr/>
            <p:nvPr/>
          </p:nvSpPr>
          <p:spPr>
            <a:xfrm>
              <a:off x="2133720" y="4572000"/>
              <a:ext cx="533160" cy="5335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2211120" y="45720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63" name=""/>
          <p:cNvGrpSpPr/>
          <p:nvPr/>
        </p:nvGrpSpPr>
        <p:grpSpPr>
          <a:xfrm>
            <a:off x="2133720" y="5105520"/>
            <a:ext cx="563400" cy="533160"/>
            <a:chOff x="2133720" y="5105520"/>
            <a:chExt cx="563400" cy="533160"/>
          </a:xfrm>
        </p:grpSpPr>
        <p:sp>
          <p:nvSpPr>
            <p:cNvPr id="3564" name=""/>
            <p:cNvSpPr/>
            <p:nvPr/>
          </p:nvSpPr>
          <p:spPr>
            <a:xfrm>
              <a:off x="2133720" y="5105520"/>
              <a:ext cx="533520" cy="533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2211480" y="5105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6" name=""/>
          <p:cNvSpPr/>
          <p:nvPr/>
        </p:nvSpPr>
        <p:spPr>
          <a:xfrm>
            <a:off x="3962520" y="2819520"/>
            <a:ext cx="2286000" cy="1295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3962520" y="4114800"/>
            <a:ext cx="2286000" cy="1295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3962520" y="541008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6248520" y="54100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3962520" y="5626080"/>
            <a:ext cx="2286000" cy="317520"/>
          </a:xfrm>
          <a:custGeom>
            <a:avLst/>
            <a:gdLst/>
            <a:ahLst/>
            <a:rect l="l" t="t" r="r" b="b"/>
            <a:pathLst>
              <a:path w="1440" h="200">
                <a:moveTo>
                  <a:pt x="0" y="8"/>
                </a:moveTo>
                <a:cubicBezTo>
                  <a:pt x="84" y="56"/>
                  <a:pt x="168" y="104"/>
                  <a:pt x="240" y="104"/>
                </a:cubicBezTo>
                <a:cubicBezTo>
                  <a:pt x="312" y="104"/>
                  <a:pt x="328" y="0"/>
                  <a:pt x="432" y="8"/>
                </a:cubicBezTo>
                <a:cubicBezTo>
                  <a:pt x="536" y="16"/>
                  <a:pt x="736" y="136"/>
                  <a:pt x="864" y="152"/>
                </a:cubicBezTo>
                <a:cubicBezTo>
                  <a:pt x="992" y="168"/>
                  <a:pt x="1104" y="96"/>
                  <a:pt x="1200" y="104"/>
                </a:cubicBezTo>
                <a:cubicBezTo>
                  <a:pt x="1296" y="112"/>
                  <a:pt x="1368" y="156"/>
                  <a:pt x="1440" y="20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>
            <a:off x="3962520" y="5854680"/>
            <a:ext cx="2286000" cy="317520"/>
          </a:xfrm>
          <a:custGeom>
            <a:avLst/>
            <a:gdLst/>
            <a:ahLst/>
            <a:rect l="l" t="t" r="r" b="b"/>
            <a:pathLst>
              <a:path w="1440" h="200">
                <a:moveTo>
                  <a:pt x="0" y="8"/>
                </a:moveTo>
                <a:cubicBezTo>
                  <a:pt x="84" y="56"/>
                  <a:pt x="168" y="104"/>
                  <a:pt x="240" y="104"/>
                </a:cubicBezTo>
                <a:cubicBezTo>
                  <a:pt x="312" y="104"/>
                  <a:pt x="328" y="0"/>
                  <a:pt x="432" y="8"/>
                </a:cubicBezTo>
                <a:cubicBezTo>
                  <a:pt x="536" y="16"/>
                  <a:pt x="736" y="136"/>
                  <a:pt x="864" y="152"/>
                </a:cubicBezTo>
                <a:cubicBezTo>
                  <a:pt x="992" y="168"/>
                  <a:pt x="1104" y="96"/>
                  <a:pt x="1200" y="104"/>
                </a:cubicBezTo>
                <a:cubicBezTo>
                  <a:pt x="1296" y="112"/>
                  <a:pt x="1368" y="156"/>
                  <a:pt x="1440" y="20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>
            <a:off x="6248520" y="617220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>
            <a:off x="3962520" y="5867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3962520" y="6400800"/>
            <a:ext cx="228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>
            <a:off x="4952880" y="2819520"/>
            <a:ext cx="0" cy="2590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>
            <a:off x="5181480" y="2819520"/>
            <a:ext cx="0" cy="2590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7" name=""/>
          <p:cNvSpPr/>
          <p:nvPr/>
        </p:nvSpPr>
        <p:spPr>
          <a:xfrm>
            <a:off x="3887640" y="243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>
            <a:off x="4122720" y="243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>
            <a:off x="4960800" y="24382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>
            <a:off x="6027480" y="243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3659040" y="2743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2" name=""/>
          <p:cNvSpPr/>
          <p:nvPr/>
        </p:nvSpPr>
        <p:spPr>
          <a:xfrm>
            <a:off x="3659040" y="2971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3" name=""/>
          <p:cNvSpPr/>
          <p:nvPr/>
        </p:nvSpPr>
        <p:spPr>
          <a:xfrm>
            <a:off x="3582720" y="37479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4" name=""/>
          <p:cNvSpPr/>
          <p:nvPr/>
        </p:nvSpPr>
        <p:spPr>
          <a:xfrm>
            <a:off x="3314160" y="41148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+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>
            <a:off x="3314160" y="43434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+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3468600" y="50292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>
            <a:off x="5181480" y="3479760"/>
            <a:ext cx="2133720" cy="939960"/>
          </a:xfrm>
          <a:custGeom>
            <a:avLst/>
            <a:gdLst/>
            <a:ahLst/>
            <a:rect l="l" t="t" r="r" b="b"/>
            <a:pathLst>
              <a:path w="1344" h="592">
                <a:moveTo>
                  <a:pt x="1344" y="592"/>
                </a:moveTo>
                <a:cubicBezTo>
                  <a:pt x="1264" y="360"/>
                  <a:pt x="1184" y="128"/>
                  <a:pt x="1008" y="64"/>
                </a:cubicBezTo>
                <a:cubicBezTo>
                  <a:pt x="832" y="0"/>
                  <a:pt x="456" y="216"/>
                  <a:pt x="288" y="208"/>
                </a:cubicBezTo>
                <a:cubicBezTo>
                  <a:pt x="120" y="200"/>
                  <a:pt x="60" y="108"/>
                  <a:pt x="0" y="1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>
            <a:off x="7315200" y="2438280"/>
            <a:ext cx="4572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9" name=""/>
          <p:cNvSpPr/>
          <p:nvPr/>
        </p:nvSpPr>
        <p:spPr>
          <a:xfrm>
            <a:off x="7399080" y="2467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>
            <a:off x="7399080" y="2771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>
            <a:off x="7392960" y="3076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>
            <a:off x="7392960" y="3367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3" name=""/>
          <p:cNvSpPr/>
          <p:nvPr/>
        </p:nvSpPr>
        <p:spPr>
          <a:xfrm>
            <a:off x="7780320" y="2467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4" name=""/>
          <p:cNvSpPr/>
          <p:nvPr/>
        </p:nvSpPr>
        <p:spPr>
          <a:xfrm>
            <a:off x="7780320" y="2771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>
            <a:off x="7773840" y="3076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6" name=""/>
          <p:cNvSpPr/>
          <p:nvPr/>
        </p:nvSpPr>
        <p:spPr>
          <a:xfrm>
            <a:off x="7773840" y="3367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7" name=""/>
          <p:cNvSpPr/>
          <p:nvPr/>
        </p:nvSpPr>
        <p:spPr>
          <a:xfrm>
            <a:off x="7399080" y="3838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8" name=""/>
          <p:cNvSpPr/>
          <p:nvPr/>
        </p:nvSpPr>
        <p:spPr>
          <a:xfrm>
            <a:off x="7399080" y="4143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9" name=""/>
          <p:cNvSpPr/>
          <p:nvPr/>
        </p:nvSpPr>
        <p:spPr>
          <a:xfrm>
            <a:off x="7392960" y="4448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0" name=""/>
          <p:cNvSpPr/>
          <p:nvPr/>
        </p:nvSpPr>
        <p:spPr>
          <a:xfrm>
            <a:off x="7392960" y="4738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1" name=""/>
          <p:cNvSpPr/>
          <p:nvPr/>
        </p:nvSpPr>
        <p:spPr>
          <a:xfrm>
            <a:off x="7780320" y="3838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>
            <a:off x="7780320" y="4143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3" name=""/>
          <p:cNvSpPr/>
          <p:nvPr/>
        </p:nvSpPr>
        <p:spPr>
          <a:xfrm>
            <a:off x="7774200" y="4448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>
            <a:off x="7774200" y="4738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>
            <a:off x="7392960" y="5043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>
            <a:off x="777420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7392960" y="5348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>
            <a:off x="7774200" y="5348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9" name=""/>
          <p:cNvSpPr/>
          <p:nvPr/>
        </p:nvSpPr>
        <p:spPr>
          <a:xfrm>
            <a:off x="7392960" y="5881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0" name=""/>
          <p:cNvSpPr/>
          <p:nvPr/>
        </p:nvSpPr>
        <p:spPr>
          <a:xfrm>
            <a:off x="7773840" y="58816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"/>
          <p:cNvGrpSpPr/>
          <p:nvPr/>
        </p:nvGrpSpPr>
        <p:grpSpPr>
          <a:xfrm>
            <a:off x="457200" y="2514240"/>
            <a:ext cx="2286000" cy="1676520"/>
            <a:chOff x="457200" y="2514240"/>
            <a:chExt cx="2286000" cy="1676520"/>
          </a:xfrm>
        </p:grpSpPr>
        <p:sp>
          <p:nvSpPr>
            <p:cNvPr id="794" name=""/>
            <p:cNvSpPr/>
            <p:nvPr/>
          </p:nvSpPr>
          <p:spPr>
            <a:xfrm>
              <a:off x="457200" y="25146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457200" y="2513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1143000" y="41907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1143000" y="25146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143000" y="25146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90920" y="32763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3352680" y="3047760"/>
            <a:ext cx="2286000" cy="1676520"/>
            <a:chOff x="3352680" y="3047760"/>
            <a:chExt cx="2286000" cy="1676520"/>
          </a:xfrm>
        </p:grpSpPr>
        <p:sp>
          <p:nvSpPr>
            <p:cNvPr id="801" name=""/>
            <p:cNvSpPr/>
            <p:nvPr/>
          </p:nvSpPr>
          <p:spPr>
            <a:xfrm>
              <a:off x="3352680" y="30481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3352680" y="30474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4038480" y="47242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4038480" y="30481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038480" y="30481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486400" y="38098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6172200" y="1142640"/>
            <a:ext cx="2286000" cy="1676520"/>
            <a:chOff x="6172200" y="1142640"/>
            <a:chExt cx="2286000" cy="1676520"/>
          </a:xfrm>
        </p:grpSpPr>
        <p:sp>
          <p:nvSpPr>
            <p:cNvPr id="808" name=""/>
            <p:cNvSpPr/>
            <p:nvPr/>
          </p:nvSpPr>
          <p:spPr>
            <a:xfrm>
              <a:off x="6172200" y="11430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6172200" y="11419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6858000" y="28191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6858000" y="11430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858000" y="11430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305920" y="19047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6172200" y="4495320"/>
            <a:ext cx="2286000" cy="1676520"/>
            <a:chOff x="6172200" y="4495320"/>
            <a:chExt cx="2286000" cy="1676520"/>
          </a:xfrm>
        </p:grpSpPr>
        <p:sp>
          <p:nvSpPr>
            <p:cNvPr id="815" name=""/>
            <p:cNvSpPr/>
            <p:nvPr/>
          </p:nvSpPr>
          <p:spPr>
            <a:xfrm>
              <a:off x="6172200" y="44956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6172200" y="449496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6858000" y="61718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858000" y="44956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858000" y="44956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305920" y="52574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3352680" y="5028840"/>
            <a:ext cx="2286000" cy="1676520"/>
            <a:chOff x="3352680" y="5028840"/>
            <a:chExt cx="2286000" cy="1676520"/>
          </a:xfrm>
        </p:grpSpPr>
        <p:sp>
          <p:nvSpPr>
            <p:cNvPr id="822" name=""/>
            <p:cNvSpPr/>
            <p:nvPr/>
          </p:nvSpPr>
          <p:spPr>
            <a:xfrm>
              <a:off x="3352680" y="50292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3352680" y="5028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4038480" y="67053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4038480" y="50292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038480" y="50292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486400" y="57909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457200" y="609120"/>
            <a:ext cx="2286000" cy="1676520"/>
            <a:chOff x="457200" y="609120"/>
            <a:chExt cx="2286000" cy="1676520"/>
          </a:xfrm>
        </p:grpSpPr>
        <p:sp>
          <p:nvSpPr>
            <p:cNvPr id="829" name=""/>
            <p:cNvSpPr/>
            <p:nvPr/>
          </p:nvSpPr>
          <p:spPr>
            <a:xfrm>
              <a:off x="457200" y="609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457200" y="6084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1143000" y="22856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1143000" y="6094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143000" y="6094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590920" y="13712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5" name=""/>
          <p:cNvSpPr/>
          <p:nvPr/>
        </p:nvSpPr>
        <p:spPr>
          <a:xfrm>
            <a:off x="2743200" y="1447920"/>
            <a:ext cx="4114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638680" y="586728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743200" y="335268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458200" y="1981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8458200" y="53341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6552720" y="25146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6552720" y="48006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553080" y="2514600"/>
            <a:ext cx="0" cy="228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638680" y="38862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609480" y="19810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609480" y="38862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H="1">
            <a:off x="914040" y="28195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914400" y="1980720"/>
            <a:ext cx="0" cy="838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838080" y="19051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609120" y="44197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609120" y="640080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3276720" y="525780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200400" y="32767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3276720" y="335268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51000" y="42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66840" y="148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510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5100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51000" y="594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125880" y="990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820960" y="2895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869080" y="3429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945040" y="5410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8612280" y="1523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861228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194000" y="2682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1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93600" y="914400"/>
            <a:ext cx="1506600" cy="459720"/>
            <a:chOff x="93600" y="914400"/>
            <a:chExt cx="1506600" cy="459720"/>
          </a:xfrm>
        </p:grpSpPr>
        <p:sp>
          <p:nvSpPr>
            <p:cNvPr id="867" name=""/>
            <p:cNvSpPr/>
            <p:nvPr/>
          </p:nvSpPr>
          <p:spPr>
            <a:xfrm flipH="1">
              <a:off x="609480" y="914400"/>
              <a:ext cx="533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05120" y="91440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86000" y="91440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67240" y="91440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248120" y="91440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219320" y="91440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38080" y="914400"/>
              <a:ext cx="38124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57200" y="91440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93600" y="914400"/>
              <a:ext cx="38124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76320" y="1981080"/>
            <a:ext cx="1505880" cy="459720"/>
            <a:chOff x="76320" y="1981080"/>
            <a:chExt cx="1505880" cy="459720"/>
          </a:xfrm>
        </p:grpSpPr>
        <p:sp>
          <p:nvSpPr>
            <p:cNvPr id="877" name=""/>
            <p:cNvSpPr/>
            <p:nvPr/>
          </p:nvSpPr>
          <p:spPr>
            <a:xfrm flipH="1">
              <a:off x="591480" y="1981080"/>
              <a:ext cx="533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7480" y="19810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68360" y="19810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49240" y="19810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230480" y="19810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201680" y="1981080"/>
              <a:ext cx="38052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20440" y="198108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39560" y="1981080"/>
              <a:ext cx="38052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6320" y="198108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3751200" y="990720"/>
            <a:ext cx="1506600" cy="459720"/>
            <a:chOff x="3751200" y="990720"/>
            <a:chExt cx="1506600" cy="459720"/>
          </a:xfrm>
        </p:grpSpPr>
        <p:sp>
          <p:nvSpPr>
            <p:cNvPr id="887" name=""/>
            <p:cNvSpPr/>
            <p:nvPr/>
          </p:nvSpPr>
          <p:spPr>
            <a:xfrm flipH="1">
              <a:off x="4267080" y="990720"/>
              <a:ext cx="533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762720" y="99072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43600" y="99072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524840" y="99072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905720" y="99072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876920" y="99072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495680" y="990720"/>
              <a:ext cx="38124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114800" y="99072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751200" y="990720"/>
              <a:ext cx="38124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5396040" y="9558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3733920" y="1523880"/>
            <a:ext cx="1505880" cy="459720"/>
            <a:chOff x="3733920" y="1523880"/>
            <a:chExt cx="1505880" cy="459720"/>
          </a:xfrm>
        </p:grpSpPr>
        <p:sp>
          <p:nvSpPr>
            <p:cNvPr id="898" name=""/>
            <p:cNvSpPr/>
            <p:nvPr/>
          </p:nvSpPr>
          <p:spPr>
            <a:xfrm flipH="1">
              <a:off x="4249080" y="1523880"/>
              <a:ext cx="533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745080" y="15238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125960" y="15238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506840" y="15238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888080" y="152388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859280" y="1523880"/>
              <a:ext cx="38052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478040" y="152388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097160" y="1523880"/>
              <a:ext cx="38052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733920" y="152388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5378040" y="14889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3733920" y="2057400"/>
            <a:ext cx="1505880" cy="459720"/>
            <a:chOff x="3733920" y="2057400"/>
            <a:chExt cx="1505880" cy="459720"/>
          </a:xfrm>
        </p:grpSpPr>
        <p:sp>
          <p:nvSpPr>
            <p:cNvPr id="909" name=""/>
            <p:cNvSpPr/>
            <p:nvPr/>
          </p:nvSpPr>
          <p:spPr>
            <a:xfrm flipH="1">
              <a:off x="4249080" y="2057400"/>
              <a:ext cx="533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45080" y="205740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125960" y="205740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506840" y="205740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888080" y="205740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859280" y="2057400"/>
              <a:ext cx="38052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478040" y="205740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097160" y="2057400"/>
              <a:ext cx="38052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733920" y="205740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8" name=""/>
          <p:cNvSpPr/>
          <p:nvPr/>
        </p:nvSpPr>
        <p:spPr>
          <a:xfrm>
            <a:off x="5378760" y="2022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9" name=""/>
          <p:cNvGrpSpPr/>
          <p:nvPr/>
        </p:nvGrpSpPr>
        <p:grpSpPr>
          <a:xfrm>
            <a:off x="3733920" y="2590920"/>
            <a:ext cx="1505880" cy="459720"/>
            <a:chOff x="3733920" y="2590920"/>
            <a:chExt cx="1505880" cy="459720"/>
          </a:xfrm>
        </p:grpSpPr>
        <p:sp>
          <p:nvSpPr>
            <p:cNvPr id="920" name=""/>
            <p:cNvSpPr/>
            <p:nvPr/>
          </p:nvSpPr>
          <p:spPr>
            <a:xfrm flipH="1">
              <a:off x="4249080" y="2590920"/>
              <a:ext cx="533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745080" y="259092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125960" y="259092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506840" y="259092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88080" y="2590920"/>
              <a:ext cx="349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859280" y="2590920"/>
              <a:ext cx="38052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478040" y="259092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097160" y="2590920"/>
              <a:ext cx="38052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733920" y="2590920"/>
              <a:ext cx="380880" cy="385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9" name=""/>
          <p:cNvSpPr/>
          <p:nvPr/>
        </p:nvSpPr>
        <p:spPr>
          <a:xfrm>
            <a:off x="5378400" y="2556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693840" y="316548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Νέες τιμέ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 flipV="1">
            <a:off x="5334120" y="2971800"/>
            <a:ext cx="137160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22:04:18Z</dcterms:created>
  <dc:creator> </dc:creator>
  <dc:description/>
  <dc:language>en-US</dc:language>
  <cp:lastModifiedBy>georges</cp:lastModifiedBy>
  <dcterms:modified xsi:type="dcterms:W3CDTF">2005-11-01T10:11:25Z</dcterms:modified>
  <cp:revision>218</cp:revision>
  <dc:subject/>
  <dc:title>PowerPoint Presentation</dc:title>
</cp:coreProperties>
</file>