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</a:t>
            </a:r>
            <a:fld id="{055217B7-7959-44D2-8630-F99E283D1D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ult grad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οσοστό σφαλμάτων που καλύπτοντα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ct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οσοστό αστοχιών που καλύπτοντα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 = 1 – Y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-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 :  defect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  :  y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  : 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Επιλογή διανυσμάτων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με προσομοίωση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720" y="1828800"/>
            <a:ext cx="28659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χικά διανύσματ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00720" y="3162240"/>
            <a:ext cx="22489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coverag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0" y="4533840"/>
            <a:ext cx="1512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αρκού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8800" y="5486400"/>
            <a:ext cx="23662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τατροπή του 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3623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6576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666520" y="4724280"/>
            <a:ext cx="12193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1800" y="4648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χ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6019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838080" y="64008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38080" y="27432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7432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4724280"/>
            <a:ext cx="129528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06600" y="453708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Ν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69400" y="5295960"/>
            <a:ext cx="9151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έλ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Διανύσματα κατευθυνόμενα από προσομοίωση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4800" y="1714680"/>
            <a:ext cx="3618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λογή σφάλματος-στόχ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4760" y="2873520"/>
            <a:ext cx="26679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ημιουργία ελέγχου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ο σφάλ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41840" y="4457880"/>
            <a:ext cx="33872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σομοίωση σφάλ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85720" y="5676840"/>
            <a:ext cx="43520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λοιφή ηλεγμένων σφαλ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2193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7339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9528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61722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676160" y="632448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676520" y="1523520"/>
            <a:ext cx="0" cy="480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52388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1981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88360" y="1717560"/>
            <a:ext cx="9151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έλ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ult dictionari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οθηκεύουμε τις αποκρίσεις όλων των σφαλμάτων για κάθε διάνυσμα της ακολουθίας ελέγχο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Χρησιμοποιούμε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 dictionary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για να αναγνωρίσουμε το σφάλ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Το κύκλωμα με σφάλματ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βλήματα χρονισμού που δεν υπάρχουν στο κανονικό 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αρουσία ταλαντώσε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σοδος σε απαγορευμένες καταστάσει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η κανονική αρχικοποίηση του κυκλώματ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 σφάλμα μπορεί να μετατρέψει ένα συνδυαστικό κύκλωμα σε ακολουθιακό ή ένα σύγχρονο σε ασύγχρον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ροσομοίωση σφαλ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ρισμός σφαλ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ρισμός του συνόλου των σφαλμάτων και αναγωγή τους σε κλάσεις ισοδυναμί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ισαγωγή σφαλ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πιλογή των σφαλμάτων για προσομοίωση και περιγραφή τους στις δομές δεδομένων του προσομοιωτ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σομοίωση της επίδρασης των σφαλμάτων στο 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αγνώριση των σφαλ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λληλη προσομοί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743200"/>
            <a:ext cx="76176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743200"/>
            <a:ext cx="76176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7432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3505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2040" y="2743200"/>
            <a:ext cx="444600" cy="762120"/>
          </a:xfrm>
          <a:custGeom>
            <a:avLst/>
            <a:gdLst/>
            <a:ahLst/>
            <a:rect l="l" t="t" r="r" b="b"/>
            <a:pathLst>
              <a:path w="280" h="480">
                <a:moveTo>
                  <a:pt x="160" y="480"/>
                </a:moveTo>
                <a:cubicBezTo>
                  <a:pt x="80" y="440"/>
                  <a:pt x="0" y="400"/>
                  <a:pt x="16" y="336"/>
                </a:cubicBezTo>
                <a:cubicBezTo>
                  <a:pt x="32" y="272"/>
                  <a:pt x="232" y="152"/>
                  <a:pt x="256" y="96"/>
                </a:cubicBezTo>
                <a:cubicBezTo>
                  <a:pt x="280" y="40"/>
                  <a:pt x="220" y="20"/>
                  <a:pt x="16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743200"/>
            <a:ext cx="444600" cy="762120"/>
          </a:xfrm>
          <a:custGeom>
            <a:avLst/>
            <a:gdLst/>
            <a:ahLst/>
            <a:rect l="l" t="t" r="r" b="b"/>
            <a:pathLst>
              <a:path w="280" h="480">
                <a:moveTo>
                  <a:pt x="160" y="480"/>
                </a:moveTo>
                <a:cubicBezTo>
                  <a:pt x="80" y="440"/>
                  <a:pt x="0" y="400"/>
                  <a:pt x="16" y="336"/>
                </a:cubicBezTo>
                <a:cubicBezTo>
                  <a:pt x="32" y="272"/>
                  <a:pt x="232" y="152"/>
                  <a:pt x="256" y="96"/>
                </a:cubicBezTo>
                <a:cubicBezTo>
                  <a:pt x="280" y="40"/>
                  <a:pt x="220" y="20"/>
                  <a:pt x="16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7432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505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λληλη προσομοί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2743200"/>
            <a:ext cx="76212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2743200"/>
            <a:ext cx="76176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743200"/>
            <a:ext cx="761760" cy="762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27432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505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2040" y="2743200"/>
            <a:ext cx="444600" cy="762120"/>
          </a:xfrm>
          <a:custGeom>
            <a:avLst/>
            <a:gdLst/>
            <a:ahLst/>
            <a:rect l="l" t="t" r="r" b="b"/>
            <a:pathLst>
              <a:path w="280" h="480">
                <a:moveTo>
                  <a:pt x="160" y="480"/>
                </a:moveTo>
                <a:cubicBezTo>
                  <a:pt x="80" y="440"/>
                  <a:pt x="0" y="400"/>
                  <a:pt x="16" y="336"/>
                </a:cubicBezTo>
                <a:cubicBezTo>
                  <a:pt x="32" y="272"/>
                  <a:pt x="232" y="152"/>
                  <a:pt x="256" y="96"/>
                </a:cubicBezTo>
                <a:cubicBezTo>
                  <a:pt x="280" y="40"/>
                  <a:pt x="220" y="20"/>
                  <a:pt x="16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743200"/>
            <a:ext cx="444600" cy="762120"/>
          </a:xfrm>
          <a:custGeom>
            <a:avLst/>
            <a:gdLst/>
            <a:ahLst/>
            <a:rect l="l" t="t" r="r" b="b"/>
            <a:pathLst>
              <a:path w="280" h="480">
                <a:moveTo>
                  <a:pt x="160" y="480"/>
                </a:moveTo>
                <a:cubicBezTo>
                  <a:pt x="80" y="440"/>
                  <a:pt x="0" y="400"/>
                  <a:pt x="16" y="336"/>
                </a:cubicBezTo>
                <a:cubicBezTo>
                  <a:pt x="32" y="272"/>
                  <a:pt x="232" y="152"/>
                  <a:pt x="256" y="96"/>
                </a:cubicBezTo>
                <a:cubicBezTo>
                  <a:pt x="280" y="40"/>
                  <a:pt x="220" y="20"/>
                  <a:pt x="16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7432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505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836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040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182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5652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4008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96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584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001000" y="35049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81480" y="3505320"/>
            <a:ext cx="198144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219320" y="3505320"/>
            <a:ext cx="396216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81480" y="3505320"/>
            <a:ext cx="121932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057400" y="3505320"/>
            <a:ext cx="312408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181480" y="3505320"/>
            <a:ext cx="45720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819160" y="3505320"/>
            <a:ext cx="236196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00800" y="4156200"/>
            <a:ext cx="13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ύκλωμα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ωρίς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φάλ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9120" y="550224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υκλώματα με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φάλ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eorges</cp:lastModifiedBy>
  <dcterms:modified xsi:type="dcterms:W3CDTF">2005-10-09T19:46:53Z</dcterms:modified>
  <cp:revision>192</cp:revision>
  <dc:subject/>
  <dc:title>PowerPoint Presentation</dc:title>
</cp:coreProperties>
</file>