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8A4794ED-E157-46B1-8B2C-43EEB5747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κφράσεις πυλ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" y="1881360"/>
            <a:ext cx="6161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D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40" y="2590920"/>
            <a:ext cx="6376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  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000" y="3322800"/>
            <a:ext cx="40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40" y="4038480"/>
            <a:ext cx="618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     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520" y="4800600"/>
            <a:ext cx="644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 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5537160"/>
            <a:ext cx="8035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88720" y="1679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288360" y="1675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93024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93024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4900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900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63960" y="2514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00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484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0240" y="16765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1320" y="24382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3720" y="2514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9916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9320" y="2057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1440" y="24382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89320" y="25146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89320" y="20574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0080" y="190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912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43434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9120" y="385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51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8862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42670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295280" y="43434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8862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9120" y="5715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5715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9120" y="522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4760" y="499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52578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6386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295280" y="57150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2578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3400" y="41911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3400" y="41904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03812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038120" y="4191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1911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52320" y="4648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52320" y="5410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02920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2400" y="438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9528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341960"/>
            <a:ext cx="0" cy="30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410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0960" y="2782800"/>
            <a:ext cx="28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ίναι τα κυκλώ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ισοδύναμα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88720" y="1679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-288360" y="1675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93024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93024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4900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4900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63960" y="2514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900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4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0240" y="16765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11320" y="24382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2514600"/>
            <a:ext cx="68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9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89320" y="2057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1440" y="24382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89320" y="25146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9320" y="20574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0080" y="190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0912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43434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9120" y="385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051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8862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2670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95280" y="43434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38862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120" y="5715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715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9120" y="522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04760" y="499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2578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86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57150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2578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3400" y="41911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53400" y="41904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03812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38120" y="4191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41911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352320" y="4648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352320" y="5410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400" y="438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9528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341960"/>
            <a:ext cx="0" cy="30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5410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840" y="29750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81840" y="29707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400800" y="4648320"/>
            <a:ext cx="380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400800" y="2971800"/>
            <a:ext cx="380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90960" y="34290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790960" y="419112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3809880"/>
            <a:ext cx="3049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28320" y="308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29718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9718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1460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1911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38680" y="50292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1200" y="2900520"/>
            <a:ext cx="7622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7621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1200" y="2900520"/>
            <a:ext cx="76222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37160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1200" y="2900520"/>
            <a:ext cx="7622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1200" y="2900520"/>
            <a:ext cx="762228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752480"/>
            <a:ext cx="1523880" cy="15242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1200" y="2900520"/>
            <a:ext cx="76222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9907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1200" y="2900520"/>
            <a:ext cx="76222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1200" y="2900520"/>
            <a:ext cx="76226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1143000" y="2362320"/>
            <a:ext cx="274320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21840" y="3546360"/>
            <a:ext cx="13176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51200" y="2900520"/>
            <a:ext cx="76226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014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51200" y="2900520"/>
            <a:ext cx="76226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0968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143000" y="2666880"/>
            <a:ext cx="27432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26520" y="3546360"/>
            <a:ext cx="2413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ρισμός  το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N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¬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1560" y="2900520"/>
            <a:ext cx="76219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 =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¬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76320"/>
            <a:ext cx="1523880" cy="15238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01760" cy="674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700960" y="3697200"/>
            <a:ext cx="28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α κυκλώματα είν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ισοδύναμα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οντέλα σφαλμάτ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ογα με το είδ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φυσικά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ογικά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ογα με την επίδρα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ογικά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σφάλματα καθυστέρηση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ογα με την περιγραφ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οντέλα σφαλμάτ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ογα με την περιγραφ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ομικά σφα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ε μια δομική περιγραφή του κυκλώματο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ειτουργικά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ε μια λειτουργική περιγραφή του κυκλώματο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ογα με τη διάρκει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όνιμα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αροδικά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Θεωρούμε ότι μπορεί να υπάρχει μόνο ένα σφάλμα σε ένα κύκλω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οντέλα λογικών σφαλμάτ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ραχυκύκλω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οιχτοκύκλω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ck-at-value (0,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838080"/>
            <a:ext cx="990720" cy="99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838080"/>
            <a:ext cx="990720" cy="99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1371600"/>
            <a:ext cx="350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97440" y="72540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οιχτοκύκλω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2362320"/>
            <a:ext cx="990720" cy="99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2362320"/>
            <a:ext cx="990720" cy="99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895480"/>
            <a:ext cx="350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7480" y="358128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οιχτοκύκλω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3733920"/>
            <a:ext cx="990720" cy="99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5105520"/>
            <a:ext cx="990720" cy="99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114440" y="563868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365724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2895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114440" y="426708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19680" y="23256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άξον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31160" y="236052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ιακλάδ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20968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752120" y="2666880"/>
            <a:ext cx="21337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5080" y="3546360"/>
            <a:ext cx="27302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ιθμός μεταβλητ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ρικά εισαγωγικά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στω κύκλωμα 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στω ένα διάνυσμα εισόδ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(x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λογική συνάρτηση του κυκλώματ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ρισμός 1: Ένα διάνυσμα εισόδ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αγνωρίζει ένα σφάλμα ότα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≠Z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2960" y="20574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062960" y="20563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747680" y="3733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747680" y="20574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48040" y="20574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61880" y="2514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061880" y="3276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9596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97880" y="225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55040" y="4267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055040" y="4266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739760" y="5943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73976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40120" y="4267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053960" y="4724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053960" y="5486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88040" y="5105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89960" y="44607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32767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142640" y="25146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142640" y="54864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142640" y="396252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7496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74960" y="35053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74960" y="5029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62960" y="20574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62960" y="20563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747680" y="3733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747680" y="20574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48040" y="20574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61880" y="2514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061880" y="3276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9596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97880" y="225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5040" y="4267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055040" y="4266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739760" y="5943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73976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40120" y="4267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053960" y="4724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53960" y="5486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88040" y="5105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89960" y="44607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2767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142640" y="25146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142640" y="54864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142640" y="396252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7496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74960" y="35053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74960" y="5029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2590920"/>
            <a:ext cx="380880" cy="1295280"/>
          </a:xfrm>
          <a:custGeom>
            <a:avLst/>
            <a:gdLst/>
            <a:ahLst/>
            <a:rect l="l" t="t" r="r" b="b"/>
            <a:pathLst>
              <a:path w="240" h="816">
                <a:moveTo>
                  <a:pt x="0" y="0"/>
                </a:moveTo>
                <a:cubicBezTo>
                  <a:pt x="120" y="100"/>
                  <a:pt x="240" y="200"/>
                  <a:pt x="240" y="336"/>
                </a:cubicBezTo>
                <a:cubicBezTo>
                  <a:pt x="240" y="472"/>
                  <a:pt x="120" y="644"/>
                  <a:pt x="0" y="81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72680" y="2936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62960" y="20574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062960" y="20563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747680" y="3733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747680" y="20574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48040" y="20574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061880" y="2514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061880" y="3276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596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10480" y="2251080"/>
            <a:ext cx="110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5040" y="4267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055040" y="4266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739760" y="5943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73976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0120" y="4267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053960" y="4724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053960" y="5486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88040" y="5105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02560" y="4460760"/>
            <a:ext cx="110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32767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142640" y="25146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142640" y="54864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42640" y="396252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7496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74960" y="35053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4960" y="5029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590920"/>
            <a:ext cx="380880" cy="1295280"/>
          </a:xfrm>
          <a:custGeom>
            <a:avLst/>
            <a:gdLst/>
            <a:ahLst/>
            <a:rect l="l" t="t" r="r" b="b"/>
            <a:pathLst>
              <a:path w="240" h="816">
                <a:moveTo>
                  <a:pt x="0" y="0"/>
                </a:moveTo>
                <a:cubicBezTo>
                  <a:pt x="120" y="100"/>
                  <a:pt x="240" y="200"/>
                  <a:pt x="240" y="336"/>
                </a:cubicBezTo>
                <a:cubicBezTo>
                  <a:pt x="240" y="472"/>
                  <a:pt x="120" y="644"/>
                  <a:pt x="0" y="81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72680" y="2936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14440" y="3124080"/>
            <a:ext cx="13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12640" y="5334120"/>
            <a:ext cx="178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2960" y="20574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062960" y="20563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747680" y="3733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747680" y="20574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48040" y="20574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061880" y="2514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061880" y="3276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9596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10480" y="2251080"/>
            <a:ext cx="110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55040" y="4267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055040" y="4266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739760" y="5943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73976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40120" y="4267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053960" y="4724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053960" y="5486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88040" y="5105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2560" y="4460760"/>
            <a:ext cx="110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38480" y="32767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142640" y="25146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142640" y="548640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142640" y="396252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7496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74960" y="35053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74960" y="5029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2590920"/>
            <a:ext cx="380880" cy="1295280"/>
          </a:xfrm>
          <a:custGeom>
            <a:avLst/>
            <a:gdLst/>
            <a:ahLst/>
            <a:rect l="l" t="t" r="r" b="b"/>
            <a:pathLst>
              <a:path w="240" h="816">
                <a:moveTo>
                  <a:pt x="0" y="0"/>
                </a:moveTo>
                <a:cubicBezTo>
                  <a:pt x="120" y="100"/>
                  <a:pt x="240" y="200"/>
                  <a:pt x="240" y="336"/>
                </a:cubicBezTo>
                <a:cubicBezTo>
                  <a:pt x="240" y="472"/>
                  <a:pt x="120" y="644"/>
                  <a:pt x="0" y="81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72680" y="2936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14440" y="3124080"/>
            <a:ext cx="13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12640" y="5334120"/>
            <a:ext cx="178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1476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306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306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223560" y="1028880"/>
            <a:ext cx="3199680" cy="167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-223200" y="10245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995400" y="270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995400" y="102564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14160" y="14828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14160" y="2244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6480" y="1828800"/>
            <a:ext cx="223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0640" y="990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80440" y="1371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95400" y="102564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2362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971800" y="2361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657600" y="4038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65760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2362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200400" y="2819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09120" y="358128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7840" y="25909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4648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971800" y="4647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657600" y="6324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6576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57600" y="4648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971440" y="510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09120" y="586728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5486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56680" y="4613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05440" y="487692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24640" y="35845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724640" y="35809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943600" y="35812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562360" y="4038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62360" y="4800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24680" y="4419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32960" y="3962520"/>
            <a:ext cx="84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35812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562720" y="48002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62720" y="32004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600200" y="5105520"/>
            <a:ext cx="473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73240" y="4648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35360" y="50292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07324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73240" y="46483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00400" y="1828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600200" y="35812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800" y="1752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800" y="3048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800" y="5334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760" y="6058080"/>
            <a:ext cx="7920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58672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132" y="264"/>
                  <a:pt x="264" y="240"/>
                  <a:pt x="336" y="192"/>
                </a:cubicBezTo>
                <a:cubicBezTo>
                  <a:pt x="408" y="144"/>
                  <a:pt x="420" y="72"/>
                  <a:pt x="43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724280" cy="3192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445200" y="3699000"/>
            <a:ext cx="2699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 =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724280" cy="31924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3445200" y="3699000"/>
            <a:ext cx="2699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 =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6560" y="5562720"/>
            <a:ext cx="239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ρικοί ορισμοί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νεργοποίηση: η οδήγηση ενός κόμβου σε τιμή αντίθετη από αυτή που του δίνει το σφάλ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ώθηση: η μεταφορά της αντίθετης τιμής από τον κόμβο του σφάλματος σε μια ή περισσότερες από τις εξόδους του κυκλώματ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υαισθητοποίηση: η τιμή ενός κόμβου είναι αντίθετη από αυτή που θα είχε χωρίς την παρουσία του σφάλματ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... και άλλοι ορισμοί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 σφάλμα ονομάζεται αναγνωρίσιμο εάν υπάρχει κάποιο διάνυσμα εισόδου που να το αναγνωρίζε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3880" y="40384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33880" y="40381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219320" y="5715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219320" y="4038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4038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3160" y="4495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33160" y="5257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3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90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73240" y="42321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48006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68520" y="43434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4320" y="4038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494320" y="4038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180120" y="5715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180120" y="4038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80120" y="4038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493960" y="4495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493960" y="5257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78032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039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98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34040" y="42321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8040" y="48006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32968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200" y="5486400"/>
            <a:ext cx="7920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97320" y="529596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288"/>
                </a:moveTo>
                <a:cubicBezTo>
                  <a:pt x="132" y="264"/>
                  <a:pt x="264" y="240"/>
                  <a:pt x="336" y="192"/>
                </a:cubicBezTo>
                <a:cubicBezTo>
                  <a:pt x="408" y="144"/>
                  <a:pt x="420" y="72"/>
                  <a:pt x="43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20968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285640" y="2666880"/>
            <a:ext cx="16002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3640" y="3546360"/>
            <a:ext cx="2116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ιθμό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78520" y="102564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78520" y="102456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063960" y="270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063960" y="102564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63960" y="102564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04920" y="1447920"/>
            <a:ext cx="27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04920" y="2286000"/>
            <a:ext cx="27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11520" y="1828800"/>
            <a:ext cx="974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78520" y="2971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378520" y="29707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04812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06396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63960" y="2971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3778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80520" y="4191120"/>
            <a:ext cx="268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11520" y="3809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24160" y="49118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24160" y="4911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909960" y="6588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909960" y="491184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09960" y="491184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285640" y="5334120"/>
            <a:ext cx="1623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223800" y="61722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57880" y="5791320"/>
            <a:ext cx="20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2973240"/>
            <a:ext cx="32000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136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1369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800960" y="29707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01992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01992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486040" y="3276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562720" y="4419720"/>
            <a:ext cx="60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010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9920" y="29718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481720" y="3809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48640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562720" y="441972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523520" y="61722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0" y="5715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60958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286000" y="61722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0" y="57150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523880" y="1447560"/>
            <a:ext cx="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62320" y="228600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1371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2209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286000" y="419076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0160" y="95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23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16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04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41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0480" y="5334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78520" y="102564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78520" y="102456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063960" y="270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063960" y="102564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63960" y="102564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04920" y="1447920"/>
            <a:ext cx="27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04920" y="2286000"/>
            <a:ext cx="27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11520" y="1828800"/>
            <a:ext cx="974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78520" y="2971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378520" y="29707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04812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06396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63960" y="2971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3778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80520" y="4191120"/>
            <a:ext cx="268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11520" y="3809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24160" y="49118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24160" y="4911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909960" y="6588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909960" y="491184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09960" y="491184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285640" y="5334120"/>
            <a:ext cx="1623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23800" y="61722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57880" y="5791320"/>
            <a:ext cx="20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00600" y="2973240"/>
            <a:ext cx="32000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5136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51369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800960" y="29707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01992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01992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486040" y="3276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562720" y="4419720"/>
            <a:ext cx="60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010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29718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481720" y="3809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48640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562720" y="441972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523520" y="61722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0" y="5715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60958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286000" y="61722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57150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523880" y="1447560"/>
            <a:ext cx="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62320" y="228600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1371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0" y="2209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286000" y="419076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0160" y="95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23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16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504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41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40480" y="5334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55200" y="1563840"/>
            <a:ext cx="19242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tec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1460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294920" y="2971440"/>
            <a:ext cx="25909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24720" y="3546360"/>
            <a:ext cx="47300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ταβλητή στην κανονική της μορ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51460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752120" y="2971440"/>
            <a:ext cx="2133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23640" y="3546360"/>
            <a:ext cx="4185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ταβλητή στο συμπλήρωμά 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51460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133720" y="2971440"/>
            <a:ext cx="17524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23280" y="3546360"/>
            <a:ext cx="16909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έλο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cnf file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The random seed used to shuffle this instance was seed=995468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cnf 260 3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 -116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0 184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81 -157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8 -173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0 -187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495680"/>
            <a:ext cx="68580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371240" y="3581280"/>
            <a:ext cx="25146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25440" y="3546360"/>
            <a:ext cx="7552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18Z</dcterms:created>
  <dc:creator> </dc:creator>
  <dc:description/>
  <dc:language>en-US</dc:language>
  <cp:lastModifiedBy>georges</cp:lastModifiedBy>
  <dcterms:modified xsi:type="dcterms:W3CDTF">2005-10-09T19:46:47Z</dcterms:modified>
  <cp:revision>134</cp:revision>
  <dc:subject/>
  <dc:title>PowerPoint Presentation</dc:title>
</cp:coreProperties>
</file>