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</a:t>
            </a:r>
            <a:fld id="{68DE14B6-7BC2-4D96-B652-32C630F43F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Λογική προσομοί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πώς χρησιμοιποιείται στην επιβεβαίωση κυκλωμάτ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εν λειτουργεί πάντα σωστά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4080" y="1984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34080" y="19803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52320" y="3657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32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7144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7144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819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19810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8769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971800" y="48762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657600" y="6553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65760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4876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97144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971440" y="6095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57150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880" y="35053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880" y="3504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34320" y="5181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934320" y="3505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505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943600" y="39625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43600" y="4724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1404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53341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00200" y="53341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48769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6840" y="320040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20040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8195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47242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37000" y="613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2916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8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088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569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εν λειτουργεί πάντα σωστά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4080" y="19843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134080" y="19803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6576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35232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971440" y="2438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7144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2819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1981080"/>
            <a:ext cx="38124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48769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48762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57600" y="6553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65760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4876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44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971440" y="6095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57150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880" y="35053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880" y="3504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934320" y="5181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934320" y="3505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3505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943600" y="39625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43600" y="4724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14040" y="5334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53341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8769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600200" y="53341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8769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6840" y="3200400"/>
            <a:ext cx="2895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320040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28195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37000" y="613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2916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08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088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569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86800" y="4038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686440" y="4038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964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 με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ι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2057400"/>
            <a:ext cx="129528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4114800"/>
            <a:ext cx="129528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800" y="30481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267800" y="30474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0481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30481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4640" y="4876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3580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9560" y="3048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95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9560" y="5105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2362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2767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4197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5334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5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4640" y="2819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50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3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Όχι και τόσο βολικές λύσει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austive enum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ουλεύει όταν η απαρίθμηση είναι μικρ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εν δουλεύει σε μεγάλα κυκλώ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ιακριτές μεταβλητές για κάθ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γάλη αύξηση των μεταβλητώ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πορεί να σημαίνει ταλάντωση σε ένα ασύγχρονο κύκλω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il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2819520"/>
            <a:ext cx="129564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413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664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3505320"/>
            <a:ext cx="22860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24120" y="3657600"/>
            <a:ext cx="22860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59400" y="221292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59400" y="220896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78360" y="3886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7836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9676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9676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59440" y="3048120"/>
            <a:ext cx="36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2209680"/>
            <a:ext cx="38088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5909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43000" y="25902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28800" y="42670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828800" y="2590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2590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3429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3526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38080" y="3048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38080" y="38098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012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34520" y="3048120"/>
            <a:ext cx="0" cy="243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37720" y="5486400"/>
            <a:ext cx="7696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38098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8128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38080" y="220968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943600" y="3657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30280" y="4689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8440" y="179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016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052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35280" y="2971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5400" y="25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il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410080" cy="257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9800" y="2286000"/>
            <a:ext cx="137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D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il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410080" cy="257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59800" y="2286000"/>
            <a:ext cx="137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D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31320" y="1752480"/>
            <a:ext cx="95940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 – 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–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 – 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il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α ασύγχρονα κυκλώματα χρειάζονται καθυστερήσει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90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390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1237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1237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43792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1760" y="3962520"/>
            <a:ext cx="2361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35812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8052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32004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27432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066680" y="3200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7432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70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3100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62120" y="320004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41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il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α ασύγχρονα κυκλώματα χρειάζονται καθυστερήσει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39000" y="27432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439000" y="27421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12372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123720" y="27432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7432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43792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61760" y="3962520"/>
            <a:ext cx="2361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35812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8052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32004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27432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066680" y="32004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274320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70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3100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62120" y="320004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41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0120" y="47242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090120" y="4723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775560" y="6400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775560" y="47242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75560" y="47242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885840" y="5181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666880" y="594360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23120" y="556272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85640" y="5181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47242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51055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971800" y="518148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472428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1184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8212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666880" y="51811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4028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6480" y="4952880"/>
            <a:ext cx="8420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1320" y="518148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vent-driven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09680" y="1447920"/>
            <a:ext cx="3886200" cy="609480"/>
            <a:chOff x="2209680" y="1447920"/>
            <a:chExt cx="3886200" cy="609480"/>
          </a:xfrm>
        </p:grpSpPr>
        <p:sp>
          <p:nvSpPr>
            <p:cNvPr id="350" name=""/>
            <p:cNvSpPr/>
            <p:nvPr/>
          </p:nvSpPr>
          <p:spPr>
            <a:xfrm>
              <a:off x="2209680" y="1447920"/>
              <a:ext cx="388620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44120" y="152388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dvance simulation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09680" y="2286000"/>
            <a:ext cx="3886200" cy="609480"/>
            <a:chOff x="2209680" y="2286000"/>
            <a:chExt cx="3886200" cy="609480"/>
          </a:xfrm>
        </p:grpSpPr>
        <p:sp>
          <p:nvSpPr>
            <p:cNvPr id="353" name=""/>
            <p:cNvSpPr/>
            <p:nvPr/>
          </p:nvSpPr>
          <p:spPr>
            <a:xfrm>
              <a:off x="2209680" y="2286000"/>
              <a:ext cx="388620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45920" y="2361960"/>
              <a:ext cx="32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termine current ev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209680" y="3124080"/>
            <a:ext cx="3886200" cy="609480"/>
            <a:chOff x="2209680" y="3124080"/>
            <a:chExt cx="3886200" cy="609480"/>
          </a:xfrm>
        </p:grpSpPr>
        <p:sp>
          <p:nvSpPr>
            <p:cNvPr id="356" name=""/>
            <p:cNvSpPr/>
            <p:nvPr/>
          </p:nvSpPr>
          <p:spPr>
            <a:xfrm>
              <a:off x="2209680" y="3124080"/>
              <a:ext cx="388620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7800" y="3200400"/>
              <a:ext cx="191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pdate val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209680" y="3962520"/>
            <a:ext cx="3886200" cy="609480"/>
            <a:chOff x="2209680" y="3962520"/>
            <a:chExt cx="3886200" cy="609480"/>
          </a:xfrm>
        </p:grpSpPr>
        <p:sp>
          <p:nvSpPr>
            <p:cNvPr id="359" name=""/>
            <p:cNvSpPr/>
            <p:nvPr/>
          </p:nvSpPr>
          <p:spPr>
            <a:xfrm>
              <a:off x="2209680" y="3962520"/>
              <a:ext cx="388620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0960" y="403848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pagate ev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209680" y="4876920"/>
            <a:ext cx="3886200" cy="609480"/>
            <a:chOff x="2209680" y="4876920"/>
            <a:chExt cx="3886200" cy="609480"/>
          </a:xfrm>
        </p:grpSpPr>
        <p:sp>
          <p:nvSpPr>
            <p:cNvPr id="362" name=""/>
            <p:cNvSpPr/>
            <p:nvPr/>
          </p:nvSpPr>
          <p:spPr>
            <a:xfrm>
              <a:off x="2209680" y="4876920"/>
              <a:ext cx="388620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5840" y="4952880"/>
              <a:ext cx="35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valuate activated elem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209680" y="5715000"/>
            <a:ext cx="3886200" cy="609480"/>
            <a:chOff x="2209680" y="5715000"/>
            <a:chExt cx="3886200" cy="609480"/>
          </a:xfrm>
        </p:grpSpPr>
        <p:sp>
          <p:nvSpPr>
            <p:cNvPr id="365" name=""/>
            <p:cNvSpPr/>
            <p:nvPr/>
          </p:nvSpPr>
          <p:spPr>
            <a:xfrm>
              <a:off x="2209680" y="5715000"/>
              <a:ext cx="388620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44840" y="5790960"/>
              <a:ext cx="33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resulting ev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315200" y="1981080"/>
            <a:ext cx="1219320" cy="1219320"/>
            <a:chOff x="7315200" y="1981080"/>
            <a:chExt cx="1219320" cy="1219320"/>
          </a:xfrm>
        </p:grpSpPr>
        <p:sp>
          <p:nvSpPr>
            <p:cNvPr id="368" name=""/>
            <p:cNvSpPr/>
            <p:nvPr/>
          </p:nvSpPr>
          <p:spPr>
            <a:xfrm>
              <a:off x="7315200" y="1981080"/>
              <a:ext cx="1219320" cy="12193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44880" y="236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114800" y="990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2895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37339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14800" y="45720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54864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6324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371600" y="655308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371600" y="1219320"/>
            <a:ext cx="0" cy="53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121932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17524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1752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Λογική προσομοί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8480" y="2128680"/>
            <a:ext cx="2057400" cy="1540800"/>
            <a:chOff x="528480" y="2128680"/>
            <a:chExt cx="2057400" cy="1540800"/>
          </a:xfrm>
        </p:grpSpPr>
        <p:sp>
          <p:nvSpPr>
            <p:cNvPr id="43" name=""/>
            <p:cNvSpPr/>
            <p:nvPr/>
          </p:nvSpPr>
          <p:spPr>
            <a:xfrm>
              <a:off x="528480" y="2128680"/>
              <a:ext cx="2057400" cy="152748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35640" y="2478240"/>
              <a:ext cx="123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είσοδο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κα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έλεγχο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77120" y="2282760"/>
            <a:ext cx="2129760" cy="1527120"/>
            <a:chOff x="6477120" y="2282760"/>
            <a:chExt cx="2129760" cy="1527120"/>
          </a:xfrm>
        </p:grpSpPr>
        <p:sp>
          <p:nvSpPr>
            <p:cNvPr id="46" name=""/>
            <p:cNvSpPr/>
            <p:nvPr/>
          </p:nvSpPr>
          <p:spPr>
            <a:xfrm>
              <a:off x="6477120" y="2282760"/>
              <a:ext cx="2057040" cy="152712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89000" y="28908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αποτελέσματ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581280" y="4724280"/>
            <a:ext cx="2057400" cy="1527120"/>
            <a:chOff x="3581280" y="4724280"/>
            <a:chExt cx="2057400" cy="1527120"/>
          </a:xfrm>
        </p:grpSpPr>
        <p:sp>
          <p:nvSpPr>
            <p:cNvPr id="49" name=""/>
            <p:cNvSpPr/>
            <p:nvPr/>
          </p:nvSpPr>
          <p:spPr>
            <a:xfrm>
              <a:off x="3581280" y="4724280"/>
              <a:ext cx="2057400" cy="152712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14200" y="5197320"/>
              <a:ext cx="155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εσωτερικ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μοντέλ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352680" y="2057400"/>
            <a:ext cx="2362320" cy="1905120"/>
            <a:chOff x="3352680" y="2057400"/>
            <a:chExt cx="2362320" cy="1905120"/>
          </a:xfrm>
        </p:grpSpPr>
        <p:sp>
          <p:nvSpPr>
            <p:cNvPr id="52" name=""/>
            <p:cNvSpPr/>
            <p:nvPr/>
          </p:nvSpPr>
          <p:spPr>
            <a:xfrm>
              <a:off x="3352680" y="2057400"/>
              <a:ext cx="2362320" cy="19051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120" y="2530440"/>
              <a:ext cx="224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πρόγραμμ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προσομοίωση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666880" y="2438280"/>
            <a:ext cx="609840" cy="12193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438280"/>
            <a:ext cx="609480" cy="12193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038480"/>
            <a:ext cx="1295280" cy="609840"/>
          </a:xfrm>
          <a:prstGeom prst="up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vent-driven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ασικά στοιχεί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υκλωματικά μοντέλα και βιβλιοθήκε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ύλε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διασύνδε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-wh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κρατά την ακολουθία των γεγονότω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πιτρέπει τον σωστό χρονισμό μέσα στον κύκλ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λεονεκτή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κρίβεια χρονισμο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σύγχρονα κυκλώματ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ιονέκτημ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όδοση και διαχείρηση δεδομέν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vent-driven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600200" y="2895480"/>
            <a:ext cx="1828800" cy="609840"/>
            <a:chOff x="1600200" y="2895480"/>
            <a:chExt cx="1828800" cy="609840"/>
          </a:xfrm>
        </p:grpSpPr>
        <p:sp>
          <p:nvSpPr>
            <p:cNvPr id="386" name=""/>
            <p:cNvSpPr/>
            <p:nvPr/>
          </p:nvSpPr>
          <p:spPr>
            <a:xfrm>
              <a:off x="1600200" y="2895480"/>
              <a:ext cx="60948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9520" y="2895480"/>
              <a:ext cx="60948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09680" y="2895480"/>
              <a:ext cx="60984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68240" y="29368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2590920" y="1752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904760" y="22096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2096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00200" y="4267080"/>
            <a:ext cx="1828800" cy="609840"/>
            <a:chOff x="1600200" y="4267080"/>
            <a:chExt cx="1828800" cy="609840"/>
          </a:xfrm>
        </p:grpSpPr>
        <p:sp>
          <p:nvSpPr>
            <p:cNvPr id="394" name=""/>
            <p:cNvSpPr/>
            <p:nvPr/>
          </p:nvSpPr>
          <p:spPr>
            <a:xfrm>
              <a:off x="1600200" y="4267080"/>
              <a:ext cx="60948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4267080"/>
              <a:ext cx="60948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09680" y="4267080"/>
              <a:ext cx="60984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68240" y="43084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514600" y="32004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904760" y="38098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38098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3200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4572000"/>
            <a:ext cx="10670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191120" y="4267080"/>
            <a:ext cx="1218600" cy="609840"/>
            <a:chOff x="4191120" y="4267080"/>
            <a:chExt cx="1218600" cy="609840"/>
          </a:xfrm>
        </p:grpSpPr>
        <p:sp>
          <p:nvSpPr>
            <p:cNvPr id="404" name=""/>
            <p:cNvSpPr/>
            <p:nvPr/>
          </p:nvSpPr>
          <p:spPr>
            <a:xfrm>
              <a:off x="4800240" y="4267080"/>
              <a:ext cx="60948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1120" y="4267080"/>
              <a:ext cx="60912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105520" y="45720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172200" y="4267080"/>
            <a:ext cx="1219320" cy="609840"/>
            <a:chOff x="6172200" y="4267080"/>
            <a:chExt cx="1219320" cy="609840"/>
          </a:xfrm>
        </p:grpSpPr>
        <p:sp>
          <p:nvSpPr>
            <p:cNvPr id="408" name=""/>
            <p:cNvSpPr/>
            <p:nvPr/>
          </p:nvSpPr>
          <p:spPr>
            <a:xfrm>
              <a:off x="6781680" y="4267080"/>
              <a:ext cx="60984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2200" y="4267080"/>
              <a:ext cx="609480" cy="60984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600200" y="5715000"/>
            <a:ext cx="1828800" cy="609480"/>
            <a:chOff x="1600200" y="5715000"/>
            <a:chExt cx="1828800" cy="609480"/>
          </a:xfrm>
        </p:grpSpPr>
        <p:sp>
          <p:nvSpPr>
            <p:cNvPr id="411" name=""/>
            <p:cNvSpPr/>
            <p:nvPr/>
          </p:nvSpPr>
          <p:spPr>
            <a:xfrm>
              <a:off x="1600200" y="57150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19520" y="5715000"/>
              <a:ext cx="60948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9680" y="5715000"/>
              <a:ext cx="609840" cy="6094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66080" y="5756040"/>
              <a:ext cx="3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1904760" y="52578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52578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464832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εριγραφή καταστάσεω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κατάσταση αποθηκεύετα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την έξοδο της πύλης που οδηγε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λιγότερος χώρος στη μνήμ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την είσοδο της πύλης που οδηγείτα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γαλύτερη τοπικότητ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με την ανάλυση έχουμ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ά κόμβο (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d log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ά κόμβο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valued log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bi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ά κόμβο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valued log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cle-bas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ασικά στοιχεί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κυκλωματικά μοντέλα και βιβλιοθήκ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ύλε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ιασύνδε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πίπεδα του κυκλώματο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λεονεκτή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όδοσ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ιαχείρηση δεδομέν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ειονεκτήμα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κρίβεια χρονισμο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σύγχρονα κυκλώ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423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430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437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444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468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475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482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489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533520"/>
            <a:ext cx="2438640" cy="60958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533520"/>
            <a:ext cx="2438640" cy="60958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33520"/>
            <a:ext cx="2438640" cy="60958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11280" y="1522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54480" y="1522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74000" y="1522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vent-driven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520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527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534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541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571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578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585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592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560" y="762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622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629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636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643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2560" y="762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ροσομοίωση για επιβεβαί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ωστή λειτουργία ανεξάρτητα από τις αρχικές συνθήκ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υαισθησία σε μικρές μεταβολές της καθυστέρησ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υσί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ρίσιμων διαφορών χρονισμο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αλαντώσεω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«μη νόμιμων» διανυσμάτων εισόδο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ταστάσεις από τις οποίες δεν μπορεί να βγει το σύστημ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υγκρίνουμε την έξοδο της προσομοίωσης με το επιθυμητό αποτέλεσμα από την περιγραφή του συστήματο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673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680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687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694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36680" y="1219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724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731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738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745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36680" y="1219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775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782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789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796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274960" y="312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826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833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840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847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877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884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891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898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2560" y="5638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928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935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942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949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560" y="5638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979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986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993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000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45760" y="312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36680" y="5181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030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037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044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051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836680" y="1219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836680" y="5181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081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088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095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102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274960" y="312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132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139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146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153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ες εφαρμογ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υση σχεδιαστικών επιλογ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για τη βελτίωση της απόδοσης και του κόστου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υση προτεινομένων αλλαγώ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πιβεβαίωση λειτουργικότητ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υσία παρενεργειώ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ημιουργία διαγραμμάτων χρονισμο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κτ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cle-based simul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184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191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198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205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235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242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249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256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02560" y="762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286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293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300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307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836680" y="1219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337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344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351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358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274960" y="312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388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395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402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409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439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446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453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460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02560" y="5638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9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490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497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504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511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245760" y="312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0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541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548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555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562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836680" y="1219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-&g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592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599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606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613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274960" y="312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λεονεκτήματα προσομοίω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έλεγχος λανθασμένων καταστάσε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.χ. συγκρούσεις διαύλο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ύκολη αλλαγή των παραμέτρων του μοντέλου για έλεγχο της χειρότερης κατάστασ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έλεγχος ενδιαμέσων και εσωτερικών καταστάσεων και όχι μόνο των εξόδ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κκίνηση από οποιαδήποτε αρχική κατάστα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κριβής έλεγχος χρονισμού ασύγχρονων γεγονότ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υτοματοποιημένο περιβάλλον ελέγχο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609480" y="2819160"/>
            <a:ext cx="2286000" cy="1676520"/>
            <a:chOff x="609480" y="2819160"/>
            <a:chExt cx="2286000" cy="1676520"/>
          </a:xfrm>
        </p:grpSpPr>
        <p:sp>
          <p:nvSpPr>
            <p:cNvPr id="1643" name=""/>
            <p:cNvSpPr/>
            <p:nvPr/>
          </p:nvSpPr>
          <p:spPr>
            <a:xfrm>
              <a:off x="609480" y="281952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609480" y="28188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1295280" y="4495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1295280" y="28195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95280" y="28195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743200" y="3581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429000" y="4800240"/>
            <a:ext cx="2286000" cy="1676520"/>
            <a:chOff x="3429000" y="4800240"/>
            <a:chExt cx="2286000" cy="1676520"/>
          </a:xfrm>
        </p:grpSpPr>
        <p:sp>
          <p:nvSpPr>
            <p:cNvPr id="1650" name=""/>
            <p:cNvSpPr/>
            <p:nvPr/>
          </p:nvSpPr>
          <p:spPr>
            <a:xfrm>
              <a:off x="3429000" y="48006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3429000" y="47998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4114800" y="64767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4114800" y="48006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006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62720" y="55623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3429000" y="837720"/>
            <a:ext cx="2286000" cy="1676520"/>
            <a:chOff x="3429000" y="837720"/>
            <a:chExt cx="2286000" cy="1676520"/>
          </a:xfrm>
        </p:grpSpPr>
        <p:sp>
          <p:nvSpPr>
            <p:cNvPr id="1657" name=""/>
            <p:cNvSpPr/>
            <p:nvPr/>
          </p:nvSpPr>
          <p:spPr>
            <a:xfrm>
              <a:off x="3429000" y="8380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429000" y="8370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4114800" y="25142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114800" y="838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114800" y="8380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62720" y="15998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5943600" y="2742840"/>
            <a:ext cx="2286000" cy="1676520"/>
            <a:chOff x="5943600" y="2742840"/>
            <a:chExt cx="2286000" cy="1676520"/>
          </a:xfrm>
        </p:grpSpPr>
        <p:sp>
          <p:nvSpPr>
            <p:cNvPr id="1664" name=""/>
            <p:cNvSpPr/>
            <p:nvPr/>
          </p:nvSpPr>
          <p:spPr>
            <a:xfrm>
              <a:off x="5943600" y="274320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5943600" y="2742480"/>
              <a:ext cx="21333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662940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629400" y="2743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629400" y="27432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077320" y="35049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0" name=""/>
          <p:cNvSpPr/>
          <p:nvPr/>
        </p:nvSpPr>
        <p:spPr>
          <a:xfrm flipH="1">
            <a:off x="685440" y="12193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85440" y="6095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1066320" y="3124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1066680" y="121896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1066320" y="41911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066680" y="41911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36576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3657600" y="5181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57600" y="2133720"/>
            <a:ext cx="0" cy="30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895480" y="3657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6172200" y="40384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715000" y="1676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72200" y="167652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715000" y="5638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229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3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0328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464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837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837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2756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σκη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ότε 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driven simulation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ναι πιο γρήγορη από τη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e-based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Θεωρήστε ότι ο υπολογισμός του αποτελέσματος είναι ένας κύκλος ρολογιού, ο υπολογισμός του επιπέδου ένας κύκλος ρολογιού, και η αναζήτηση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out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μαζί με την ενημέρωση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wheel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ρεις κύκλοι ρολογιο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Προβλήματα επιβεβαίωσης με προσομοίωση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ώς δημιουργούμε τις ακολουθίες εισόδο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έλεγχος για σχεδιαστ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έλεγχος για κατασκευαστικά σφάλ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ώς επιβεβαιώνουμε ότι τα αποτελέσματα είναι σωστά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όσο καλά είναι τα διανύσματα εισόδο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όσο ολοκληρωμένη είναι η διαδικασία ελέγχο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η επιβεβαίωση ισχύει μόνο για τις ακολουθίες που ελέγχθηκα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εν γνωρίζουμε ποιο ποσοστό του χώρου σχεδίασης καλύπτουμε με τους ελέγχους που εφαρμόζουμ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ίδη προσομοίω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-driven/compiled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α μοντέλα είναι μεταγλωττισμένος κώδικας που προέρχεται απ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λειτουργικά μοντέλα σε κάποια γλώσσα προγραμματισμο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οντέλα σε κάποια γλώσσ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ομική περιγραφή του κυκλώματο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driven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αραίτητη η δομική περιγραφή του κυκλώματο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η προσομοίωση οδηγείται από τα γεγονότα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)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ου συμβαίνουν στο κύκλωμα ξεκινώντας από τις εισόδους το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ίδη προσομοίω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-level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-level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-level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stor-level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it-level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-level timing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-level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-level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Η απροσδιόριστη λογική τιμή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266688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27672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80988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41972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17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176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7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56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561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56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656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65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656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750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75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750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561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656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750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98108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05740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5268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6240" y="2133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66688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27672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80988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088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08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6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6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567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567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6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662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662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6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6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567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62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24852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93432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54380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213372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0360" y="2133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71500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3244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35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30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324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35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230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3248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038480" y="5181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14800" y="5181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00600" y="5181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410080" y="5181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19920" y="5181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2920" y="51814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04:18Z</dcterms:created>
  <dc:creator> </dc:creator>
  <dc:description/>
  <dc:language>en-US</dc:language>
  <cp:lastModifiedBy>g</cp:lastModifiedBy>
  <dcterms:modified xsi:type="dcterms:W3CDTF">2004-10-03T22:22:31Z</dcterms:modified>
  <cp:revision>85</cp:revision>
  <dc:subject/>
  <dc:title>PowerPoint Presentation</dc:title>
</cp:coreProperties>
</file>