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10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dc78"/>
                </a:solidFill>
                <a:latin typeface="Garamond"/>
              </a:rPr>
              <a:t>Click to move the slide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36DB-4BBD-41FB-97A7-785EB4E3B2DD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9622-0178-45CB-8482-EABFADFFCAD3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8DAA-43B1-4901-8F2A-D7771AA1CD71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2E16-E50B-46B5-AB75-F7FC0040388F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2264-6B2B-46BE-967A-D22DB5CF88AD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ECBB-E33C-47AE-B132-16239C551FB8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1857-8A83-499D-881D-BB6C06A770A0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8693-9B0B-41A9-980A-53B44CB5B23B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1DD2-973F-4CAC-AE6F-FA02F11AA9D8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E2BF-B422-43BB-ACCC-079DDAD7ACA7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727F-CCD2-4EEE-B2F3-F8C898A16BD0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033B-D2CD-4BC7-9ACB-DC8369210A91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D2F0-5011-45E1-9D18-E45165B71B6B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C5AB-41A4-4260-A543-5EB065B6AAD7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1D53-58A6-4F27-950D-B5DBF741DC78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2E19-45DD-441A-93CB-3E8DC86B4C91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77DE-5E14-47BA-A5F9-68CDE172F878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7EBC-B20F-44D0-8ED9-82F63130DC28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2E1A-6022-4A8A-BFC1-B46FACF211A5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2203-2B37-4A3B-A5CD-4C8B4101FD3B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69D0-0B88-4E65-96FC-DC7F3CDAEB8E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5324-6BA0-4D9A-A974-E33CCD4E3092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C616-8B61-4836-B640-56EB7BB07270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227B-44F8-4D94-99CA-13BE60CA0CA1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3004-74C0-4C68-94E0-45AB6FF491E4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E92A-DB46-4014-925D-1E71F46AFD0F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7C15-7D14-4766-996E-150B4AE7DFEA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29A7-5F70-4E80-9D9C-2D5ABC1348B7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3AC7-C328-4D94-97D4-1C26C2EDEC86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489E-D81D-496C-AC2F-3F61771C4D92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4571-1CCD-4C86-B6D7-9C683AD27DC1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7001-81B3-451B-9BB6-9062B4C5B1E6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726A-44EE-46E0-8D64-F01A32EC48FE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71D6-CC7B-4123-BF93-A8C5AABF9687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4693-BD18-4446-B697-1A4B0747ADF1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C066-4C7A-4DEA-85EA-0DFECFA2BF3C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0A6B-8230-4578-829A-F32A5D7498D6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FD3B-4357-4016-B88D-20763D172045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02A2-69DB-4B13-8BA3-1A2FCE703D60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3E55-3ECC-43B8-90A1-357990F5B9C7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6910-A47A-4119-BC01-8994B05C5A9B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2031-10B1-46D1-A4E5-EEDC09D4192D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91D8-3966-4712-9CD1-3684EFB8B307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FEF9-0BF3-4B0B-83F5-4C5660F450EE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9682-410C-457E-806E-91A25EDAB707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F600-7696-4742-A8E4-5B7EC1F2A775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D41A-E2ED-41AE-A4BE-A9FE33B21936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4AAA-B0E7-41FE-8696-58689270D1F8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E9A0-4032-4A5F-B073-8BBC3146A9EF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B57C-1898-4F63-A711-04A16109BB61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1337-3286-4B37-8633-7EADF0B2E4FF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AEA0-66C7-4DC5-97D9-9E5287294598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0AF4-F6BF-417F-94AA-4A76A4F640E0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63C1-9DE6-4574-A839-02D1A194CBA8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776D-3805-4207-BA96-0458C728772D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8C0B-C05E-4C5F-A280-1CCD252869FB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2961-50AA-4A56-8CE7-A2AB484C89BE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7FDF-1AC0-4D0E-88C6-368F7785AB04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587B-DC40-4175-A7F9-46E040FD30A2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1979-CC29-4CC0-929C-6A6F7092E399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8CED-6651-465B-A09B-AED13AC34FD0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C754-B468-447B-A02F-7B28C7512C62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B60E-B46B-4399-9178-013AF500BA5E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F0D3-1D82-41CB-AF99-A929FE090ADB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90C4-AFE3-4180-874A-8E651292F365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F8BA-D01B-4676-8338-C6D4C3C49BC8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A1E5-CCAF-492C-93D0-F8537AB2AEDF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6D26-8B08-40D5-B7E7-351E92A667F6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32C2-466B-4299-9A27-B3B6B5A9DF99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C6C2-2E85-43E5-9BBE-D0879FE6372D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54FE-263A-420F-A57D-4834C5652285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BAAD-BADC-401C-BB59-658E12E7AAB2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BA83-5961-487A-9B51-966DAE267AE5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13310-C641-4AF4-B9F3-3740024415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ADECD-18F0-4FE2-ACDE-CC424D22F2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9C356-97B0-4834-BFFC-348402DC74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A6E37-593B-4111-B21A-F1264F7C69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550C3-3EC1-40F4-997C-ED3669C619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B26B9-C597-4D93-8A68-63F4BDF47C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ABA83-1E08-4D12-AB22-2E93043CF6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26934-0B4F-47FE-8B3D-36A3BB656F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93A41-193C-42C7-8291-FFF699F409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31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74D5C-AC69-4749-9CEA-062C3283CA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133D9-DD21-487E-902E-B5925EBADE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7E5CE-FE69-4283-948A-2B3D09C5D9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768D1-A9BC-430C-949B-4DBED6C18F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0299A-BE7E-4195-BEAE-D6D3F7987E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6AA8C-CF30-4DB2-91BA-4D38305605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25BDE-F87B-4B7E-87BC-FBF611810B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18A1A-DF0E-4F41-99BB-2321F67EB0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5C245-F36B-45D9-A42A-ED1CA76A79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62590-20D5-45DC-B0F0-74D792E0DA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593E1-AB9F-4A2F-BF49-C76AE91352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31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5E7BA-4DA7-46E8-8607-D738BEECCB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31B91-A321-435F-9781-5E10F4EEFE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EC966-C1A1-461A-B14C-22B19B992D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F239A-F939-43D2-A187-5A6C90EED7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56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6711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7d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9c08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53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9f0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47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4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a217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5f10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4a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58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79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6f0000"/>
                  </a:gs>
                  <a:gs pos="100000">
                    <a:srgbClr val="9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a217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</p:grpSp>
      </p:grpSp>
      <p:sp>
        <p:nvSpPr>
          <p:cNvPr id="40" name="Rectangle 49"/>
          <p:cNvSpPr/>
          <p:nvPr/>
        </p:nvSpPr>
        <p:spPr>
          <a:xfrm>
            <a:off x="-36360" y="0"/>
            <a:ext cx="215640" cy="68580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lin ang="5400000"/>
          </a:gradFill>
          <a:ln w="9360">
            <a:solidFill>
              <a:srgbClr val="faf9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1" name="Rectangle 53"/>
          <p:cNvSpPr/>
          <p:nvPr/>
        </p:nvSpPr>
        <p:spPr>
          <a:xfrm>
            <a:off x="8893080" y="0"/>
            <a:ext cx="250920" cy="68580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lin ang="5400000"/>
          </a:gradFill>
          <a:ln w="9360">
            <a:solidFill>
              <a:srgbClr val="faf9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dc78"/>
                </a:solidFill>
                <a:latin typeface="Garamond"/>
              </a:rPr>
              <a:t>Click to edit the title text format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b86d52"/>
              </a:buClr>
              <a:buSzPct val="9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1"/>
          </p:nvPr>
        </p:nvSpPr>
        <p:spPr>
          <a:xfrm>
            <a:off x="7048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F8E9-7C72-412C-A2B1-02CE695125C5}" type="slidenum"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Line 51"/>
          <p:cNvSpPr/>
          <p:nvPr/>
        </p:nvSpPr>
        <p:spPr>
          <a:xfrm>
            <a:off x="203040" y="1149480"/>
            <a:ext cx="8685360" cy="0"/>
          </a:xfrm>
          <a:prstGeom prst="line">
            <a:avLst/>
          </a:prstGeom>
          <a:ln w="9360">
            <a:solidFill>
              <a:srgbClr val="faf9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1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3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56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6711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7d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9c08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53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9f0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47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2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4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3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4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a217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5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6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7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5f10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8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9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0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1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2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3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4a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4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5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58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7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8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79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grpSp>
          <p:nvGrpSpPr>
            <p:cNvPr id="11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0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6f0000"/>
                  </a:gs>
                  <a:gs pos="100000">
                    <a:srgbClr val="9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  <p:sp>
            <p:nvSpPr>
              <p:cNvPr id="12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a217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dc78"/>
                </a:solidFill>
                <a:latin typeface="Garamond"/>
              </a:rPr>
              <a:t>Click to edit the title text format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b86d52"/>
              </a:buClr>
              <a:buSzPct val="9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2"/>
          </p:nvPr>
        </p:nvSpPr>
        <p:spPr>
          <a:xfrm>
            <a:off x="7048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af9e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941D-D292-4249-9F87-7B819EC8A7A4}" type="slidenum">
              <a:rPr b="0" lang="el-GR" sz="1200" spc="-1" strike="noStrike">
                <a:solidFill>
                  <a:srgbClr val="faf9e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928;&#945;&#961;&#945;&#948;&#949;&#943;&#947;&#956;&#945;&#964;&#945;%20&#916;&#953;&#948;&#945;&#954;&#964;&#953;&#954;&#974;&#957;%20&#928;&#955;&#940;&#957;&#969;&#957;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E5E2-3D0B-4894-A2AD-7FCB59E97BD6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9" name="Rectangle 19"/>
          <p:cNvSpPr/>
          <p:nvPr/>
        </p:nvSpPr>
        <p:spPr>
          <a:xfrm>
            <a:off x="-396720" y="3213000"/>
            <a:ext cx="9937440" cy="1440000"/>
          </a:xfrm>
          <a:prstGeom prst="rect">
            <a:avLst/>
          </a:prstGeom>
          <a:solidFill>
            <a:srgbClr val="990000"/>
          </a:solidFill>
          <a:ln w="9360">
            <a:solidFill>
              <a:srgbClr val="faf9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-181080" y="3355920"/>
            <a:ext cx="9577440" cy="1152720"/>
          </a:xfrm>
          <a:prstGeom prst="rect">
            <a:avLst/>
          </a:prstGeom>
          <a:solidFill>
            <a:srgbClr val="000000"/>
          </a:solidFill>
          <a:ln w="9360">
            <a:solidFill>
              <a:srgbClr val="faf9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9144000" cy="146988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400" spc="-1" strike="noStrike">
                <a:solidFill>
                  <a:srgbClr val="eadc78"/>
                </a:solidFill>
                <a:latin typeface="Times New Roman"/>
              </a:rPr>
              <a:t>Διδακτικός Σχεδιασμός</a:t>
            </a:r>
            <a:r>
              <a:rPr b="0" i="1" lang="en-US" sz="4400" spc="-1" strike="noStrike">
                <a:solidFill>
                  <a:srgbClr val="eadc78"/>
                </a:solidFill>
                <a:latin typeface="Times New Roman"/>
              </a:rPr>
              <a:t>: </a:t>
            </a:r>
            <a:br>
              <a:rPr sz="4400"/>
            </a:br>
            <a:r>
              <a:rPr b="0" i="1" lang="el-GR" sz="4400" spc="-1" strike="noStrike">
                <a:solidFill>
                  <a:srgbClr val="eadc78"/>
                </a:solidFill>
                <a:latin typeface="Times New Roman"/>
              </a:rPr>
              <a:t>Εισαγωγή - Εποικοδομητική Μάθηση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403280" y="513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af9e6"/>
                </a:solidFill>
                <a:latin typeface="Garamond"/>
              </a:rPr>
              <a:t>Παλαιγεωργίου Γιώργος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af9e6"/>
                </a:solidFill>
                <a:latin typeface="Garamond"/>
              </a:rPr>
              <a:t>Τμήμα Μηχανικών Ηλεκτρονικών Υπολογιστών Τηλεπικοινωνιών και Δικτύων, Πανεπιστήμιο Θεσσαλίας</a:t>
            </a:r>
            <a:endParaRPr b="0" lang="en-US" sz="1800" spc="-1" strike="noStrike">
              <a:solidFill>
                <a:srgbClr val="faf9e6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af9e6"/>
                </a:solidFill>
                <a:latin typeface="Garamond"/>
              </a:rPr>
              <a:t>Οκτώβριος 2008</a:t>
            </a:r>
            <a:endParaRPr b="0" lang="en-US" sz="1800" spc="-1" strike="noStrike">
              <a:solidFill>
                <a:srgbClr val="faf9e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Tahoma"/>
            </a:endParaRPr>
          </a:p>
        </p:txBody>
      </p:sp>
      <p:pic>
        <p:nvPicPr>
          <p:cNvPr id="173" name="Picture 4" descr="child_computer"/>
          <p:cNvPicPr/>
          <p:nvPr/>
        </p:nvPicPr>
        <p:blipFill>
          <a:blip r:embed="rId1"/>
          <a:stretch/>
        </p:blipFill>
        <p:spPr>
          <a:xfrm>
            <a:off x="7812000" y="3500280"/>
            <a:ext cx="1332000" cy="92412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174" name="Picture 11" descr=""/>
          <p:cNvPicPr/>
          <p:nvPr/>
        </p:nvPicPr>
        <p:blipFill>
          <a:blip r:embed="rId2"/>
          <a:srcRect l="3112" t="2079" r="3764" b="3790"/>
          <a:stretch/>
        </p:blipFill>
        <p:spPr>
          <a:xfrm>
            <a:off x="6516720" y="3500280"/>
            <a:ext cx="1152360" cy="88452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175" name="Picture 13" descr="frontpage"/>
          <p:cNvPicPr/>
          <p:nvPr/>
        </p:nvPicPr>
        <p:blipFill>
          <a:blip r:embed="rId3"/>
          <a:srcRect l="1370" t="5418" r="2041" b="7267"/>
          <a:stretch/>
        </p:blipFill>
        <p:spPr>
          <a:xfrm>
            <a:off x="4211640" y="3500280"/>
            <a:ext cx="2232000" cy="87012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176" name="Picture 14" descr="hitachi_tabletop"/>
          <p:cNvPicPr/>
          <p:nvPr/>
        </p:nvPicPr>
        <p:blipFill>
          <a:blip r:embed="rId4"/>
          <a:stretch/>
        </p:blipFill>
        <p:spPr>
          <a:xfrm>
            <a:off x="2867040" y="3500280"/>
            <a:ext cx="1128600" cy="85752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177" name="Picture 16" descr="child_computer"/>
          <p:cNvPicPr/>
          <p:nvPr/>
        </p:nvPicPr>
        <p:blipFill>
          <a:blip r:embed="rId5"/>
          <a:stretch/>
        </p:blipFill>
        <p:spPr>
          <a:xfrm>
            <a:off x="0" y="3500280"/>
            <a:ext cx="1332000" cy="92412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178" name="Picture 17" descr=""/>
          <p:cNvPicPr/>
          <p:nvPr/>
        </p:nvPicPr>
        <p:blipFill>
          <a:blip r:embed="rId6"/>
          <a:srcRect l="3112" t="2079" r="3764" b="3790"/>
          <a:stretch/>
        </p:blipFill>
        <p:spPr>
          <a:xfrm>
            <a:off x="1476360" y="3500280"/>
            <a:ext cx="1152720" cy="88452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400" spc="-1" strike="noStrike">
                <a:solidFill>
                  <a:srgbClr val="eadc78"/>
                </a:solidFill>
                <a:latin typeface="Garamond"/>
              </a:rPr>
              <a:t>2. Έλεγχος της μάθησης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sp>
        <p:nvSpPr>
          <p:cNvPr id="210" name="Slide Number Placeholder 3"/>
          <p:cNvSpPr/>
          <p:nvPr/>
        </p:nvSpPr>
        <p:spPr>
          <a:xfrm>
            <a:off x="704844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3EC4-B2B4-4052-8798-DFC25E8E4763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4714920" y="3465360"/>
            <a:ext cx="1401840" cy="300240"/>
          </a:xfrm>
          <a:prstGeom prst="rect">
            <a:avLst/>
          </a:prstGeom>
          <a:solidFill>
            <a:srgbClr val="dec82b"/>
          </a:solidFill>
          <a:ln w="9360">
            <a:solidFill>
              <a:srgbClr val="ff8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>
            <a:off x="1138320" y="3616200"/>
            <a:ext cx="62308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826920" y="3016080"/>
            <a:ext cx="233712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40c00"/>
                </a:solidFill>
                <a:latin typeface="Mistral"/>
              </a:rPr>
              <a:t>δασκαλοκεντρική </a:t>
            </a: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6122880" y="3755880"/>
            <a:ext cx="2336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40c00"/>
                </a:solidFill>
                <a:latin typeface="Mistral"/>
              </a:rPr>
              <a:t>Μαθητικοκεντρική</a:t>
            </a: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400" spc="-1" strike="noStrike">
                <a:solidFill>
                  <a:srgbClr val="eadc78"/>
                </a:solidFill>
                <a:latin typeface="Garamond"/>
              </a:rPr>
              <a:t>2. Έλεγχος της μάθησης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Διδασκαλία Ι: </a:t>
            </a:r>
            <a:r>
              <a:rPr b="0" i="1" lang="el-GR" sz="2800" spc="-1" strike="noStrike">
                <a:solidFill>
                  <a:srgbClr val="faf9e6"/>
                </a:solidFill>
                <a:latin typeface="Tahoma"/>
              </a:rPr>
              <a:t>Μετάδοση γνώσης;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704844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EC01-9681-4572-996E-A369B41EF124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1116000" y="1484280"/>
            <a:ext cx="708660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86d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14200" y="2286000"/>
          <a:ext cx="8643960" cy="3836880"/>
        </p:xfrm>
        <a:graphic>
          <a:graphicData uri="http://schemas.openxmlformats.org/drawingml/2006/table">
            <a:tbl>
              <a:tblPr/>
              <a:tblGrid>
                <a:gridCol w="3481560"/>
                <a:gridCol w="5162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af9e6"/>
                          </a:solidFill>
                          <a:latin typeface="Arial"/>
                        </a:rPr>
                        <a:t>Μαθησιακή διεργ.</a:t>
                      </a:r>
                      <a:endParaRPr b="0" lang="en-US" sz="28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f9e6"/>
                      </a:solidFill>
                    </a:lnL>
                    <a:lnR w="5760">
                      <a:solidFill>
                        <a:srgbClr val="faf9e6"/>
                      </a:solidFill>
                    </a:lnR>
                    <a:lnT w="13680">
                      <a:solidFill>
                        <a:srgbClr val="faf9e6"/>
                      </a:solidFill>
                    </a:lnT>
                    <a:lnB w="5760">
                      <a:solidFill>
                        <a:srgbClr val="faf9e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af9e6"/>
                          </a:solidFill>
                          <a:latin typeface="Arial"/>
                        </a:rPr>
                        <a:t>Διδακτική δραστ.</a:t>
                      </a:r>
                      <a:endParaRPr b="0" lang="en-US" sz="28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9e6"/>
                      </a:solidFill>
                    </a:lnL>
                    <a:lnR w="13680">
                      <a:solidFill>
                        <a:srgbClr val="faf9e6"/>
                      </a:solidFill>
                    </a:lnR>
                    <a:lnT w="13680">
                      <a:solidFill>
                        <a:srgbClr val="faf9e6"/>
                      </a:solidFill>
                    </a:lnT>
                    <a:lnB w="5760">
                      <a:solidFill>
                        <a:srgbClr val="faf9e6"/>
                      </a:solidFill>
                    </a:lnB>
                    <a:noFill/>
                  </a:tcPr>
                </a:tc>
              </a:tr>
              <a:tr h="139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faf9e6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af9e6"/>
                          </a:solidFill>
                          <a:latin typeface="Arial"/>
                        </a:rPr>
                        <a:t>Συσχέτιση</a:t>
                      </a:r>
                      <a:endParaRPr b="0" lang="en-US" sz="28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f9e6"/>
                      </a:solidFill>
                    </a:lnL>
                    <a:lnR w="5760">
                      <a:solidFill>
                        <a:srgbClr val="faf9e6"/>
                      </a:solidFill>
                    </a:lnR>
                    <a:lnT w="5760">
                      <a:solidFill>
                        <a:srgbClr val="faf9e6"/>
                      </a:solidFill>
                    </a:lnT>
                    <a:lnB w="5760">
                      <a:solidFill>
                        <a:srgbClr val="faf9e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af9e6"/>
                          </a:solidFill>
                          <a:latin typeface="Arial"/>
                        </a:rPr>
                        <a:t>Παρουσίαση και αποσαφήνιση του θεματικού αντικειμένου. Εξήγηση σχέσεων, παρουσίαση αναλογιών</a:t>
                      </a:r>
                      <a:endParaRPr b="0" lang="en-US" sz="24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9e6"/>
                      </a:solidFill>
                    </a:lnL>
                    <a:lnR w="13680">
                      <a:solidFill>
                        <a:srgbClr val="faf9e6"/>
                      </a:solidFill>
                    </a:lnR>
                    <a:lnT w="5760">
                      <a:solidFill>
                        <a:srgbClr val="faf9e6"/>
                      </a:solidFill>
                    </a:lnT>
                    <a:lnB w="5760">
                      <a:solidFill>
                        <a:srgbClr val="faf9e6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af9e6"/>
                          </a:solidFill>
                          <a:latin typeface="Arial"/>
                        </a:rPr>
                        <a:t>(2) Κινητρα-</a:t>
                      </a:r>
                      <a:endParaRPr b="0" lang="en-US" sz="28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af9e6"/>
                          </a:solidFill>
                          <a:latin typeface="Arial"/>
                        </a:rPr>
                        <a:t>Προσδοκίες</a:t>
                      </a:r>
                      <a:endParaRPr b="0" lang="en-US" sz="28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f9e6"/>
                      </a:solidFill>
                    </a:lnL>
                    <a:lnR w="5760">
                      <a:solidFill>
                        <a:srgbClr val="faf9e6"/>
                      </a:solidFill>
                    </a:lnR>
                    <a:lnT w="5760">
                      <a:solidFill>
                        <a:srgbClr val="faf9e6"/>
                      </a:solidFill>
                    </a:lnT>
                    <a:lnB w="13680">
                      <a:solidFill>
                        <a:srgbClr val="faf9e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af9e6"/>
                          </a:solidFill>
                          <a:latin typeface="Arial"/>
                        </a:rPr>
                        <a:t>Δημιουργία ενισχυτικού συναισθηματικού κλίματος. Παρουσίαση με σαγηνευτικό τρόπο. Καλλιέργεια αυτοπεποίθησης στους μαθητές</a:t>
                      </a:r>
                      <a:endParaRPr b="0" lang="en-US" sz="24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9e6"/>
                      </a:solidFill>
                    </a:lnL>
                    <a:lnR w="13680">
                      <a:solidFill>
                        <a:srgbClr val="faf9e6"/>
                      </a:solidFill>
                    </a:lnR>
                    <a:lnT w="5760">
                      <a:solidFill>
                        <a:srgbClr val="faf9e6"/>
                      </a:solidFill>
                    </a:lnT>
                    <a:lnB w="13680">
                      <a:solidFill>
                        <a:srgbClr val="faf9e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400" spc="-1" strike="noStrike">
                <a:solidFill>
                  <a:srgbClr val="eadc78"/>
                </a:solidFill>
                <a:latin typeface="Garamond"/>
              </a:rPr>
              <a:t>2. Έλεγχος της μάθησης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Διδασκαλία ΙΙ: </a:t>
            </a:r>
            <a:r>
              <a:rPr b="0" i="1" lang="el-GR" sz="2800" spc="-1" strike="noStrike">
                <a:solidFill>
                  <a:srgbClr val="faf9e6"/>
                </a:solidFill>
                <a:latin typeface="Tahoma"/>
              </a:rPr>
              <a:t>Δημιουργία Συνθηκών;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704844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3FD9-3054-4A21-B52F-00F1E32AD6DB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1116000" y="1484280"/>
            <a:ext cx="708660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86d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14200" y="2286000"/>
          <a:ext cx="8643960" cy="3627360"/>
        </p:xfrm>
        <a:graphic>
          <a:graphicData uri="http://schemas.openxmlformats.org/drawingml/2006/table">
            <a:tbl>
              <a:tblPr/>
              <a:tblGrid>
                <a:gridCol w="3481560"/>
                <a:gridCol w="5162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af9e6"/>
                          </a:solidFill>
                          <a:latin typeface="Arial"/>
                        </a:rPr>
                        <a:t>Μαθησιακή διεργ.</a:t>
                      </a:r>
                      <a:endParaRPr b="0" lang="en-US" sz="28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f9e6"/>
                      </a:solidFill>
                    </a:lnL>
                    <a:lnR w="5760">
                      <a:solidFill>
                        <a:srgbClr val="faf9e6"/>
                      </a:solidFill>
                    </a:lnR>
                    <a:lnT w="13680">
                      <a:solidFill>
                        <a:srgbClr val="faf9e6"/>
                      </a:solidFill>
                    </a:lnT>
                    <a:lnB w="5760">
                      <a:solidFill>
                        <a:srgbClr val="faf9e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af9e6"/>
                          </a:solidFill>
                          <a:latin typeface="Arial"/>
                        </a:rPr>
                        <a:t>Διδακτική δραστ.</a:t>
                      </a:r>
                      <a:endParaRPr b="0" lang="en-US" sz="28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9e6"/>
                      </a:solidFill>
                    </a:lnL>
                    <a:lnR w="13680">
                      <a:solidFill>
                        <a:srgbClr val="faf9e6"/>
                      </a:solidFill>
                    </a:lnR>
                    <a:lnT w="13680">
                      <a:solidFill>
                        <a:srgbClr val="faf9e6"/>
                      </a:solidFill>
                    </a:lnT>
                    <a:lnB w="5760">
                      <a:solidFill>
                        <a:srgbClr val="faf9e6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faf9e6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af9e6"/>
                          </a:solidFill>
                          <a:latin typeface="Arial"/>
                        </a:rPr>
                        <a:t>Συσχέτιση</a:t>
                      </a:r>
                      <a:endParaRPr b="0" lang="en-US" sz="28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f9e6"/>
                      </a:solidFill>
                    </a:lnL>
                    <a:lnR w="5760">
                      <a:solidFill>
                        <a:srgbClr val="faf9e6"/>
                      </a:solidFill>
                    </a:lnR>
                    <a:lnT w="5760">
                      <a:solidFill>
                        <a:srgbClr val="faf9e6"/>
                      </a:solidFill>
                    </a:lnT>
                    <a:lnB w="5760">
                      <a:solidFill>
                        <a:srgbClr val="faf9e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af9e6"/>
                          </a:solidFill>
                          <a:latin typeface="Arial"/>
                        </a:rPr>
                        <a:t>Παρουσίαση και αποσαφήνιση του θεματικού αντικειμένου. </a:t>
                      </a:r>
                      <a:r>
                        <a:rPr b="1" lang="el-GR" sz="2400" spc="-1" strike="noStrike" u="sng">
                          <a:solidFill>
                            <a:srgbClr val="faf9e6"/>
                          </a:solidFill>
                          <a:uFillTx/>
                          <a:latin typeface="Arial"/>
                        </a:rPr>
                        <a:t>Αναζήτηση με μαθητές σχέσεων και διαφορών</a:t>
                      </a:r>
                      <a:r>
                        <a:rPr b="0" lang="el-GR" sz="2400" spc="-1" strike="noStrike" u="sng">
                          <a:solidFill>
                            <a:srgbClr val="faf9e6"/>
                          </a:solidFill>
                          <a:uFillTx/>
                          <a:latin typeface="Arial"/>
                        </a:rPr>
                        <a:t>. </a:t>
                      </a:r>
                      <a:r>
                        <a:rPr b="1" lang="el-GR" sz="2400" spc="-1" strike="noStrike" u="sng">
                          <a:solidFill>
                            <a:srgbClr val="faf9e6"/>
                          </a:solidFill>
                          <a:uFillTx/>
                          <a:latin typeface="Arial"/>
                        </a:rPr>
                        <a:t>Ζητάμε περιλήψεις</a:t>
                      </a:r>
                      <a:endParaRPr b="0" lang="en-US" sz="24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9e6"/>
                      </a:solidFill>
                    </a:lnL>
                    <a:lnR w="13680">
                      <a:solidFill>
                        <a:srgbClr val="faf9e6"/>
                      </a:solidFill>
                    </a:lnR>
                    <a:lnT w="5760">
                      <a:solidFill>
                        <a:srgbClr val="faf9e6"/>
                      </a:solidFill>
                    </a:lnT>
                    <a:lnB w="5760">
                      <a:solidFill>
                        <a:srgbClr val="faf9e6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af9e6"/>
                          </a:solidFill>
                          <a:latin typeface="Arial"/>
                        </a:rPr>
                        <a:t>(2) Κινητρα-</a:t>
                      </a:r>
                      <a:endParaRPr b="0" lang="en-US" sz="28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af9e6"/>
                          </a:solidFill>
                          <a:latin typeface="Arial"/>
                        </a:rPr>
                        <a:t>Προσδοκίες</a:t>
                      </a:r>
                      <a:endParaRPr b="0" lang="en-US" sz="28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f9e6"/>
                      </a:solidFill>
                    </a:lnL>
                    <a:lnR w="5760">
                      <a:solidFill>
                        <a:srgbClr val="faf9e6"/>
                      </a:solidFill>
                    </a:lnR>
                    <a:lnT w="5760">
                      <a:solidFill>
                        <a:srgbClr val="faf9e6"/>
                      </a:solidFill>
                    </a:lnT>
                    <a:lnB w="13680">
                      <a:solidFill>
                        <a:srgbClr val="faf9e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af9e6"/>
                          </a:solidFill>
                          <a:latin typeface="Arial"/>
                        </a:rPr>
                        <a:t>Δημιουργία ενισχυτικού συναισθηματικού κλίματος. </a:t>
                      </a:r>
                      <a:r>
                        <a:rPr b="0" lang="el-GR" sz="2400" spc="-1" strike="noStrike" u="sng">
                          <a:solidFill>
                            <a:srgbClr val="faf9e6"/>
                          </a:solidFill>
                          <a:uFillTx/>
                          <a:latin typeface="Arial"/>
                        </a:rPr>
                        <a:t>Προσωπική ευθύνη μάθησης. Εργασίες πραγματοποιήσιμες</a:t>
                      </a:r>
                      <a:endParaRPr b="0" lang="en-US" sz="24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9e6"/>
                      </a:solidFill>
                    </a:lnL>
                    <a:lnR w="13680">
                      <a:solidFill>
                        <a:srgbClr val="faf9e6"/>
                      </a:solidFill>
                    </a:lnR>
                    <a:lnT w="5760">
                      <a:solidFill>
                        <a:srgbClr val="faf9e6"/>
                      </a:solidFill>
                    </a:lnT>
                    <a:lnB w="13680">
                      <a:solidFill>
                        <a:srgbClr val="faf9e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400" spc="-1" strike="noStrike">
                <a:solidFill>
                  <a:srgbClr val="eadc78"/>
                </a:solidFill>
                <a:latin typeface="Garamond"/>
              </a:rPr>
              <a:t>2. Έλεγχος της μάθησης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85280" y="1214280"/>
            <a:ext cx="4040280" cy="64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af9e6"/>
                </a:solidFill>
                <a:latin typeface="Tahoma"/>
              </a:rPr>
              <a:t>Μαθητικοκεντρική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85280" y="1854000"/>
            <a:ext cx="404028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SzPct val="1079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Ο μαθητής είναι δραστήριος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Οι μαθητές συμμετέχουν στον εκπαιδευτικό σχεδιασμό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079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Καλλιεργούνται εσωτερικά κίνητρα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Πολύ λίγα τεστ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0794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Ενθαρρύνονται οι ομαδοκεντρικές πρακτικές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Δίνεται έμφαση στις δημιουργικές πρακτικές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1214280"/>
            <a:ext cx="4041720" cy="64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af9e6"/>
                </a:solidFill>
                <a:latin typeface="Tahoma"/>
              </a:rPr>
              <a:t>Δασκαλοκεντρική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673160" y="1854000"/>
            <a:ext cx="4041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SzPct val="10794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Ο μαθητής έχει παθητικό ρόλο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Οι μαθητές δε συμμετέχουν στον εκπαιδευτικό σχεδιασμό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SzPct val="10794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Χρησιμοποιούνται εξωτερικές αμοιβές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SzPct val="10794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Μεγάλος αριθμός τεστ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SzPct val="10794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Υπάρχει συναγωνισμός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SzPct val="10794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Δίνεται έμφαση στην αποστήθιση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704844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171C-FD9E-4B29-AB5F-AF86106CE93D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400" spc="-1" strike="noStrike">
                <a:solidFill>
                  <a:srgbClr val="eadc78"/>
                </a:solidFill>
                <a:latin typeface="Garamond"/>
              </a:rPr>
              <a:t>2. Έλεγχος της μάθησης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Συντηρητική κατεύθυνση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Δογματική και ακροαματική διδασκαλία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b86d52"/>
              </a:buClr>
              <a:buSzPct val="90000"/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af9e6"/>
                </a:solidFill>
                <a:latin typeface="Tahoma"/>
              </a:rPr>
              <a:t>Καθηγητής: παρουσίαση μαθήματος</a:t>
            </a:r>
            <a:endParaRPr b="0" lang="en-US" sz="2000" spc="-1" strike="noStrike">
              <a:solidFill>
                <a:srgbClr val="faf9e6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b86d52"/>
              </a:buClr>
              <a:buSzPct val="90000"/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af9e6"/>
                </a:solidFill>
                <a:latin typeface="Tahoma"/>
              </a:rPr>
              <a:t>Μαθητές: απομνημόνευση, επαναλήψεις, ασκήσεις, εργασίες στο σπίτι </a:t>
            </a:r>
            <a:endParaRPr b="0" lang="en-US" sz="2000" spc="-1" strike="noStrike">
              <a:solidFill>
                <a:srgbClr val="faf9e6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9e6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Αρχή της αυθεντίας, της απομνημόνευσης, του ανταγωνισμού, της άμεσης εποπτείας, των ποινών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704844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83B4-633E-47D1-86AA-038196AD7A62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400" spc="-1" strike="noStrike">
                <a:solidFill>
                  <a:srgbClr val="eadc78"/>
                </a:solidFill>
                <a:latin typeface="Garamond"/>
              </a:rPr>
              <a:t>2. Έλεγχος της μάθησης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Συντηρητική κατεύθυνση (ΙΙ)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lvl="1" marL="990720" indent="-533520">
              <a:spcBef>
                <a:spcPts val="476"/>
              </a:spcBef>
              <a:buClr>
                <a:srgbClr val="faf9e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faf9e6"/>
                </a:solidFill>
                <a:latin typeface="Tahoma"/>
              </a:rPr>
              <a:t>Επηρεάζεται από αισθησιοκρατικές (</a:t>
            </a:r>
            <a:r>
              <a:rPr b="0" lang="en-US" sz="1900" spc="-1" strike="noStrike">
                <a:solidFill>
                  <a:srgbClr val="faf9e6"/>
                </a:solidFill>
                <a:latin typeface="Tahoma"/>
              </a:rPr>
              <a:t>empirismus</a:t>
            </a:r>
            <a:r>
              <a:rPr b="0" lang="el-GR" sz="1900" spc="-1" strike="noStrike">
                <a:solidFill>
                  <a:srgbClr val="faf9e6"/>
                </a:solidFill>
                <a:latin typeface="Tahoma"/>
              </a:rPr>
              <a:t>)</a:t>
            </a:r>
            <a:r>
              <a:rPr b="0" lang="en-US" sz="1900" spc="-1" strike="noStrike">
                <a:solidFill>
                  <a:srgbClr val="faf9e6"/>
                </a:solidFill>
                <a:latin typeface="Tahoma"/>
              </a:rPr>
              <a:t>, </a:t>
            </a:r>
            <a:r>
              <a:rPr b="0" lang="el-GR" sz="1900" spc="-1" strike="noStrike">
                <a:solidFill>
                  <a:srgbClr val="faf9e6"/>
                </a:solidFill>
                <a:latin typeface="Tahoma"/>
              </a:rPr>
              <a:t>ορθολογιστικές (</a:t>
            </a:r>
            <a:r>
              <a:rPr b="0" lang="en-US" sz="1900" spc="-1" strike="noStrike">
                <a:solidFill>
                  <a:srgbClr val="faf9e6"/>
                </a:solidFill>
                <a:latin typeface="Tahoma"/>
              </a:rPr>
              <a:t>rationalismus</a:t>
            </a:r>
            <a:r>
              <a:rPr b="0" lang="el-GR" sz="1900" spc="-1" strike="noStrike">
                <a:solidFill>
                  <a:srgbClr val="faf9e6"/>
                </a:solidFill>
                <a:latin typeface="Tahoma"/>
              </a:rPr>
              <a:t>)</a:t>
            </a:r>
            <a:r>
              <a:rPr b="0" lang="en-US" sz="1900" spc="-1" strike="noStrike">
                <a:solidFill>
                  <a:srgbClr val="faf9e6"/>
                </a:solidFill>
                <a:latin typeface="Tahoma"/>
              </a:rPr>
              <a:t> </a:t>
            </a:r>
            <a:r>
              <a:rPr b="0" lang="el-GR" sz="1900" spc="-1" strike="noStrike">
                <a:solidFill>
                  <a:srgbClr val="faf9e6"/>
                </a:solidFill>
                <a:latin typeface="Tahoma"/>
              </a:rPr>
              <a:t>και απολυταρχικές αντιλήψεις του παρελθόντος</a:t>
            </a:r>
            <a:endParaRPr b="0" lang="en-US" sz="1900" spc="-1" strike="noStrike">
              <a:solidFill>
                <a:srgbClr val="faf9e6"/>
              </a:solidFill>
              <a:latin typeface="Tahoma"/>
            </a:endParaRPr>
          </a:p>
          <a:p>
            <a:pPr lvl="1" marL="990720" indent="-533520">
              <a:spcBef>
                <a:spcPts val="476"/>
              </a:spcBef>
              <a:buClr>
                <a:srgbClr val="faf9e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faf9e6"/>
                </a:solidFill>
                <a:latin typeface="Tahoma"/>
              </a:rPr>
              <a:t>Κυριότεροι εκπρόσωποι – Αντιπροσωπευτικά έργα</a:t>
            </a:r>
            <a:endParaRPr b="0" lang="en-US" sz="1900" spc="-1" strike="noStrike">
              <a:solidFill>
                <a:srgbClr val="faf9e6"/>
              </a:solidFill>
              <a:latin typeface="Tahoma"/>
            </a:endParaRPr>
          </a:p>
          <a:p>
            <a:pPr lvl="2" marL="1371600" indent="-457200">
              <a:spcBef>
                <a:spcPts val="451"/>
              </a:spcBef>
              <a:buClr>
                <a:srgbClr val="b86d52"/>
              </a:buClr>
              <a:buSzPct val="90000"/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af9e6"/>
                </a:solidFill>
                <a:latin typeface="Tahoma"/>
              </a:rPr>
              <a:t>Κομένιος – «Μεγάλη Διδακτική»</a:t>
            </a:r>
            <a:endParaRPr b="0" lang="en-US" sz="1800" spc="-1" strike="noStrike">
              <a:solidFill>
                <a:srgbClr val="faf9e6"/>
              </a:solidFill>
              <a:latin typeface="Tahoma"/>
            </a:endParaRPr>
          </a:p>
          <a:p>
            <a:pPr lvl="2" marL="1371600" indent="-457200">
              <a:spcBef>
                <a:spcPts val="451"/>
              </a:spcBef>
              <a:buClr>
                <a:srgbClr val="b86d52"/>
              </a:buClr>
              <a:buSzPct val="90000"/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9e6"/>
                </a:solidFill>
                <a:latin typeface="Tahoma"/>
              </a:rPr>
              <a:t>John Lock – </a:t>
            </a:r>
            <a:r>
              <a:rPr b="0" lang="el-GR" sz="1800" spc="-1" strike="noStrike">
                <a:solidFill>
                  <a:srgbClr val="faf9e6"/>
                </a:solidFill>
                <a:latin typeface="Tahoma"/>
              </a:rPr>
              <a:t>«Δοκίμιο για την ανθρώπινη νόηση»</a:t>
            </a:r>
            <a:endParaRPr b="0" lang="en-US" sz="1800" spc="-1" strike="noStrike">
              <a:solidFill>
                <a:srgbClr val="faf9e6"/>
              </a:solidFill>
              <a:latin typeface="Tahoma"/>
            </a:endParaRPr>
          </a:p>
          <a:p>
            <a:pPr lvl="2" marL="1371600" indent="-457200">
              <a:spcBef>
                <a:spcPts val="451"/>
              </a:spcBef>
              <a:buClr>
                <a:srgbClr val="b86d52"/>
              </a:buClr>
              <a:buSzPct val="90000"/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af9e6"/>
                </a:solidFill>
                <a:latin typeface="Tahoma"/>
              </a:rPr>
              <a:t>Πεσταλότσι – «Λεονάρδος και Γερτρούδη»</a:t>
            </a:r>
            <a:endParaRPr b="0" lang="en-US" sz="1800" spc="-1" strike="noStrike">
              <a:solidFill>
                <a:srgbClr val="faf9e6"/>
              </a:solidFill>
              <a:latin typeface="Tahoma"/>
            </a:endParaRPr>
          </a:p>
          <a:p>
            <a:pPr lvl="2" marL="1371600" indent="-457200">
              <a:spcBef>
                <a:spcPts val="451"/>
              </a:spcBef>
              <a:buClr>
                <a:srgbClr val="b86d52"/>
              </a:buClr>
              <a:buSzPct val="90000"/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af9e6"/>
                </a:solidFill>
                <a:latin typeface="Tahoma"/>
              </a:rPr>
              <a:t>Έρβαρτος – «Γενική Παιδαγωγική, υπαγορευμένη από το σκοπό της εκπαιδεύσεως»</a:t>
            </a:r>
            <a:endParaRPr b="0" lang="en-US" sz="1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704844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EFC9-20A4-46B1-BF71-FD0163C10453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400" spc="-1" strike="noStrike">
                <a:solidFill>
                  <a:srgbClr val="eadc78"/>
                </a:solidFill>
                <a:latin typeface="Garamond"/>
              </a:rPr>
              <a:t>2. Έλεγχος της μάθησης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Προοδευτική κατεύθυνση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Χρησιμοποιεί τη διαλογική διδασκαλία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b86d52"/>
              </a:buClr>
              <a:buSzPct val="90000"/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af9e6"/>
                </a:solidFill>
                <a:latin typeface="Tahoma"/>
              </a:rPr>
              <a:t>Το μάθημα παρουσιάζεται σε συνεργασία καθηγητή-μαθητών</a:t>
            </a:r>
            <a:endParaRPr b="0" lang="en-US" sz="2000" spc="-1" strike="noStrike">
              <a:solidFill>
                <a:srgbClr val="faf9e6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b86d52"/>
              </a:buClr>
              <a:buSzPct val="90000"/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af9e6"/>
                </a:solidFill>
                <a:latin typeface="Tahoma"/>
              </a:rPr>
              <a:t>Δυναμική συμμετοχή των μαθητών στην παρουσίαση</a:t>
            </a:r>
            <a:endParaRPr b="0" lang="en-US" sz="2000" spc="-1" strike="noStrike">
              <a:solidFill>
                <a:srgbClr val="faf9e6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b86d52"/>
              </a:buClr>
              <a:buSzPct val="90000"/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af9e6"/>
                </a:solidFill>
                <a:latin typeface="Tahoma"/>
              </a:rPr>
              <a:t>Χρήση της πρακτικής εξάσκησης και μάθηση μέσα από την πράξη (</a:t>
            </a:r>
            <a:r>
              <a:rPr b="0" i="1" lang="en-US" sz="2000" spc="-1" strike="noStrike">
                <a:solidFill>
                  <a:srgbClr val="faf9e6"/>
                </a:solidFill>
                <a:latin typeface="Tahoma"/>
              </a:rPr>
              <a:t>learning by doing</a:t>
            </a:r>
            <a:r>
              <a:rPr b="0" lang="el-GR" sz="2000" spc="-1" strike="noStrike">
                <a:solidFill>
                  <a:srgbClr val="faf9e6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704844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37A3-5C32-4C69-A33E-04952E37C334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400" spc="-1" strike="noStrike">
                <a:solidFill>
                  <a:srgbClr val="eadc78"/>
                </a:solidFill>
                <a:latin typeface="Garamond"/>
              </a:rPr>
              <a:t>2. Έλεγχος της μάθησης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Προοδευτική κατεύθυνση</a:t>
            </a:r>
            <a:r>
              <a:rPr b="0" lang="en-US" sz="2800" spc="-1" strike="noStrike">
                <a:solidFill>
                  <a:srgbClr val="faf9e6"/>
                </a:solidFill>
                <a:latin typeface="Tahoma"/>
              </a:rPr>
              <a:t> (II)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Δεν στηρίζεται στην αρχή της αυθεντίας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Όχι ανταγωνισμός </a:t>
            </a:r>
            <a:r>
              <a:rPr b="0" lang="el-GR" sz="2400" spc="-1" strike="noStrike">
                <a:solidFill>
                  <a:srgbClr val="faf9e6"/>
                </a:solidFill>
                <a:latin typeface="Wingdings"/>
                <a:ea typeface="Wingdings"/>
              </a:rPr>
              <a:t>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 </a:t>
            </a:r>
            <a:r>
              <a:rPr b="1" i="1" lang="el-GR" sz="2400" spc="-1" strike="noStrike">
                <a:solidFill>
                  <a:srgbClr val="faf9e6"/>
                </a:solidFill>
                <a:latin typeface="Tahoma"/>
              </a:rPr>
              <a:t>συνεργασία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Όχι ποινές, εξαναγκασμός </a:t>
            </a:r>
            <a:r>
              <a:rPr b="0" lang="el-GR" sz="2400" spc="-1" strike="noStrike">
                <a:solidFill>
                  <a:srgbClr val="faf9e6"/>
                </a:solidFill>
                <a:latin typeface="Wingdings"/>
                <a:ea typeface="Wingdings"/>
              </a:rPr>
              <a:t>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 </a:t>
            </a:r>
            <a:r>
              <a:rPr b="1" i="1" lang="el-GR" sz="2400" spc="-1" strike="noStrike">
                <a:solidFill>
                  <a:srgbClr val="faf9e6"/>
                </a:solidFill>
                <a:latin typeface="Tahoma"/>
              </a:rPr>
              <a:t>ενθάρρυνση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Όχι παπαγαλισμός </a:t>
            </a:r>
            <a:r>
              <a:rPr b="0" lang="el-GR" sz="2400" spc="-1" strike="noStrike">
                <a:solidFill>
                  <a:srgbClr val="faf9e6"/>
                </a:solidFill>
                <a:latin typeface="Wingdings"/>
                <a:ea typeface="Wingdings"/>
              </a:rPr>
              <a:t>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 </a:t>
            </a:r>
            <a:r>
              <a:rPr b="1" i="1" lang="el-GR" sz="2400" spc="-1" strike="noStrike">
                <a:solidFill>
                  <a:srgbClr val="faf9e6"/>
                </a:solidFill>
                <a:latin typeface="Tahoma"/>
              </a:rPr>
              <a:t>κριτική,δημιουργική σκέψη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Όχι αδράνεια </a:t>
            </a:r>
            <a:r>
              <a:rPr b="0" lang="el-GR" sz="2400" spc="-1" strike="noStrike">
                <a:solidFill>
                  <a:srgbClr val="faf9e6"/>
                </a:solidFill>
                <a:latin typeface="Wingdings"/>
                <a:ea typeface="Wingdings"/>
              </a:rPr>
              <a:t>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 </a:t>
            </a:r>
            <a:r>
              <a:rPr b="1" i="1" lang="el-GR" sz="2400" spc="-1" strike="noStrike">
                <a:solidFill>
                  <a:srgbClr val="faf9e6"/>
                </a:solidFill>
                <a:latin typeface="Tahoma"/>
              </a:rPr>
              <a:t>προβληματισμός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Όχι αναπαραγωγική </a:t>
            </a:r>
            <a:r>
              <a:rPr b="0" lang="el-GR" sz="2400" spc="-1" strike="noStrike">
                <a:solidFill>
                  <a:srgbClr val="faf9e6"/>
                </a:solidFill>
                <a:latin typeface="Wingdings"/>
                <a:ea typeface="Wingdings"/>
              </a:rPr>
              <a:t>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 </a:t>
            </a:r>
            <a:r>
              <a:rPr b="1" i="1" lang="el-GR" sz="2400" spc="-1" strike="noStrike">
                <a:solidFill>
                  <a:srgbClr val="faf9e6"/>
                </a:solidFill>
                <a:latin typeface="Tahoma"/>
              </a:rPr>
              <a:t>παραγωγική εργασία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704844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3064-66BF-4A0B-9FC0-12C03B9F2FD7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400" spc="-1" strike="noStrike">
                <a:solidFill>
                  <a:srgbClr val="eadc78"/>
                </a:solidFill>
                <a:latin typeface="Garamond"/>
              </a:rPr>
              <a:t>3. Εστίαση της μάθησης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Προσεγγίσεις Γενικής Διδακτικής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Χωρίς συνυπολογισμό του περιεχομένου της μάθησης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Προσεγγίσεις Ειδικής Διδακτικής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Εξαρτώμενες από το περιεχόμενο της μάθησης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704844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9B7F-26F8-4C91-BD80-33623419D40D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400" spc="-1" strike="noStrike">
                <a:solidFill>
                  <a:srgbClr val="eadc78"/>
                </a:solidFill>
                <a:latin typeface="Garamond"/>
              </a:rPr>
              <a:t>3. Εστίαση της μάθησης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704844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89C1-C56C-4417-B3C9-D42E3A071A2F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714920" y="3465360"/>
            <a:ext cx="1401840" cy="300240"/>
          </a:xfrm>
          <a:prstGeom prst="rect">
            <a:avLst/>
          </a:prstGeom>
          <a:solidFill>
            <a:srgbClr val="dec82b"/>
          </a:solidFill>
          <a:ln w="9360">
            <a:solidFill>
              <a:srgbClr val="ff8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1138320" y="3616200"/>
            <a:ext cx="62308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826920" y="3016080"/>
            <a:ext cx="288792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40c00"/>
                </a:solidFill>
                <a:latin typeface="Mistral"/>
              </a:rPr>
              <a:t>Για συγκεκριμένα πεδία</a:t>
            </a: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5786280" y="3755880"/>
            <a:ext cx="26733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40c00"/>
                </a:solidFill>
                <a:latin typeface="Mistral"/>
              </a:rPr>
              <a:t>Διαθεματική προσέγγιση</a:t>
            </a: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D25E-6666-403C-8A5D-2573885AAFA7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80" name="Rectangle 19"/>
          <p:cNvSpPr/>
          <p:nvPr/>
        </p:nvSpPr>
        <p:spPr>
          <a:xfrm>
            <a:off x="-396720" y="3213000"/>
            <a:ext cx="9937440" cy="1440000"/>
          </a:xfrm>
          <a:prstGeom prst="rect">
            <a:avLst/>
          </a:prstGeom>
          <a:solidFill>
            <a:srgbClr val="990000"/>
          </a:solidFill>
          <a:ln w="9360">
            <a:solidFill>
              <a:srgbClr val="faf9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81" name="Rectangle 18"/>
          <p:cNvSpPr/>
          <p:nvPr/>
        </p:nvSpPr>
        <p:spPr>
          <a:xfrm>
            <a:off x="-181080" y="3355920"/>
            <a:ext cx="9577440" cy="1152720"/>
          </a:xfrm>
          <a:prstGeom prst="rect">
            <a:avLst/>
          </a:prstGeom>
          <a:solidFill>
            <a:srgbClr val="000000"/>
          </a:solidFill>
          <a:ln w="9360">
            <a:solidFill>
              <a:srgbClr val="faf9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9144000" cy="146988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400" spc="-1" strike="noStrike">
                <a:solidFill>
                  <a:srgbClr val="eadc78"/>
                </a:solidFill>
                <a:latin typeface="Times New Roman"/>
              </a:rPr>
              <a:t>Παραδείγματα διδακτικών πλάνων στην πληροφορική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403280" y="513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l-GR" sz="1800" spc="-1" strike="noStrike">
              <a:solidFill>
                <a:srgbClr val="faf9e6"/>
              </a:solidFill>
              <a:latin typeface="Garamond"/>
            </a:endParaRPr>
          </a:p>
        </p:txBody>
      </p:sp>
      <p:pic>
        <p:nvPicPr>
          <p:cNvPr id="184" name="Picture 4" descr="child_computer"/>
          <p:cNvPicPr/>
          <p:nvPr/>
        </p:nvPicPr>
        <p:blipFill>
          <a:blip r:embed="rId1"/>
          <a:stretch/>
        </p:blipFill>
        <p:spPr>
          <a:xfrm>
            <a:off x="7812000" y="3500280"/>
            <a:ext cx="1332000" cy="92412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185" name="Picture 11" descr=""/>
          <p:cNvPicPr/>
          <p:nvPr/>
        </p:nvPicPr>
        <p:blipFill>
          <a:blip r:embed="rId2"/>
          <a:srcRect l="3112" t="2079" r="3764" b="3790"/>
          <a:stretch/>
        </p:blipFill>
        <p:spPr>
          <a:xfrm>
            <a:off x="6516720" y="3500280"/>
            <a:ext cx="1152360" cy="88452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186" name="Picture 13" descr="frontpage"/>
          <p:cNvPicPr/>
          <p:nvPr/>
        </p:nvPicPr>
        <p:blipFill>
          <a:blip r:embed="rId3"/>
          <a:srcRect l="1370" t="5418" r="2041" b="7267"/>
          <a:stretch/>
        </p:blipFill>
        <p:spPr>
          <a:xfrm>
            <a:off x="4211640" y="3500280"/>
            <a:ext cx="2232000" cy="87012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187" name="Picture 14" descr="hitachi_tabletop"/>
          <p:cNvPicPr/>
          <p:nvPr/>
        </p:nvPicPr>
        <p:blipFill>
          <a:blip r:embed="rId4"/>
          <a:stretch/>
        </p:blipFill>
        <p:spPr>
          <a:xfrm>
            <a:off x="2867040" y="3500280"/>
            <a:ext cx="1128600" cy="85752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188" name="Picture 16" descr="child_computer"/>
          <p:cNvPicPr/>
          <p:nvPr/>
        </p:nvPicPr>
        <p:blipFill>
          <a:blip r:embed="rId5"/>
          <a:stretch/>
        </p:blipFill>
        <p:spPr>
          <a:xfrm>
            <a:off x="0" y="3500280"/>
            <a:ext cx="1332000" cy="92412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189" name="Picture 17" descr=""/>
          <p:cNvPicPr/>
          <p:nvPr/>
        </p:nvPicPr>
        <p:blipFill>
          <a:blip r:embed="rId6"/>
          <a:srcRect l="3112" t="2079" r="3764" b="3790"/>
          <a:stretch/>
        </p:blipFill>
        <p:spPr>
          <a:xfrm>
            <a:off x="1476360" y="3500280"/>
            <a:ext cx="1152720" cy="88452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400" spc="-1" strike="noStrike">
                <a:solidFill>
                  <a:srgbClr val="eadc78"/>
                </a:solidFill>
                <a:latin typeface="Garamond"/>
              </a:rPr>
              <a:t>4. Ομάδες για τη μάθηση 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Τρόπος οργάνωσης ομάδων για τη μάθηση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704844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7892-E8A1-4454-A457-B8188A6C2343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971640" y="3068640"/>
            <a:ext cx="8137440" cy="887400"/>
            <a:chOff x="971640" y="3068640"/>
            <a:chExt cx="8137440" cy="887400"/>
          </a:xfrm>
        </p:grpSpPr>
        <p:sp>
          <p:nvSpPr>
            <p:cNvPr id="257" name="AutoShape 5"/>
            <p:cNvSpPr/>
            <p:nvPr/>
          </p:nvSpPr>
          <p:spPr>
            <a:xfrm>
              <a:off x="971640" y="3068640"/>
              <a:ext cx="8137440" cy="8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58" name="Rectangle 6"/>
            <p:cNvSpPr/>
            <p:nvPr/>
          </p:nvSpPr>
          <p:spPr>
            <a:xfrm>
              <a:off x="2143080" y="3661200"/>
              <a:ext cx="920520" cy="294840"/>
            </a:xfrm>
            <a:prstGeom prst="rect">
              <a:avLst/>
            </a:prstGeom>
            <a:solidFill>
              <a:srgbClr val="9989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59" name="Line 7"/>
            <p:cNvSpPr/>
            <p:nvPr/>
          </p:nvSpPr>
          <p:spPr>
            <a:xfrm>
              <a:off x="1278360" y="3808080"/>
              <a:ext cx="6141600" cy="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60" name="Text Box 8"/>
            <p:cNvSpPr/>
            <p:nvPr/>
          </p:nvSpPr>
          <p:spPr>
            <a:xfrm>
              <a:off x="971640" y="3216600"/>
              <a:ext cx="1229040" cy="444600"/>
            </a:xfrm>
            <a:prstGeom prst="rect">
              <a:avLst/>
            </a:prstGeom>
            <a:solidFill>
              <a:srgbClr val="dec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Mistral"/>
                </a:rPr>
                <a:t>Ατομο</a:t>
              </a:r>
              <a:r>
                <a:rPr b="0" lang="el-GR" sz="1800" spc="-1" strike="noStrike">
                  <a:solidFill>
                    <a:srgbClr val="000000"/>
                  </a:solidFill>
                  <a:latin typeface="Mistral"/>
                </a:rPr>
                <a:t> </a:t>
              </a: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61" name="Text Box 9"/>
            <p:cNvSpPr/>
            <p:nvPr/>
          </p:nvSpPr>
          <p:spPr>
            <a:xfrm>
              <a:off x="3120840" y="3216600"/>
              <a:ext cx="1229040" cy="444600"/>
            </a:xfrm>
            <a:prstGeom prst="rect">
              <a:avLst/>
            </a:prstGeom>
            <a:solidFill>
              <a:srgbClr val="dec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Mistral"/>
                </a:rPr>
                <a:t>ζευγάρι</a:t>
              </a:r>
              <a:r>
                <a:rPr b="0" lang="el-GR" sz="1800" spc="-1" strike="noStrike">
                  <a:solidFill>
                    <a:srgbClr val="000000"/>
                  </a:solidFill>
                  <a:latin typeface="Mistral"/>
                </a:rPr>
                <a:t> </a:t>
              </a: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62" name="Text Box 10"/>
            <p:cNvSpPr/>
            <p:nvPr/>
          </p:nvSpPr>
          <p:spPr>
            <a:xfrm>
              <a:off x="4964400" y="3216600"/>
              <a:ext cx="1227600" cy="444600"/>
            </a:xfrm>
            <a:prstGeom prst="rect">
              <a:avLst/>
            </a:prstGeom>
            <a:solidFill>
              <a:srgbClr val="dec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Mistral"/>
                </a:rPr>
                <a:t>3-6 άτομα </a:t>
              </a:r>
              <a:endParaRPr b="0" lang="en-US" sz="24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63" name="Text Box 11"/>
            <p:cNvSpPr/>
            <p:nvPr/>
          </p:nvSpPr>
          <p:spPr>
            <a:xfrm>
              <a:off x="6806160" y="3216600"/>
              <a:ext cx="1535040" cy="444600"/>
            </a:xfrm>
            <a:prstGeom prst="rect">
              <a:avLst/>
            </a:prstGeom>
            <a:solidFill>
              <a:srgbClr val="dec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Mistral"/>
                </a:rPr>
                <a:t>Ομάδες 7+</a:t>
              </a:r>
              <a:endParaRPr b="0" lang="en-US" sz="2400" spc="-1" strike="noStrike">
                <a:solidFill>
                  <a:srgbClr val="faf9e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400" spc="-1" strike="noStrike">
                <a:solidFill>
                  <a:srgbClr val="eadc78"/>
                </a:solidFill>
                <a:latin typeface="Garamond"/>
              </a:rPr>
              <a:t>5. Αλληλεπιδράσεις για τη μάθηση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Προσδιορισμός χαρακτηριστικών των εναλλακτικών αλληλεπιδράσεων: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Μαθητής – Δάσκαλος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Μαθητής – Μαθητής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Μαθητής – Εργαλεία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Μαθητής – Πληροφορίες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Μαθητής – Περιβάλλοντα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Άλλες αλληλεπιδράσεις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04844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2AC7-1B72-4EB0-98B6-92C74508CBEB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400" spc="-1" strike="noStrike">
                <a:solidFill>
                  <a:srgbClr val="eadc78"/>
                </a:solidFill>
                <a:latin typeface="Garamond"/>
              </a:rPr>
              <a:t>6. Υποστήριξη της μάθησης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704844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FB51-4BE0-4ADA-B048-DC301F5F9313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grpSp>
        <p:nvGrpSpPr>
          <p:cNvPr id="270" name="Group 18"/>
          <p:cNvGrpSpPr/>
          <p:nvPr/>
        </p:nvGrpSpPr>
        <p:grpSpPr>
          <a:xfrm>
            <a:off x="468360" y="1916280"/>
            <a:ext cx="10944000" cy="4338360"/>
            <a:chOff x="468360" y="1916280"/>
            <a:chExt cx="10944000" cy="4338360"/>
          </a:xfrm>
        </p:grpSpPr>
        <p:sp>
          <p:nvSpPr>
            <p:cNvPr id="271" name="AutoShape 19"/>
            <p:cNvSpPr/>
            <p:nvPr/>
          </p:nvSpPr>
          <p:spPr>
            <a:xfrm>
              <a:off x="468360" y="1916280"/>
              <a:ext cx="10944000" cy="43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72" name="Line 20"/>
            <p:cNvSpPr/>
            <p:nvPr/>
          </p:nvSpPr>
          <p:spPr>
            <a:xfrm flipV="1">
              <a:off x="2184840" y="2535840"/>
              <a:ext cx="0" cy="2892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73" name="Line 21"/>
            <p:cNvSpPr/>
            <p:nvPr/>
          </p:nvSpPr>
          <p:spPr>
            <a:xfrm>
              <a:off x="2184840" y="5428080"/>
              <a:ext cx="3218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74" name="Text Box 22"/>
            <p:cNvSpPr/>
            <p:nvPr/>
          </p:nvSpPr>
          <p:spPr>
            <a:xfrm>
              <a:off x="2286000" y="1999800"/>
              <a:ext cx="252900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Mistral"/>
                </a:rPr>
                <a:t>Γνωστική υποστήριξη </a:t>
              </a:r>
              <a:endParaRPr b="0" lang="en-US" sz="24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75" name="Text Box 23"/>
            <p:cNvSpPr/>
            <p:nvPr/>
          </p:nvSpPr>
          <p:spPr>
            <a:xfrm>
              <a:off x="4786200" y="5571720"/>
              <a:ext cx="3170520" cy="50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Mistral"/>
                </a:rPr>
                <a:t>Συναισθηματική υποστήριξη </a:t>
              </a:r>
              <a:endParaRPr b="0" lang="en-US" sz="24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76" name="Rectangle 24"/>
            <p:cNvSpPr/>
            <p:nvPr/>
          </p:nvSpPr>
          <p:spPr>
            <a:xfrm>
              <a:off x="2400840" y="2948760"/>
              <a:ext cx="742320" cy="2271240"/>
            </a:xfrm>
            <a:prstGeom prst="rect">
              <a:avLst/>
            </a:prstGeom>
            <a:solidFill>
              <a:srgbClr val="dec8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029E-96BB-4038-AC1C-C65A984757C7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78" name="Rectangle 19"/>
          <p:cNvSpPr/>
          <p:nvPr/>
        </p:nvSpPr>
        <p:spPr>
          <a:xfrm>
            <a:off x="-396720" y="3213000"/>
            <a:ext cx="9937440" cy="1440000"/>
          </a:xfrm>
          <a:prstGeom prst="rect">
            <a:avLst/>
          </a:prstGeom>
          <a:solidFill>
            <a:srgbClr val="990000"/>
          </a:solidFill>
          <a:ln w="9360">
            <a:solidFill>
              <a:srgbClr val="faf9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79" name="Rectangle 18"/>
          <p:cNvSpPr/>
          <p:nvPr/>
        </p:nvSpPr>
        <p:spPr>
          <a:xfrm>
            <a:off x="-181080" y="3355920"/>
            <a:ext cx="9577440" cy="1152720"/>
          </a:xfrm>
          <a:prstGeom prst="rect">
            <a:avLst/>
          </a:prstGeom>
          <a:solidFill>
            <a:srgbClr val="000000"/>
          </a:solidFill>
          <a:ln w="9360">
            <a:solidFill>
              <a:srgbClr val="faf9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9144000" cy="146988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400" spc="-1" strike="noStrike">
                <a:solidFill>
                  <a:srgbClr val="eadc78"/>
                </a:solidFill>
                <a:latin typeface="Times New Roman"/>
              </a:rPr>
              <a:t>Εποικοδομητική Μάθηση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403280" y="513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l-GR" sz="1800" spc="-1" strike="noStrike">
              <a:solidFill>
                <a:srgbClr val="faf9e6"/>
              </a:solidFill>
              <a:latin typeface="Garamond"/>
            </a:endParaRPr>
          </a:p>
        </p:txBody>
      </p:sp>
      <p:pic>
        <p:nvPicPr>
          <p:cNvPr id="282" name="Picture 4" descr="child_computer"/>
          <p:cNvPicPr/>
          <p:nvPr/>
        </p:nvPicPr>
        <p:blipFill>
          <a:blip r:embed="rId1"/>
          <a:stretch/>
        </p:blipFill>
        <p:spPr>
          <a:xfrm>
            <a:off x="7812000" y="3500280"/>
            <a:ext cx="1332000" cy="92412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283" name="Picture 11" descr=""/>
          <p:cNvPicPr/>
          <p:nvPr/>
        </p:nvPicPr>
        <p:blipFill>
          <a:blip r:embed="rId2"/>
          <a:srcRect l="3112" t="2079" r="3764" b="3790"/>
          <a:stretch/>
        </p:blipFill>
        <p:spPr>
          <a:xfrm>
            <a:off x="6516720" y="3500280"/>
            <a:ext cx="1152360" cy="88452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284" name="Picture 13" descr="frontpage"/>
          <p:cNvPicPr/>
          <p:nvPr/>
        </p:nvPicPr>
        <p:blipFill>
          <a:blip r:embed="rId3"/>
          <a:srcRect l="1370" t="5418" r="2041" b="7267"/>
          <a:stretch/>
        </p:blipFill>
        <p:spPr>
          <a:xfrm>
            <a:off x="4211640" y="3500280"/>
            <a:ext cx="2232000" cy="87012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285" name="Picture 14" descr="hitachi_tabletop"/>
          <p:cNvPicPr/>
          <p:nvPr/>
        </p:nvPicPr>
        <p:blipFill>
          <a:blip r:embed="rId4"/>
          <a:stretch/>
        </p:blipFill>
        <p:spPr>
          <a:xfrm>
            <a:off x="2867040" y="3500280"/>
            <a:ext cx="1128600" cy="85752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286" name="Picture 16" descr="child_computer"/>
          <p:cNvPicPr/>
          <p:nvPr/>
        </p:nvPicPr>
        <p:blipFill>
          <a:blip r:embed="rId5"/>
          <a:stretch/>
        </p:blipFill>
        <p:spPr>
          <a:xfrm>
            <a:off x="0" y="3500280"/>
            <a:ext cx="1332000" cy="92412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287" name="Picture 17" descr=""/>
          <p:cNvPicPr/>
          <p:nvPr/>
        </p:nvPicPr>
        <p:blipFill>
          <a:blip r:embed="rId6"/>
          <a:srcRect l="3112" t="2079" r="3764" b="3790"/>
          <a:stretch/>
        </p:blipFill>
        <p:spPr>
          <a:xfrm>
            <a:off x="1476360" y="3500280"/>
            <a:ext cx="1152720" cy="88452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400" spc="-1" strike="noStrike">
                <a:solidFill>
                  <a:srgbClr val="eadc78"/>
                </a:solidFill>
                <a:latin typeface="Garamond"/>
              </a:rPr>
              <a:t>Η τυπική προσέγγιση: Συμπεριφορισμός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af9e6"/>
                </a:solidFill>
                <a:latin typeface="Tahoma"/>
              </a:rPr>
              <a:t>Συμπεριφορισμός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Δεν έχουν σημασία οι εσωτερικές διεργασίες που λαμβάνουν χώρα κατά τη διάρκεια της μάθησης, αλλά οι αλλαγές που συμβαίνουν στην εμφανή συμπεριφορά του υποκειμένου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Ο σημαντικότερος μηχανισμός της μάθησης είναι, κατά τους συμπεριφοριστές, </a:t>
            </a:r>
            <a:r>
              <a:rPr b="0" lang="el-GR" sz="2400" spc="-1" strike="noStrike" u="sng">
                <a:solidFill>
                  <a:srgbClr val="ffc000"/>
                </a:solidFill>
                <a:uFillTx/>
                <a:latin typeface="Tahoma"/>
              </a:rPr>
              <a:t>η ενίσχυση της επιθυμητής συμπεριφοράς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Πείραμα του </a:t>
            </a:r>
            <a:r>
              <a:rPr b="0" lang="en-US" sz="2400" spc="-1" strike="noStrike">
                <a:solidFill>
                  <a:srgbClr val="faf9e6"/>
                </a:solidFill>
                <a:latin typeface="Tahoma"/>
              </a:rPr>
              <a:t>Pavlov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: εξαρτημένη μάθηση συντελείται με την ενίσχυση της επιθυμητής συμπεριφοράς (θετική ενίσχυση), είτε μέσω της αμοιβής, είτε με τιμωρία ή την απαλλαγή από τις δυσάρεστες επιπτώσεις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9e6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704844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D880-584E-495B-9D7A-8392795408B1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400" spc="-1" strike="noStrike">
                <a:solidFill>
                  <a:srgbClr val="eadc78"/>
                </a:solidFill>
                <a:latin typeface="Garamond"/>
              </a:rPr>
              <a:t>Εποικοδομητισμός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af9e6"/>
                </a:solidFill>
                <a:latin typeface="Tahoma"/>
              </a:rPr>
              <a:t>Εποικοδομητισμός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Ο εποικοδομητισμός ρίχνει φως και δίνει βαρύτητα στις υπάρχουσες αντιλήψεις, ιδέες και αναπαραστάσεις των εκπαιδευόμενων σε σχέση με το θέμα που διδάσκονται κάθε φορά.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Η νόηση είναι μια λειτουργία </a:t>
            </a:r>
            <a:r>
              <a:rPr b="0" lang="el-GR" sz="2800" spc="-1" strike="noStrike">
                <a:solidFill>
                  <a:srgbClr val="ffc000"/>
                </a:solidFill>
                <a:latin typeface="Tahoma"/>
              </a:rPr>
              <a:t>κατασκευής νοημάτων βασιζόμενη πάνω στην όλη εμπειρία του ατόμου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. Η δόμηση της γνώσης βασίζεται στις </a:t>
            </a:r>
            <a:r>
              <a:rPr b="0" lang="el-GR" sz="2400" spc="-1" strike="noStrike" u="sng">
                <a:solidFill>
                  <a:srgbClr val="faf9e6"/>
                </a:solidFill>
                <a:uFillTx/>
                <a:latin typeface="Tahoma"/>
              </a:rPr>
              <a:t>προυπάρχουσες εμπειρίες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, </a:t>
            </a:r>
            <a:r>
              <a:rPr b="0" lang="el-GR" sz="2400" spc="-1" strike="noStrike" u="sng">
                <a:solidFill>
                  <a:srgbClr val="faf9e6"/>
                </a:solidFill>
                <a:uFillTx/>
                <a:latin typeface="Tahoma"/>
              </a:rPr>
              <a:t>τις νοητικές κατασκευές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, </a:t>
            </a:r>
            <a:r>
              <a:rPr b="0" lang="el-GR" sz="2400" spc="-1" strike="noStrike" u="sng">
                <a:solidFill>
                  <a:srgbClr val="faf9e6"/>
                </a:solidFill>
                <a:uFillTx/>
                <a:latin typeface="Tahoma"/>
              </a:rPr>
              <a:t>τις πεποιθήσεις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, </a:t>
            </a:r>
            <a:r>
              <a:rPr b="0" lang="el-GR" sz="2400" spc="-1" strike="noStrike" u="sng">
                <a:solidFill>
                  <a:srgbClr val="faf9e6"/>
                </a:solidFill>
                <a:uFillTx/>
                <a:latin typeface="Tahoma"/>
              </a:rPr>
              <a:t>τις «θεωρίες» που ο καθένας χρησιμοποιεί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, προκειμένου να ερμηνεύσει αντικείμενα ή γεγονότα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704844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820B-BCA9-4098-AC5E-FDB1F6184B29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400" spc="-1" strike="noStrike">
                <a:solidFill>
                  <a:srgbClr val="eadc78"/>
                </a:solidFill>
                <a:latin typeface="Garamond"/>
              </a:rPr>
              <a:t>Εποικοδομητισμός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2876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Βασικές αρχές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Οι μαθητές </a:t>
            </a:r>
            <a:r>
              <a:rPr b="0" lang="el-GR" sz="2400" spc="-1" strike="noStrike" u="sng">
                <a:solidFill>
                  <a:srgbClr val="ffc000"/>
                </a:solidFill>
                <a:uFillTx/>
                <a:latin typeface="Tahoma"/>
              </a:rPr>
              <a:t>δεν θεωρούνται πλέον παθητικοί δέκτες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, αλλά τελικοί υπεύθυνοι της δικής τους μάθησης.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Η μάθηση θεωρείται ότι </a:t>
            </a:r>
            <a:r>
              <a:rPr b="0" lang="el-GR" sz="2400" spc="-1" strike="noStrike" u="sng">
                <a:solidFill>
                  <a:srgbClr val="ffc000"/>
                </a:solidFill>
                <a:uFillTx/>
                <a:latin typeface="Tahoma"/>
              </a:rPr>
              <a:t>εμπλέκει το μαθητή με ενεργό τρόπο</a:t>
            </a:r>
            <a:r>
              <a:rPr b="0" lang="el-GR" sz="2400" spc="-1" strike="noStrike" u="sng">
                <a:solidFill>
                  <a:srgbClr val="faf9e6"/>
                </a:solidFill>
                <a:uFillTx/>
                <a:latin typeface="Tahoma"/>
              </a:rPr>
              <a:t> 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στην εκπαιδευτική διαδικασία.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Η γνώση δεν είναι «κάπου εκεί έξω», αλλά </a:t>
            </a:r>
            <a:r>
              <a:rPr b="0" lang="el-GR" sz="2400" spc="-1" strike="noStrike" u="sng">
                <a:solidFill>
                  <a:srgbClr val="ffc000"/>
                </a:solidFill>
                <a:uFillTx/>
                <a:latin typeface="Tahoma"/>
              </a:rPr>
              <a:t>οικοδομείται με προσωπικό και κοινωνικό 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τρόπο.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Οι διδάσκοντες φέρνουν επίσης στις μαθησιακές καταστάσεις τις </a:t>
            </a:r>
            <a:r>
              <a:rPr b="0" lang="el-GR" sz="2400" spc="-1" strike="noStrike" u="sng">
                <a:solidFill>
                  <a:srgbClr val="ffc000"/>
                </a:solidFill>
                <a:uFillTx/>
                <a:latin typeface="Tahoma"/>
              </a:rPr>
              <a:t>δικές τους ιδέες και αντιλήψεις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Η διδασκαλία δεν είναι η μετάδοση της γνώσης, αλλά προϋποθέτει την </a:t>
            </a:r>
            <a:r>
              <a:rPr b="0" lang="el-GR" sz="2400" spc="-1" strike="noStrike" u="sng">
                <a:solidFill>
                  <a:srgbClr val="ffc000"/>
                </a:solidFill>
                <a:uFillTx/>
                <a:latin typeface="Tahoma"/>
              </a:rPr>
              <a:t>οργάνωση των καταστάσεων-δραστηριοτήτων μέσα στην τάξη με τρόπο που να προωθούν την οικοδόμηση της επιστημονικής γνώσης.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704844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0546-04A7-4D08-93B1-2648B5C8BD93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l-GR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af9e6"/>
                </a:solidFill>
                <a:latin typeface="Tahoma"/>
              </a:rPr>
              <a:t>“</a:t>
            </a:r>
            <a:r>
              <a:rPr b="1" lang="el-GR" sz="2800" spc="-1" strike="noStrike">
                <a:solidFill>
                  <a:srgbClr val="faf9e6"/>
                </a:solidFill>
                <a:latin typeface="Tahoma"/>
              </a:rPr>
              <a:t>Designing Instruction for Constructivist Learning”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af9e6"/>
                </a:solidFill>
                <a:latin typeface="Tahoma"/>
              </a:rPr>
              <a:t>«Διδακτικός σχεδιασμός για Επoικοδομητική Μάθηση»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9e6"/>
                </a:solidFill>
                <a:latin typeface="Tahoma"/>
                <a:ea typeface="굴림"/>
              </a:rPr>
              <a:t>R. Mayer</a:t>
            </a:r>
            <a:r>
              <a:rPr b="0" lang="el-GR" sz="2000" spc="-1" strike="noStrike">
                <a:solidFill>
                  <a:srgbClr val="faf9e6"/>
                </a:solidFill>
                <a:latin typeface="Tahoma"/>
                <a:ea typeface="굴림"/>
              </a:rPr>
              <a:t>, </a:t>
            </a:r>
            <a:r>
              <a:rPr b="0" lang="en-US" sz="2000" spc="-1" strike="noStrike">
                <a:solidFill>
                  <a:srgbClr val="faf9e6"/>
                </a:solidFill>
                <a:latin typeface="Tahoma"/>
                <a:ea typeface="굴림"/>
              </a:rPr>
              <a:t>Instructional - Design Theories and Models, edited by Charles Reigeluth, Lawrence Erlbaum Associates, 1999</a:t>
            </a:r>
            <a:endParaRPr b="0" lang="en-US" sz="2000" spc="-1" strike="noStrike">
              <a:solidFill>
                <a:srgbClr val="faf9e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eadc78"/>
                </a:solidFill>
                <a:latin typeface="Garamond"/>
              </a:rPr>
              <a:t>Διδακτικός Σχεδιασμός για </a:t>
            </a:r>
            <a:r>
              <a:rPr b="0" i="1" lang="en-US" sz="3200" spc="-1" strike="noStrike">
                <a:solidFill>
                  <a:srgbClr val="eadc78"/>
                </a:solidFill>
                <a:latin typeface="Garamond"/>
              </a:rPr>
              <a:t>E</a:t>
            </a:r>
            <a:r>
              <a:rPr b="0" i="1" lang="el-GR" sz="3200" spc="-1" strike="noStrike">
                <a:solidFill>
                  <a:srgbClr val="eadc78"/>
                </a:solidFill>
                <a:latin typeface="Garamond"/>
              </a:rPr>
              <a:t>ποικοδομητική μάθηση </a:t>
            </a:r>
            <a:endParaRPr b="0" i="1" lang="en-US" sz="32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Ο στόχος της συγκεκριμένης θεωρίας είναι να εξετάσει σχεδιαστικές αρχές για την ενίσχυση της εποικοδομητικής μάθησης, 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κατά τη μελέτη βιβλίων, 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κατά την παρακολούθηση διαλέξεων 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και κατά την παρακολούθηση πολυμεσικών περιβαλλόντων.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7572240" y="1052640"/>
            <a:ext cx="1571760" cy="36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af9e6"/>
            </a:solidFill>
            <a:miter/>
          </a:ln>
          <a:effectLst>
            <a:outerShdw dist="53966" dir="2700000" blurRad="0" rotWithShape="0">
              <a:srgbClr val="8817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9e6"/>
                </a:solidFill>
                <a:latin typeface="Arial"/>
              </a:rPr>
              <a:t>R. Mayer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eadc78"/>
                </a:solidFill>
                <a:latin typeface="Garamond"/>
              </a:rPr>
              <a:t>Διδακτικός Σχεδιασμός για </a:t>
            </a:r>
            <a:r>
              <a:rPr b="0" i="1" lang="en-US" sz="3200" spc="-1" strike="noStrike">
                <a:solidFill>
                  <a:srgbClr val="eadc78"/>
                </a:solidFill>
                <a:latin typeface="Garamond"/>
              </a:rPr>
              <a:t>E</a:t>
            </a:r>
            <a:r>
              <a:rPr b="0" i="1" lang="el-GR" sz="3200" spc="-1" strike="noStrike">
                <a:solidFill>
                  <a:srgbClr val="eadc78"/>
                </a:solidFill>
                <a:latin typeface="Garamond"/>
              </a:rPr>
              <a:t>ποικοδομητική μάθηση </a:t>
            </a:r>
            <a:endParaRPr b="0" i="1" lang="en-US" sz="32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af9e6"/>
                </a:solidFill>
                <a:latin typeface="Tahoma"/>
              </a:rPr>
              <a:t>Εισαγωγικά στοιχεία</a:t>
            </a:r>
            <a:endParaRPr b="0" lang="en-US" sz="2000" spc="-1" strike="noStrike">
              <a:solidFill>
                <a:srgbClr val="faf9e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faf9e6"/>
                </a:solidFill>
                <a:uFillTx/>
                <a:latin typeface="Tahoma"/>
              </a:rPr>
              <a:t>Α) η μάθηση ως ενίσχυση αποκρίσεων: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Η μάθηση πραγματοποιείται όταν ο μαθητευόμενος ενδυναμώνει ή αδυνατίζει μια συσχέτιση μεταξύ ερεθίσματος και απόκρισης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Ο ρόλος του σχεδιαστή διδασκαλιών είναι να δημιουργεί περιβάλλοντα όπου προτρέπουν επαναλαμβανόμενα το μαθητευόμενο να δίνει απλές αποκρίσεις που ακολουθούνται αμέσως από την ανάδραση του διδάσκοντα. 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7572240" y="1052640"/>
            <a:ext cx="1571760" cy="36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af9e6"/>
            </a:solidFill>
            <a:miter/>
          </a:ln>
          <a:effectLst>
            <a:outerShdw dist="53966" dir="2700000" blurRad="0" rotWithShape="0">
              <a:srgbClr val="8817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9e6"/>
                </a:solidFill>
                <a:latin typeface="Arial"/>
              </a:rPr>
              <a:t>R. Mayer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400" spc="-1" strike="noStrike">
                <a:solidFill>
                  <a:srgbClr val="eadc78"/>
                </a:solidFill>
                <a:latin typeface="Garamond"/>
              </a:rPr>
              <a:t>Παραδείγματα διδακτικών πλάνων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d78d15"/>
                </a:solidFill>
                <a:uFillTx/>
                <a:latin typeface="Tahoma"/>
                <a:hlinkClick r:id="rId2"/>
              </a:rPr>
              <a:t>Παραδείγματα Διδακτικών Πλάνων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704844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A94C-105F-4EBA-92CB-3C9F8BE04FFF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eadc78"/>
                </a:solidFill>
                <a:latin typeface="Garamond"/>
              </a:rPr>
              <a:t>Διδακτικός Σχεδιασμός για </a:t>
            </a:r>
            <a:r>
              <a:rPr b="0" i="1" lang="en-US" sz="3200" spc="-1" strike="noStrike">
                <a:solidFill>
                  <a:srgbClr val="eadc78"/>
                </a:solidFill>
                <a:latin typeface="Garamond"/>
              </a:rPr>
              <a:t>E</a:t>
            </a:r>
            <a:r>
              <a:rPr b="0" i="1" lang="el-GR" sz="3200" spc="-1" strike="noStrike">
                <a:solidFill>
                  <a:srgbClr val="eadc78"/>
                </a:solidFill>
                <a:latin typeface="Garamond"/>
              </a:rPr>
              <a:t>ποικοδομητική μάθηση </a:t>
            </a:r>
            <a:endParaRPr b="0" i="1" lang="en-US" sz="32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af9e6"/>
                </a:solidFill>
                <a:latin typeface="Tahoma"/>
              </a:rPr>
              <a:t>Εισαγωγικά στοιχεία</a:t>
            </a:r>
            <a:endParaRPr b="0" lang="en-US" sz="2000" spc="-1" strike="noStrike">
              <a:solidFill>
                <a:srgbClr val="faf9e6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faf9e6"/>
                </a:solidFill>
                <a:uFillTx/>
                <a:latin typeface="Tahoma"/>
              </a:rPr>
              <a:t>Β) μάθηση ως πρόσκτηση γνώσεων: 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d78d15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η μάθηση συμβαίνει όταν ο μαθητευόμενος τοποθετεί νέες πληροφορίες στη μακροπρόθεσμη μνήμη 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d78d15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η πληροφορία είναι ένα αγαθό που μπορεί να μεταδοθεί απευθείας από το διδάσκοντα στο μαθητευόμενο. 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d78d15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Ο ρόλος του σχεδιαστή είναι η δημιουργία περιβαλλόντων στα οποία ο μαθητευόμενος εκτίθεται σε μεγάλες ποσότητες πληροφοριών 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7572240" y="1052640"/>
            <a:ext cx="1571760" cy="360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af9e6"/>
            </a:solidFill>
            <a:miter/>
          </a:ln>
          <a:effectLst>
            <a:outerShdw dist="53966" dir="2700000" blurRad="0" rotWithShape="0">
              <a:srgbClr val="8817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9e6"/>
                </a:solidFill>
                <a:latin typeface="Arial"/>
              </a:rPr>
              <a:t>R. Mayer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eadc78"/>
                </a:solidFill>
                <a:latin typeface="Garamond"/>
              </a:rPr>
              <a:t>Διδακτικός Σχεδιασμός για </a:t>
            </a:r>
            <a:r>
              <a:rPr b="0" i="1" lang="en-US" sz="3200" spc="-1" strike="noStrike">
                <a:solidFill>
                  <a:srgbClr val="eadc78"/>
                </a:solidFill>
                <a:latin typeface="Garamond"/>
              </a:rPr>
              <a:t>E</a:t>
            </a:r>
            <a:r>
              <a:rPr b="0" i="1" lang="el-GR" sz="3200" spc="-1" strike="noStrike">
                <a:solidFill>
                  <a:srgbClr val="eadc78"/>
                </a:solidFill>
                <a:latin typeface="Garamond"/>
              </a:rPr>
              <a:t>ποικοδομητική μάθηση </a:t>
            </a:r>
            <a:endParaRPr b="0" i="1" lang="en-US" sz="32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af9e6"/>
                </a:solidFill>
                <a:latin typeface="Tahoma"/>
              </a:rPr>
              <a:t>Εισαγωγικά στοιχεία</a:t>
            </a:r>
            <a:endParaRPr b="0" lang="en-US" sz="2000" spc="-1" strike="noStrike">
              <a:solidFill>
                <a:srgbClr val="faf9e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faf9e6"/>
                </a:solidFill>
                <a:uFillTx/>
                <a:latin typeface="Tahoma"/>
              </a:rPr>
              <a:t>Γ) η μάθηση </a:t>
            </a:r>
            <a:r>
              <a:rPr b="0" lang="el-GR" sz="2800" spc="-1" strike="noStrike" u="sng">
                <a:solidFill>
                  <a:srgbClr val="ffc000"/>
                </a:solidFill>
                <a:uFillTx/>
                <a:latin typeface="Tahoma"/>
              </a:rPr>
              <a:t>ως οικοδόμηση γνώσης</a:t>
            </a:r>
            <a:r>
              <a:rPr b="0" lang="el-GR" sz="2800" spc="-1" strike="noStrike" u="sng">
                <a:solidFill>
                  <a:srgbClr val="faf9e6"/>
                </a:solidFill>
                <a:uFillTx/>
                <a:latin typeface="Tahoma"/>
              </a:rPr>
              <a:t>: 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78d15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η μάθηση συμβαίνει όταν ο μαθητευόμενος ενεργά κατασκευάζει μια γνωστική αναπαράσταση στην λειτουργική μνήμη 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78d15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Ο μαθητευόμενος είναι ένας «κατασκευαστής» νοημάτων ενώ ο διδάσκοντας είναι ένας «γνωστικός οδηγός» που παρέχει καθοδήγηση και μοντελοποιήσεις σε αυθεντικές ακαδημαϊκές εργασίες 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7572240" y="1052640"/>
            <a:ext cx="1571760" cy="360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af9e6"/>
            </a:solidFill>
            <a:miter/>
          </a:ln>
          <a:effectLst>
            <a:outerShdw dist="53966" dir="2700000" blurRad="0" rotWithShape="0">
              <a:srgbClr val="8817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9e6"/>
                </a:solidFill>
                <a:latin typeface="Arial"/>
              </a:rPr>
              <a:t>R. Mayer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eadc78"/>
                </a:solidFill>
                <a:latin typeface="Garamond"/>
              </a:rPr>
              <a:t>Δυο τεστ αποτίμησης μαθησιακών αποτ.</a:t>
            </a:r>
            <a:endParaRPr b="0" i="1" lang="en-US" sz="36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Α) </a:t>
            </a:r>
            <a:r>
              <a:rPr b="1" lang="el-GR" sz="2800" spc="-1" strike="noStrike">
                <a:solidFill>
                  <a:srgbClr val="faf9e6"/>
                </a:solidFill>
                <a:latin typeface="Tahoma"/>
              </a:rPr>
              <a:t>τεστ διατήρησης</a:t>
            </a: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: αποτιμούν την ικανότητα του εκπαιδευόμενου να ανακαλεί από τη μνήμη του το υλικό που του παρουσιάστηκε. Περιλαμβάνει τόσο την ικανότητα ανάκλησης από τη μνήμη όσο και την ικανότητα αναγνώρισης. 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Β) </a:t>
            </a:r>
            <a:r>
              <a:rPr b="1" lang="el-GR" sz="2800" spc="-1" strike="noStrike">
                <a:solidFill>
                  <a:srgbClr val="faf9e6"/>
                </a:solidFill>
                <a:latin typeface="Tahoma"/>
              </a:rPr>
              <a:t>τεστ μεταφοράς</a:t>
            </a: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: προϋποθέτουν ότι ο εκπαιδευόμενος θα εφαρμόσει ότι έχει μάθει σε μια νέα κατάσταση (χαρακτηριστικό που διακρίνει τη μηχανική μάθηση από την εποικοδομητική μάθηση)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7572240" y="1052640"/>
            <a:ext cx="1571760" cy="36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af9e6"/>
            </a:solidFill>
            <a:miter/>
          </a:ln>
          <a:effectLst>
            <a:outerShdw dist="53966" dir="2700000" blurRad="0" rotWithShape="0">
              <a:srgbClr val="8817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9e6"/>
                </a:solidFill>
                <a:latin typeface="Arial"/>
              </a:rPr>
              <a:t>R. Mayer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400" spc="-1" strike="noStrike">
                <a:solidFill>
                  <a:srgbClr val="eadc78"/>
                </a:solidFill>
                <a:latin typeface="Garamond"/>
              </a:rPr>
              <a:t>Μαθησιακά Αποτελέσματα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Α) κακή επίδοση και στα δυο τεστ (</a:t>
            </a:r>
            <a:r>
              <a:rPr b="1" lang="el-GR" sz="2800" spc="-1" strike="noStrike">
                <a:solidFill>
                  <a:srgbClr val="faf9e6"/>
                </a:solidFill>
                <a:latin typeface="Tahoma"/>
              </a:rPr>
              <a:t>μή μάθηση</a:t>
            </a: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Β) καλή επίδοση μόνο στο τεστ διατήρησης γνώσεων (</a:t>
            </a:r>
            <a:r>
              <a:rPr b="1" lang="el-GR" sz="2800" spc="-1" strike="noStrike">
                <a:solidFill>
                  <a:srgbClr val="faf9e6"/>
                </a:solidFill>
                <a:latin typeface="Tahoma"/>
              </a:rPr>
              <a:t>μηχανική μάθηση</a:t>
            </a: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Γ) καλή επίδοση και στα δυο τεστ (</a:t>
            </a:r>
            <a:r>
              <a:rPr b="1" lang="el-GR" sz="2800" spc="-1" strike="noStrike">
                <a:solidFill>
                  <a:srgbClr val="faf9e6"/>
                </a:solidFill>
                <a:latin typeface="Tahoma"/>
              </a:rPr>
              <a:t>μάθηση</a:t>
            </a: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7572240" y="1052640"/>
            <a:ext cx="1571760" cy="36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af9e6"/>
            </a:solidFill>
            <a:miter/>
          </a:ln>
          <a:effectLst>
            <a:outerShdw dist="53966" dir="2700000" blurRad="0" rotWithShape="0">
              <a:srgbClr val="8817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9e6"/>
                </a:solidFill>
                <a:latin typeface="Arial"/>
              </a:rPr>
              <a:t>R. Mayer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400" spc="-1" strike="noStrike">
                <a:solidFill>
                  <a:srgbClr val="eadc78"/>
                </a:solidFill>
                <a:latin typeface="Garamond"/>
              </a:rPr>
              <a:t>Εποικοδομητική Μάθηση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Η εποικοδομητική μάθηση είναι ενεργητική μάθηση κατά την οποία ο εκπαιδευόμενος έχει αναπτύξει και χρησιμοποιεί μια ποικιλία γνωστικών διεργασιών κατά τη διαδικασία μάθησης. 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Οι σημαντικότερες γνωστικές διεργασίες περιλαμβάνουν την 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επικέντρωση της προσοχής </a:t>
            </a:r>
            <a:r>
              <a:rPr b="0" lang="el-GR" sz="2400" spc="-1" strike="noStrike" u="sng">
                <a:solidFill>
                  <a:srgbClr val="ffc000"/>
                </a:solidFill>
                <a:uFillTx/>
                <a:latin typeface="Tahoma"/>
              </a:rPr>
              <a:t>σε σχετικές πληροφορίες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την οργάνωση των πληροφοριών </a:t>
            </a:r>
            <a:r>
              <a:rPr b="0" lang="el-GR" sz="2400" spc="-1" strike="noStrike" u="sng">
                <a:solidFill>
                  <a:srgbClr val="ffc000"/>
                </a:solidFill>
                <a:uFillTx/>
                <a:latin typeface="Tahoma"/>
              </a:rPr>
              <a:t>σε συνδεδεμένες αναπαραστάσεις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 και 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την </a:t>
            </a:r>
            <a:r>
              <a:rPr b="0" lang="el-GR" sz="2400" spc="-1" strike="noStrike" u="sng">
                <a:solidFill>
                  <a:srgbClr val="ffc000"/>
                </a:solidFill>
                <a:uFillTx/>
                <a:latin typeface="Tahoma"/>
              </a:rPr>
              <a:t>ολοκλήρωση των νέων αναπαραστάσεων με τις υπάρχουσες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7572240" y="1052640"/>
            <a:ext cx="1571760" cy="36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af9e6"/>
            </a:solidFill>
            <a:miter/>
          </a:ln>
          <a:effectLst>
            <a:outerShdw dist="53966" dir="2700000" blurRad="0" rotWithShape="0">
              <a:srgbClr val="8817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9e6"/>
                </a:solidFill>
                <a:latin typeface="Arial"/>
              </a:rPr>
              <a:t>R. Mayer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400" spc="-1" strike="noStrike">
                <a:solidFill>
                  <a:srgbClr val="eadc78"/>
                </a:solidFill>
                <a:latin typeface="Garamond"/>
              </a:rPr>
              <a:t>Ερώτηση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af9e6"/>
                </a:solidFill>
                <a:latin typeface="Tahoma"/>
              </a:rPr>
              <a:t>Κάθε χρόνο ___ παιδιά χτυπούν στο σχολικό περιβάλλον». </a:t>
            </a:r>
            <a:endParaRPr b="0" lang="en-US" sz="4000" spc="-1" strike="noStrike">
              <a:solidFill>
                <a:srgbClr val="faf9e6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f9e6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f9e6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7572240" y="1052640"/>
            <a:ext cx="1571760" cy="36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af9e6"/>
            </a:solidFill>
            <a:miter/>
          </a:ln>
          <a:effectLst>
            <a:outerShdw dist="53966" dir="2700000" blurRad="0" rotWithShape="0">
              <a:srgbClr val="8817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9e6"/>
                </a:solidFill>
                <a:latin typeface="Arial"/>
              </a:rPr>
              <a:t>R. Mayer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400" spc="-1" strike="noStrike">
                <a:solidFill>
                  <a:srgbClr val="eadc78"/>
                </a:solidFill>
                <a:latin typeface="Garamond"/>
              </a:rPr>
              <a:t>Ερώτηση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af9e6"/>
                </a:solidFill>
                <a:latin typeface="Tahoma"/>
              </a:rPr>
              <a:t>Κάθε χρόνο ___ παιδιά χτυπούν στο σχολικό περιβάλλον». </a:t>
            </a:r>
            <a:endParaRPr b="0" lang="en-US" sz="4000" spc="-1" strike="noStrike">
              <a:solidFill>
                <a:srgbClr val="faf9e6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af9e6"/>
                </a:solidFill>
                <a:latin typeface="Tahoma"/>
              </a:rPr>
              <a:t>συμπεριφορικά ενεργός; </a:t>
            </a:r>
            <a:endParaRPr b="0" lang="en-US" sz="36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af9e6"/>
                </a:solidFill>
                <a:latin typeface="Tahoma"/>
              </a:rPr>
              <a:t>γνωστικά ενεργός;</a:t>
            </a:r>
            <a:endParaRPr b="0" lang="en-US" sz="3600" spc="-1" strike="noStrike">
              <a:solidFill>
                <a:srgbClr val="faf9e6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f9e6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7572240" y="1052640"/>
            <a:ext cx="1571760" cy="36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af9e6"/>
            </a:solidFill>
            <a:miter/>
          </a:ln>
          <a:effectLst>
            <a:outerShdw dist="53966" dir="2700000" blurRad="0" rotWithShape="0">
              <a:srgbClr val="8817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9e6"/>
                </a:solidFill>
                <a:latin typeface="Arial"/>
              </a:rPr>
              <a:t>R. Mayer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400" spc="-1" strike="noStrike">
                <a:solidFill>
                  <a:srgbClr val="eadc78"/>
                </a:solidFill>
                <a:latin typeface="Garamond"/>
              </a:rPr>
              <a:t>Ερώτηση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Ένας εκπαιδευόμενος διαβάζει και ξαναδιαβάζει ένα κείμενο προσπαθώντας να το εξηγήσει στον εαυτό του 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af9e6"/>
                </a:solidFill>
                <a:latin typeface="Tahoma"/>
              </a:rPr>
              <a:t>συμπεριφορικά ενεργός; </a:t>
            </a:r>
            <a:endParaRPr b="0" lang="en-US" sz="36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af9e6"/>
                </a:solidFill>
                <a:latin typeface="Tahoma"/>
              </a:rPr>
              <a:t>γνωστικά ενεργός;</a:t>
            </a:r>
            <a:endParaRPr b="0" lang="en-US" sz="3600" spc="-1" strike="noStrike">
              <a:solidFill>
                <a:srgbClr val="faf9e6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f9e6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7572240" y="1052640"/>
            <a:ext cx="1571760" cy="36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af9e6"/>
            </a:solidFill>
            <a:miter/>
          </a:ln>
          <a:effectLst>
            <a:outerShdw dist="53966" dir="2700000" blurRad="0" rotWithShape="0">
              <a:srgbClr val="8817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9e6"/>
                </a:solidFill>
                <a:latin typeface="Arial"/>
              </a:rPr>
              <a:t>R. Mayer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400" spc="-1" strike="noStrike">
                <a:solidFill>
                  <a:srgbClr val="eadc78"/>
                </a:solidFill>
                <a:latin typeface="Garamond"/>
              </a:rPr>
              <a:t>Εποικοδομητική Μάθηση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Ο διδακτικός σχεδιασμός πρέπει να επιζητά την ενδυνάμωση του εκπαιδευόμενου με τρόπο τέτοιο ώστε να </a:t>
            </a:r>
            <a:r>
              <a:rPr b="0" i="1" lang="el-GR" sz="2800" spc="-1" strike="noStrike">
                <a:solidFill>
                  <a:srgbClr val="faf9e6"/>
                </a:solidFill>
                <a:latin typeface="Tahoma"/>
              </a:rPr>
              <a:t>είναι </a:t>
            </a:r>
            <a:r>
              <a:rPr b="1" i="1" lang="el-GR" sz="2800" spc="-1" strike="noStrike">
                <a:solidFill>
                  <a:srgbClr val="ffc000"/>
                </a:solidFill>
                <a:latin typeface="Tahoma"/>
              </a:rPr>
              <a:t>γνωστικά ενεργός</a:t>
            </a:r>
            <a:r>
              <a:rPr b="0" i="1" lang="el-GR" sz="28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αντί να προσπαθεί να προάγει μόνο τη συμπεριφορική δραστηριότητα.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7572240" y="1052640"/>
            <a:ext cx="1571760" cy="36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af9e6"/>
            </a:solidFill>
            <a:miter/>
          </a:ln>
          <a:effectLst>
            <a:outerShdw dist="53966" dir="2700000" blurRad="0" rotWithShape="0">
              <a:srgbClr val="8817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9e6"/>
                </a:solidFill>
                <a:latin typeface="Arial"/>
              </a:rPr>
              <a:t>R. Mayer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400" spc="-1" strike="noStrike">
                <a:solidFill>
                  <a:srgbClr val="eadc78"/>
                </a:solidFill>
                <a:latin typeface="Garamond"/>
              </a:rPr>
              <a:t>Μεταφορά γνώσης 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Τρια προαπαιτούμενα για τη μεταφορά γνώσης επίλυσης προβλημάτων: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Α) </a:t>
            </a:r>
            <a:r>
              <a:rPr b="0" lang="el-GR" sz="3200" spc="-1" strike="noStrike">
                <a:solidFill>
                  <a:srgbClr val="ffc000"/>
                </a:solidFill>
                <a:latin typeface="Tahoma"/>
              </a:rPr>
              <a:t>δεξιότητα</a:t>
            </a:r>
            <a:endParaRPr b="0" lang="en-US" sz="32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af9e6"/>
                </a:solidFill>
                <a:uFillTx/>
                <a:latin typeface="Tahoma"/>
              </a:rPr>
              <a:t>επιλογή σχετικών πληροφοριών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την </a:t>
            </a:r>
            <a:r>
              <a:rPr b="0" lang="el-GR" sz="2400" spc="-1" strike="noStrike" u="sng">
                <a:solidFill>
                  <a:srgbClr val="faf9e6"/>
                </a:solidFill>
                <a:uFillTx/>
                <a:latin typeface="Tahoma"/>
              </a:rPr>
              <a:t>οργάνωση των επιλεγμένων πληροφοριών σε μια συνεπή νοητική αναπαράσταση 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και 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την </a:t>
            </a:r>
            <a:r>
              <a:rPr b="0" lang="el-GR" sz="2400" spc="-1" strike="noStrike" u="sng">
                <a:solidFill>
                  <a:srgbClr val="faf9e6"/>
                </a:solidFill>
                <a:uFillTx/>
                <a:latin typeface="Tahoma"/>
              </a:rPr>
              <a:t>ολοκλήρωση των εισερχόμενων πληροφοριών 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με την υπάρχουσα γνώση 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Β) μεταδεξιότητα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Γ) διάθεση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7572240" y="1052640"/>
            <a:ext cx="1571760" cy="3603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af9e6"/>
            </a:solidFill>
            <a:miter/>
          </a:ln>
          <a:effectLst>
            <a:outerShdw dist="53966" dir="2700000" blurRad="0" rotWithShape="0">
              <a:srgbClr val="8817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9e6"/>
                </a:solidFill>
                <a:latin typeface="Arial"/>
              </a:rPr>
              <a:t>R. Mayer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400" spc="-1" strike="noStrike">
                <a:solidFill>
                  <a:srgbClr val="eadc78"/>
                </a:solidFill>
                <a:latin typeface="Garamond"/>
              </a:rPr>
              <a:t>Διδακτικός Σχεδιασμός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Διδακτικές προσεγγίσεις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Είναι προσεγγίσεις (άλλες περισσότερο και άλλες λιγότερο δοκιμασμένες) που προτείνουν σχέδια διδασκαλίας και μάθησης χρησιμοποιώντας τους παράγοντες μάθησης σε </a:t>
            </a:r>
            <a:r>
              <a:rPr b="1" i="1" lang="el-GR" sz="2400" spc="-1" strike="noStrike">
                <a:solidFill>
                  <a:srgbClr val="faf9e6"/>
                </a:solidFill>
                <a:latin typeface="Tahoma"/>
              </a:rPr>
              <a:t>διαφορετικές δόσεις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, </a:t>
            </a:r>
            <a:r>
              <a:rPr b="1" i="1" lang="el-GR" sz="2400" spc="-1" strike="noStrike">
                <a:solidFill>
                  <a:srgbClr val="faf9e6"/>
                </a:solidFill>
                <a:latin typeface="Tahoma"/>
              </a:rPr>
              <a:t>σε διαφορετικές χρονικές στιγμές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, </a:t>
            </a:r>
            <a:r>
              <a:rPr b="1" i="1" lang="el-GR" sz="2400" spc="-1" strike="noStrike">
                <a:solidFill>
                  <a:srgbClr val="faf9e6"/>
                </a:solidFill>
                <a:latin typeface="Tahoma"/>
              </a:rPr>
              <a:t>από διαφορετικούς ανθρώπους 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και </a:t>
            </a:r>
            <a:r>
              <a:rPr b="1" i="1" lang="el-GR" sz="2400" spc="-1" strike="noStrike">
                <a:solidFill>
                  <a:srgbClr val="faf9e6"/>
                </a:solidFill>
                <a:latin typeface="Tahoma"/>
              </a:rPr>
              <a:t>σε διαφορετικές συνθήκες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Σύγκριση με καθημερινή πρακτική....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4844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E4ED-D364-4958-BBC4-901825719043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400" spc="-1" strike="noStrike">
                <a:solidFill>
                  <a:srgbClr val="eadc78"/>
                </a:solidFill>
                <a:latin typeface="Garamond"/>
              </a:rPr>
              <a:t>Μεταφορά γνώσης 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Τρια προαπαιτούμενα για τη μεταφορά γνώσης επίλυσης προβλημάτων: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Α) δεξιότητα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Β) </a:t>
            </a:r>
            <a:r>
              <a:rPr b="0" lang="el-GR" sz="3200" spc="-1" strike="noStrike">
                <a:solidFill>
                  <a:srgbClr val="ffc000"/>
                </a:solidFill>
                <a:latin typeface="Tahoma"/>
              </a:rPr>
              <a:t>μεταδεξιότητα</a:t>
            </a:r>
            <a:endParaRPr b="0" lang="en-US" sz="32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μεταγνωστικές και αυτορυθμιστικές διεργασίες 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b86d52"/>
              </a:buClr>
              <a:buSzPct val="90000"/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af9e6"/>
                </a:solidFill>
                <a:latin typeface="Tahoma"/>
              </a:rPr>
              <a:t>για το </a:t>
            </a:r>
            <a:r>
              <a:rPr b="0" lang="el-GR" sz="2000" spc="-1" strike="noStrike" u="sng">
                <a:solidFill>
                  <a:srgbClr val="faf9e6"/>
                </a:solidFill>
                <a:uFillTx/>
                <a:latin typeface="Tahoma"/>
              </a:rPr>
              <a:t>σχεδιασμό</a:t>
            </a:r>
            <a:r>
              <a:rPr b="0" lang="el-GR" sz="2000" spc="-1" strike="noStrike">
                <a:solidFill>
                  <a:srgbClr val="faf9e6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faf9e6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b86d52"/>
              </a:buClr>
              <a:buSzPct val="90000"/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af9e6"/>
                </a:solidFill>
                <a:latin typeface="Tahoma"/>
              </a:rPr>
              <a:t>το </a:t>
            </a:r>
            <a:r>
              <a:rPr b="0" lang="el-GR" sz="2000" spc="-1" strike="noStrike" u="sng">
                <a:solidFill>
                  <a:srgbClr val="faf9e6"/>
                </a:solidFill>
                <a:uFillTx/>
                <a:latin typeface="Tahoma"/>
              </a:rPr>
              <a:t>συντονισμό</a:t>
            </a:r>
            <a:r>
              <a:rPr b="0" lang="el-GR" sz="2000" spc="-1" strike="noStrike">
                <a:solidFill>
                  <a:srgbClr val="faf9e6"/>
                </a:solidFill>
                <a:latin typeface="Tahoma"/>
              </a:rPr>
              <a:t> και </a:t>
            </a:r>
            <a:endParaRPr b="0" lang="en-US" sz="2000" spc="-1" strike="noStrike">
              <a:solidFill>
                <a:srgbClr val="faf9e6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b86d52"/>
              </a:buClr>
              <a:buSzPct val="90000"/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af9e6"/>
                </a:solidFill>
                <a:latin typeface="Tahoma"/>
              </a:rPr>
              <a:t>την </a:t>
            </a:r>
            <a:r>
              <a:rPr b="0" lang="el-GR" sz="2000" spc="-1" strike="noStrike" u="sng">
                <a:solidFill>
                  <a:srgbClr val="faf9e6"/>
                </a:solidFill>
                <a:uFillTx/>
                <a:latin typeface="Tahoma"/>
              </a:rPr>
              <a:t>παρακολούθηση των γνωστικών διεργασιών </a:t>
            </a:r>
            <a:r>
              <a:rPr b="0" lang="el-GR" sz="2000" spc="-1" strike="noStrike">
                <a:solidFill>
                  <a:srgbClr val="faf9e6"/>
                </a:solidFill>
                <a:latin typeface="Tahoma"/>
              </a:rPr>
              <a:t>σε μια εργασία </a:t>
            </a:r>
            <a:endParaRPr b="0" lang="en-US" sz="20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Γ) διάθεση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7572240" y="1052640"/>
            <a:ext cx="1571760" cy="3603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af9e6"/>
            </a:solidFill>
            <a:miter/>
          </a:ln>
          <a:effectLst>
            <a:outerShdw dist="53966" dir="2700000" blurRad="0" rotWithShape="0">
              <a:srgbClr val="8817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9e6"/>
                </a:solidFill>
                <a:latin typeface="Arial"/>
              </a:rPr>
              <a:t>R. Mayer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400" spc="-1" strike="noStrike">
                <a:solidFill>
                  <a:srgbClr val="eadc78"/>
                </a:solidFill>
                <a:latin typeface="Garamond"/>
              </a:rPr>
              <a:t>Μεταφορά γνώσης 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Τρια προαπαιτούμενα για τη μεταφορά γνώσης επίλυσης προβλημάτων: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Α) δεξιότητα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Β) μεταδεξιότητα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Γ) </a:t>
            </a:r>
            <a:r>
              <a:rPr b="0" lang="el-GR" sz="3200" spc="-1" strike="noStrike">
                <a:solidFill>
                  <a:srgbClr val="ffc000"/>
                </a:solidFill>
                <a:latin typeface="Tahoma"/>
              </a:rPr>
              <a:t>διάθεση</a:t>
            </a:r>
            <a:endParaRPr b="0" lang="en-US" sz="32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κίνητρα και στάσεις απέναντι στη μάθηση 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7572240" y="1052640"/>
            <a:ext cx="1571760" cy="3603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af9e6"/>
            </a:solidFill>
            <a:miter/>
          </a:ln>
          <a:effectLst>
            <a:outerShdw dist="53966" dir="2700000" blurRad="0" rotWithShape="0">
              <a:srgbClr val="8817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9e6"/>
                </a:solidFill>
                <a:latin typeface="Arial"/>
              </a:rPr>
              <a:t>R. Mayer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eadc78"/>
                </a:solidFill>
                <a:latin typeface="Garamond"/>
              </a:rPr>
              <a:t>Μοντέλο </a:t>
            </a:r>
            <a:r>
              <a:rPr b="0" i="1" lang="en-US" sz="3600" spc="-1" strike="noStrike">
                <a:solidFill>
                  <a:srgbClr val="eadc78"/>
                </a:solidFill>
                <a:latin typeface="Garamond"/>
              </a:rPr>
              <a:t>SOI</a:t>
            </a:r>
            <a:r>
              <a:rPr b="0" i="1" lang="el-GR" sz="3600" spc="-1" strike="noStrike">
                <a:solidFill>
                  <a:srgbClr val="eadc78"/>
                </a:solidFill>
                <a:latin typeface="Garamond"/>
              </a:rPr>
              <a:t> (</a:t>
            </a:r>
            <a:r>
              <a:rPr b="0" i="1" lang="en-US" sz="3600" spc="-1" strike="noStrike">
                <a:solidFill>
                  <a:srgbClr val="eadc78"/>
                </a:solidFill>
                <a:latin typeface="Garamond"/>
              </a:rPr>
              <a:t>Select-Organize-Integrate</a:t>
            </a:r>
            <a:r>
              <a:rPr b="0" i="1" lang="el-GR" sz="3600" spc="-1" strike="noStrike">
                <a:solidFill>
                  <a:srgbClr val="eadc78"/>
                </a:solidFill>
                <a:latin typeface="Garamond"/>
              </a:rPr>
              <a:t>) </a:t>
            </a:r>
            <a:endParaRPr b="0" i="1" lang="en-US" sz="36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Α) Επιλογή σχετικών πληροφοριών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Β) Οργάνωση εισερχόμενων πληροφοριών 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Γ) Ολοκλήρωση εισερχόμενων πληροφοριών 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7572240" y="1052640"/>
            <a:ext cx="1571760" cy="36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af9e6"/>
            </a:solidFill>
            <a:miter/>
          </a:ln>
          <a:effectLst>
            <a:outerShdw dist="53966" dir="2700000" blurRad="0" rotWithShape="0">
              <a:srgbClr val="8817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9e6"/>
                </a:solidFill>
                <a:latin typeface="Arial"/>
              </a:rPr>
              <a:t>R. Mayer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eadc78"/>
                </a:solidFill>
                <a:latin typeface="Garamond"/>
              </a:rPr>
              <a:t>Μοντέλο </a:t>
            </a:r>
            <a:r>
              <a:rPr b="0" i="1" lang="en-US" sz="3600" spc="-1" strike="noStrike">
                <a:solidFill>
                  <a:srgbClr val="eadc78"/>
                </a:solidFill>
                <a:latin typeface="Garamond"/>
              </a:rPr>
              <a:t>SOI</a:t>
            </a:r>
            <a:r>
              <a:rPr b="0" i="1" lang="el-GR" sz="3600" spc="-1" strike="noStrike">
                <a:solidFill>
                  <a:srgbClr val="eadc78"/>
                </a:solidFill>
                <a:latin typeface="Garamond"/>
              </a:rPr>
              <a:t> (</a:t>
            </a:r>
            <a:r>
              <a:rPr b="0" i="1" lang="en-US" sz="3600" spc="-1" strike="noStrike">
                <a:solidFill>
                  <a:srgbClr val="eadc78"/>
                </a:solidFill>
                <a:latin typeface="Garamond"/>
              </a:rPr>
              <a:t>Select-Organize-Integrate</a:t>
            </a:r>
            <a:r>
              <a:rPr b="0" i="1" lang="el-GR" sz="3600" spc="-1" strike="noStrike">
                <a:solidFill>
                  <a:srgbClr val="eadc78"/>
                </a:solidFill>
                <a:latin typeface="Garamond"/>
              </a:rPr>
              <a:t>) </a:t>
            </a:r>
            <a:endParaRPr b="0" i="1" lang="en-US" sz="36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ffc000"/>
                </a:solidFill>
                <a:uFillTx/>
                <a:latin typeface="Tahoma"/>
              </a:rPr>
              <a:t>Α) Επιλογή σχετικών πληροφοριών</a:t>
            </a:r>
            <a:r>
              <a:rPr b="0" lang="el-GR" sz="2800" spc="-1" strike="noStrike">
                <a:solidFill>
                  <a:srgbClr val="ffc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όταν λέξεις και εικόνες παρουσιάζονται στον εκπαιδευόμενο σε ένα διδακτικό μήνυμα, αυτός τις αναπαριστά  σύντομα στις αισθητηριακές του μνήμες </a:t>
            </a:r>
            <a:br>
              <a:rPr sz="2400"/>
            </a:b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η δραστηριότητα της επιλογής των σχετικών πληροφοριών πρέπει να υποβοηθηθεί.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7572240" y="1052640"/>
            <a:ext cx="1571760" cy="36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af9e6"/>
            </a:solidFill>
            <a:miter/>
          </a:ln>
          <a:effectLst>
            <a:outerShdw dist="53966" dir="2700000" blurRad="0" rotWithShape="0">
              <a:srgbClr val="8817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9e6"/>
                </a:solidFill>
                <a:latin typeface="Arial"/>
              </a:rPr>
              <a:t>R. Mayer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eadc78"/>
                </a:solidFill>
                <a:latin typeface="Garamond"/>
              </a:rPr>
              <a:t>Μοντέλο </a:t>
            </a:r>
            <a:r>
              <a:rPr b="0" i="1" lang="en-US" sz="3600" spc="-1" strike="noStrike">
                <a:solidFill>
                  <a:srgbClr val="eadc78"/>
                </a:solidFill>
                <a:latin typeface="Garamond"/>
              </a:rPr>
              <a:t>SOI</a:t>
            </a:r>
            <a:r>
              <a:rPr b="0" i="1" lang="el-GR" sz="3600" spc="-1" strike="noStrike">
                <a:solidFill>
                  <a:srgbClr val="eadc78"/>
                </a:solidFill>
                <a:latin typeface="Garamond"/>
              </a:rPr>
              <a:t> (</a:t>
            </a:r>
            <a:r>
              <a:rPr b="0" i="1" lang="en-US" sz="3600" spc="-1" strike="noStrike">
                <a:solidFill>
                  <a:srgbClr val="eadc78"/>
                </a:solidFill>
                <a:latin typeface="Garamond"/>
              </a:rPr>
              <a:t>Select-Organize-Integrate</a:t>
            </a:r>
            <a:r>
              <a:rPr b="0" i="1" lang="el-GR" sz="3600" spc="-1" strike="noStrike">
                <a:solidFill>
                  <a:srgbClr val="eadc78"/>
                </a:solidFill>
                <a:latin typeface="Garamond"/>
              </a:rPr>
              <a:t>) </a:t>
            </a:r>
            <a:endParaRPr b="0" i="1" lang="en-US" sz="36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faf9e6"/>
                </a:solidFill>
                <a:uFillTx/>
                <a:latin typeface="Tahoma"/>
              </a:rPr>
              <a:t>Α) Επιλογή σχετικών πληροφοριών</a:t>
            </a: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Μπορούμε να </a:t>
            </a:r>
            <a:r>
              <a:rPr b="0" i="1" lang="el-GR" sz="2400" spc="-1" strike="noStrike" u="sng">
                <a:solidFill>
                  <a:srgbClr val="ffc000"/>
                </a:solidFill>
                <a:uFillTx/>
                <a:latin typeface="Tahoma"/>
              </a:rPr>
              <a:t>υπερτόνισουμε</a:t>
            </a:r>
            <a:r>
              <a:rPr b="0" i="1" lang="el-GR" sz="24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τις πιο σημαντικές πληροφορίες για το μαθητευόμενο χρησιμοποιώντας: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b86d52"/>
              </a:buClr>
              <a:buSzPct val="90000"/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af9e6"/>
                </a:solidFill>
                <a:latin typeface="Tahoma"/>
              </a:rPr>
              <a:t>Επικεφαλίδες, πλάγια, έντονα, διαφορετικού μεγέθους γράμματα, κουκκίδες, βέλη, εικονίδια, υπογράμμιση, σημειώσεις στο περιθώριο, επαναλήψεις, κενό χώρο, λεζάντες</a:t>
            </a:r>
            <a:endParaRPr b="0" lang="en-US" sz="20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7572240" y="1052640"/>
            <a:ext cx="1571760" cy="36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af9e6"/>
            </a:solidFill>
            <a:miter/>
          </a:ln>
          <a:effectLst>
            <a:outerShdw dist="53966" dir="2700000" blurRad="0" rotWithShape="0">
              <a:srgbClr val="8817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9e6"/>
                </a:solidFill>
                <a:latin typeface="Arial"/>
              </a:rPr>
              <a:t>R. Mayer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eadc78"/>
                </a:solidFill>
                <a:latin typeface="Garamond"/>
              </a:rPr>
              <a:t>Μοντέλο </a:t>
            </a:r>
            <a:r>
              <a:rPr b="0" i="1" lang="en-US" sz="3600" spc="-1" strike="noStrike">
                <a:solidFill>
                  <a:srgbClr val="eadc78"/>
                </a:solidFill>
                <a:latin typeface="Garamond"/>
              </a:rPr>
              <a:t>SOI</a:t>
            </a:r>
            <a:r>
              <a:rPr b="0" i="1" lang="el-GR" sz="3600" spc="-1" strike="noStrike">
                <a:solidFill>
                  <a:srgbClr val="eadc78"/>
                </a:solidFill>
                <a:latin typeface="Garamond"/>
              </a:rPr>
              <a:t> (</a:t>
            </a:r>
            <a:r>
              <a:rPr b="0" i="1" lang="en-US" sz="3600" spc="-1" strike="noStrike">
                <a:solidFill>
                  <a:srgbClr val="eadc78"/>
                </a:solidFill>
                <a:latin typeface="Garamond"/>
              </a:rPr>
              <a:t>Select-Organize-Integrate</a:t>
            </a:r>
            <a:r>
              <a:rPr b="0" i="1" lang="el-GR" sz="3600" spc="-1" strike="noStrike">
                <a:solidFill>
                  <a:srgbClr val="eadc78"/>
                </a:solidFill>
                <a:latin typeface="Garamond"/>
              </a:rPr>
              <a:t>) </a:t>
            </a:r>
            <a:endParaRPr b="0" i="1" lang="en-US" sz="36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faf9e6"/>
                </a:solidFill>
                <a:uFillTx/>
                <a:latin typeface="Tahoma"/>
              </a:rPr>
              <a:t>Α) Επιλογή σχετικών πληροφοριών</a:t>
            </a: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9e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Χρήση </a:t>
            </a:r>
            <a:r>
              <a:rPr b="1" lang="el-GR" sz="2400" spc="-1" strike="noStrike">
                <a:solidFill>
                  <a:srgbClr val="ffc000"/>
                </a:solidFill>
                <a:latin typeface="Tahoma"/>
              </a:rPr>
              <a:t>διδακτικών στόχων και/ή σχετικών ερωτημάτων 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για να τονίσουμε τις σχετικές πληροφορίες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9e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Δημιουργία </a:t>
            </a:r>
            <a:r>
              <a:rPr b="1" lang="el-GR" sz="2400" spc="-1" strike="noStrike">
                <a:solidFill>
                  <a:srgbClr val="ffc000"/>
                </a:solidFill>
                <a:latin typeface="Tahoma"/>
              </a:rPr>
              <a:t>περιλήψεων</a:t>
            </a:r>
            <a:r>
              <a:rPr b="1" lang="el-GR" sz="2400" spc="-1" strike="noStrike">
                <a:solidFill>
                  <a:srgbClr val="faf9e6"/>
                </a:solidFill>
                <a:latin typeface="Tahoma"/>
              </a:rPr>
              <a:t> 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που επιτρέπουν στους μαθητευόμενους να κατανοήσουν τα σημαντικά τμήματα των αντίστοιχων παρουσιάσεων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c000"/>
                </a:solidFill>
                <a:latin typeface="Tahoma"/>
              </a:rPr>
              <a:t>Περιορισμός των άσχετων πληροφοριών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, περιεκτικότητα και λιτότητα λόγου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7572240" y="1052640"/>
            <a:ext cx="1571760" cy="36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af9e6"/>
            </a:solidFill>
            <a:miter/>
          </a:ln>
          <a:effectLst>
            <a:outerShdw dist="53966" dir="2700000" blurRad="0" rotWithShape="0">
              <a:srgbClr val="8817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9e6"/>
                </a:solidFill>
                <a:latin typeface="Arial"/>
              </a:rPr>
              <a:t>R. Mayer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eadc78"/>
                </a:solidFill>
                <a:latin typeface="Garamond"/>
              </a:rPr>
              <a:t>Μοντέλο </a:t>
            </a:r>
            <a:r>
              <a:rPr b="0" i="1" lang="en-US" sz="3600" spc="-1" strike="noStrike">
                <a:solidFill>
                  <a:srgbClr val="eadc78"/>
                </a:solidFill>
                <a:latin typeface="Garamond"/>
              </a:rPr>
              <a:t>SOI</a:t>
            </a:r>
            <a:r>
              <a:rPr b="0" i="1" lang="el-GR" sz="3600" spc="-1" strike="noStrike">
                <a:solidFill>
                  <a:srgbClr val="eadc78"/>
                </a:solidFill>
                <a:latin typeface="Garamond"/>
              </a:rPr>
              <a:t> (</a:t>
            </a:r>
            <a:r>
              <a:rPr b="0" i="1" lang="en-US" sz="3600" spc="-1" strike="noStrike">
                <a:solidFill>
                  <a:srgbClr val="eadc78"/>
                </a:solidFill>
                <a:latin typeface="Garamond"/>
              </a:rPr>
              <a:t>Select-Organize-Integrate</a:t>
            </a:r>
            <a:r>
              <a:rPr b="0" i="1" lang="el-GR" sz="3600" spc="-1" strike="noStrike">
                <a:solidFill>
                  <a:srgbClr val="eadc78"/>
                </a:solidFill>
                <a:latin typeface="Garamond"/>
              </a:rPr>
              <a:t>) </a:t>
            </a:r>
            <a:endParaRPr b="0" i="1" lang="en-US" sz="36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ffc000"/>
                </a:solidFill>
                <a:uFillTx/>
                <a:latin typeface="Tahoma"/>
              </a:rPr>
              <a:t>Β) Οργάνωση εισερχόμενων πληροφοριών</a:t>
            </a:r>
            <a:r>
              <a:rPr b="0" lang="el-GR" sz="2800" spc="-1" strike="noStrike">
                <a:solidFill>
                  <a:srgbClr val="ffc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Πως μπορούμε να βοηθήσουμε τους εκπαιδευόμενους να οργανώσουν τις εισερχόμενες πληροφορίες σε μια συνεκτική αναπαράσταση;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7572240" y="1052640"/>
            <a:ext cx="1571760" cy="36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af9e6"/>
            </a:solidFill>
            <a:miter/>
          </a:ln>
          <a:effectLst>
            <a:outerShdw dist="53966" dir="2700000" blurRad="0" rotWithShape="0">
              <a:srgbClr val="8817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9e6"/>
                </a:solidFill>
                <a:latin typeface="Arial"/>
              </a:rPr>
              <a:t>R. Mayer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eadc78"/>
                </a:solidFill>
                <a:latin typeface="Garamond"/>
              </a:rPr>
              <a:t>Μοντέλο </a:t>
            </a:r>
            <a:r>
              <a:rPr b="0" i="1" lang="en-US" sz="3600" spc="-1" strike="noStrike">
                <a:solidFill>
                  <a:srgbClr val="eadc78"/>
                </a:solidFill>
                <a:latin typeface="Garamond"/>
              </a:rPr>
              <a:t>SOI</a:t>
            </a:r>
            <a:r>
              <a:rPr b="0" i="1" lang="el-GR" sz="3600" spc="-1" strike="noStrike">
                <a:solidFill>
                  <a:srgbClr val="eadc78"/>
                </a:solidFill>
                <a:latin typeface="Garamond"/>
              </a:rPr>
              <a:t> (</a:t>
            </a:r>
            <a:r>
              <a:rPr b="0" i="1" lang="en-US" sz="3600" spc="-1" strike="noStrike">
                <a:solidFill>
                  <a:srgbClr val="eadc78"/>
                </a:solidFill>
                <a:latin typeface="Garamond"/>
              </a:rPr>
              <a:t>Select-Organize-Integrate</a:t>
            </a:r>
            <a:r>
              <a:rPr b="0" i="1" lang="el-GR" sz="3600" spc="-1" strike="noStrike">
                <a:solidFill>
                  <a:srgbClr val="eadc78"/>
                </a:solidFill>
                <a:latin typeface="Garamond"/>
              </a:rPr>
              <a:t>) </a:t>
            </a:r>
            <a:endParaRPr b="0" i="1" lang="en-US" sz="36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faf9e6"/>
                </a:solidFill>
                <a:uFillTx/>
                <a:latin typeface="Tahoma"/>
              </a:rPr>
              <a:t>Β) Οργάνωση εισερχόμενων πληροφοριών</a:t>
            </a: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Η δυνατότητα ανάπτυξης νοητικών αναπαραστάσεων από κείμενα εξαρτάται από την ικανότητα του εκπαιδευόμενου να αναγνωρίζει τη δομή του κειμένου. Για το λόγο αυτό μπορούμε να </a:t>
            </a:r>
            <a:r>
              <a:rPr b="1" lang="el-GR" sz="2400" spc="-1" strike="noStrike">
                <a:solidFill>
                  <a:srgbClr val="ffc000"/>
                </a:solidFill>
                <a:latin typeface="Tahoma"/>
              </a:rPr>
              <a:t>οργανώνουμε το κείμενο 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χρησιμοποιώντας δομές όπως: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b86d52"/>
              </a:buClr>
              <a:buSzPct val="90000"/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c000"/>
                </a:solidFill>
                <a:latin typeface="Tahoma"/>
              </a:rPr>
              <a:t>δομές σύγκρισης/αντίθεσης</a:t>
            </a:r>
            <a:endParaRPr b="0" lang="en-US" sz="2000" spc="-1" strike="noStrike">
              <a:solidFill>
                <a:srgbClr val="faf9e6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b86d52"/>
              </a:buClr>
              <a:buSzPct val="90000"/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c000"/>
                </a:solidFill>
                <a:latin typeface="Tahoma"/>
              </a:rPr>
              <a:t>δομές κατηγοριοποίησης</a:t>
            </a:r>
            <a:endParaRPr b="0" lang="en-US" sz="2000" spc="-1" strike="noStrike">
              <a:solidFill>
                <a:srgbClr val="faf9e6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b86d52"/>
              </a:buClr>
              <a:buSzPct val="90000"/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c000"/>
                </a:solidFill>
                <a:latin typeface="Tahoma"/>
              </a:rPr>
              <a:t>δομές απαρίθμησης</a:t>
            </a:r>
            <a:endParaRPr b="0" lang="en-US" sz="2000" spc="-1" strike="noStrike">
              <a:solidFill>
                <a:srgbClr val="faf9e6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b86d52"/>
              </a:buClr>
              <a:buSzPct val="90000"/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c000"/>
                </a:solidFill>
                <a:latin typeface="Tahoma"/>
              </a:rPr>
              <a:t>δομές γενίκευσης</a:t>
            </a:r>
            <a:endParaRPr b="0" lang="en-US" sz="2000" spc="-1" strike="noStrike">
              <a:solidFill>
                <a:srgbClr val="faf9e6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b86d52"/>
              </a:buClr>
              <a:buSzPct val="90000"/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c000"/>
                </a:solidFill>
                <a:latin typeface="Tahoma"/>
              </a:rPr>
              <a:t>δομές αιτίου-αιτιατού</a:t>
            </a:r>
            <a:endParaRPr b="0" lang="en-US" sz="20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7572240" y="1052640"/>
            <a:ext cx="1571760" cy="36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af9e6"/>
            </a:solidFill>
            <a:miter/>
          </a:ln>
          <a:effectLst>
            <a:outerShdw dist="53966" dir="2700000" blurRad="0" rotWithShape="0">
              <a:srgbClr val="8817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9e6"/>
                </a:solidFill>
                <a:latin typeface="Arial"/>
              </a:rPr>
              <a:t>R. Mayer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eadc78"/>
                </a:solidFill>
                <a:latin typeface="Garamond"/>
              </a:rPr>
              <a:t>Μοντέλο </a:t>
            </a:r>
            <a:r>
              <a:rPr b="0" i="1" lang="en-US" sz="3600" spc="-1" strike="noStrike">
                <a:solidFill>
                  <a:srgbClr val="eadc78"/>
                </a:solidFill>
                <a:latin typeface="Garamond"/>
              </a:rPr>
              <a:t>SOI</a:t>
            </a:r>
            <a:r>
              <a:rPr b="0" i="1" lang="el-GR" sz="3600" spc="-1" strike="noStrike">
                <a:solidFill>
                  <a:srgbClr val="eadc78"/>
                </a:solidFill>
                <a:latin typeface="Garamond"/>
              </a:rPr>
              <a:t> (</a:t>
            </a:r>
            <a:r>
              <a:rPr b="0" i="1" lang="en-US" sz="3600" spc="-1" strike="noStrike">
                <a:solidFill>
                  <a:srgbClr val="eadc78"/>
                </a:solidFill>
                <a:latin typeface="Garamond"/>
              </a:rPr>
              <a:t>Select-Organize-Integrate</a:t>
            </a:r>
            <a:r>
              <a:rPr b="0" i="1" lang="el-GR" sz="3600" spc="-1" strike="noStrike">
                <a:solidFill>
                  <a:srgbClr val="eadc78"/>
                </a:solidFill>
                <a:latin typeface="Garamond"/>
              </a:rPr>
              <a:t>) </a:t>
            </a:r>
            <a:endParaRPr b="0" i="1" lang="en-US" sz="36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faf9e6"/>
                </a:solidFill>
                <a:uFillTx/>
                <a:latin typeface="Tahoma"/>
              </a:rPr>
              <a:t>Β) Οργάνωση εισερχόμενων πληροφοριών</a:t>
            </a: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Χρησιμοποιώντας </a:t>
            </a:r>
            <a:r>
              <a:rPr b="1" lang="el-GR" sz="2400" spc="-1" strike="noStrike">
                <a:solidFill>
                  <a:srgbClr val="ffc000"/>
                </a:solidFill>
                <a:latin typeface="Tahoma"/>
              </a:rPr>
              <a:t>περιγράμματα που απεικονίζουν δομές συσχετίσεων 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μεταξύ των στοιχείων του κειμένου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c000"/>
                </a:solidFill>
                <a:latin typeface="Tahoma"/>
              </a:rPr>
              <a:t>Επικεφαλίδες</a:t>
            </a:r>
            <a:r>
              <a:rPr b="1" lang="el-GR" sz="2400" spc="-1" strike="noStrike">
                <a:solidFill>
                  <a:srgbClr val="faf9e6"/>
                </a:solidFill>
                <a:latin typeface="Tahoma"/>
              </a:rPr>
              <a:t> 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που οργανώνουν και τονίζουν το περιεχόμενου του κειμένου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Χρησιμοποιώντας </a:t>
            </a:r>
            <a:r>
              <a:rPr b="1" lang="el-GR" sz="2400" spc="-1" strike="noStrike">
                <a:solidFill>
                  <a:srgbClr val="ffc000"/>
                </a:solidFill>
                <a:latin typeface="Tahoma"/>
              </a:rPr>
              <a:t>λέξεις δείκτες 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που κάνουν τη δομή του κειμένου πιο σαφή  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Χρησιμοποιώντας </a:t>
            </a:r>
            <a:r>
              <a:rPr b="1" lang="el-GR" sz="2400" spc="-1" strike="noStrike">
                <a:solidFill>
                  <a:srgbClr val="ffc000"/>
                </a:solidFill>
                <a:latin typeface="Tahoma"/>
              </a:rPr>
              <a:t>γραφικές αναπαραστάσεις 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που χρωματίζουν νοηματικά τις σημαντικές έννοιες που αναφέρονται στο κείμενο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7572240" y="1052640"/>
            <a:ext cx="1571760" cy="36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af9e6"/>
            </a:solidFill>
            <a:miter/>
          </a:ln>
          <a:effectLst>
            <a:outerShdw dist="53966" dir="2700000" blurRad="0" rotWithShape="0">
              <a:srgbClr val="8817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9e6"/>
                </a:solidFill>
                <a:latin typeface="Arial"/>
              </a:rPr>
              <a:t>R. Mayer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eadc78"/>
                </a:solidFill>
                <a:latin typeface="Garamond"/>
              </a:rPr>
              <a:t>Μοντέλο </a:t>
            </a:r>
            <a:r>
              <a:rPr b="0" i="1" lang="en-US" sz="3600" spc="-1" strike="noStrike">
                <a:solidFill>
                  <a:srgbClr val="eadc78"/>
                </a:solidFill>
                <a:latin typeface="Garamond"/>
              </a:rPr>
              <a:t>SOI</a:t>
            </a:r>
            <a:r>
              <a:rPr b="0" i="1" lang="el-GR" sz="3600" spc="-1" strike="noStrike">
                <a:solidFill>
                  <a:srgbClr val="eadc78"/>
                </a:solidFill>
                <a:latin typeface="Garamond"/>
              </a:rPr>
              <a:t> (</a:t>
            </a:r>
            <a:r>
              <a:rPr b="0" i="1" lang="en-US" sz="3600" spc="-1" strike="noStrike">
                <a:solidFill>
                  <a:srgbClr val="eadc78"/>
                </a:solidFill>
                <a:latin typeface="Garamond"/>
              </a:rPr>
              <a:t>Select-Organize-Integrate</a:t>
            </a:r>
            <a:r>
              <a:rPr b="0" i="1" lang="el-GR" sz="3600" spc="-1" strike="noStrike">
                <a:solidFill>
                  <a:srgbClr val="eadc78"/>
                </a:solidFill>
                <a:latin typeface="Garamond"/>
              </a:rPr>
              <a:t>) </a:t>
            </a:r>
            <a:endParaRPr b="0" i="1" lang="en-US" sz="36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ffc000"/>
                </a:solidFill>
                <a:uFillTx/>
                <a:latin typeface="Tahoma"/>
              </a:rPr>
              <a:t>Γ) Ολοκλήρωση εισερχόμενων πληροφοριών</a:t>
            </a:r>
            <a:r>
              <a:rPr b="0" lang="el-GR" sz="2800" spc="-1" strike="noStrike">
                <a:solidFill>
                  <a:srgbClr val="ffc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Πως μπορούμε να βοηθήσουμε τους εκπαιδευόμενους να ενεργοποιήσουν και να χρησιμοποιήσουν τη προηγούμενη γνώση τους και να ενεργοποιήσουν και να συντονίσουν πολλαπλές αναπαραστάσεις του υλικού;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7572240" y="1052640"/>
            <a:ext cx="1571760" cy="36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af9e6"/>
            </a:solidFill>
            <a:miter/>
          </a:ln>
          <a:effectLst>
            <a:outerShdw dist="53966" dir="2700000" blurRad="0" rotWithShape="0">
              <a:srgbClr val="8817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9e6"/>
                </a:solidFill>
                <a:latin typeface="Arial"/>
              </a:rPr>
              <a:t>R. Mayer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400" spc="-1" strike="noStrike">
                <a:solidFill>
                  <a:srgbClr val="eadc78"/>
                </a:solidFill>
                <a:latin typeface="Garamond"/>
              </a:rPr>
              <a:t>Προσπάθειες Ταξινόμησης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78d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Ταξινόμηση διδακτικών προσεγγίσεων βάσει: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d78d15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Τυπολογία επιδιωκώμενων δεξιοτήτων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d78d15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Ποιος ελέγχει τη μάθηση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d78d15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Την εστίαση της προσέγγισης στο περιεχόμενο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d78d15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Χρήση ομάδων για τη μάθηση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d78d15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Τυπολογία αλληλεπιδράσεων για τη μάθηση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d78d15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Τρόποι υποστήριξης της μάθησης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704844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24E3-C90B-4713-8946-58ADF56AAE4D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eadc78"/>
                </a:solidFill>
                <a:latin typeface="Garamond"/>
              </a:rPr>
              <a:t>Μοντέλο </a:t>
            </a:r>
            <a:r>
              <a:rPr b="0" i="1" lang="en-US" sz="3600" spc="-1" strike="noStrike">
                <a:solidFill>
                  <a:srgbClr val="eadc78"/>
                </a:solidFill>
                <a:latin typeface="Garamond"/>
              </a:rPr>
              <a:t>SOI</a:t>
            </a:r>
            <a:r>
              <a:rPr b="0" i="1" lang="el-GR" sz="3600" spc="-1" strike="noStrike">
                <a:solidFill>
                  <a:srgbClr val="eadc78"/>
                </a:solidFill>
                <a:latin typeface="Garamond"/>
              </a:rPr>
              <a:t> (</a:t>
            </a:r>
            <a:r>
              <a:rPr b="0" i="1" lang="en-US" sz="3600" spc="-1" strike="noStrike">
                <a:solidFill>
                  <a:srgbClr val="eadc78"/>
                </a:solidFill>
                <a:latin typeface="Garamond"/>
              </a:rPr>
              <a:t>Select-Organize-Integrate</a:t>
            </a:r>
            <a:r>
              <a:rPr b="0" i="1" lang="el-GR" sz="3600" spc="-1" strike="noStrike">
                <a:solidFill>
                  <a:srgbClr val="eadc78"/>
                </a:solidFill>
                <a:latin typeface="Garamond"/>
              </a:rPr>
              <a:t>) </a:t>
            </a:r>
            <a:endParaRPr b="0" i="1" lang="en-US" sz="36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faf9e6"/>
                </a:solidFill>
                <a:uFillTx/>
                <a:latin typeface="Tahoma"/>
              </a:rPr>
              <a:t>Γ) Ολοκλήρωση εισερχόμενων πληροφοριών</a:t>
            </a: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ανάπτυξη </a:t>
            </a:r>
            <a:r>
              <a:rPr b="1" lang="el-GR" sz="2400" spc="-1" strike="noStrike">
                <a:solidFill>
                  <a:srgbClr val="ffc000"/>
                </a:solidFill>
                <a:latin typeface="Tahoma"/>
              </a:rPr>
              <a:t>δομές οργάνωσης 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που διεγείρουν κατάλληλες προηγούμενες γνώσεις του μαθητή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χρησιμοποίηση </a:t>
            </a:r>
            <a:r>
              <a:rPr b="1" lang="el-GR" sz="2400" spc="-1" strike="noStrike">
                <a:solidFill>
                  <a:srgbClr val="ffc000"/>
                </a:solidFill>
                <a:latin typeface="Tahoma"/>
              </a:rPr>
              <a:t>απεικονήσεων (πολλαπλών πλαισίων) με λεζάντες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c000"/>
                </a:solidFill>
                <a:latin typeface="Tahoma"/>
              </a:rPr>
              <a:t>κινούμενα σχέδια – κίνηση με διήγηση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χρησιμοποίηση </a:t>
            </a:r>
            <a:r>
              <a:rPr b="1" lang="el-GR" sz="2400" spc="-1" strike="noStrike">
                <a:solidFill>
                  <a:srgbClr val="ffc000"/>
                </a:solidFill>
                <a:latin typeface="Tahoma"/>
              </a:rPr>
              <a:t>παραδειγμάτων που έχουν μελετηθεί στο παρελθόν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c000"/>
                </a:solidFill>
                <a:latin typeface="Tahoma"/>
              </a:rPr>
              <a:t>ερωτήσεις επεξεργασίας 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που κινητροδοτούν τους αναγνώστες να συνδέσουν τις νέες πληροφορίες με την προϋπάρχουσα γνώση τους.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7572240" y="1052640"/>
            <a:ext cx="1571760" cy="36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af9e6"/>
            </a:solidFill>
            <a:miter/>
          </a:ln>
          <a:effectLst>
            <a:outerShdw dist="53966" dir="2700000" blurRad="0" rotWithShape="0">
              <a:srgbClr val="8817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9e6"/>
                </a:solidFill>
                <a:latin typeface="Arial"/>
              </a:rPr>
              <a:t>R. Mayer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400" spc="-1" strike="noStrike">
                <a:solidFill>
                  <a:srgbClr val="eadc78"/>
                </a:solidFill>
                <a:latin typeface="Garamond"/>
              </a:rPr>
              <a:t>Μοντέλο </a:t>
            </a:r>
            <a:r>
              <a:rPr b="0" i="1" lang="en-US" sz="4400" spc="-1" strike="noStrike">
                <a:solidFill>
                  <a:srgbClr val="eadc78"/>
                </a:solidFill>
                <a:latin typeface="Garamond"/>
              </a:rPr>
              <a:t>SOI</a:t>
            </a:r>
            <a:r>
              <a:rPr b="0" i="1" lang="el-GR" sz="4400" spc="-1" strike="noStrike">
                <a:solidFill>
                  <a:srgbClr val="eadc78"/>
                </a:solidFill>
                <a:latin typeface="Garamond"/>
              </a:rPr>
              <a:t> (</a:t>
            </a:r>
            <a:r>
              <a:rPr b="0" i="1" lang="en-US" sz="4400" spc="-1" strike="noStrike">
                <a:solidFill>
                  <a:srgbClr val="eadc78"/>
                </a:solidFill>
                <a:latin typeface="Garamond"/>
              </a:rPr>
              <a:t>Select-Organize-Integrate</a:t>
            </a:r>
            <a:r>
              <a:rPr b="0" i="1" lang="el-GR" sz="4400" spc="-1" strike="noStrike">
                <a:solidFill>
                  <a:srgbClr val="eadc78"/>
                </a:solidFill>
                <a:latin typeface="Garamond"/>
              </a:rPr>
              <a:t>) 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Select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Organize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Integrate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704844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BE87-6462-434E-BFBE-F1916F4D0AD5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l-GR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af9e6"/>
                </a:solidFill>
                <a:latin typeface="Tahoma"/>
              </a:rPr>
              <a:t>“</a:t>
            </a:r>
            <a:r>
              <a:rPr b="1" lang="el-GR" sz="2800" spc="-1" strike="noStrike">
                <a:solidFill>
                  <a:srgbClr val="faf9e6"/>
                </a:solidFill>
                <a:latin typeface="Tahoma"/>
              </a:rPr>
              <a:t>Designing Constructivist Learning Environments”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af9e6"/>
                </a:solidFill>
                <a:latin typeface="Tahoma"/>
              </a:rPr>
              <a:t>«Σχεδιάζοντας Εποικοδομητικά Μαθησιακά Περιβάλλοντα»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9e6"/>
                </a:solidFill>
                <a:latin typeface="Tahoma"/>
                <a:ea typeface="굴림"/>
              </a:rPr>
              <a:t>D. Jonassen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  <a:ea typeface="굴림"/>
              </a:rPr>
              <a:t>,</a:t>
            </a:r>
            <a:r>
              <a:rPr b="0" lang="en-US" sz="2400" spc="-1" strike="noStrike">
                <a:solidFill>
                  <a:srgbClr val="faf9e6"/>
                </a:solidFill>
                <a:latin typeface="Tahoma"/>
                <a:ea typeface="굴림"/>
              </a:rPr>
              <a:t> Instructional - Design Theories and Models, edited by Charles Reigeluth, Lawrence Erlbaum Associates, 1999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400" spc="-1" strike="noStrike">
                <a:solidFill>
                  <a:srgbClr val="eadc78"/>
                </a:solidFill>
                <a:latin typeface="Garamond"/>
              </a:rPr>
              <a:t>Εποικοδομητική Μάθηση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295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af9e6"/>
                </a:solidFill>
                <a:latin typeface="Tahoma"/>
              </a:rPr>
              <a:t>Εισαγωγικά στοιχεία</a:t>
            </a:r>
            <a:endParaRPr b="0" lang="en-US" sz="20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Οι εποικοδομητικές προσεγγίσεις της μάθησης, υποθέτουν ότι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 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η </a:t>
            </a:r>
            <a:r>
              <a:rPr b="0" lang="el-GR" sz="2400" spc="-1" strike="noStrike">
                <a:solidFill>
                  <a:srgbClr val="ffc000"/>
                </a:solidFill>
                <a:latin typeface="Tahoma"/>
              </a:rPr>
              <a:t>γνώση οικοδομείται ατομικά 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και </a:t>
            </a:r>
            <a:r>
              <a:rPr b="0" lang="el-GR" sz="2400" spc="-1" strike="noStrike">
                <a:solidFill>
                  <a:srgbClr val="ffc000"/>
                </a:solidFill>
                <a:latin typeface="Tahoma"/>
              </a:rPr>
              <a:t>συν</a:t>
            </a:r>
            <a:r>
              <a:rPr b="1" lang="el-GR" sz="2400" spc="-1" strike="noStrike">
                <a:solidFill>
                  <a:srgbClr val="ffc000"/>
                </a:solidFill>
                <a:latin typeface="Tahoma"/>
              </a:rPr>
              <a:t>-οικοδομείται </a:t>
            </a:r>
            <a:r>
              <a:rPr b="0" lang="el-GR" sz="2400" spc="-1" strike="noStrike">
                <a:solidFill>
                  <a:srgbClr val="ffc000"/>
                </a:solidFill>
                <a:latin typeface="Tahoma"/>
              </a:rPr>
              <a:t>κοινωνικά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 από τους εκπαιδευόμενους με βάση τις ερμηνείες των εμπειριών τους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από τη στιγμή που η γνώση δεν μεταδίδεται, η διδασκαλία πρέπει να συνίσταται από την </a:t>
            </a:r>
            <a:r>
              <a:rPr b="1" i="1" lang="el-GR" sz="2400" spc="-1" strike="noStrike">
                <a:solidFill>
                  <a:srgbClr val="ffc000"/>
                </a:solidFill>
                <a:latin typeface="Tahoma"/>
              </a:rPr>
              <a:t>οργάνωση εμπειριών που διευκολύνουν την οικοδόμηση της γνώσης.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7572240" y="1052640"/>
            <a:ext cx="1571760" cy="36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af9e6"/>
            </a:solidFill>
            <a:miter/>
          </a:ln>
          <a:effectLst>
            <a:outerShdw dist="53966" dir="2700000" blurRad="0" rotWithShape="0">
              <a:srgbClr val="8817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9e6"/>
                </a:solidFill>
                <a:latin typeface="Arial"/>
                <a:ea typeface="굴림"/>
              </a:rPr>
              <a:t>D. Jonassen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dc78"/>
                </a:solidFill>
                <a:latin typeface="Garamond"/>
              </a:rPr>
              <a:t>Μοντέλο σχεδίασης εποικοδομητικών μαθησιακών περιβαλλόντων</a:t>
            </a:r>
            <a:r>
              <a:rPr b="0" i="1" lang="el-GR" sz="3600" spc="-1" strike="noStrike">
                <a:solidFill>
                  <a:srgbClr val="eadc78"/>
                </a:solidFill>
                <a:latin typeface="Garamond"/>
              </a:rPr>
              <a:t> </a:t>
            </a:r>
            <a:endParaRPr b="0" i="1" lang="en-US" sz="36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d78d15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Το μοντέλο ξεκινά με ένα </a:t>
            </a:r>
            <a:r>
              <a:rPr b="0" lang="el-GR" sz="2400" spc="-1" strike="noStrike">
                <a:solidFill>
                  <a:srgbClr val="ffc000"/>
                </a:solidFill>
                <a:latin typeface="Tahoma"/>
              </a:rPr>
              <a:t>πρόβλημα, μια ερώτηση ή ένα έργο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d78d15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000"/>
                </a:solidFill>
                <a:latin typeface="Tahoma"/>
              </a:rPr>
              <a:t>Σχετικές περιπτώσεις και πληροφοριακές πηγές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 υποστηρίζουν την κατανόηση του προβλήματος και προτείνουν πιθανές λύσεις. 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d78d15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000"/>
                </a:solidFill>
                <a:latin typeface="Tahoma"/>
              </a:rPr>
              <a:t>Γνωστικά εργαλεία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 βοηθούν τους μαθητευόμενους να ερμηνεύσουν και να διαχειριστούν όψεις του προβλήματος. 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d78d15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000"/>
                </a:solidFill>
                <a:latin typeface="Tahoma"/>
              </a:rPr>
              <a:t>Συνεργατικά εργαλεία 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επιτρέπουν κοινότητες μαθητευομένων να διαπραγματευτούν και να συν-οικοδομήσουν ερμηνείες για το πρόβλημα. 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d78d15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000"/>
                </a:solidFill>
                <a:latin typeface="Tahoma"/>
              </a:rPr>
              <a:t>Άλλες κοινωνικές ομάδες 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βοηθούν τους χρήστες να υλοποιήσουν τις εργασίες τους.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7572240" y="1052640"/>
            <a:ext cx="1571760" cy="360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af9e6"/>
            </a:solidFill>
            <a:miter/>
          </a:ln>
          <a:effectLst>
            <a:outerShdw dist="53966" dir="2700000" blurRad="0" rotWithShape="0">
              <a:srgbClr val="8817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9e6"/>
                </a:solidFill>
                <a:latin typeface="Arial"/>
                <a:ea typeface="굴림"/>
              </a:rPr>
              <a:t>D. Jonassen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eadc78"/>
                </a:solidFill>
                <a:latin typeface="Garamond"/>
              </a:rPr>
              <a:t>1. Ερώτηση – Περίπτωση – Πρόβλημα - Έργο</a:t>
            </a:r>
            <a:endParaRPr b="0" i="1" lang="en-US" sz="36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af9e6"/>
                </a:solidFill>
                <a:latin typeface="Tahoma"/>
              </a:rPr>
              <a:t>μάθηση βασισμένη σε </a:t>
            </a:r>
            <a:r>
              <a:rPr b="1" lang="el-GR" sz="2800" spc="-1" strike="noStrike">
                <a:solidFill>
                  <a:srgbClr val="ffc000"/>
                </a:solidFill>
                <a:latin typeface="Tahoma"/>
              </a:rPr>
              <a:t>ερωτήσεις ή ζητήματα</a:t>
            </a: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όπου η μάθηση ξεκινά με μια ερώτηση με αβέβαιες ή αντιφατικές απαντήσεις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af9e6"/>
                </a:solidFill>
                <a:latin typeface="Tahoma"/>
              </a:rPr>
              <a:t>μάθηση βασισμένη σε </a:t>
            </a:r>
            <a:r>
              <a:rPr b="1" lang="el-GR" sz="2800" spc="-1" strike="noStrike">
                <a:solidFill>
                  <a:srgbClr val="ffc000"/>
                </a:solidFill>
                <a:latin typeface="Tahoma"/>
              </a:rPr>
              <a:t>περιπτώσεις</a:t>
            </a:r>
            <a:r>
              <a:rPr b="0" lang="el-GR" sz="2800" spc="-1" strike="noStrike">
                <a:solidFill>
                  <a:srgbClr val="ffc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όπου οι μαθητές αποκτούν γνώσεις και δεξιότητες μελετώντας περιπτώσεις και προετοιμάζοντας περιλήψεις ή διαγνώσεις νέων περιπτώσεων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7572240" y="1052640"/>
            <a:ext cx="1571760" cy="36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af9e6"/>
            </a:solidFill>
            <a:miter/>
          </a:ln>
          <a:effectLst>
            <a:outerShdw dist="53966" dir="2700000" blurRad="0" rotWithShape="0">
              <a:srgbClr val="8817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9e6"/>
                </a:solidFill>
                <a:latin typeface="Arial"/>
                <a:ea typeface="굴림"/>
              </a:rPr>
              <a:t>D. Jonassen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eadc78"/>
                </a:solidFill>
                <a:latin typeface="Garamond"/>
              </a:rPr>
              <a:t>1. Ερώτηση – Περίπτωση – Πρόβλημα - Έργο</a:t>
            </a:r>
            <a:endParaRPr b="0" i="1" lang="en-US" sz="36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af9e6"/>
                </a:solidFill>
                <a:latin typeface="Tahoma"/>
              </a:rPr>
              <a:t>μάθηση βασισμένη σε </a:t>
            </a:r>
            <a:r>
              <a:rPr b="1" lang="el-GR" sz="2800" spc="-1" strike="noStrike">
                <a:solidFill>
                  <a:srgbClr val="ffc000"/>
                </a:solidFill>
                <a:latin typeface="Tahoma"/>
              </a:rPr>
              <a:t>έργο</a:t>
            </a:r>
            <a:r>
              <a:rPr b="0" lang="el-GR" sz="2800" spc="-1" strike="noStrike">
                <a:solidFill>
                  <a:srgbClr val="ffc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η οποία εστιάζεται σε σχετικά μακρόχρονες μονάδες διδασκαλίας όπου οι μαθητευόμενοι επικεντρώνονται σε σύνθετα έργα που αποτελούνται από πολλαπλές περιπτώσεις 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af9e6"/>
                </a:solidFill>
                <a:latin typeface="Tahoma"/>
              </a:rPr>
              <a:t>μάθηση βασισμένη σε </a:t>
            </a:r>
            <a:r>
              <a:rPr b="1" lang="el-GR" sz="2800" spc="-1" strike="noStrike">
                <a:solidFill>
                  <a:srgbClr val="ffc000"/>
                </a:solidFill>
                <a:latin typeface="Tahoma"/>
              </a:rPr>
              <a:t>πρόβλημα</a:t>
            </a:r>
            <a:r>
              <a:rPr b="0" lang="el-GR" sz="2800" spc="-1" strike="noStrike">
                <a:solidFill>
                  <a:srgbClr val="ffc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κατά την οποία συνδυάζονται μαθήματα σε επίπεδο προγράμματος σπουδών απαιτώντας από τους μαθητευόμενους να κατευθύνουν από μόνοι τους τη μάθησή τους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7572240" y="1052640"/>
            <a:ext cx="1571760" cy="36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af9e6"/>
            </a:solidFill>
            <a:miter/>
          </a:ln>
          <a:effectLst>
            <a:outerShdw dist="53966" dir="2700000" blurRad="0" rotWithShape="0">
              <a:srgbClr val="8817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9e6"/>
                </a:solidFill>
                <a:latin typeface="Arial"/>
                <a:ea typeface="굴림"/>
              </a:rPr>
              <a:t>D. Jonassen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eadc78"/>
                </a:solidFill>
                <a:latin typeface="Garamond"/>
              </a:rPr>
              <a:t>1. Ερώτηση – Περίπτωση – Πρόβλημα - Έργο</a:t>
            </a:r>
            <a:endParaRPr b="0" i="1" lang="en-US" sz="36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Αφού το κλειδί για τη μάθηση με νόημα  είναι η «ιδιοκτησία»  του προβλήματος και οι μαθησιακοί στόχοι, πρέπει ο διδάσκοντας να παρέχει </a:t>
            </a:r>
            <a:r>
              <a:rPr b="0" lang="el-GR" sz="2800" spc="-1" strike="noStrike">
                <a:solidFill>
                  <a:srgbClr val="ffc000"/>
                </a:solidFill>
                <a:latin typeface="Tahoma"/>
              </a:rPr>
              <a:t>ενδιαφέροντα, σχετικά προβλήματα προς επίλυση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Θα πρέπει το πρόβλημα να είναι</a:t>
            </a:r>
            <a:r>
              <a:rPr b="0" lang="el-GR" sz="2800" spc="-1" strike="noStrike">
                <a:solidFill>
                  <a:srgbClr val="ffc000"/>
                </a:solidFill>
                <a:latin typeface="Tahoma"/>
              </a:rPr>
              <a:t> ελλειπώς ορισμένο </a:t>
            </a: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έτσι ώστε ορισμένα τμήματά του να προκύψουν από μόνα τους και να οριστούν από τους μαθητευόμενους 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7572240" y="1052640"/>
            <a:ext cx="1571760" cy="36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af9e6"/>
            </a:solidFill>
            <a:miter/>
          </a:ln>
          <a:effectLst>
            <a:outerShdw dist="53966" dir="2700000" blurRad="0" rotWithShape="0">
              <a:srgbClr val="8817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9e6"/>
                </a:solidFill>
                <a:latin typeface="Arial"/>
                <a:ea typeface="굴림"/>
              </a:rPr>
              <a:t>D. Jonassen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eadc78"/>
                </a:solidFill>
                <a:latin typeface="Garamond"/>
              </a:rPr>
              <a:t>1. Ερώτηση – Περίπτωση – Πρόβλημα - Έργο</a:t>
            </a:r>
            <a:endParaRPr b="0" i="1" lang="en-US" sz="36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79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Τα </a:t>
            </a:r>
            <a:r>
              <a:rPr b="0" lang="el-GR" sz="2400" spc="-1" strike="noStrike">
                <a:solidFill>
                  <a:srgbClr val="ffc000"/>
                </a:solidFill>
                <a:latin typeface="Tahoma"/>
              </a:rPr>
              <a:t>ελλειπώς δομημένα προβλήματα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af9e6"/>
                </a:solidFill>
                <a:latin typeface="Tahoma"/>
              </a:rPr>
              <a:t>έχουν αδήλωτους στόχους και περιορισμούς</a:t>
            </a:r>
            <a:endParaRPr b="0" lang="en-US" sz="20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af9e6"/>
                </a:solidFill>
                <a:latin typeface="Tahoma"/>
              </a:rPr>
              <a:t>έχουν πολλαπλές λύσεις, μονοπάτια λύσεων ή καθόλου λύσεις</a:t>
            </a:r>
            <a:endParaRPr b="0" lang="en-US" sz="20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af9e6"/>
                </a:solidFill>
                <a:latin typeface="Tahoma"/>
              </a:rPr>
              <a:t>έχουν πολλαπλά κριτήρια για την αξιολόγηση των προτεινόμενων λύσεων</a:t>
            </a:r>
            <a:endParaRPr b="0" lang="en-US" sz="20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af9e6"/>
                </a:solidFill>
                <a:latin typeface="Tahoma"/>
              </a:rPr>
              <a:t>παρουσιάζουν αβεβαιότητα σε σχέση με το ποιες αρχές, ποιοι κανόνες είναι απαιραίτητοι για την επίλυση και πως οργανώνονται</a:t>
            </a:r>
            <a:endParaRPr b="0" lang="en-US" sz="20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af9e6"/>
                </a:solidFill>
                <a:latin typeface="Tahoma"/>
              </a:rPr>
              <a:t>δεν προσφέρουν γενικούς κανόνες ή αρχές για την περιγραφή ή την πρόβλεψη του αποτελέσματος των περισσότερων περιπτώσεων</a:t>
            </a:r>
            <a:endParaRPr b="0" lang="en-US" sz="20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af9e6"/>
                </a:solidFill>
                <a:latin typeface="Tahoma"/>
              </a:rPr>
              <a:t>απαιτούν από τους μαθητευόμενους να κάνουν κρίσεις για το πρόβλημα και να υπερασπίζονται τις κρίσεις τους εκφράζοντας προσωπικές απόψεις και πιστεύω</a:t>
            </a:r>
            <a:endParaRPr b="0" lang="en-US" sz="20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7572240" y="1052640"/>
            <a:ext cx="1571760" cy="36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af9e6"/>
            </a:solidFill>
            <a:miter/>
          </a:ln>
          <a:effectLst>
            <a:outerShdw dist="53966" dir="2700000" blurRad="0" rotWithShape="0">
              <a:srgbClr val="8817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9e6"/>
                </a:solidFill>
                <a:latin typeface="Arial"/>
                <a:ea typeface="굴림"/>
              </a:rPr>
              <a:t>D. Jonassen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eadc78"/>
                </a:solidFill>
                <a:latin typeface="Garamond"/>
              </a:rPr>
              <a:t>1. Ερώτηση – Περίπτωση – Πρόβλημα - Έργο</a:t>
            </a:r>
            <a:endParaRPr b="0" i="1" lang="en-US" sz="36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Για να αναγνωρίσουμε τέτοια προβλήματα δεν θα ανατρέξουμε στις κατηγοριοποιήσεις του θεματικού αντικειμένου 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αλλα </a:t>
            </a:r>
            <a:r>
              <a:rPr b="0" i="1" lang="el-GR" sz="2400" spc="-1" strike="noStrike">
                <a:solidFill>
                  <a:srgbClr val="faf9e6"/>
                </a:solidFill>
                <a:latin typeface="Tahoma"/>
              </a:rPr>
              <a:t>θα αναζητήσουμε προβλήματα και πρακτικές των επαγγελματιών 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7572240" y="1052640"/>
            <a:ext cx="1571760" cy="36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af9e6"/>
            </a:solidFill>
            <a:miter/>
          </a:ln>
          <a:effectLst>
            <a:outerShdw dist="53966" dir="2700000" blurRad="0" rotWithShape="0">
              <a:srgbClr val="8817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9e6"/>
                </a:solidFill>
                <a:latin typeface="Arial"/>
                <a:ea typeface="굴림"/>
              </a:rPr>
              <a:t>D. Jonassen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400" spc="-1" strike="noStrike">
                <a:solidFill>
                  <a:srgbClr val="eadc78"/>
                </a:solidFill>
                <a:latin typeface="Garamond"/>
              </a:rPr>
              <a:t>1. Τυπολογία επιδιωκώμενων δεξιοτήτων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Έξι επίπεδα: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af9e6"/>
                </a:solidFill>
                <a:latin typeface="Tahoma"/>
              </a:rPr>
              <a:t>1 επίπεδο «Γνώση»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af9e6"/>
                </a:solidFill>
                <a:latin typeface="Tahoma"/>
              </a:rPr>
              <a:t>2 επίπεδο «Κατανόηση»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af9e6"/>
                </a:solidFill>
                <a:latin typeface="Tahoma"/>
              </a:rPr>
              <a:t>3 επίπεδο «Εφαρμογή»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af9e6"/>
                </a:solidFill>
                <a:latin typeface="Tahoma"/>
              </a:rPr>
              <a:t>4 επίπεδο «Ανάλυση»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af9e6"/>
                </a:solidFill>
                <a:latin typeface="Tahoma"/>
              </a:rPr>
              <a:t>5 επίπεδο «Σύνθεση»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af9e6"/>
                </a:solidFill>
                <a:latin typeface="Tahoma"/>
              </a:rPr>
              <a:t>6 επίπεδο «Αξιολόγηση»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eadc78"/>
                </a:solidFill>
                <a:latin typeface="Garamond"/>
              </a:rPr>
              <a:t>1. Ερώτηση – Περίπτωση – Πρόβλημα - Έργο</a:t>
            </a:r>
            <a:endParaRPr b="0" i="1" lang="en-US" sz="36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Τα προβλήματα πρέπει να περιλαμβάνουν τρία συστατικά 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af9e6"/>
                </a:solidFill>
                <a:latin typeface="Tahoma"/>
              </a:rPr>
              <a:t>Α) το περιβάλλον του προβλήματος 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af9e6"/>
                </a:solidFill>
                <a:latin typeface="Tahoma"/>
              </a:rPr>
              <a:t>Β) την αναπαράσταση του προβλήματος</a:t>
            </a: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af9e6"/>
                </a:solidFill>
                <a:latin typeface="Tahoma"/>
              </a:rPr>
              <a:t>Γ) το χώρο διαχείρισης του προβλήματος</a:t>
            </a: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7572240" y="1052640"/>
            <a:ext cx="1571760" cy="3603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af9e6"/>
            </a:solidFill>
            <a:miter/>
          </a:ln>
          <a:effectLst>
            <a:outerShdw dist="53966" dir="2700000" blurRad="0" rotWithShape="0">
              <a:srgbClr val="8817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9e6"/>
                </a:solidFill>
                <a:latin typeface="Arial"/>
                <a:ea typeface="굴림"/>
              </a:rPr>
              <a:t>D. Jonassen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eadc78"/>
                </a:solidFill>
                <a:latin typeface="Garamond"/>
              </a:rPr>
              <a:t>1. Ερώτηση – Περίπτωση – Πρόβλημα - Έργο</a:t>
            </a:r>
            <a:endParaRPr b="0" i="1" lang="en-US" sz="36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79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af9e6"/>
                </a:solidFill>
                <a:latin typeface="Tahoma"/>
              </a:rPr>
              <a:t>Β) την αναπαράσταση του προβλήματος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af9e6"/>
                </a:solidFill>
                <a:latin typeface="Tahoma"/>
              </a:rPr>
              <a:t>Γενικά το πρόβλημα πρέπει να είναι αυθεντικό δηλαδή να εμπλέκει τους μαθητευόμενους σε δραστηριότητες που παρουσιάζουν τις ίδιες γνωστικές προκλήσεις με αυτές που εμφανίζονται στον πραγματικό κόσμο.  </a:t>
            </a:r>
            <a:endParaRPr b="0" lang="en-US" sz="20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7572240" y="1052640"/>
            <a:ext cx="1571760" cy="36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af9e6"/>
            </a:solidFill>
            <a:miter/>
          </a:ln>
          <a:effectLst>
            <a:outerShdw dist="53966" dir="2700000" blurRad="0" rotWithShape="0">
              <a:srgbClr val="8817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9e6"/>
                </a:solidFill>
                <a:latin typeface="Arial"/>
                <a:ea typeface="굴림"/>
              </a:rPr>
              <a:t>D. Jonassen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eadc78"/>
                </a:solidFill>
                <a:latin typeface="Garamond"/>
              </a:rPr>
              <a:t>1. Ερώτηση – Περίπτωση – Πρόβλημα - Έργο</a:t>
            </a:r>
            <a:endParaRPr b="0" i="1" lang="en-US" sz="36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79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af9e6"/>
                </a:solidFill>
                <a:latin typeface="Tahoma"/>
              </a:rPr>
              <a:t>Γ) το χώρο διαχείρισης του προβλήματος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af9e6"/>
                </a:solidFill>
                <a:latin typeface="Tahoma"/>
              </a:rPr>
              <a:t>Για να είναι οι μαθητευόμενοι ενεργοί, πρέπει να χειρίζονται κάτι (να κατασκευάζουν ένα προϊόν, να επηρεάζουν παραμέτρους, να λαμβάνουν αποφάσεις) και να επιδρούν στο περιβάλλον με κάποιο τρόπο.</a:t>
            </a:r>
            <a:endParaRPr b="0" lang="en-US" sz="20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af9e6"/>
                </a:solidFill>
                <a:latin typeface="Tahoma"/>
              </a:rPr>
              <a:t> </a:t>
            </a:r>
            <a:r>
              <a:rPr b="0" lang="el-GR" sz="2000" spc="-1" strike="noStrike">
                <a:solidFill>
                  <a:srgbClr val="faf9e6"/>
                </a:solidFill>
                <a:latin typeface="Tahoma"/>
              </a:rPr>
              <a:t>Ο χώρος διαχείρισης του προβλήματος περιλαμβάνει τα αντικείμενα, τα σύμβολα και τα εργαλεία που απαιτούνται για να διαχειριστεί το περιβάλλον του ο μαθητευόμενος</a:t>
            </a:r>
            <a:endParaRPr b="0" lang="en-US" sz="20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af9e6"/>
                </a:solidFill>
                <a:latin typeface="Tahoma"/>
              </a:rPr>
              <a:t> </a:t>
            </a:r>
            <a:r>
              <a:rPr b="0" lang="el-GR" sz="2000" spc="-1" strike="noStrike">
                <a:solidFill>
                  <a:srgbClr val="faf9e6"/>
                </a:solidFill>
                <a:latin typeface="Tahoma"/>
              </a:rPr>
              <a:t>Οι μαθητευόμενοι δεν μπορούν να νιώσουν «ιδιοκτησία» του προβλήματος αν δεν γνωρίζουν ότι μπορούν να επηρεάσουν την κατάσταση του προβλήματος με ένα λογικό τρόπο  </a:t>
            </a:r>
            <a:endParaRPr b="0" lang="en-US" sz="20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7572240" y="1052640"/>
            <a:ext cx="1571760" cy="36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af9e6"/>
            </a:solidFill>
            <a:miter/>
          </a:ln>
          <a:effectLst>
            <a:outerShdw dist="53966" dir="2700000" blurRad="0" rotWithShape="0">
              <a:srgbClr val="8817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9e6"/>
                </a:solidFill>
                <a:latin typeface="Arial"/>
                <a:ea typeface="굴림"/>
              </a:rPr>
              <a:t>D. Jonassen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400" spc="-1" strike="noStrike">
                <a:solidFill>
                  <a:srgbClr val="eadc78"/>
                </a:solidFill>
                <a:latin typeface="Garamond"/>
              </a:rPr>
              <a:t>2. Σχετικές περιπτώσεις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Αυτό που λείπει από τους αρχάριους μαθητευόμενους είναι οι εμπειρίες. 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c000"/>
                </a:solidFill>
                <a:latin typeface="Tahoma"/>
              </a:rPr>
              <a:t>Για το λόγο αυτό είναι σημαντικό ένα ΕΜΠ να παρέχει πρόσβαση σε ένα σύνολο σχετικών εμπειριών στο οποίο οι αρχάριοι μπορούν να αναφέρονται. 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Ο βασικός στόχος των σχετικών περιπτώσεων είναι η υποβοήθηση των μαθητευόμενων στην κατανόηση ζητημάτων που είναι υποννοούμενα στην αναπαράσταση του προβλήματος 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7572240" y="1052640"/>
            <a:ext cx="1571760" cy="36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af9e6"/>
            </a:solidFill>
            <a:miter/>
          </a:ln>
          <a:effectLst>
            <a:outerShdw dist="53966" dir="2700000" blurRad="0" rotWithShape="0">
              <a:srgbClr val="8817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9e6"/>
                </a:solidFill>
                <a:latin typeface="Arial"/>
                <a:ea typeface="굴림"/>
              </a:rPr>
              <a:t>D. Jonassen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400" spc="-1" strike="noStrike">
                <a:solidFill>
                  <a:srgbClr val="eadc78"/>
                </a:solidFill>
                <a:latin typeface="Garamond"/>
              </a:rPr>
              <a:t>2. Σχετικές περιπτώσεις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Α) Υποβοήθηση μνήμης του μαθητή: συλλογιστική βάση περιπτώσεων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Β) Βελτίωση της γνωστική ευελιξίας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7572240" y="1052640"/>
            <a:ext cx="1571760" cy="36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af9e6"/>
            </a:solidFill>
            <a:miter/>
          </a:ln>
          <a:effectLst>
            <a:outerShdw dist="53966" dir="2700000" blurRad="0" rotWithShape="0">
              <a:srgbClr val="8817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9e6"/>
                </a:solidFill>
                <a:latin typeface="Arial"/>
                <a:ea typeface="굴림"/>
              </a:rPr>
              <a:t>D. Jonassen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400" spc="-1" strike="noStrike">
                <a:solidFill>
                  <a:srgbClr val="eadc78"/>
                </a:solidFill>
                <a:latin typeface="Garamond"/>
              </a:rPr>
              <a:t>3. Πηγές Πληροφοριών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79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Πρέπει να καθορίσουμε τι είδη πληροφοριών ο μαθητευόμενος θα χρειαστεί με στόχο να κατανοήσει το πρόβλημα. 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Επειδή οι μαθητευόμενοι συνήθως δεν κατέχουν δεξιότητες για την αξιολόγηση της ποιότητας και το φιλτράρισμα των παρεχόμενων πληροφοριών, </a:t>
            </a:r>
            <a:r>
              <a:rPr b="1" lang="el-GR" sz="2400" spc="-1" strike="noStrike">
                <a:solidFill>
                  <a:srgbClr val="ffc000"/>
                </a:solidFill>
                <a:latin typeface="Tahoma"/>
              </a:rPr>
              <a:t>οι πηγές πληροφοριών πρέπει να αξιολογούνται από πριν για τη σχετικότητά τους και να οργανώνονται με μηχανισμούς πρόσβασης που υποστηρίζουν τον τρόπο σκέψης που θέλουμε να αναπτύξει ο μαθητευόμενος</a:t>
            </a:r>
            <a:r>
              <a:rPr b="0" lang="el-GR" sz="2400" spc="-1" strike="noStrike">
                <a:solidFill>
                  <a:srgbClr val="ffc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7572240" y="1052640"/>
            <a:ext cx="1571760" cy="36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af9e6"/>
            </a:solidFill>
            <a:miter/>
          </a:ln>
          <a:effectLst>
            <a:outerShdw dist="53966" dir="2700000" blurRad="0" rotWithShape="0">
              <a:srgbClr val="8817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9e6"/>
                </a:solidFill>
                <a:latin typeface="Arial"/>
                <a:ea typeface="굴림"/>
              </a:rPr>
              <a:t>D. Jonassen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dc78"/>
                </a:solidFill>
                <a:latin typeface="Garamond"/>
              </a:rPr>
              <a:t>4. Γνωστικά εργαλεία</a:t>
            </a:r>
            <a:r>
              <a:rPr b="0" i="1" lang="el-GR" sz="4400" spc="-1" strike="noStrike">
                <a:solidFill>
                  <a:srgbClr val="eadc78"/>
                </a:solidFill>
                <a:latin typeface="Garamond"/>
              </a:rPr>
              <a:t> 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Τα γνωστικά εργαλεία είναι γενικά  υπολογιστικά εργαλεία που στοχεύουν στην εμπλοκή και διευκόλυνση του μαθητευόμενου σε συγκεκριμένα είδη γνωστικών διεργασιών. 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Είναι </a:t>
            </a:r>
            <a:r>
              <a:rPr b="0" lang="el-GR" sz="2800" spc="-1" strike="noStrike">
                <a:solidFill>
                  <a:srgbClr val="ffc000"/>
                </a:solidFill>
                <a:latin typeface="Tahoma"/>
              </a:rPr>
              <a:t>νοητικές συσκευές που χρησιμοποιούνται για να οπτικοποιήσουν, να αυτοματοποιήσουν ή αντικαταστήσουν δεξιότητες της σκέψης</a:t>
            </a: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414" name="Rectangle 5"/>
          <p:cNvSpPr/>
          <p:nvPr/>
        </p:nvSpPr>
        <p:spPr>
          <a:xfrm>
            <a:off x="7572240" y="1052640"/>
            <a:ext cx="1571760" cy="36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af9e6"/>
            </a:solidFill>
            <a:miter/>
          </a:ln>
          <a:effectLst>
            <a:outerShdw dist="53966" dir="2700000" blurRad="0" rotWithShape="0">
              <a:srgbClr val="8817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9e6"/>
                </a:solidFill>
                <a:latin typeface="Arial"/>
                <a:ea typeface="굴림"/>
              </a:rPr>
              <a:t>D. Jonassen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dc78"/>
                </a:solidFill>
                <a:latin typeface="Garamond"/>
              </a:rPr>
              <a:t>4. Γνωστικά εργαλεία</a:t>
            </a:r>
            <a:r>
              <a:rPr b="0" i="1" lang="el-GR" sz="4400" spc="-1" strike="noStrike">
                <a:solidFill>
                  <a:srgbClr val="eadc78"/>
                </a:solidFill>
                <a:latin typeface="Garamond"/>
              </a:rPr>
              <a:t> 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Εργαλεία </a:t>
            </a:r>
            <a:r>
              <a:rPr b="0" lang="el-GR" sz="2800" spc="-1" strike="noStrike" u="sng">
                <a:solidFill>
                  <a:srgbClr val="ffc000"/>
                </a:solidFill>
                <a:uFillTx/>
                <a:latin typeface="Tahoma"/>
              </a:rPr>
              <a:t>αναπαράστασης προβλήματος/εργασίας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Εργαλεία </a:t>
            </a:r>
            <a:r>
              <a:rPr b="0" lang="el-GR" sz="2800" spc="-1" strike="noStrike" u="sng">
                <a:solidFill>
                  <a:srgbClr val="ffc000"/>
                </a:solidFill>
                <a:uFillTx/>
                <a:latin typeface="Tahoma"/>
              </a:rPr>
              <a:t>μοντελοποίησης γνώσης 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Εργαλεία </a:t>
            </a:r>
            <a:r>
              <a:rPr b="0" lang="el-GR" sz="2800" spc="-1" strike="noStrike" u="sng">
                <a:solidFill>
                  <a:srgbClr val="ffc000"/>
                </a:solidFill>
                <a:uFillTx/>
                <a:latin typeface="Tahoma"/>
              </a:rPr>
              <a:t>υποστήριξης δράσης 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Εργαλεία </a:t>
            </a:r>
            <a:r>
              <a:rPr b="0" lang="el-GR" sz="2800" spc="-1" strike="noStrike" u="sng">
                <a:solidFill>
                  <a:srgbClr val="ffc000"/>
                </a:solidFill>
                <a:uFillTx/>
                <a:latin typeface="Tahoma"/>
              </a:rPr>
              <a:t>συλλογής πληροφοριών 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7572240" y="1052640"/>
            <a:ext cx="1571760" cy="3603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af9e6"/>
            </a:solidFill>
            <a:miter/>
          </a:ln>
          <a:effectLst>
            <a:outerShdw dist="53966" dir="2700000" blurRad="0" rotWithShape="0">
              <a:srgbClr val="8817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9e6"/>
                </a:solidFill>
                <a:latin typeface="Arial"/>
                <a:ea typeface="굴림"/>
              </a:rPr>
              <a:t>D. Jonassen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eadc78"/>
                </a:solidFill>
                <a:latin typeface="Garamond"/>
              </a:rPr>
              <a:t>5. Εργαλεία συζήτησης και συνεργασίας</a:t>
            </a:r>
            <a:endParaRPr b="0" i="1" lang="en-US" sz="36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Τα ΕΜΠ πρέπει να παρέχουν πρόσβαση σε διαμοιραζόμενες πληροφορίες και σε εργαλεία συνεργατικής ανάπτυξης της γνώσης 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af9e6"/>
                </a:solidFill>
                <a:latin typeface="Tahoma"/>
              </a:rPr>
              <a:t>Κοινότητες συζήτησης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af9e6"/>
                </a:solidFill>
                <a:latin typeface="Tahoma"/>
              </a:rPr>
              <a:t>Κοινότητες ανάπτυξης γνώσης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af9e6"/>
                </a:solidFill>
                <a:latin typeface="Tahoma"/>
              </a:rPr>
              <a:t>Κοινότητες μαθητευομένων</a:t>
            </a: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7572240" y="1052640"/>
            <a:ext cx="1571760" cy="36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af9e6"/>
            </a:solidFill>
            <a:miter/>
          </a:ln>
          <a:effectLst>
            <a:outerShdw dist="53966" dir="2700000" blurRad="0" rotWithShape="0">
              <a:srgbClr val="8817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9e6"/>
                </a:solidFill>
                <a:latin typeface="Arial"/>
                <a:ea typeface="굴림"/>
              </a:rPr>
              <a:t>D. Jonassen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400" spc="-1" strike="noStrike">
                <a:solidFill>
                  <a:srgbClr val="eadc78"/>
                </a:solidFill>
                <a:latin typeface="Garamond"/>
              </a:rPr>
              <a:t>Υποστηρίζοντας τη μάθηση σε ΕΜΠ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Α. Μοντελοποίηση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συμπεριφορική μοντελοποίηση 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γνωστική μοντελοποίηση 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7572240" y="1052640"/>
            <a:ext cx="1571760" cy="36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af9e6"/>
            </a:solidFill>
            <a:miter/>
          </a:ln>
          <a:effectLst>
            <a:outerShdw dist="53966" dir="2700000" blurRad="0" rotWithShape="0">
              <a:srgbClr val="8817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9e6"/>
                </a:solidFill>
                <a:latin typeface="Arial"/>
                <a:ea typeface="굴림"/>
              </a:rPr>
              <a:t>D. Jonassen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400" spc="-1" strike="noStrike">
                <a:solidFill>
                  <a:srgbClr val="eadc78"/>
                </a:solidFill>
                <a:latin typeface="Garamond"/>
              </a:rPr>
              <a:t>1. Τυπολογία επιδιωκώμενων δεξιοτήτων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1 επίπεδο «Γνώση»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faf9e6"/>
                </a:solidFill>
                <a:latin typeface="Tahoma"/>
              </a:rPr>
              <a:t>1ε Γνώση ταξινομήσεων και κατηγοριών, όπως χαρακτηριστικών τάξεων και ομάδων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Να γράψετε τα είδη των πετρωμάτων που υπάρχουν στον ελληνικό χώρο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Σ – Λ : Τα ασβεστολιθικά πετρώματα προέρχονται από τις γαίες που λέγονται πυριγενείς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400" spc="-1" strike="noStrike">
                <a:solidFill>
                  <a:srgbClr val="eadc78"/>
                </a:solidFill>
                <a:latin typeface="Garamond"/>
              </a:rPr>
              <a:t>Υποστηρίζοντας τη μάθηση σε ΕΜΠ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Β. Προπόνηση 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κινητροδοτεί τους μαθητευόμενους 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παρακολουθεί, συντονίζει, ρυθμίζει τις δραστηριότητές τους 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παρέχει ανάδραση και συμβουλές 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διαταράσσει τα μαθησιακά γνωστικά μοντέλα 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426" name="Rectangle 5"/>
          <p:cNvSpPr/>
          <p:nvPr/>
        </p:nvSpPr>
        <p:spPr>
          <a:xfrm>
            <a:off x="7572240" y="1052640"/>
            <a:ext cx="1571760" cy="36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af9e6"/>
            </a:solidFill>
            <a:miter/>
          </a:ln>
          <a:effectLst>
            <a:outerShdw dist="53966" dir="2700000" blurRad="0" rotWithShape="0">
              <a:srgbClr val="8817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9e6"/>
                </a:solidFill>
                <a:latin typeface="Arial"/>
                <a:ea typeface="굴림"/>
              </a:rPr>
              <a:t>D. Jonassen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400" spc="-1" strike="noStrike">
                <a:solidFill>
                  <a:srgbClr val="eadc78"/>
                </a:solidFill>
                <a:latin typeface="Garamond"/>
              </a:rPr>
              <a:t>Υποστηρίζοντας τη μάθηση σε ΕΜΠ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Γ. Υποβοήθηση 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προσαρμογή της δυσκολίας της εργασίας 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επαναδόμηση της εργασίας για την αντικατάσταση της γνώσης προς εκμάθηση 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παροχή εναλλακτικών αποτιμήσεων 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7572240" y="1052640"/>
            <a:ext cx="1571760" cy="36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af9e6"/>
            </a:solidFill>
            <a:miter/>
          </a:ln>
          <a:effectLst>
            <a:outerShdw dist="53966" dir="2700000" blurRad="0" rotWithShape="0">
              <a:srgbClr val="8817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9e6"/>
                </a:solidFill>
                <a:latin typeface="Arial"/>
                <a:ea typeface="굴림"/>
              </a:rPr>
              <a:t>D. Jonassen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400" spc="-1" strike="noStrike">
                <a:solidFill>
                  <a:srgbClr val="eadc78"/>
                </a:solidFill>
                <a:latin typeface="Garamond"/>
              </a:rPr>
              <a:t>Επόμενη Διάλεξη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af9e6"/>
                </a:solidFill>
                <a:latin typeface="Tahoma"/>
              </a:rPr>
              <a:t>Διάλεξη 4η: 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af9e6"/>
                </a:solidFill>
                <a:latin typeface="Tahoma"/>
              </a:rPr>
              <a:t>Πολλαπλές προσεγγίσεις της κατανόησης / Θεωρία της γνωστικής ευελιξίας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704844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0619-CDAA-4DAD-87C7-CE85032D6F8C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400" spc="-1" strike="noStrike">
                <a:solidFill>
                  <a:srgbClr val="eadc78"/>
                </a:solidFill>
                <a:latin typeface="Garamond"/>
              </a:rPr>
              <a:t>1. Τυπολογία επιδιωκώμενων δεξιοτήτων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2 επίπεδο «Κατανόηση»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2β Η ερμηνεία συγκεκριμένου περιεχομένου, 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Σ – Λ : Ζήτηση ξένων νομισμάτων για τις εισαγωγές αγαθών και υπηρεσιών σημαίνει ζήτηση συναλλάγματος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af9e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MC: Ποιο από τα παρακάτω αποτελεί μια ρεαλιστική ερμηνεία του φαινομένου της υπογεννητικότητας στην Ελλάδα κατά τα τελευταία χρόνια:</a:t>
            </a:r>
            <a:br>
              <a:rPr sz="2400"/>
            </a:b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α. βελτιώθηκε το πολιτιστικό επίπεδο της χώρας</a:t>
            </a:r>
            <a:br>
              <a:rPr sz="2400"/>
            </a:b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β. Βελτιώθηκε η οικονομική κατάσταση των κατοίκων</a:t>
            </a:r>
            <a:br>
              <a:rPr sz="2400"/>
            </a:b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γ. Μειώθηκε ο πληθυσμός της υπαίθρου</a:t>
            </a:r>
            <a:br>
              <a:rPr sz="2400"/>
            </a:br>
            <a:r>
              <a:rPr b="0" lang="el-GR" sz="2400" spc="-1" strike="noStrike">
                <a:solidFill>
                  <a:srgbClr val="faf9e6"/>
                </a:solidFill>
                <a:latin typeface="Tahoma"/>
              </a:rPr>
              <a:t>δ. Αυξήθηκαν ουσιαστικά τα κίνητρα για δημιουργία πολυμελών οικογενειών</a:t>
            </a:r>
            <a:endParaRPr b="0" lang="en-US" sz="2400" spc="-1" strike="noStrike">
              <a:solidFill>
                <a:srgbClr val="faf9e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400" spc="-1" strike="noStrike">
                <a:solidFill>
                  <a:srgbClr val="eadc78"/>
                </a:solidFill>
                <a:latin typeface="Garamond"/>
              </a:rPr>
              <a:t>2. Έλεγχος της μάθησης</a:t>
            </a:r>
            <a:endParaRPr b="0" i="1" lang="en-US" sz="4400" spc="-1" strike="noStrike">
              <a:solidFill>
                <a:srgbClr val="eadc78"/>
              </a:solidFill>
              <a:latin typeface="Garamond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Ποιος αποφασίζει τους </a:t>
            </a:r>
            <a:r>
              <a:rPr b="0" lang="el-GR" sz="2800" spc="-1" strike="noStrike" u="sng">
                <a:solidFill>
                  <a:srgbClr val="faf9e6"/>
                </a:solidFill>
                <a:uFillTx/>
                <a:latin typeface="Tahoma"/>
              </a:rPr>
              <a:t>διδακτικούς στόχους</a:t>
            </a: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Ποιος καθορίζει </a:t>
            </a:r>
            <a:r>
              <a:rPr b="0" lang="el-GR" sz="2800" spc="-1" strike="noStrike" u="sng">
                <a:solidFill>
                  <a:srgbClr val="faf9e6"/>
                </a:solidFill>
                <a:uFillTx/>
                <a:latin typeface="Tahoma"/>
              </a:rPr>
              <a:t>πως αυτοί οι στόχοι θα επιτευχθούν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Ποιος επιλέγει </a:t>
            </a:r>
            <a:r>
              <a:rPr b="0" lang="el-GR" sz="2800" spc="-1" strike="noStrike" u="sng">
                <a:solidFill>
                  <a:srgbClr val="faf9e6"/>
                </a:solidFill>
                <a:uFillTx/>
                <a:latin typeface="Tahoma"/>
              </a:rPr>
              <a:t>το περιεχόμενο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Ποιος επιλέγει το είδος και το επίπεδο </a:t>
            </a:r>
            <a:r>
              <a:rPr b="0" lang="el-GR" sz="2800" spc="-1" strike="noStrike" u="sng">
                <a:solidFill>
                  <a:srgbClr val="faf9e6"/>
                </a:solidFill>
                <a:uFillTx/>
                <a:latin typeface="Tahoma"/>
              </a:rPr>
              <a:t>υποστήριξης και πόρων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Ποιος επιλέγει </a:t>
            </a:r>
            <a:r>
              <a:rPr b="0" lang="el-GR" sz="2800" spc="-1" strike="noStrike" u="sng">
                <a:solidFill>
                  <a:srgbClr val="faf9e6"/>
                </a:solidFill>
                <a:uFillTx/>
                <a:latin typeface="Tahoma"/>
              </a:rPr>
              <a:t>ποιες δραστηριότητες </a:t>
            </a: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θα πραγματοποιηθούν και με ποια σειρά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Ποιος </a:t>
            </a:r>
            <a:r>
              <a:rPr b="0" lang="el-GR" sz="2800" spc="-1" strike="noStrike" u="sng">
                <a:solidFill>
                  <a:srgbClr val="faf9e6"/>
                </a:solidFill>
                <a:uFillTx/>
                <a:latin typeface="Tahoma"/>
              </a:rPr>
              <a:t>αξιολογεί</a:t>
            </a:r>
            <a:r>
              <a:rPr b="0" lang="el-GR" sz="2800" spc="-1" strike="noStrike">
                <a:solidFill>
                  <a:srgbClr val="faf9e6"/>
                </a:solidFill>
                <a:latin typeface="Tahoma"/>
              </a:rPr>
              <a:t> τη μάθηση</a:t>
            </a: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Tahoma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704844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9165-0767-41FA-AD5C-8C5B809B11BB}" type="slidenum">
              <a:rPr b="0" lang="el-GR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6:54:14Z</dcterms:created>
  <dc:creator/>
  <dc:description/>
  <dc:language>en-US</dc:language>
  <cp:lastModifiedBy/>
  <dcterms:modified xsi:type="dcterms:W3CDTF">2008-10-13T06:54:22Z</dcterms:modified>
  <cp:revision>1</cp:revision>
  <dc:subject/>
  <dc:title/>
</cp:coreProperties>
</file>