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4A4-0116-495D-AD47-33D8E233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371-1379-49DD-93C5-807A15A3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9A3-99E6-4E53-94A7-AED8121C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825-F793-4E08-AA46-4999D7C1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0D73-BC85-426B-A515-6EC7FC80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B9C6-1F82-471D-8EF3-89C05F1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292-539B-4024-A8C6-F20485D7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CED8-6E01-4302-835B-2C84EA1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414-6A29-4DEB-B0B6-4766FF4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B998-384C-4D36-8EDD-3633DB3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E32C-955E-40D6-B6F9-2EBF481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0B2-55BE-42B9-A25C-1CB3425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A141-DC4D-43EB-BF55-0E9D171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2A2-F189-46BF-A276-8B09D3DD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7C64-5108-4DD4-8228-518F97C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229-E2C1-4037-8BE2-2F33DA8D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912-B2B0-4FEA-9DE4-7BC293E9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75B8-E538-4651-A8DE-8D4B59D6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34DD-ED66-448D-8111-F23187D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734D-C29F-4948-972C-131B543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1CAE-5751-42D7-9375-8612883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3E34-8990-40B4-B441-D6F3A9E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ADB-F540-4964-8073-F0003FEF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91F2-C78D-4B1B-B1AE-91147E9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7FB7-19CD-4D46-A026-6069BB9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B15B-BF0B-4DE7-A08D-0C7D54E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F4A6-3596-444F-A66E-921A3BC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AF2A-C916-4E3D-825F-14461192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05FE-5BD6-4669-B684-78E734B8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D95F-205E-44FC-937C-BEA6955D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AE8E-AFCF-4E61-908A-8CD16142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4A8E-0D75-41DC-9769-7E729A6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B5C6-61E3-45A7-8068-DA67A308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F99-57D5-40D5-AD0A-723221A2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98794-434A-44BB-9409-7F2856A9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B4E7-A131-40D5-9DB7-0588D5D9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92BD-4007-474B-B11B-DE61156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C88B-A793-4564-B68A-E90852E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9B93-9096-4A8D-816B-69D90FF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86CF-805C-4D86-B387-63A921C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6DDC-AE40-42FF-BE80-45432E1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C321-C03C-4E0E-8C27-AFC69D9B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D2A3-1749-4F24-AA9B-FA5FE935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865-8F8E-4AB2-9839-5168D73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36C-0CFC-4A58-94C2-0A7CA79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708-1286-45F9-BADB-50F052D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92F-1889-4B7F-806F-871501F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3A0-1CE0-4C71-B4FA-00E5B5D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9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5F64-21D5-486A-802F-1D8C64DD23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9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F112-1D00-4242-9596-A79123F70C9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29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643B-666F-4D10-9454-F79196FE44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29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29F0-2B27-4722-B595-392C67AE092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x1.swf" TargetMode="External"/><Relationship Id="rId2" Type="http://schemas.openxmlformats.org/officeDocument/2006/relationships/hyperlink" Target="file:///ex1.sw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sdn.microsoft.com/el-gr/library/ms535863(en-us,VS.85).aspx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example2.html" TargetMode="External"/><Relationship Id="rId2" Type="http://schemas.openxmlformats.org/officeDocument/2006/relationships/hyperlink" Target="file:///example2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example2.html" TargetMode="External"/><Relationship Id="rId2" Type="http://schemas.openxmlformats.org/officeDocument/2006/relationships/hyperlink" Target="file:///example2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example2.html" TargetMode="External"/><Relationship Id="rId2" Type="http://schemas.openxmlformats.org/officeDocument/2006/relationships/hyperlink" Target="file:///example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im.swf" TargetMode="External"/><Relationship Id="rId2" Type="http://schemas.openxmlformats.org/officeDocument/2006/relationships/hyperlink" Target="file:///aim.swf" TargetMode="External"/><Relationship Id="rId3" Type="http://schemas.openxmlformats.org/officeDocument/2006/relationships/hyperlink" Target="file:///solution.html" TargetMode="External"/><Relationship Id="rId4" Type="http://schemas.openxmlformats.org/officeDocument/2006/relationships/hyperlink" Target="file:///solution.html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example2.html" TargetMode="External"/><Relationship Id="rId2" Type="http://schemas.openxmlformats.org/officeDocument/2006/relationships/hyperlink" Target="file:///example2.html" TargetMode="External"/><Relationship Id="rId3" Type="http://schemas.openxmlformats.org/officeDocument/2006/relationships/hyperlink" Target="file:///example2.ht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xample2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enotes.swf" TargetMode="External"/><Relationship Id="rId2" Type="http://schemas.openxmlformats.org/officeDocument/2006/relationships/hyperlink" Target="file:///enotes.sw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onstantia"/>
              </a:rPr>
              <a:t>Πειραματικό πλάνο διδασκαλία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9C19-9CF0-475F-86D2-CDE2DD9E73B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Ερμηνεί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Τι φαίνεται να σημαίνουν τα παρακάτω γεγονότα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lick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Foc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Blur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KeyDown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KeyUp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MouseOver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MouseOu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Submi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hange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Selec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Rese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Loa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Unload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ontextMenu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B4FB-FB70-4A0C-BD4C-2F92025D38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Ερμηνεί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Τι φαίνεται να σημαίνουν τα παρακάτω γεγονότα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lick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Foc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Blur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KeyDown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KeyUp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MouseOver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MouseOu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Submi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hange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Selec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Rese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Loa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Unload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ContextMenu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581280" y="2362320"/>
            <a:ext cx="5334120" cy="3809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Για ποια από τα παρακάτω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TML 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στοιχεία πιστεύετε ότι έχουν νόημα τα συγκεκριμένα γεγονότα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{HTML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DY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NPUT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IV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D</a:t>
            </a: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Explosion 2 4"/>
          <p:cNvSpPr/>
          <p:nvPr/>
        </p:nvSpPr>
        <p:spPr>
          <a:xfrm>
            <a:off x="5105520" y="0"/>
            <a:ext cx="4038480" cy="1905120"/>
          </a:xfrm>
          <a:prstGeom prst="irregularSeal2">
            <a:avLst/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2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CE1-EA77-4977-AFD9-1A7412A249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αράδειγμα δήλωσης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γεγονότος και χειριστή τη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 ο χειριστής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ndle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Γράφοντας έναν χειριστή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w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αράδειγ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983-2D20-4C93-8375-1A13AAE979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Χειρισμός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) Προσδιορίζουμε το αντικείμενο που θα παρακολουθήσει το γεγονό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lick = “clickme()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Β) συγγράφουμε τη συνάρτηση χειριστ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click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ert(‘I was clicked’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D2A-C766-45BE-822A-4399BBDA7C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ρακτική αξί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1) Όταν θέλω να μην εμφανίζεται η σελίδα και μόνο μετά τη φόρτωσή της να παρουσιάζω το περιεχόμενό τη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2) Όταν θέλω να μην επιτρέπω στο χρήστη να αποθηκεύει τις εικόνες που παρουσιάζονται στην ιστοσελίδα μου με τη χρήση του μενού που εμφανίζεται με αριστερό μενού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3) Αν θέλω να ελέγξω την επιλογή οποιουδήποτε κειμένου της ιστοσελίδας μου από τη χρήστη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4) Πριν την έξοδο του χρήστη από τη ιστοσελίδα μου θέλω να αποθηκεύσω κάποιες επιλογές το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5) Αν θέλω να εγκυροποιήσω την είσοδο του χρήστη στα στοιχεία της φόρμα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6) Αν θέλω να κάνω ορισμένους υπολογισμούς πριν την αποστολή της φόρμας στον εξυπηρέτη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Explosion 2 3"/>
          <p:cNvSpPr/>
          <p:nvPr/>
        </p:nvSpPr>
        <p:spPr>
          <a:xfrm>
            <a:off x="5105520" y="0"/>
            <a:ext cx="4038480" cy="1905120"/>
          </a:xfrm>
          <a:prstGeom prst="irregularSeal2">
            <a:avLst/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3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810-5B29-4C7C-B9AB-868B2A4FBF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Ερμηνεί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Click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Change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Focus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Blur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KeyDown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KeyUp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Reset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e9632"/>
                </a:solidFill>
                <a:latin typeface="Constantia"/>
              </a:rPr>
              <a:t>onSubmit</a:t>
            </a:r>
            <a:r>
              <a:rPr b="0" lang="en-US" sz="1500" spc="-1" strike="noStrike">
                <a:solidFill>
                  <a:srgbClr val="7e9632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9ca3"/>
                </a:solidFill>
                <a:latin typeface="Constantia"/>
              </a:rPr>
              <a:t>onSelect</a:t>
            </a:r>
            <a:r>
              <a:rPr b="0" lang="en-US" sz="1500" spc="-1" strike="noStrike">
                <a:solidFill>
                  <a:srgbClr val="089ca3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9ca3"/>
                </a:solidFill>
                <a:latin typeface="Constantia"/>
              </a:rPr>
              <a:t>onMouseOver</a:t>
            </a:r>
            <a:r>
              <a:rPr b="0" lang="en-US" sz="1500" spc="-1" strike="noStrike">
                <a:solidFill>
                  <a:srgbClr val="089ca3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9ca3"/>
                </a:solidFill>
                <a:latin typeface="Constantia"/>
              </a:rPr>
              <a:t>onMouseOut</a:t>
            </a:r>
            <a:r>
              <a:rPr b="0" lang="en-US" sz="1500" spc="-1" strike="noStrike">
                <a:solidFill>
                  <a:srgbClr val="089ca3"/>
                </a:solidFill>
                <a:latin typeface="Constantia"/>
              </a:rPr>
              <a:t> 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89ca3"/>
                </a:solidFill>
                <a:latin typeface="Constantia"/>
              </a:rPr>
              <a:t>onContextMenu</a:t>
            </a:r>
            <a:r>
              <a:rPr b="0" lang="en-US" sz="1500" spc="-1" strike="noStrike">
                <a:solidFill>
                  <a:srgbClr val="089ca3"/>
                </a:solidFill>
                <a:latin typeface="Constant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3495c"/>
                </a:solidFill>
                <a:latin typeface="Constantia"/>
              </a:rPr>
              <a:t>onLoad</a:t>
            </a:r>
            <a:r>
              <a:rPr b="0" lang="en-US" sz="1500" spc="-1" strike="noStrike">
                <a:solidFill>
                  <a:srgbClr val="03495c"/>
                </a:solidFill>
                <a:latin typeface="Constantia"/>
              </a:rPr>
              <a:t> 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3495c"/>
                </a:solidFill>
                <a:latin typeface="Constantia"/>
              </a:rPr>
              <a:t>onUnload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ight Brace 4"/>
          <p:cNvSpPr/>
          <p:nvPr/>
        </p:nvSpPr>
        <p:spPr>
          <a:xfrm>
            <a:off x="2666880" y="220968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752840"/>
              <a:gd name="textAreaBottom" fmla="*/ 174096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5"/>
                  <a:pt x="10800" y="470"/>
                </a:cubicBezTo>
                <a:lnTo>
                  <a:pt x="10800" y="10330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5"/>
                  <a:pt x="10800" y="11270"/>
                </a:cubicBezTo>
                <a:lnTo>
                  <a:pt x="10800" y="21130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3200400" y="2895480"/>
            <a:ext cx="1600200" cy="304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ight Brace 6"/>
          <p:cNvSpPr/>
          <p:nvPr/>
        </p:nvSpPr>
        <p:spPr>
          <a:xfrm>
            <a:off x="2666880" y="4114800"/>
            <a:ext cx="457200" cy="10666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066680"/>
              <a:gd name="textAreaBottom" fmla="*/ 10548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200400" y="4495680"/>
            <a:ext cx="1600200" cy="304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iv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ight Brace 8"/>
          <p:cNvSpPr/>
          <p:nvPr/>
        </p:nvSpPr>
        <p:spPr>
          <a:xfrm>
            <a:off x="2666880" y="5486400"/>
            <a:ext cx="457200" cy="304920"/>
          </a:xfrm>
          <a:custGeom>
            <a:avLst/>
            <a:gdLst>
              <a:gd name="textAreaLeft" fmla="*/ 0 w 457200"/>
              <a:gd name="textAreaRight" fmla="*/ 164880 w 45720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3200400" y="5486400"/>
            <a:ext cx="1600200" cy="304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Slide Number Placeholder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76E-ABCF-4C46-9F0C-60DF3358C0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Footer Placeholder 1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Το αντικείμενο 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vent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συμπεριλάβει τις συνθήκες του γεγονότο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Το γεγονός πυροδοτείται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Η συνάρτηση χειριστή που σχετίζεται με το αντικείμενο που προκάλεσε το γεγονός (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9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8E9A-1998-414A-8742-5B81D2F958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3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αντικείμενο 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συνάρτηση χειριστή 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Explosion 2 4"/>
          <p:cNvSpPr/>
          <p:nvPr/>
        </p:nvSpPr>
        <p:spPr>
          <a:xfrm>
            <a:off x="5105520" y="0"/>
            <a:ext cx="4038480" cy="1905120"/>
          </a:xfrm>
          <a:prstGeom prst="irregularSeal2">
            <a:avLst/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4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CBF-F889-4D39-B7F4-58DE3B7BD8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3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αντικείμενο 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συνάρτηση χειριστή 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057400" y="1371600"/>
            <a:ext cx="6858000" cy="5181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Constantia"/>
              </a:rPr>
              <a:t>Πως τρέχει το παράδειγμ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mousemove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keydown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mousedown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mouseup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contextmenu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blur 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ocument.onfocus= trac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unction trace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ltKey.value = event.altKe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trlKey.value = event.ctrlKe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tton.value = event.butt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ncelBubble.value = event.cancelBubb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entX.value = event.clientX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entY.value = event.client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3F66-1693-4F59-B46E-EDD7367C4F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3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αντικείμενο 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συνάρτηση χειριστή 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572000" y="380880"/>
            <a:ext cx="3962520" cy="6019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nstantia"/>
              </a:rPr>
              <a:t>Βασικές ιδιότητες αντικειμένου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alt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ctrl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bu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cancelBub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client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clien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screen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screen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srcEl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key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vent.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Explosion 2 4"/>
          <p:cNvSpPr/>
          <p:nvPr/>
        </p:nvSpPr>
        <p:spPr>
          <a:xfrm>
            <a:off x="304920" y="4800600"/>
            <a:ext cx="4038480" cy="1905120"/>
          </a:xfrm>
          <a:prstGeom prst="irregularSeal2">
            <a:avLst/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5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1BE-AF43-42D5-AA80-828A261283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Στόχ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ελέτη του μοντέλου γεγονότων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ατασκευή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xt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ενού που θα εμφανίζεται στη θέση που πατήθηκε δεξί κλι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ου εμφανίζουμε το μενού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ότε το εμφανίζουμ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ως προκαλούμε τη μη εμφάνιση τη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fault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συμπεριφοράς του πλοηγητή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ως παρουσιάζουμε τα στοιχεί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Παράδειγμα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w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Ο στόχος μας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 (htm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Να συλλέξετε πληροφορίες για την κατασκευή του μενού κατά τη διάρκεια του μαθήματο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3821-6AC2-4B39-990E-BF02302AAB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17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αντικείμενο </a:t>
            </a:r>
            <a:r>
              <a:rPr b="0" lang="en-US" sz="17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συνάρτηση χειριστή 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429000" y="4191120"/>
            <a:ext cx="4952880" cy="2361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Constantia"/>
              </a:rPr>
              <a:t>και τεχνητά..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d.fireEvent(“onclick”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C4F6-99EA-48F3-9DA6-DCA21263CE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17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32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bbling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4952880" y="4038480"/>
            <a:ext cx="4191120" cy="2667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</a:t>
            </a:r>
            <a:r>
              <a:rPr b="0" lang="en-US" sz="2800" spc="-1" strike="noStrike">
                <a:solidFill>
                  <a:srgbClr val="ffc000"/>
                </a:solidFill>
                <a:latin typeface="Constantia"/>
              </a:rPr>
              <a:t>calculate()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”&gt;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cript&gt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unction </a:t>
            </a:r>
            <a:r>
              <a:rPr b="0" lang="en-US" sz="2800" spc="-1" strike="noStrike">
                <a:solidFill>
                  <a:srgbClr val="ffc000"/>
                </a:solidFill>
                <a:latin typeface="Constantia"/>
              </a:rPr>
              <a:t>calculat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lert(“calculations”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DBA-5F72-4F0B-B7B1-DE347B22AD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2971800" y="1828800"/>
            <a:ext cx="5943600" cy="3581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alert(1)”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onclick=“alert(1)”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380-F23E-4B1F-A038-1798895294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971800" y="1828800"/>
            <a:ext cx="5943600" cy="3581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alert(1)”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onclick=“alert(1)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3589-11B5-40DA-AD2D-E7B4261109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2971800" y="1828800"/>
            <a:ext cx="5943600" cy="3581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alert(1)”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{onclick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onclick=“alert(1)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BE3-5A11-477B-94CF-DFA0DD423B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971800" y="1828800"/>
            <a:ext cx="5943600" cy="3581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onclick=“alert(1)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{onclick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onclick=“alert(1)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F160-6290-4D7A-939C-D83CB52971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990720" y="1752480"/>
            <a:ext cx="7924680" cy="358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Cancel Bubb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alert(1)”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onclick=“alert(1</a:t>
            </a:r>
            <a:r>
              <a:rPr b="0" lang="el-GR" sz="2000" spc="-1" strike="noStrike">
                <a:solidFill>
                  <a:srgbClr val="ffc000"/>
                </a:solidFill>
                <a:latin typeface="Constantia"/>
              </a:rPr>
              <a:t>);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return false;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952A-C5FE-48AA-9421-BB1A787B7EB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Ο κύκλος ζωής ενός γεγονότο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Ένα γεγονός ξεκινά με τη δράση του χρήστη ή την τήρηση της συνθήκης που εκκινά το γεγονός και τελειώνει με το χειρισμό του γεγονότος από μια συνάρτηση χειριστή ή το πλοηγητή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δράση του χρήστη ή η συνθήκη που σχετίζεται με το γεγονός συμβαίνει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400" spc="-1" strike="noStrike" u="sng">
                <a:solidFill>
                  <a:srgbClr val="ff0000"/>
                </a:solidFill>
                <a:uFillTx/>
                <a:latin typeface="Constantia"/>
              </a:rPr>
              <a:t>αντικείμενο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event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ενημερώνεται στιγμιαία για να αντανακλάσει τις συνθήκες του γεγονότο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</a:t>
            </a:r>
            <a:r>
              <a:rPr b="0" lang="el-GR" sz="2000" spc="-1" strike="noStrike" u="sng">
                <a:solidFill>
                  <a:srgbClr val="ff0000"/>
                </a:solidFill>
                <a:uFillTx/>
                <a:latin typeface="Constantia"/>
              </a:rPr>
              <a:t>γεγονός πυροδοτείτα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ή είναι η πραγματική πυροδότηση ως απόκριση στο γεγονό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Η </a:t>
            </a:r>
            <a:r>
              <a:rPr b="0" lang="el-GR" sz="2000" spc="-1" strike="noStrike">
                <a:solidFill>
                  <a:srgbClr val="7e9632"/>
                </a:solidFill>
                <a:latin typeface="Constantia"/>
              </a:rPr>
              <a:t>συνάρτηση χειριστή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ου σχετίζεται με το αντικείμενο που προκάλεσε το γεγονός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ource element)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λείται εκτελεί τις ενέργειές της και επιστρέφει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ο γεγονός στέλνεται στο κόμβο πατέρα της ιεραρχίας του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OCUMENT OBJECT MODEL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ης ιστοσελίδαςκαι αντίστοιχα πυροδοτείται ο χειριστής που μπορεί να έχει το συγκεκριμένο αντικείμενο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υτό το βήμα επαναλαμβάνεται μέχρι το γεγονός να φτάσει στο αντικείμενο παράθυρο ή ένας χειριστής να ακυρώσει το </a:t>
            </a:r>
            <a:r>
              <a:rPr b="0" lang="en-US" sz="4400" spc="-1" strike="noStrike">
                <a:solidFill>
                  <a:srgbClr val="ffc000"/>
                </a:solidFill>
                <a:latin typeface="Constantia"/>
              </a:rPr>
              <a:t>bubbling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90720" y="1752480"/>
            <a:ext cx="7924680" cy="358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Cancel Bubb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 onclick=“alert(1)”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span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onclick=“alert(1</a:t>
            </a:r>
            <a:r>
              <a:rPr b="0" lang="el-GR" sz="2000" spc="-1" strike="noStrike">
                <a:solidFill>
                  <a:srgbClr val="ffc000"/>
                </a:solidFill>
                <a:latin typeface="Constantia"/>
              </a:rPr>
              <a:t>);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return false;”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gt;Text&lt;/span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Explosion 2 5"/>
          <p:cNvSpPr/>
          <p:nvPr/>
        </p:nvSpPr>
        <p:spPr>
          <a:xfrm>
            <a:off x="0" y="914400"/>
            <a:ext cx="4038480" cy="1905120"/>
          </a:xfrm>
          <a:prstGeom prst="irregularSeal2">
            <a:avLst/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6-7-8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94E-7D83-433E-93C2-22CAAD6A3B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B55-BBCA-4B53-83A6-FB5E7DAA7A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Ι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C692-B452-41AA-ABF6-F9B009116C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Η τά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 χρήση τη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script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έκτησε πολύ μεγαλύτερη αξία με το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mework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x –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; Είναι μια ευέλικτη και πλούσια γλώσσα που μας επιτρέπει να έχουμε πλήρη έλεγχο πάνω σ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διεπαφέ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Όλο και περισσότερες εφαρμογές χρησιμοποιούν τι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διεπαφές για να παρέχουν πρόσβαση στους χρήστες τους στις υπηρεσίες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82F-4517-454D-98EF-85741BF823C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Ι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1D8-E4EA-4C52-8511-5B473DF791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Ι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CEC-DCCB-4D5B-9A2C-F46F0ACAB4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A59-6611-4335-80A6-0C6C1C6453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0C0-9C61-4DD7-AF1E-5040ED9AC0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αραδείγματα χειριστών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..στο μάθη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7FF8-D7ED-4E01-88D5-D62C88DC19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Δημιουργήστε το μενού σα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Βασική δομή μενού με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V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αντικείμεν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Το εφέ το μενού θα επιτευχθεί με την αλλαγή κλάσης των στοιχείων [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u, menuOver,menuInset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ειριστές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για τα γεγονότ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mouseov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mouse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moused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mouseu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ειριστής για το γεγονό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contextmenu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– που θα εμφανιστεί το μενού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ου χρειαζόμαστε ακύρωση το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bbling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αράδειγμ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Explosion 2 3"/>
          <p:cNvSpPr/>
          <p:nvPr/>
        </p:nvSpPr>
        <p:spPr>
          <a:xfrm>
            <a:off x="5105520" y="2895480"/>
            <a:ext cx="4038480" cy="1905120"/>
          </a:xfrm>
          <a:prstGeom prst="irregularSeal2">
            <a:avLst/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9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9FE1-5260-46F6-93A7-0132974E1C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Επανάληψ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Έννοιε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Γεγονό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υνάρτηση χειριστή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Κύκλος ζωής ενός γεγονότο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Πυροδότηση γεγονότω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bb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ελέτη περιπτώσεων εφαρμογής του μοντέλου γεγονότω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A38-1013-4AFB-A5FE-6473B16A3D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Βελτίω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α μπορούσε το μενού να διατηρήσει τη λειτουργικότητά του εισάγοντας χειριστές μόνο στο –αντικείμενο-γονι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την απάντησή σας μπορεί να σας βοηθήσει το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bb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αράδειγμ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πορείτε να μελετήσετε το κειμενογράφο του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και να παρατηρήσετε ποια γεγονότα αξιοποιεί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9" name="Explosion 2 3"/>
          <p:cNvGrpSpPr/>
          <p:nvPr/>
        </p:nvGrpSpPr>
        <p:grpSpPr>
          <a:xfrm>
            <a:off x="4803840" y="4767120"/>
            <a:ext cx="4187880" cy="2048040"/>
            <a:chOff x="4803840" y="4767120"/>
            <a:chExt cx="4187880" cy="2048040"/>
          </a:xfrm>
        </p:grpSpPr>
        <p:pic>
          <p:nvPicPr>
            <p:cNvPr id="370" name="Explosion 2 3" descr=""/>
            <p:cNvPicPr/>
            <p:nvPr/>
          </p:nvPicPr>
          <p:blipFill>
            <a:blip r:embed="rId1"/>
            <a:stretch/>
          </p:blipFill>
          <p:spPr>
            <a:xfrm>
              <a:off x="4803840" y="4767120"/>
              <a:ext cx="41878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881680" y="5364000"/>
              <a:ext cx="173196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omic Sans MS"/>
                </a:rPr>
                <a:t>Δραστηριότητα 10</a:t>
              </a:r>
              <a:r>
                <a:rPr b="0" lang="el-GR" sz="1800" spc="-1" strike="noStrike" baseline="30000">
                  <a:solidFill>
                    <a:srgbClr val="ffffff"/>
                  </a:solidFill>
                  <a:latin typeface="Comic Sans MS"/>
                </a:rPr>
                <a:t>η</a:t>
              </a:r>
              <a:r>
                <a:rPr b="0" lang="el-GR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7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26AA-CC13-4B77-8E72-345167EEE1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Περαιτέρω μελέτ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Να αναπτύξετε ένα μενού που είναι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ext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nsitive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. Ανάλογα δηλαδή με το αν κάποιος θα κάνει δεξί κλικ σε ένα προϊόν ή στο καλάθι αγορών θα πρέπει να εμφανίζεται διαφορετικό μενού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nt 1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χρήση της ιδιότητας του αντικειμένο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nt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rcElement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nt 2: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ελετήστε το παράδειγμα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2.html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με τη χρήση των εργαλείων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er Tools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στον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et Explorer 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Constantia"/>
              </a:rPr>
              <a:t>Παράδειγμα (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wf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CA69-3C94-49DB-9FFA-05B664C9D5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Η τά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 χρήση τη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script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έκτησε πολύ μεγαλύτερη αξία με το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mework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x –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Όλο και περισσότερες εφαρμογές χρησιμοποιούν τι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διεπαφές για να πρόσβαση στους χρήστες τους στις υπηρεσίες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772240" cy="378144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FF56-77A5-488F-A265-4BE81C396C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Η τά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 χρήση τη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script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έκτησε πολύ μεγαλύτερη αξία με το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mework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x –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Όλο και περισσότερες εφαρμογές χρησιμοποιούν τι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διεπαφές για να πρόσβαση στους χρήστες τους στις υπηρεσίες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86640" cy="539100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3DB-C9FD-4043-A218-23DB499C8B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Η τά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 χρήση τη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script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έκτησε πολύ μεγαλύτερη αξία με το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mework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x –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Όλο και περισσότερες εφαρμογές χρησιμοποιούν τι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διεπαφές για να πρόσβαση στους χρήστες τους στις υπηρεσίες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17848" t="20224" r="31693" b="28819"/>
          <a:stretch/>
        </p:blipFill>
        <p:spPr>
          <a:xfrm>
            <a:off x="1523880" y="762120"/>
            <a:ext cx="624852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803E-834B-4A8C-B5B6-68CD296CF8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Η τάσ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 χρήση τη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script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πέκτησε πολύ μεγαλύτερη αξία με το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mework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x –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τι είνα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Όλο και περισσότερες εφαρμογές χρησιμοποιούν τι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διεπαφές για να πρόσβαση στους χρήστες τους στις υπηρεσίες του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005600" cy="556236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915-2696-482D-B042-C4D9049988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otes</a:t>
            </a: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-Παράδειγμ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Παράδειγμα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w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Καταγράψτε ποια από τα γεγονότα που φαίνονται στο φύλλο εργασία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) μπορούν να αξιοποιηθούν από την εφαρμογ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Β) πραγματικά αξιοποιούνται από την εφαρμογ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α δείτε το παράδειγμα δυο φορέ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Explosion 2 3"/>
          <p:cNvSpPr/>
          <p:nvPr/>
        </p:nvSpPr>
        <p:spPr>
          <a:xfrm>
            <a:off x="152280" y="4572000"/>
            <a:ext cx="4038840" cy="1905120"/>
          </a:xfrm>
          <a:prstGeom prst="irregularSeal2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Δραστηριότητα 1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omic Sans MS"/>
              </a:rPr>
              <a:t>η</a:t>
            </a:r>
            <a:r>
              <a:rPr b="0" lang="el-G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B81-58B3-422B-81A6-2EA7FB2C02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otes</a:t>
            </a: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-Παράδειγμα γεγονότω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ύκολα ανιχνεύσιμα είναι τ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keydown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πληκτρολόγιο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keyup</a:t>
            </a:r>
            <a:r>
              <a:rPr b="0" lang="el-GR" sz="2800" spc="-1" strike="noStrike">
                <a:solidFill>
                  <a:srgbClr val="00b0f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πληκτρολόγιο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b0f0"/>
                </a:solidFill>
                <a:latin typeface="Constantia"/>
              </a:rPr>
              <a:t>ο</a:t>
            </a: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ndblclick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διπλό αριστερό κλικ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mousemove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κίνηση ποντικιού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mouseover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κίνηση ποντικιού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mousedown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πάτημα αριστερού πλήκτρου 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ποντικιού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mouse up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απελευθέρωση ποντικιού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onclick 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{πάτημα και απελευθέρωση 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αριστερού πλήκτρου ποντικιού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650B-DEE9-4856-A0DA-D73FDE7DCA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HTML Event Model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palegeo</dc:creator>
  <dc:description/>
  <dc:language>en-US</dc:language>
  <cp:lastModifiedBy>gpalegeo</cp:lastModifiedBy>
  <dcterms:modified xsi:type="dcterms:W3CDTF">2008-10-29T16:04:09Z</dcterms:modified>
  <cp:revision>136</cp:revision>
  <dc:subject/>
  <dc:title>Learning Javascript event model</dc:title>
</cp:coreProperties>
</file>