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E06-D17B-4ABC-B71C-CB2734F8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824-DA3B-4DEE-A91C-B1B8A9BD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19C-AC05-4F2F-B373-07263127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EE1-E433-4CB7-975F-840AFBB2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777E-FAF8-44C5-83CD-1915A9F4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A854-83F2-4FA3-A71F-1A0C9BBD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51A0-865A-4ED9-A729-82DF0E6D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ECBE-D611-477A-BD08-0E02D8DE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0F19-5BAE-4E6E-AD9F-A7A88894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C17F-FEBA-40AE-B712-A0C7D567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609F-1D5A-4F43-8BC9-5BBF64B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E3D-DA3E-4B4D-8D2C-81EF0A0E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ECD6-4F18-41DC-9819-3C390493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F011-84C2-44C2-95DD-FC6C6D6C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E89E-E264-4822-A974-066629B8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A1F7-E574-4F4B-829A-D01A7DD1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EFF9-0A4A-42A3-B3BB-068FCB89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22A-E3B0-4D74-8759-A122ABC9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872-7622-4139-BA7C-7C571164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202-583E-45B7-81D7-897954BF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6EE-B15D-4719-992D-2CD9940F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385-F283-4816-A70A-C6D5B56F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343-08B5-41C4-8467-34808E2D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EE1-924D-405C-BCA4-4978B703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774A-A6D0-4CDE-9A19-516AA1C445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9A4B-8C8F-4516-8A09-E0588F66D1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e5ffff"/>
                </a:solidFill>
                <a:latin typeface="Comic Sans MS"/>
              </a:rPr>
              <a:t>Ο ΚΥΚΛΟΣ ΤΟΥ ΝΕΡΟΥ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Comic Sans MS"/>
              </a:rPr>
              <a:t>VS</a:t>
            </a:r>
            <a:br>
              <a:rPr sz="4000"/>
            </a:br>
            <a:r>
              <a:rPr b="0" lang="el-GR" sz="4000" spc="-1" strike="noStrike">
                <a:solidFill>
                  <a:srgbClr val="e5ffff"/>
                </a:solidFill>
                <a:latin typeface="Comic Sans MS"/>
              </a:rPr>
              <a:t>Ο ΚΥΚΛΟΣ ΤΗΣ ΠΛΗΡΟΦΟΡΙΑ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08720" y="2781360"/>
            <a:ext cx="2592360" cy="2879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403280" y="2781360"/>
            <a:ext cx="280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Ο ΚΥΚΛΟΣ ΤΟΥ ΝΕΡΟΥ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2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ΠΕΡΙΓΡΑΦ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Τι βλέπετε στην εικόνα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Μπορείτε να περιγράψετε τον κύκλο του νερού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Από ποια στάδια αποτελείτα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Ποια θεωρείται ότι είναι τα ποιο σημαντικά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Αν έλλειπε ένα από αυτά θα μπορούσε να συνεχιστεί χωρίς προβλήματα ο κύκλος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Comic Sans MS"/>
              </a:rPr>
              <a:t>ΔΙΑΔΙΚΑΣΙΑ ΕΠΕΞΕΡΓΑΣΙΑΣ ΔΕΔΟΜΕΝΩΝ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3357720"/>
            <a:ext cx="151128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ΔΕΔΟΜΕΝ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3357720"/>
            <a:ext cx="172692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ΕΠΕΞΕΡΓΑΣΙ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43640" y="3284640"/>
            <a:ext cx="1584360" cy="1079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ΠΛΗΡΟΦΟΡΙ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3645000"/>
            <a:ext cx="936720" cy="431640"/>
          </a:xfrm>
          <a:prstGeom prst="rightArrow">
            <a:avLst>
              <a:gd name="adj1" fmla="val 50000"/>
              <a:gd name="adj2" fmla="val 5425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3716280"/>
            <a:ext cx="934920" cy="432000"/>
          </a:xfrm>
          <a:prstGeom prst="rightArrow">
            <a:avLst>
              <a:gd name="adj1" fmla="val 50000"/>
              <a:gd name="adj2" fmla="val 541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708280"/>
            <a:ext cx="1440000" cy="825480"/>
          </a:xfrm>
          <a:prstGeom prst="cloudCallout">
            <a:avLst>
              <a:gd name="adj1" fmla="val -21115"/>
              <a:gd name="adj2" fmla="val 6480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ΔΕΔΟΜΕΝΑ ΕΙΣΟΔΟ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2781360"/>
            <a:ext cx="1366920" cy="825480"/>
          </a:xfrm>
          <a:prstGeom prst="cloudCallout">
            <a:avLst>
              <a:gd name="adj1" fmla="val -19569"/>
              <a:gd name="adj2" fmla="val 6480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ΔΕΔΟΜΕΝΑ ΕΞΟΔΟ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62920" y="3573360"/>
            <a:ext cx="1081080" cy="576360"/>
          </a:xfrm>
          <a:prstGeom prst="rightArrow">
            <a:avLst>
              <a:gd name="adj1" fmla="val 50000"/>
              <a:gd name="adj2" fmla="val 4689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ΕΞΟΔΟ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645000"/>
            <a:ext cx="1332000" cy="431640"/>
          </a:xfrm>
          <a:prstGeom prst="rightArrow">
            <a:avLst>
              <a:gd name="adj1" fmla="val 50000"/>
              <a:gd name="adj2" fmla="val 7714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ΕΙΣΟΔΟ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ΠΕΡΙΓΡΑΦ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Τι βλέπετε στην εικόνα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Μπορείτε να περιγράψετε Την επεξεργασία των δεδομένω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Από ποια στάδια αποτελείτα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Ποια θεωρείται ότι είναι τα ποιο σημαντικά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Αν έλλειπε ένα από αυτά θα μπορούσε να συνεχιστεί χωρίς προβλήματα ο κύκλο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ΣΥΜΠΕΡΑΣΜΑΤΑ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Στοιχεία τα οποία δεν μας πληροφορούν για κάτι συγκεκριμένο αποτελούν τα δεδομέν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Η διαδικασία που επεξεργάζεται αυτά τα στοιχεία με σκοπό να αποτελέσουν λογικές εκφράσεις κατανοητές από τον άνθρωπ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Τα στοιχεία τα οποία προέκυψαν από επεξεργασία δεδομένων αποτελούν την πληροφορί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Comic Sans MS"/>
              </a:rPr>
              <a:t>Ο ΚΥΚΛΟΣ ΤΗΣ ΠΛΗΡΟΦΟΡΙΑΣ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3357720"/>
            <a:ext cx="151128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ΔΕΔΟΜΕΝ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0000" y="3357720"/>
            <a:ext cx="172692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ΕΠΕΞΕΡΓΑΣΙ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3284640"/>
            <a:ext cx="1584360" cy="1079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ΠΛΗΡΟΦΟΡΙ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85080" y="1484280"/>
            <a:ext cx="1079640" cy="136836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ΑΠΟΘΗΚΕΥΣ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3645000"/>
            <a:ext cx="936720" cy="431640"/>
          </a:xfrm>
          <a:prstGeom prst="rightArrow">
            <a:avLst>
              <a:gd name="adj1" fmla="val 50000"/>
              <a:gd name="adj2" fmla="val 5425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3716280"/>
            <a:ext cx="934920" cy="432000"/>
          </a:xfrm>
          <a:prstGeom prst="rightArrow">
            <a:avLst>
              <a:gd name="adj1" fmla="val 50000"/>
              <a:gd name="adj2" fmla="val 541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44000" y="2852640"/>
            <a:ext cx="431640" cy="865440"/>
          </a:xfrm>
          <a:prstGeom prst="upDownArrow">
            <a:avLst>
              <a:gd name="adj1" fmla="val 50000"/>
              <a:gd name="adj2" fmla="val 3991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708280"/>
            <a:ext cx="1440000" cy="825480"/>
          </a:xfrm>
          <a:prstGeom prst="cloudCallout">
            <a:avLst>
              <a:gd name="adj1" fmla="val -21115"/>
              <a:gd name="adj2" fmla="val 6480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ΔΕΔΟΜΕΝΑ ΕΙΣΟΔΟ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781360"/>
            <a:ext cx="1366920" cy="825480"/>
          </a:xfrm>
          <a:prstGeom prst="cloudCallout">
            <a:avLst>
              <a:gd name="adj1" fmla="val -19569"/>
              <a:gd name="adj2" fmla="val 6480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ΔΕΔΟΜΕΝΑ ΕΞΟΔΟ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835280" y="1124640"/>
            <a:ext cx="6913440" cy="554364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5543640"/>
              <a:gd name="textAreaBottom" fmla="*/ 5543640 h 5543640"/>
            </a:gdLst>
            <a:ahLst/>
            <a:rect l="textAreaLeft" t="textAreaTop" r="textAreaRight" b="textAreaBottom"/>
            <a:pathLst>
              <a:path w="21600" h="21600">
                <a:moveTo>
                  <a:pt x="2800" y="15389"/>
                </a:moveTo>
                <a:arcTo wR="-9223" hR="-9223" stAng="9009805" swAng="-8855365"/>
                <a:lnTo>
                  <a:pt x="11" y="10315"/>
                </a:lnTo>
                <a:arcTo wR="10800" hR="10800" stAng="-10645560" swAng="8855365"/>
                <a:lnTo>
                  <a:pt x="22511" y="4083"/>
                </a:lnTo>
                <a:lnTo>
                  <a:pt x="21220" y="8845"/>
                </a:lnTo>
                <a:lnTo>
                  <a:pt x="16458" y="7555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ΕΠΑΝΑΤΡΟΦΟΔΟΤΗΣ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62920" y="3573360"/>
            <a:ext cx="1081080" cy="576360"/>
          </a:xfrm>
          <a:prstGeom prst="rightArrow">
            <a:avLst>
              <a:gd name="adj1" fmla="val 50000"/>
              <a:gd name="adj2" fmla="val 4689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ΕΞΟΔΟ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645000"/>
            <a:ext cx="1332000" cy="431640"/>
          </a:xfrm>
          <a:prstGeom prst="rightArrow">
            <a:avLst>
              <a:gd name="adj1" fmla="val 50000"/>
              <a:gd name="adj2" fmla="val 7714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ΕΙΣΟΔΟ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ΠΕΡΙΓΡΑΦ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Τι βλέπετε στην εικόνα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Μπορείτε να περιγράψετε τον κύκλο της πληροφορία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Από ποια στάδια αποτελείτα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Ποια θεωρείται ότι είναι τα ποιο σημαντικά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Αν έλλειπε ένα από αυτά θα μπορούσε να συνεχιστεί χωρίς προβλήματα ο κύκλο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ΣΥΜΠΕΡΑΣΜΑΤΑ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omic Sans MS"/>
              </a:rPr>
              <a:t>Κάθε στάδιο του κύκλου είναι σημαντικ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omic Sans MS"/>
              </a:rPr>
              <a:t>Μία πληροφορία μπορεί να χρησιμοποιηθεί σε νέα επεξεργασία για την εξαγωγή νέας πληροφορία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omic Sans MS"/>
              </a:rPr>
              <a:t>Η αποθήκευση της πληροφορίας συντελεί στην επανατροφοδότηση της πληροφορία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05:48:31Z</dcterms:created>
  <dc:creator>Gnet</dc:creator>
  <dc:description/>
  <dc:language>en-US</dc:language>
  <cp:lastModifiedBy>Gnet</cp:lastModifiedBy>
  <dcterms:modified xsi:type="dcterms:W3CDTF">2005-02-12T07:13:50Z</dcterms:modified>
  <cp:revision>3</cp:revision>
  <dc:subject/>
  <dc:title>Ο ΚΥΚΛΟΣ ΤΟΥ ΝΕΡΟΥ</dc:title>
</cp:coreProperties>
</file>