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2E4-8969-47CE-909C-08FF55D4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C3E-65B9-468C-9DCE-2C5844A8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F55-513F-4935-A13B-AA73BE0F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5E2-074F-48B1-B9DF-C7575B21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FDE-BD49-4959-A4C8-276C5A92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39B-C285-4756-9922-C9201339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7D4-6ED6-40A6-820F-745EAF34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F356-2B41-4A7D-95CB-F835492E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6A8-B97E-440F-9F4C-E7A06829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8F6E-E807-4218-AC57-2EBACF7B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3B59-FF72-4288-8F41-309C6475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874-9B57-4C4C-8D17-F425D739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9FE0-1D72-4BFB-9B44-FDE724AAF9F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411280" y="2090880"/>
              <a:ext cx="4751640" cy="25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1765440" y="299736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502080"/>
            <a:ext cx="576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4596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αραδείγματα εισόδου στην πύλη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OR  1/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6000" y="2924280"/>
            <a:ext cx="369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5440" y="299736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3502080"/>
            <a:ext cx="576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14166 -1.85185E-006 E">
                                      <p:cBhvr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0.14184 -0.00533 E">
                                      <p:cBhvr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2411280" y="2090880"/>
              <a:ext cx="4751640" cy="25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1765440" y="299736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3502080"/>
            <a:ext cx="576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34596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αραδείγματα εισόδου στην πύλη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OR  2/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2924280"/>
            <a:ext cx="369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3502080"/>
            <a:ext cx="576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299736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14166 -1.85185E-006 E">
                                      <p:cBhvr>
                                        <p:cTn id="7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0.14184 -0.00533 E">
                                      <p:cBhvr>
                                        <p:cTn id="7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2411280" y="2090880"/>
              <a:ext cx="4751640" cy="25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1765440" y="299736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3502080"/>
            <a:ext cx="576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34596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αραδείγματα εισόδου στην πύλη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OR  3/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2924280"/>
            <a:ext cx="369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5440" y="299736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3500280"/>
            <a:ext cx="576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14166 -1.85185E-006 E">
                                      <p:cBhvr>
                                        <p:cTn id="12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0.14184 -0.00533 E">
                                      <p:cBhvr>
                                        <p:cTn id="129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34596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αραδείγματα εισόδου στην πύλη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 1/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2411280" y="2658960"/>
              <a:ext cx="3816360" cy="170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5292720" y="2852640"/>
            <a:ext cx="287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5440" y="299736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2360" y="3500280"/>
            <a:ext cx="576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5440" y="299736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3502080"/>
            <a:ext cx="576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920" y="18900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αραδείγματα εισόδου στην πύλη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 1/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14166 -1.85185E-006 E">
                                      <p:cBhvr>
                                        <p:cTn id="178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0.14184 -0.00533 E">
                                      <p:cBhvr>
                                        <p:cTn id="18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34596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αραδείγματα εισόδου στην πύλη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 1/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2411280" y="2658960"/>
              <a:ext cx="3816360" cy="170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5292720" y="2852640"/>
            <a:ext cx="287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65440" y="299736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3500280"/>
            <a:ext cx="576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5440" y="299736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3502080"/>
            <a:ext cx="576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920" y="18900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αραδείγματα εισόδου στην πύλη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 2/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14166 -1.85185E-006 E">
                                      <p:cBhvr>
                                        <p:cTn id="22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0.14184 -0.00533 E">
                                      <p:cBhvr>
                                        <p:cTn id="23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34596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αραδείγματα εισόδου στην πύλη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 1/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2411280" y="2658960"/>
              <a:ext cx="3816360" cy="170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5292720" y="2852640"/>
            <a:ext cx="287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5440" y="299736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3500280"/>
            <a:ext cx="576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65440" y="2995560"/>
            <a:ext cx="431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3500280"/>
            <a:ext cx="576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5920" y="18900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αραδείγματα εισόδου στην πύλη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 3/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14166 -1.85185E-006 E">
                                      <p:cBhvr>
                                        <p:cTn id="28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0.14184 -0.00533 E">
                                      <p:cBhvr>
                                        <p:cTn id="28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1187280" y="692280"/>
              <a:ext cx="7277400" cy="561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539640" y="83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6560" y="1341360"/>
            <a:ext cx="57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33560" y="907920"/>
            <a:ext cx="370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522936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6560" y="5734080"/>
            <a:ext cx="57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62280" y="5316480"/>
            <a:ext cx="369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40720" y="3213000"/>
            <a:ext cx="369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1440" y="83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341360"/>
            <a:ext cx="57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1440" y="522936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734080"/>
            <a:ext cx="57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4720" y="299736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3502080"/>
            <a:ext cx="576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09440" y="-27000"/>
            <a:ext cx="9145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αράδειγμα εισόδου σε Συνδυαστικό Κύκλωμ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44444E-006 L 0.09444 4.44444E-006 E">
                                      <p:cBhvr>
                                        <p:cTn id="35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L 0.09461 -0.00532 E">
                                      <p:cBhvr>
                                        <p:cTn id="35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44444E-006 L 0.09444 4.44444E-006 E">
                                      <p:cBhvr>
                                        <p:cTn id="37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L 0.09461 -0.00532 E">
                                      <p:cBhvr>
                                        <p:cTn id="38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5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72222E-006 -1.48148E-006 L 0.07553 0.00139 E">
                                      <p:cBhvr>
                                        <p:cTn id="40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4.44444E-006 L 0.08334 -0.00116 E">
                                      <p:cBhvr>
                                        <p:cTn id="41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7553 0.00139 L 0.35903 0.30579 E">
                                      <p:cBhvr>
                                        <p:cTn id="413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8334 -0.00116 L 0.36684 -0.26366 E">
                                      <p:cBhvr>
                                        <p:cTn id="41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07:29Z</dcterms:created>
  <dc:creator>Xaris</dc:creator>
  <dc:description/>
  <dc:language>en-US</dc:language>
  <cp:lastModifiedBy>Xaris</cp:lastModifiedBy>
  <dcterms:modified xsi:type="dcterms:W3CDTF">2005-02-03T14:24:12Z</dcterms:modified>
  <cp:revision>4</cp:revision>
  <dc:subject/>
  <dc:title>Διαφάνεια 1</dc:title>
</cp:coreProperties>
</file>