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975A-489E-4247-AACC-863603C1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136C-3177-4BBA-9EFF-3371C42E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4034-EA0C-470B-B7D2-305BE80A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4C6A-9637-4249-B8BF-F19CF3E8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7BEF-DAC5-4117-B0B8-5C46EED3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7E67-A6CB-4DCE-945C-9EF21867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6602-C0B0-417C-9EDF-BEC6B8D6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F40C-03B2-4647-A272-978916BE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4671-4388-42AE-9DD1-1158FF72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A85F-9EAC-4717-B2AF-904274A4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B3A7-E21C-4CD6-B89F-32F93EAE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2B14-6567-4E29-936A-5EE8EF99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FEC7-B509-48B2-A764-A5BF6236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1A1E-C109-4020-9454-ECA8D3F9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2B9D-BCCD-41AA-829A-7ABD42C7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F85B-E286-4887-B970-2F34412C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FBE4-F819-41FA-B061-55CADB97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8EA9-DF8C-4136-B3F6-6F7CFD9C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983C-34B3-45E4-95DB-6FA1EE70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99C2-26B1-4E83-B495-A49E8B07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73A8-BBD4-4E68-B53F-CE25C60D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CCD1-3280-485E-B217-E9DAE370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FE17-236F-48C2-B8CE-E8BC179C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B665-AE7C-4DF9-B1F4-E3EE3A95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3F38-526C-4F5C-87BF-8D4CCB916E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AAE5-09CC-4185-BA71-109B207656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Λογικές Πύλες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490560" y="1916280"/>
            <a:ext cx="54738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α ηλεκτρονικά κυκλώματα που εκτελούν τις βασικές πράξεις της άλγεβρα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le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7640" y="1913040"/>
            <a:ext cx="29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Λογικές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πύλε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79000" y="1989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Λογική πύλη «ΌΧΙ» - ΝΟΤ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900000" y="1916280"/>
            <a:ext cx="691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Υλοποιεί την λογική πράξη ΝΟ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508720" y="3357720"/>
            <a:ext cx="2225520" cy="22986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042920" y="3421080"/>
            <a:ext cx="2881440" cy="2313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6948360" y="465300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48360" y="515628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dfdef6"/>
                </a:solidFill>
                <a:latin typeface="Arial"/>
              </a:rPr>
              <a:t>Λογική Πύλη «ΚΑΙ» - 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ND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62472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Υλοποιεί την λογική πράξ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3238560" cy="22860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445000" y="2708280"/>
            <a:ext cx="2295720" cy="37242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7020000" y="4078440"/>
            <a:ext cx="43164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20000" y="4581360"/>
            <a:ext cx="43164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020000" y="5300640"/>
            <a:ext cx="43164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20000" y="5948280"/>
            <a:ext cx="43164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dfdef6"/>
                </a:solidFill>
                <a:latin typeface="Arial"/>
              </a:rPr>
              <a:t>Λογική Πύλη «Ή» - 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OR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62472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Υλοποιεί την λογική πράξ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5732640" y="2901960"/>
            <a:ext cx="2295360" cy="36957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1271520" y="3429000"/>
            <a:ext cx="3229200" cy="24861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7308720" y="422280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308720" y="472608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08720" y="544500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08720" y="609300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1080" y="-27000"/>
            <a:ext cx="899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dfdef6"/>
                </a:solidFill>
                <a:latin typeface="Arial"/>
              </a:rPr>
              <a:t>Λογική Πύλη «Αποκλειστικό Ή» - 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XOR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66247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Υλοποιεί την λογική πράξ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3238560" cy="24764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5580000" y="2637000"/>
            <a:ext cx="2314800" cy="37432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7164360" y="393372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4360" y="451008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164360" y="522936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164360" y="587700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dfdef6"/>
                </a:solidFill>
                <a:latin typeface="Arial"/>
              </a:rPr>
              <a:t>Λογική Πύλη «ΌΧΙ - ΚΑΙ» -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N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6247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ποτελείται από μία πύλ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ία Πύλη ΝΟ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982800" y="3860640"/>
            <a:ext cx="3228840" cy="24670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508720" y="2924280"/>
            <a:ext cx="2305080" cy="36766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7093080" y="4149720"/>
            <a:ext cx="43164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93080" y="4797360"/>
            <a:ext cx="43164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093080" y="5445000"/>
            <a:ext cx="43164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6093000"/>
            <a:ext cx="43164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dfdef6"/>
                </a:solidFill>
                <a:latin typeface="Arial"/>
              </a:rPr>
              <a:t>Λογική Πύλη «ΌΧΙ - Ή» -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62472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ποτελείται από μία πύλ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ία Πύλη ΝΟ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055520" y="3670200"/>
            <a:ext cx="3229200" cy="24955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5580000" y="2781360"/>
            <a:ext cx="2314800" cy="36766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7164360" y="407844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164360" y="472608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164360" y="537372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64360" y="6021360"/>
            <a:ext cx="432000" cy="36036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0:39:27Z</dcterms:created>
  <dc:creator>Xaris</dc:creator>
  <dc:description/>
  <dc:language>en-US</dc:language>
  <cp:lastModifiedBy>Xaris</cp:lastModifiedBy>
  <dcterms:modified xsi:type="dcterms:W3CDTF">2005-02-03T14:22:49Z</dcterms:modified>
  <cp:revision>4</cp:revision>
  <dc:subject/>
  <dc:title>Λογικές Πύλες </dc:title>
</cp:coreProperties>
</file>