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565-D66D-4B5A-885B-4CE80CE8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118-5DB6-4638-BC08-9B225382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A3B-424D-47D3-877D-F317B8E5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980-A7FE-402C-904E-5CD5E3C9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ED8B-66A1-4970-A422-75B791A8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A724-9979-40E4-9661-EA6C3E3E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A1A3-D6FB-4D4C-AF20-36716FE8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E3DA-4C4A-4423-855A-1193507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AD51-6C83-4D36-AEDF-8A14B62A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8124-FF32-4005-828F-A510F4AB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7311-91F0-4ACD-8880-6B286359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6D5-ADC0-4B9A-8DED-42F282EC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80D7-DAA2-4708-96A2-3B99AAE9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884F-FD19-4E06-A5B6-44F1717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02E5-56B0-4EAC-9E15-04041176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0D02-3609-4804-9B3C-A97C957F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04FA-79C4-4A55-9E81-B8191176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769-8055-4DE5-931B-7393BBFC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59D-8184-4DA2-82DD-A1597F3D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445-54B8-4042-9A1F-44335C1D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604-DBA7-4CD1-A577-E0530173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72E-577C-45F3-B417-EA44A3C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572-7A53-41E3-B575-16557673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47A-4107-4EB7-9109-4A82A8C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18F7-7C95-4F4C-880B-62EEE46ACAC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A3FF-7881-4D4A-BD04-D9340D3AF0C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Μαθηματική Λογική – Άλγεβρα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ool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7561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51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Ο υπολογιστής εκτός αριθμητικές 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πράξεις έχει την δυνατότητα να 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εκτελεί και </a:t>
            </a:r>
            <a:r>
              <a:rPr b="1" i="1" lang="en-US" sz="3000" spc="-1" strike="noStrike">
                <a:solidFill>
                  <a:srgbClr val="2f1311"/>
                </a:solidFill>
                <a:latin typeface="Arial"/>
              </a:rPr>
              <a:t>συγκρίσεις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Να επεξεργάζεται </a:t>
            </a:r>
            <a:r>
              <a:rPr b="1" i="1" lang="en-US" sz="3000" spc="-1" strike="noStrike">
                <a:solidFill>
                  <a:srgbClr val="2f1311"/>
                </a:solidFill>
                <a:latin typeface="Arial"/>
              </a:rPr>
              <a:t>λογικά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 δεδομένα.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Τα δεδομένα αυτά μπορεί να είναι 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απλές ή σύνθετες πράξεις 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7640" y="1598760"/>
            <a:ext cx="7559640" cy="44971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Λογική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λέγεται η πρόταση όταν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μπορεί να χαρακτηριστεί αληθής ή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ψευδή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Ο χαρακτηρισμός αυτός της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πρότασης λέγεται 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τιμή αληθεία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Λογικές Προτάσεις    1/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Λογικές Προτάσεις    2/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693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Ποιες είναι οι τιμές αληθείας των παρακάτω προτάσεων?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Το καλοκαίρι πάντα χιονίζε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Το βράδυ ο ήλιος λάμπε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Δώσε μου σε παρακαλώ, ένα μολύβι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Ο Γιώργος είναι ψηλό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Η χημική ένωση του νερού είναι Η</a:t>
            </a:r>
            <a:r>
              <a:rPr b="0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Ο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Άλγεβρα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oole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71640" y="1598760"/>
            <a:ext cx="795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George Bool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O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 πρώτος που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ατύπωσε τους βασικούς κανόνες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τους οποίους οι λογικές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προτάσεις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πορούν να παρουσιασθούν με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αθηματικά σύμβολα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ην Άλγεβρα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ole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υπάρχουν μόνο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3200" spc="-1" strike="noStrike">
                <a:solidFill>
                  <a:srgbClr val="2f1311"/>
                </a:solidFill>
                <a:latin typeface="Arial"/>
              </a:rPr>
              <a:t>δύο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 ειδών προτάσεων, οι </a:t>
            </a:r>
            <a:r>
              <a:rPr b="0" lang="el-GR" sz="3200" spc="-1" strike="noStrike" u="sng">
                <a:solidFill>
                  <a:srgbClr val="2f1311"/>
                </a:solidFill>
                <a:uFillTx/>
                <a:latin typeface="Arial"/>
              </a:rPr>
              <a:t>αληθείς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 και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οι </a:t>
            </a:r>
            <a:r>
              <a:rPr b="0" lang="el-GR" sz="3200" spc="-1" strike="noStrike" u="sng">
                <a:solidFill>
                  <a:srgbClr val="2f1311"/>
                </a:solidFill>
                <a:uFillTx/>
                <a:latin typeface="Arial"/>
              </a:rPr>
              <a:t>ψευδείς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Άλγεβρα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oole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560" y="1598760"/>
            <a:ext cx="78850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Λογική Σταθερά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Η πρόταση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που είναι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πάντοτ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αληθής ή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πάντοτ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ψευδή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Λογική Μεταβλητή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Η πρόταση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που είναι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άλλοτ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αληθής και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άλλοτ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ψευδή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22680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Άλγεβρα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oole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Βασικές Πράξεις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1/4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621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Άρνηση - ΝΟΤ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Αντιστροφή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ή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Συμπλήρωμα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Συμβολισμός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924360" y="2852640"/>
                <a:ext cx="776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16000" y="4078440"/>
            <a:ext cx="5832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22680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Άλγεβρα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oole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Βασικές Πράξεις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/4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621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2800" spc="-1" strike="noStrike">
                <a:solidFill>
                  <a:srgbClr val="2f1311"/>
                </a:solidFill>
                <a:latin typeface="Arial"/>
              </a:rPr>
              <a:t>Σύζευξη -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AND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2800" spc="-1" strike="noStrike">
                <a:solidFill>
                  <a:srgbClr val="2f1311"/>
                </a:solidFill>
                <a:latin typeface="Arial"/>
              </a:rPr>
              <a:t>Λογικός Πολλαπλασιασμός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2800" spc="-1" strike="noStrike">
                <a:solidFill>
                  <a:srgbClr val="2f1311"/>
                </a:solidFill>
                <a:latin typeface="Arial"/>
              </a:rPr>
              <a:t>Συμβολισμός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95640" y="3125880"/>
                <a:ext cx="12985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7080" y="3930480"/>
            <a:ext cx="6551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22680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Άλγεβρα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oole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Βασικές Πράξεις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/4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621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2800" spc="-1" strike="noStrike">
                <a:solidFill>
                  <a:srgbClr val="2f1311"/>
                </a:solidFill>
                <a:latin typeface="Arial"/>
              </a:rPr>
              <a:t>Διάζευξη -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OR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2800" spc="-1" strike="noStrike">
                <a:solidFill>
                  <a:srgbClr val="2f1311"/>
                </a:solidFill>
                <a:latin typeface="Arial"/>
              </a:rPr>
              <a:t>Λογική Πρόσθεση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2800" spc="-1" strike="noStrike">
                <a:solidFill>
                  <a:srgbClr val="2f1311"/>
                </a:solidFill>
                <a:latin typeface="Arial"/>
              </a:rPr>
              <a:t>Συμβολισμός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952800" y="3125880"/>
                <a:ext cx="13842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7080" y="3930480"/>
            <a:ext cx="6551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22680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Άλγεβρα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oole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Βασικές Πράξεις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/4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621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2800" spc="-1" strike="noStrike">
                <a:solidFill>
                  <a:srgbClr val="2f1311"/>
                </a:solidFill>
                <a:latin typeface="Arial"/>
              </a:rPr>
              <a:t>Αποκλειστική Διάζευξη -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XOR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2800" spc="-1" strike="noStrike">
                <a:solidFill>
                  <a:srgbClr val="2f1311"/>
                </a:solidFill>
                <a:latin typeface="Arial"/>
              </a:rPr>
              <a:t>Λογικός Πολλαπλασιασμός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l-GR" sz="2800" spc="-1" strike="noStrike">
                <a:solidFill>
                  <a:srgbClr val="2f1311"/>
                </a:solidFill>
                <a:latin typeface="Arial"/>
              </a:rPr>
              <a:t>Συμβολισμός</a:t>
            </a: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09960" y="3106800"/>
                <a:ext cx="1471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⊕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7080" y="3930480"/>
            <a:ext cx="6551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20:46:19Z</dcterms:created>
  <dc:creator>Xaris</dc:creator>
  <dc:description/>
  <dc:language>en-US</dc:language>
  <cp:lastModifiedBy>Xaris</cp:lastModifiedBy>
  <dcterms:modified xsi:type="dcterms:W3CDTF">2005-01-31T22:33:11Z</dcterms:modified>
  <cp:revision>4</cp:revision>
  <dc:subject/>
  <dc:title>Μαθηματική Λογική – Άλγεβρα Boole</dc:title>
</cp:coreProperties>
</file>