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8AA9-4A60-4D6F-AE19-2AAB869E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595-B95F-411A-B198-F97B3EE5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9BF0-5389-45AD-BEEE-048C4183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2C7E-BA8E-4F37-86EA-AFDDAB78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B4DD-6C53-4B4D-B8B5-CE1E7E0F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A858-1A01-4885-8C6E-50D66151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E868-F842-4F4B-81A1-62DCC0A5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5A64-BC31-4FA3-9716-037001D6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6560-44B1-465E-A3B4-4904AA3F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4E71-EF92-49F4-AE51-54C1AEF8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4E96-3B3C-46B4-A8BD-F3DFAACD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E3F-54E1-46B0-AEA9-C4A96E4F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D8CF-570C-4755-8985-6913EDEA1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Μη αιτιοκρατικό αυτόματ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619280" y="2133720"/>
          <a:ext cx="6048360" cy="41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133720"/>
                    <a:ext cx="604836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476360" y="119700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={0},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= { 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k=2m,   k=3m}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, μαντεύουμε το μήκο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θεωρία υπολογισμού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70D5-887A-40E5-BC4E-F862D9A83E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Ιδιότητες  πράξε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Για την ένωση χρειαστήκαμε τι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μεταβάσεις και μη αιτιοκρατικό αυτόματ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286704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θεωρία υπολογισμού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5C93-A665-48AE-8C19-A738DA0CBC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Ιδιότητες  πράξε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Για το συμπλήρωμα, αν το αυτόματο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(αιτιοκρατικό, μία μόνο μετάβαση για κάθε σύμβολο)  αναγνωρίζει την γλώσσ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τότε αλλάζοντας τις μη τελικές καταστάσεις του Μ σε τελικές και τις τελικές του  σε μη τελικέ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αι διατηρώντας τα άλλα στοιχεία του Μ  έχουμε ένα αυτόματο Μ’ που αναγνωρίζει το συμπλήρωμα της γλώσσα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ην απόδειξη είναι αναγκαίο να έχουμε αιτιοκρατικό αυτόματο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θεωρία υπολογισμού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F05E-B46A-4EEA-92C0-59C3F0D0CF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Ιδιότητες  πράξε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116000" y="2708280"/>
          <a:ext cx="7118280" cy="24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708280"/>
                    <a:ext cx="7118280" cy="24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2463840" y="2482920"/>
            <a:ext cx="4413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403280" y="1773360"/>
          <a:ext cx="6553440" cy="53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1773360"/>
                    <a:ext cx="655344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751680" y="1197000"/>
            <a:ext cx="779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Παράδειγμα όπου με ΜΠΑ δεν αναγνωρίζει σωστά το συμπλήρωμ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θεωρία υπολογισμού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37C9-014F-4E6D-A849-BA41C81AC1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Ιδιότητες  πράξε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1480" y="1720800"/>
            <a:ext cx="592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1600200"/>
            <a:ext cx="684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ια την παράθεση συνδέουμε τα δύο αυτόματα σειριακά. Η τελική κατάσταση του πρώτου αυτόματου Μ1 και η αρχική του δεύτερου αυτόματου Μ2 είναι απλές καταστάσεις του νέου αυτόματου και συνδέονται με μί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ετάβασ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 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αρχική του Μ1 είναι η νέα αρχική  και η τελική του Μ2 είναι η νέα τελική. Οι συναρτήσεις μετάβασης των δύο αυτομάτων και η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ετάβαση που προσθέσαμε είναι η νέα συνάρτηση μετάβαση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θεωρία υπολογισμού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46B-2950-421A-ABA6-AB70B511A3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Ιδιότητες  πράξε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1484280"/>
            <a:ext cx="71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Για την κλειστότητ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en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ναζητο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ε αυτόματο Μ το οποίο  δέχεται  συμβολοσειρές της μορφή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411280" y="3068640"/>
          <a:ext cx="3168720" cy="59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068640"/>
                    <a:ext cx="316872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2679840" y="4240080"/>
            <a:ext cx="491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3789360"/>
            <a:ext cx="676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αι την κενή συμβολοσειρ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ροσθέτουμ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εταβάσεις από τις τελικές καταστάσεις του αυτομάτου Μ στην αρχική του αυτομάτου 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θεωρία υπολογισμού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AF4F-FF31-4644-975F-C69208AD30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Ιδιότητες  πράξε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11120" y="1547640"/>
            <a:ext cx="6716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Το αυτόματο δεν δέχεται την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ενή συμβολοσειρά, προσθέτουμε μία νέα κατάσταση σαν αρχική και μί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ετάβαση στην αρχική κατάσταση του αυτόματου. Διατηρούμε την συνάρτηση  μετάβασης και τις τελικές καταστάσεις του αυτόματο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θεωρία υπολογισμού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4784-E84C-4E29-8C38-B7022571F2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Μη αιτιοκρατικό αυτόματ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92360" y="3213000"/>
          <a:ext cx="568944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213000"/>
                    <a:ext cx="568944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684360" y="1197000"/>
            <a:ext cx="799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υμβολοσειρές που δεν περιέχουν  τουλά χιστον ένα σύμβολο  από το αλφάβητ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, b, c}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. Μαντεύουμε ποιο σύμβολο δεν εμφανίζεται και επαληθεύουμ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θεωρία υπολογισμού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568-D1FB-40C2-9130-7ACAABC94F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Πράξεις σε γλώσσ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58920" y="1413000"/>
            <a:ext cx="694512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ι γλώσσες είναι σύνολα και έχουμε τις πράξεις σε σύνολα, ένωση, τομή, συμπλή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ρωμα ως προς το Σ*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727280" y="4960800"/>
          <a:ext cx="5253120" cy="7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960800"/>
                    <a:ext cx="525312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042920" y="3429000"/>
            <a:ext cx="7362720" cy="13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πιπλέον για δύο γλώσσε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1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L1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έχουμε τη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αράθεση τους, την συμβολίζουμ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l-G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050920" y="2492280"/>
          <a:ext cx="445788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2492280"/>
                    <a:ext cx="445788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θεωρία υπολογισμού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8A74-7BC5-4129-AF6B-031983D90D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Πράξεις σε γλώσσ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λειστότητ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eene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, συμβολισμό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*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ρίζουμε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527280" y="5013360"/>
          <a:ext cx="237672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7280" y="5013360"/>
                    <a:ext cx="23767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436572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Ορίζουμ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90800" y="2859120"/>
          <a:ext cx="4802040" cy="6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90800" y="2859120"/>
                    <a:ext cx="48020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θεωρία υπολογισμού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8520-2B3F-4E3A-AC26-B31D65BB5D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Πράξεις σε γλώσσ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391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Ορίζουμε  την θετική κλειστότητα μίας γλώσσ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124000" y="2492280"/>
          <a:ext cx="3456000" cy="10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492280"/>
                    <a:ext cx="345600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902880" y="3573360"/>
            <a:ext cx="11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Ισχύε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619280" y="4724280"/>
          <a:ext cx="493092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4724280"/>
                    <a:ext cx="493092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θεωρία υπολογισμού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6906-44BE-4B3A-8DC5-F0C1BB78E7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Ιδιότητες  πράξε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Ένα σύνολο λέγεται κλειστό ως προς μία πράξη αν το αποτέλεσμα της πράξης είναι στοιχείο του συνόλο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ι κανονικές γλώσσες είναι κλειστές ως προς τις πράξεις  της τομής, ένωσης, διαφοράς, συμπληρώματος, παράθεσης και  κλειστότητα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θεωρία υπολογισμού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3C05-1FBE-40DE-B2D7-AC0AC349BE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Ιδιότητες  πράξε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λειστότητα ως προς την ένωση. Αν 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1 αναγνωρίζεται από το αυτόματο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1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και 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αναγνωρίζεται από το αυτόματο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2, τότε κατασκευάζουμε αυτόματο ώστε να αναγνωρίζει την ένωσή του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θεωρία υπολογισμού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6DD1-FE2E-400C-BCAD-BB026874F9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Ιδιότητες  πράξε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486160" y="1625760"/>
          <a:ext cx="4170240" cy="44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6160" y="1625760"/>
                    <a:ext cx="417024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θεωρία υπολογισμού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3A20-582F-46B8-8FA2-27297C11B8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Ιδιότητες  πράξε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55640" y="1413000"/>
          <a:ext cx="727236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13000"/>
                    <a:ext cx="727236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θεωρία υπολογισμού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630D-2E29-4B58-98D6-F5C32AB5C2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08:31:46Z</dcterms:created>
  <dc:creator>gkapou</dc:creator>
  <dc:description/>
  <dc:language>en-US</dc:language>
  <cp:lastModifiedBy>gkapou</cp:lastModifiedBy>
  <dcterms:modified xsi:type="dcterms:W3CDTF">2005-03-23T12:28:29Z</dcterms:modified>
  <cp:revision>115</cp:revision>
  <dc:subject/>
  <dc:title>Πράξεις σε γλώσσες</dc:title>
</cp:coreProperties>
</file>