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360" y="624348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-</a:t>
            </a:r>
            <a:fld id="{DC7DFD60-409C-4C20-981A-52C65C708C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352680" y="2362320"/>
            <a:ext cx="0" cy="3886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αταχωρητή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809880" y="1828800"/>
            <a:ext cx="838080" cy="1066680"/>
            <a:chOff x="3809880" y="1828800"/>
            <a:chExt cx="838080" cy="1066680"/>
          </a:xfrm>
        </p:grpSpPr>
        <p:sp>
          <p:nvSpPr>
            <p:cNvPr id="42" name=""/>
            <p:cNvSpPr/>
            <p:nvPr/>
          </p:nvSpPr>
          <p:spPr>
            <a:xfrm>
              <a:off x="4177080" y="190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09880" y="1828800"/>
              <a:ext cx="838080" cy="10666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3809880" y="2895480"/>
            <a:ext cx="838080" cy="1067040"/>
            <a:chOff x="3809880" y="2895480"/>
            <a:chExt cx="838080" cy="1067040"/>
          </a:xfrm>
        </p:grpSpPr>
        <p:sp>
          <p:nvSpPr>
            <p:cNvPr id="45" name=""/>
            <p:cNvSpPr/>
            <p:nvPr/>
          </p:nvSpPr>
          <p:spPr>
            <a:xfrm>
              <a:off x="4177080" y="2970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9880" y="2895480"/>
              <a:ext cx="838080" cy="1067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809880" y="5029200"/>
            <a:ext cx="838080" cy="1066680"/>
            <a:chOff x="3809880" y="5029200"/>
            <a:chExt cx="838080" cy="1066680"/>
          </a:xfrm>
        </p:grpSpPr>
        <p:sp>
          <p:nvSpPr>
            <p:cNvPr id="48" name=""/>
            <p:cNvSpPr/>
            <p:nvPr/>
          </p:nvSpPr>
          <p:spPr>
            <a:xfrm>
              <a:off x="4177080" y="510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9880" y="5029200"/>
              <a:ext cx="838080" cy="10666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809880" y="3962520"/>
            <a:ext cx="838080" cy="1066680"/>
            <a:chOff x="3809880" y="3962520"/>
            <a:chExt cx="838080" cy="1066680"/>
          </a:xfrm>
        </p:grpSpPr>
        <p:sp>
          <p:nvSpPr>
            <p:cNvPr id="51" name=""/>
            <p:cNvSpPr/>
            <p:nvPr/>
          </p:nvSpPr>
          <p:spPr>
            <a:xfrm>
              <a:off x="4177080" y="4037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3962520"/>
              <a:ext cx="838080" cy="10666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048120" y="19810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8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114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810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048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4114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52578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8320" y="1565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8320" y="3733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8320" y="2666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8320" y="4876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31320" y="1565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31320" y="3733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132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31320" y="4876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2860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09880" y="2361960"/>
            <a:ext cx="152640" cy="75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35268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09880" y="34290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419720"/>
            <a:ext cx="152640" cy="75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09880" y="449568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5562720"/>
            <a:ext cx="152640" cy="75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09880" y="563868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352680" y="236232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352680" y="34290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352680" y="44956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352680" y="56386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05840" y="583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637080" cy="13586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 flipH="1">
            <a:off x="80773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077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6957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696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73152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7315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93432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934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6552720" y="28195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553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17220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172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7913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791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4097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410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0292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029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64832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648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266720" y="28195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267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88620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86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5053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505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1237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124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7432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743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36232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362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980720" y="28195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981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60020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00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2193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1219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8377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838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769572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69608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934320" y="31240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93432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17184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17220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409720" y="31240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41008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648320" y="35812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64832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885840" y="31240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88620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362320" y="31240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36232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59984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60020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837720" y="31240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83808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933960" y="434340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934320" y="38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410080" y="38862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410080" y="38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885840" y="434340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886200" y="38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361960" y="388620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362320" y="38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838080" y="43434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409720" y="510552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410080" y="4648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362320" y="4648320"/>
            <a:ext cx="304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362320" y="4648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838080" y="510552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361960" y="5867280"/>
            <a:ext cx="6095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2320" y="5410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838080" y="54100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139600" y="3165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155440" y="396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55440" y="472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55440" y="548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7850520" y="3124080"/>
            <a:ext cx="333000" cy="2745720"/>
            <a:chOff x="7850520" y="3124080"/>
            <a:chExt cx="333000" cy="2745720"/>
          </a:xfrm>
        </p:grpSpPr>
        <p:sp>
          <p:nvSpPr>
            <p:cNvPr id="568" name=""/>
            <p:cNvSpPr/>
            <p:nvPr/>
          </p:nvSpPr>
          <p:spPr>
            <a:xfrm>
              <a:off x="785052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5052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5052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5052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164720" y="3124080"/>
            <a:ext cx="333000" cy="2745720"/>
            <a:chOff x="7164720" y="3124080"/>
            <a:chExt cx="333000" cy="2745720"/>
          </a:xfrm>
        </p:grpSpPr>
        <p:sp>
          <p:nvSpPr>
            <p:cNvPr id="573" name=""/>
            <p:cNvSpPr/>
            <p:nvPr/>
          </p:nvSpPr>
          <p:spPr>
            <a:xfrm>
              <a:off x="716472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6472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6472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6472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402600" y="3124080"/>
            <a:ext cx="333000" cy="2745720"/>
            <a:chOff x="6402600" y="3124080"/>
            <a:chExt cx="333000" cy="2745720"/>
          </a:xfrm>
        </p:grpSpPr>
        <p:sp>
          <p:nvSpPr>
            <p:cNvPr id="578" name=""/>
            <p:cNvSpPr/>
            <p:nvPr/>
          </p:nvSpPr>
          <p:spPr>
            <a:xfrm>
              <a:off x="640260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0260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0260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0260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640480" y="3124080"/>
            <a:ext cx="333000" cy="2745720"/>
            <a:chOff x="5640480" y="3124080"/>
            <a:chExt cx="333000" cy="2745720"/>
          </a:xfrm>
        </p:grpSpPr>
        <p:sp>
          <p:nvSpPr>
            <p:cNvPr id="583" name=""/>
            <p:cNvSpPr/>
            <p:nvPr/>
          </p:nvSpPr>
          <p:spPr>
            <a:xfrm>
              <a:off x="564048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4048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4048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404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878720" y="3124080"/>
            <a:ext cx="333000" cy="2745720"/>
            <a:chOff x="4878720" y="3124080"/>
            <a:chExt cx="333000" cy="2745720"/>
          </a:xfrm>
        </p:grpSpPr>
        <p:sp>
          <p:nvSpPr>
            <p:cNvPr id="588" name=""/>
            <p:cNvSpPr/>
            <p:nvPr/>
          </p:nvSpPr>
          <p:spPr>
            <a:xfrm>
              <a:off x="487872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7872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7872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7872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116600" y="3124080"/>
            <a:ext cx="333000" cy="2745720"/>
            <a:chOff x="4116600" y="3124080"/>
            <a:chExt cx="333000" cy="2745720"/>
          </a:xfrm>
        </p:grpSpPr>
        <p:sp>
          <p:nvSpPr>
            <p:cNvPr id="593" name=""/>
            <p:cNvSpPr/>
            <p:nvPr/>
          </p:nvSpPr>
          <p:spPr>
            <a:xfrm>
              <a:off x="411660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660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11660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1660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354480" y="3124080"/>
            <a:ext cx="333000" cy="2745720"/>
            <a:chOff x="3354480" y="3124080"/>
            <a:chExt cx="333000" cy="2745720"/>
          </a:xfrm>
        </p:grpSpPr>
        <p:sp>
          <p:nvSpPr>
            <p:cNvPr id="598" name=""/>
            <p:cNvSpPr/>
            <p:nvPr/>
          </p:nvSpPr>
          <p:spPr>
            <a:xfrm>
              <a:off x="335448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5448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5448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544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2592720" y="3124080"/>
            <a:ext cx="333000" cy="2745720"/>
            <a:chOff x="2592720" y="3124080"/>
            <a:chExt cx="333000" cy="2745720"/>
          </a:xfrm>
        </p:grpSpPr>
        <p:sp>
          <p:nvSpPr>
            <p:cNvPr id="603" name=""/>
            <p:cNvSpPr/>
            <p:nvPr/>
          </p:nvSpPr>
          <p:spPr>
            <a:xfrm>
              <a:off x="259272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9272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9272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9272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1830600" y="3124080"/>
            <a:ext cx="333000" cy="2745720"/>
            <a:chOff x="1830600" y="3124080"/>
            <a:chExt cx="333000" cy="2745720"/>
          </a:xfrm>
        </p:grpSpPr>
        <p:sp>
          <p:nvSpPr>
            <p:cNvPr id="608" name=""/>
            <p:cNvSpPr/>
            <p:nvPr/>
          </p:nvSpPr>
          <p:spPr>
            <a:xfrm>
              <a:off x="183060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3060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3060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3060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1068480" y="3124080"/>
            <a:ext cx="333000" cy="2745720"/>
            <a:chOff x="1068480" y="3124080"/>
            <a:chExt cx="333000" cy="2745720"/>
          </a:xfrm>
        </p:grpSpPr>
        <p:sp>
          <p:nvSpPr>
            <p:cNvPr id="613" name=""/>
            <p:cNvSpPr/>
            <p:nvPr/>
          </p:nvSpPr>
          <p:spPr>
            <a:xfrm>
              <a:off x="106848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848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848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684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ίηση μετρητών με δυαδικούς μετρητές παράλληλης φόρτω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666880" y="3200400"/>
            <a:ext cx="3886200" cy="228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37560" y="411480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υαδικός μετρ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715000" y="54864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029200" y="54864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343400" y="54864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581280" y="54864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648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028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2608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1188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599840" y="37339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0200" y="3733920"/>
            <a:ext cx="0" cy="12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00200" y="4952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2280" y="286056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ρατούμεν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όδ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99640" y="507060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φόρτω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552720" y="3505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6552720" y="42670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6552720" y="51055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19200" y="29368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έτρηση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44320" y="377496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ηδενισμός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715000" y="2666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029200" y="2666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343400" y="2666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581280" y="2666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354840" y="2209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48640" y="2209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34440" y="2209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20240" y="2209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20640" y="4648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ή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hns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04200" y="3011400"/>
            <a:ext cx="27622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οκωδικοποι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2-σε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48240" y="4549680"/>
            <a:ext cx="14698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τρ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04172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65120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5082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1084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57524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04172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ή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hns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04200" y="3011400"/>
            <a:ext cx="27622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οκωδικοποι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2-σε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48240" y="4549680"/>
            <a:ext cx="14698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τρ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04172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65120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5082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1084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524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04172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322800" y="1828800"/>
            <a:ext cx="1933200" cy="459720"/>
            <a:chOff x="3322800" y="1828800"/>
            <a:chExt cx="1933200" cy="459720"/>
          </a:xfrm>
        </p:grpSpPr>
        <p:sp>
          <p:nvSpPr>
            <p:cNvPr id="666" name=""/>
            <p:cNvSpPr/>
            <p:nvPr/>
          </p:nvSpPr>
          <p:spPr>
            <a:xfrm>
              <a:off x="33228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632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894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230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ή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hns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004200" y="3011400"/>
            <a:ext cx="27622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οκωδικοποι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2-σε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48240" y="4549680"/>
            <a:ext cx="14698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τρ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404172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65120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082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1084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57524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04172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3322800" y="1828800"/>
            <a:ext cx="1933200" cy="459720"/>
            <a:chOff x="3322800" y="1828800"/>
            <a:chExt cx="1933200" cy="459720"/>
          </a:xfrm>
        </p:grpSpPr>
        <p:sp>
          <p:nvSpPr>
            <p:cNvPr id="680" name=""/>
            <p:cNvSpPr/>
            <p:nvPr/>
          </p:nvSpPr>
          <p:spPr>
            <a:xfrm>
              <a:off x="33228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5632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894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230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ή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hns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004200" y="3011400"/>
            <a:ext cx="27622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οκωδικοποι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2-σε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48240" y="4549680"/>
            <a:ext cx="14698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τρ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04172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65120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5082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1084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57524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04172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322800" y="1828800"/>
            <a:ext cx="1933200" cy="459720"/>
            <a:chOff x="3322800" y="1828800"/>
            <a:chExt cx="1933200" cy="459720"/>
          </a:xfrm>
        </p:grpSpPr>
        <p:sp>
          <p:nvSpPr>
            <p:cNvPr id="694" name=""/>
            <p:cNvSpPr/>
            <p:nvPr/>
          </p:nvSpPr>
          <p:spPr>
            <a:xfrm>
              <a:off x="33228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85632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894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230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ής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hns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4200" y="3011400"/>
            <a:ext cx="27622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ποκωδικοποι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2-σε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48240" y="4549680"/>
            <a:ext cx="14698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τρη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04172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651200" y="38858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5082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10840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57524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4041720" y="2361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322800" y="1828800"/>
            <a:ext cx="1933200" cy="459720"/>
            <a:chOff x="3322800" y="1828800"/>
            <a:chExt cx="1933200" cy="459720"/>
          </a:xfrm>
        </p:grpSpPr>
        <p:sp>
          <p:nvSpPr>
            <p:cNvPr id="708" name=""/>
            <p:cNvSpPr/>
            <p:nvPr/>
          </p:nvSpPr>
          <p:spPr>
            <a:xfrm>
              <a:off x="33228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5632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894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230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ndom Access Memory (RAM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743280" y="3468600"/>
            <a:ext cx="23526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ονάδα μνήμ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k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λέξ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bi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νά λέξ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32280" y="251316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06400" y="358128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06400" y="411480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706400" y="457200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830840" y="47242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22080" y="26319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ίσοδ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69800" y="49179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ξοδ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15320" y="30891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14960" y="3622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82920" y="4156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Εσωτερική οργάνωση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62120" y="133020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066680" y="102564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" y="1635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1635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066680" y="194004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98560" y="5335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0080" y="1219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85360" y="1177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3840" y="216864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7600" y="25909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962520" y="2286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52680" y="28954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28954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3962520" y="3200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25909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867280" y="2286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57800" y="28954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72200" y="28954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5867280" y="3200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91520" y="25909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696080" y="2286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086600" y="28954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01000" y="28954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696080" y="3200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57600" y="41148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38098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52680" y="4419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67080" y="4419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962520" y="47239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1148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867280" y="38098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57800" y="4419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72200" y="4419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867280" y="47239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91520" y="41148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96080" y="38098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86600" y="4419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001000" y="4419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696080" y="47239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3352680" y="16765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257800" y="16765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7086600" y="16765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130400" y="3392640"/>
            <a:ext cx="13312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to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0880" y="3809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819520" y="2286000"/>
            <a:ext cx="487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895120" y="3809880"/>
            <a:ext cx="4800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14600" y="40384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3581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819520" y="228600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895480" y="38098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3124080" y="3505320"/>
            <a:ext cx="457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1905120" y="5029200"/>
            <a:ext cx="5790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505320"/>
            <a:ext cx="0" cy="1523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14040" y="46134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0" y="2895480"/>
            <a:ext cx="0" cy="2667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477120" y="2895480"/>
            <a:ext cx="0" cy="2667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305920" y="2895480"/>
            <a:ext cx="0" cy="2667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31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77900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2269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674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31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7900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2692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744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310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77900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22692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744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310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7900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22692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744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Υλοποίηση ακολουθιακής λογική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86200" y="2666880"/>
            <a:ext cx="2971800" cy="3428640"/>
            <a:chOff x="3886200" y="2666880"/>
            <a:chExt cx="2971800" cy="3428640"/>
          </a:xfrm>
        </p:grpSpPr>
        <p:sp>
          <p:nvSpPr>
            <p:cNvPr id="84" name=""/>
            <p:cNvSpPr/>
            <p:nvPr/>
          </p:nvSpPr>
          <p:spPr>
            <a:xfrm>
              <a:off x="3886200" y="2666880"/>
              <a:ext cx="2971800" cy="34286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46800" y="3862440"/>
              <a:ext cx="177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Συνδυαστικ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κύκλωμ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523520" y="2209320"/>
            <a:ext cx="6248880" cy="1981800"/>
            <a:chOff x="1523520" y="2209320"/>
            <a:chExt cx="6248880" cy="1981800"/>
          </a:xfrm>
        </p:grpSpPr>
        <p:sp>
          <p:nvSpPr>
            <p:cNvPr id="87" name=""/>
            <p:cNvSpPr/>
            <p:nvPr/>
          </p:nvSpPr>
          <p:spPr>
            <a:xfrm>
              <a:off x="6858000" y="31240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467480" y="243792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904760" y="2438280"/>
              <a:ext cx="556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5120" y="243828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5120" y="312408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350532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772400" y="2209320"/>
              <a:ext cx="0" cy="1295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523520" y="2209680"/>
              <a:ext cx="6248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523520" y="4191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3880" y="2209680"/>
              <a:ext cx="0" cy="198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09680" y="2895480"/>
            <a:ext cx="838080" cy="2133720"/>
            <a:chOff x="2209680" y="2895480"/>
            <a:chExt cx="838080" cy="2133720"/>
          </a:xfrm>
        </p:grpSpPr>
        <p:grpSp>
          <p:nvGrpSpPr>
            <p:cNvPr id="98" name=""/>
            <p:cNvGrpSpPr/>
            <p:nvPr/>
          </p:nvGrpSpPr>
          <p:grpSpPr>
            <a:xfrm>
              <a:off x="2209680" y="2895480"/>
              <a:ext cx="838080" cy="2133720"/>
              <a:chOff x="2209680" y="2895480"/>
              <a:chExt cx="838080" cy="213372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2209680" y="2895480"/>
                <a:ext cx="838080" cy="1067040"/>
                <a:chOff x="2209680" y="2895480"/>
                <a:chExt cx="838080" cy="1067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576880" y="29700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209680" y="2895480"/>
                  <a:ext cx="838080" cy="10670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209680" y="3962520"/>
                <a:ext cx="838080" cy="1066680"/>
                <a:chOff x="2209680" y="3962520"/>
                <a:chExt cx="838080" cy="10666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576880" y="4037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09680" y="3962520"/>
                  <a:ext cx="838080" cy="10666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2209680" y="3352680"/>
              <a:ext cx="15264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209680" y="3429000"/>
              <a:ext cx="15264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09680" y="4419720"/>
              <a:ext cx="152640" cy="7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209680" y="4495680"/>
              <a:ext cx="15264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221480" y="3429000"/>
            <a:ext cx="988200" cy="1831320"/>
            <a:chOff x="1221480" y="3429000"/>
            <a:chExt cx="988200" cy="1831320"/>
          </a:xfrm>
        </p:grpSpPr>
        <p:sp>
          <p:nvSpPr>
            <p:cNvPr id="110" name=""/>
            <p:cNvSpPr/>
            <p:nvPr/>
          </p:nvSpPr>
          <p:spPr>
            <a:xfrm>
              <a:off x="1752480" y="3429000"/>
              <a:ext cx="0" cy="175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752480" y="3429000"/>
              <a:ext cx="457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752480" y="4495680"/>
              <a:ext cx="457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1480" y="48006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143000" y="5562720"/>
            <a:ext cx="2743200" cy="764280"/>
            <a:chOff x="1143000" y="5562720"/>
            <a:chExt cx="2743200" cy="764280"/>
          </a:xfrm>
        </p:grpSpPr>
        <p:sp>
          <p:nvSpPr>
            <p:cNvPr id="115" name=""/>
            <p:cNvSpPr/>
            <p:nvPr/>
          </p:nvSpPr>
          <p:spPr>
            <a:xfrm>
              <a:off x="1143000" y="5562720"/>
              <a:ext cx="2743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5867280"/>
              <a:ext cx="2743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1600" y="5867280"/>
              <a:ext cx="108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είσοδο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58000" y="4613400"/>
            <a:ext cx="1342080" cy="1101600"/>
            <a:chOff x="6858000" y="4613400"/>
            <a:chExt cx="1342080" cy="1101600"/>
          </a:xfrm>
        </p:grpSpPr>
        <p:sp>
          <p:nvSpPr>
            <p:cNvPr id="119" name=""/>
            <p:cNvSpPr/>
            <p:nvPr/>
          </p:nvSpPr>
          <p:spPr>
            <a:xfrm>
              <a:off x="6858000" y="510552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0" y="541008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0" y="57150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25200" y="461340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έξοδο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048120" y="3200400"/>
            <a:ext cx="838080" cy="1066680"/>
            <a:chOff x="3048120" y="3200400"/>
            <a:chExt cx="838080" cy="1066680"/>
          </a:xfrm>
        </p:grpSpPr>
        <p:sp>
          <p:nvSpPr>
            <p:cNvPr id="124" name=""/>
            <p:cNvSpPr/>
            <p:nvPr/>
          </p:nvSpPr>
          <p:spPr>
            <a:xfrm>
              <a:off x="3048120" y="32004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8120" y="426708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31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77900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2269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674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31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7900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2692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6744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3310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77900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22692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6744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310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77900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22692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6744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056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96432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38020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2812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1125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331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7900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2269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674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331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77900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2692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6744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3310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77900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22692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6744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3310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77900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22692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744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50056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432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8020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82812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1301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331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77900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2269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674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3310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77900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22692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744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3310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7900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22692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6744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2500560" y="76320"/>
            <a:ext cx="4660560" cy="459720"/>
            <a:chOff x="2500560" y="76320"/>
            <a:chExt cx="4660560" cy="459720"/>
          </a:xfrm>
        </p:grpSpPr>
        <p:sp>
          <p:nvSpPr>
            <p:cNvPr id="1473" name=""/>
            <p:cNvSpPr/>
            <p:nvPr/>
          </p:nvSpPr>
          <p:spPr>
            <a:xfrm>
              <a:off x="250056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9643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38020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8281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1478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31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77900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2269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674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3310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77900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22692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6744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3310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77900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22692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6744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1650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2500560" y="76320"/>
            <a:ext cx="4660560" cy="459720"/>
            <a:chOff x="2500560" y="76320"/>
            <a:chExt cx="4660560" cy="459720"/>
          </a:xfrm>
        </p:grpSpPr>
        <p:sp>
          <p:nvSpPr>
            <p:cNvPr id="1653" name=""/>
            <p:cNvSpPr/>
            <p:nvPr/>
          </p:nvSpPr>
          <p:spPr>
            <a:xfrm>
              <a:off x="250056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9643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38020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281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331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77900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2269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674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3310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77900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22692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6744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3307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7786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226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674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1827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2500560" y="76320"/>
            <a:ext cx="4660560" cy="459720"/>
            <a:chOff x="2500560" y="76320"/>
            <a:chExt cx="4660560" cy="459720"/>
          </a:xfrm>
        </p:grpSpPr>
        <p:sp>
          <p:nvSpPr>
            <p:cNvPr id="1830" name=""/>
            <p:cNvSpPr/>
            <p:nvPr/>
          </p:nvSpPr>
          <p:spPr>
            <a:xfrm>
              <a:off x="250056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9643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38020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8281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31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77900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2269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7674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3310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77900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22692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76744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3307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7786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226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674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2004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2500560" y="76320"/>
            <a:ext cx="4660560" cy="459720"/>
            <a:chOff x="2500560" y="76320"/>
            <a:chExt cx="4660560" cy="459720"/>
          </a:xfrm>
        </p:grpSpPr>
        <p:sp>
          <p:nvSpPr>
            <p:cNvPr id="2007" name=""/>
            <p:cNvSpPr/>
            <p:nvPr/>
          </p:nvSpPr>
          <p:spPr>
            <a:xfrm>
              <a:off x="250056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9643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38020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8281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331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77900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2269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674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3307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7786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226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6741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3307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7786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226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7674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0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2181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2500560" y="76320"/>
            <a:ext cx="4660560" cy="459720"/>
            <a:chOff x="2500560" y="76320"/>
            <a:chExt cx="4660560" cy="459720"/>
          </a:xfrm>
        </p:grpSpPr>
        <p:sp>
          <p:nvSpPr>
            <p:cNvPr id="2184" name=""/>
            <p:cNvSpPr/>
            <p:nvPr/>
          </p:nvSpPr>
          <p:spPr>
            <a:xfrm>
              <a:off x="250056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643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38020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8281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3310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77900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22692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674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3307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786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26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6741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307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7786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226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7674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7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2358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2500560" y="76320"/>
            <a:ext cx="4660560" cy="459720"/>
            <a:chOff x="2500560" y="76320"/>
            <a:chExt cx="4660560" cy="459720"/>
          </a:xfrm>
        </p:grpSpPr>
        <p:sp>
          <p:nvSpPr>
            <p:cNvPr id="2361" name=""/>
            <p:cNvSpPr/>
            <p:nvPr/>
          </p:nvSpPr>
          <p:spPr>
            <a:xfrm>
              <a:off x="250056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9643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8020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281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3307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77864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22620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76741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3307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7786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6226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76741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3307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7786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6226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7674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4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2535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2500560" y="76320"/>
            <a:ext cx="4660560" cy="459720"/>
            <a:chOff x="2500560" y="76320"/>
            <a:chExt cx="4660560" cy="459720"/>
          </a:xfrm>
        </p:grpSpPr>
        <p:sp>
          <p:nvSpPr>
            <p:cNvPr id="2538" name=""/>
            <p:cNvSpPr/>
            <p:nvPr/>
          </p:nvSpPr>
          <p:spPr>
            <a:xfrm>
              <a:off x="250056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9643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38020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828120" y="7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/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33307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477864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622620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76741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33307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47786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6226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76741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33307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7786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226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674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1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2712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αταχωρητές ολίσθ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57400" y="3048120"/>
            <a:ext cx="838080" cy="1676160"/>
            <a:chOff x="2057400" y="3048120"/>
            <a:chExt cx="838080" cy="1676160"/>
          </a:xfrm>
        </p:grpSpPr>
        <p:sp>
          <p:nvSpPr>
            <p:cNvPr id="128" name=""/>
            <p:cNvSpPr/>
            <p:nvPr/>
          </p:nvSpPr>
          <p:spPr>
            <a:xfrm>
              <a:off x="24246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74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352680" y="3048120"/>
            <a:ext cx="838080" cy="1676160"/>
            <a:chOff x="3352680" y="3048120"/>
            <a:chExt cx="838080" cy="1676160"/>
          </a:xfrm>
        </p:grpSpPr>
        <p:sp>
          <p:nvSpPr>
            <p:cNvPr id="131" name=""/>
            <p:cNvSpPr/>
            <p:nvPr/>
          </p:nvSpPr>
          <p:spPr>
            <a:xfrm>
              <a:off x="371988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648320" y="3048120"/>
            <a:ext cx="838080" cy="1676160"/>
            <a:chOff x="4648320" y="3048120"/>
            <a:chExt cx="838080" cy="1676160"/>
          </a:xfrm>
        </p:grpSpPr>
        <p:sp>
          <p:nvSpPr>
            <p:cNvPr id="134" name=""/>
            <p:cNvSpPr/>
            <p:nvPr/>
          </p:nvSpPr>
          <p:spPr>
            <a:xfrm>
              <a:off x="501552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4832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43600" y="3048120"/>
            <a:ext cx="838080" cy="1676160"/>
            <a:chOff x="5943600" y="3048120"/>
            <a:chExt cx="838080" cy="1676160"/>
          </a:xfrm>
        </p:grpSpPr>
        <p:sp>
          <p:nvSpPr>
            <p:cNvPr id="137" name=""/>
            <p:cNvSpPr/>
            <p:nvPr/>
          </p:nvSpPr>
          <p:spPr>
            <a:xfrm>
              <a:off x="63108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36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2388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0574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380988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52680" y="38862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4832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9436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284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12372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36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146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5334120"/>
            <a:ext cx="47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53000" y="4842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3307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77864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22620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76741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3307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7786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6226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76741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3307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7786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6226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7674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3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2884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"/>
          <p:cNvSpPr/>
          <p:nvPr/>
        </p:nvSpPr>
        <p:spPr>
          <a:xfrm>
            <a:off x="8077320" y="6248520"/>
            <a:ext cx="7617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32004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350532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8954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809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35053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3434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25780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 flipV="1">
            <a:off x="495288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6095880" y="38098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640080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57913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 flipV="1">
            <a:off x="640080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32004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8954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3809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V="1">
            <a:off x="35053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64832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95288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V="1">
            <a:off x="495288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6095880" y="533412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57913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6705720" y="5638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V="1">
            <a:off x="6400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28954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V="1">
            <a:off x="434340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V="1">
            <a:off x="579132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286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2362320" y="350532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 flipH="1">
            <a:off x="2362320" y="50292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2057400" y="4343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2057400" y="32767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2362320" y="4343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H="1">
            <a:off x="2666880" y="47242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H="1">
            <a:off x="1447920" y="6248520"/>
            <a:ext cx="640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2666880" y="1752480"/>
            <a:ext cx="0" cy="449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356840" y="5832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41148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556272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701028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685800" y="990720"/>
            <a:ext cx="13716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543800" y="38098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7848720" y="35053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72388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8153280" y="41148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7848720" y="4419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543800" y="533412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7848720" y="50292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72388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8153280" y="5638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 flipV="1">
            <a:off x="784872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7238880" y="304920"/>
            <a:ext cx="0" cy="533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8458200" y="1143000"/>
            <a:ext cx="0" cy="563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2590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342900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876920" y="6172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6324480" y="6172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8769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42900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3429000" y="3429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2004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flipV="1">
            <a:off x="35053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464832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495288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43434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495288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6095880" y="2286000"/>
            <a:ext cx="60984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7913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flipV="1">
            <a:off x="640080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H="1">
            <a:off x="2362320" y="1981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2362320" y="1981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>
            <a:off x="2666880" y="320040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7543800" y="2286000"/>
            <a:ext cx="6094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848720" y="1981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2388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8153280" y="2590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7848720" y="2895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324480" y="3124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4876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342900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429000" y="19051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2004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5053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64832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495288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3434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25780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6095880" y="838080"/>
            <a:ext cx="6098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40080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57913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6705720" y="11430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 flipV="1">
            <a:off x="6400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 flipH="1">
            <a:off x="2362320" y="5335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2362320" y="5335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26668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7543800" y="838080"/>
            <a:ext cx="60948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7848720" y="533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72388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8153280" y="1143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V="1">
            <a:off x="7848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6324480" y="167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487692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429000" y="16765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87692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6324480" y="457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3429000" y="457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8195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28195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28195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267080" y="10666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4267080" y="40384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571500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7162920" y="10666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716292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228600" y="20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2057400" y="2514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2057400" y="14479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33307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477864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622620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76741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3330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477864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6226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76741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3307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47786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62262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67412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33307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47786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6226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67412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164628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1646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16462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646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5" name=""/>
          <p:cNvGrpSpPr/>
          <p:nvPr/>
        </p:nvGrpSpPr>
        <p:grpSpPr>
          <a:xfrm>
            <a:off x="230400" y="1523880"/>
            <a:ext cx="333000" cy="2212560"/>
            <a:chOff x="230400" y="1523880"/>
            <a:chExt cx="333000" cy="2212560"/>
          </a:xfrm>
        </p:grpSpPr>
        <p:sp>
          <p:nvSpPr>
            <p:cNvPr id="3056" name=""/>
            <p:cNvSpPr/>
            <p:nvPr/>
          </p:nvSpPr>
          <p:spPr>
            <a:xfrm>
              <a:off x="2304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3040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8" name=""/>
          <p:cNvGrpSpPr/>
          <p:nvPr/>
        </p:nvGrpSpPr>
        <p:grpSpPr>
          <a:xfrm>
            <a:off x="3795840" y="6324480"/>
            <a:ext cx="4660560" cy="459720"/>
            <a:chOff x="3795840" y="6324480"/>
            <a:chExt cx="4660560" cy="459720"/>
          </a:xfrm>
        </p:grpSpPr>
        <p:sp>
          <p:nvSpPr>
            <p:cNvPr id="3059" name=""/>
            <p:cNvSpPr/>
            <p:nvPr/>
          </p:nvSpPr>
          <p:spPr>
            <a:xfrm>
              <a:off x="37958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25960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67548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12340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υκλώματα πεπερασμένης μνήμ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64" name=""/>
          <p:cNvGrpSpPr/>
          <p:nvPr/>
        </p:nvGrpSpPr>
        <p:grpSpPr>
          <a:xfrm>
            <a:off x="1523880" y="2057400"/>
            <a:ext cx="838080" cy="1676160"/>
            <a:chOff x="1523880" y="2057400"/>
            <a:chExt cx="838080" cy="1676160"/>
          </a:xfrm>
        </p:grpSpPr>
        <p:sp>
          <p:nvSpPr>
            <p:cNvPr id="3065" name=""/>
            <p:cNvSpPr/>
            <p:nvPr/>
          </p:nvSpPr>
          <p:spPr>
            <a:xfrm>
              <a:off x="189108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52388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7" name=""/>
          <p:cNvGrpSpPr/>
          <p:nvPr/>
        </p:nvGrpSpPr>
        <p:grpSpPr>
          <a:xfrm>
            <a:off x="2819520" y="2057400"/>
            <a:ext cx="838080" cy="1676160"/>
            <a:chOff x="2819520" y="2057400"/>
            <a:chExt cx="838080" cy="1676160"/>
          </a:xfrm>
        </p:grpSpPr>
        <p:sp>
          <p:nvSpPr>
            <p:cNvPr id="3068" name=""/>
            <p:cNvSpPr/>
            <p:nvPr/>
          </p:nvSpPr>
          <p:spPr>
            <a:xfrm>
              <a:off x="318672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81952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0" name=""/>
          <p:cNvGrpSpPr/>
          <p:nvPr/>
        </p:nvGrpSpPr>
        <p:grpSpPr>
          <a:xfrm>
            <a:off x="4114800" y="2057400"/>
            <a:ext cx="838080" cy="1676160"/>
            <a:chOff x="4114800" y="2057400"/>
            <a:chExt cx="838080" cy="1676160"/>
          </a:xfrm>
        </p:grpSpPr>
        <p:sp>
          <p:nvSpPr>
            <p:cNvPr id="3071" name=""/>
            <p:cNvSpPr/>
            <p:nvPr/>
          </p:nvSpPr>
          <p:spPr>
            <a:xfrm>
              <a:off x="448200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11480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3" name=""/>
          <p:cNvGrpSpPr/>
          <p:nvPr/>
        </p:nvGrpSpPr>
        <p:grpSpPr>
          <a:xfrm>
            <a:off x="5410080" y="2057400"/>
            <a:ext cx="838080" cy="1676160"/>
            <a:chOff x="5410080" y="2057400"/>
            <a:chExt cx="838080" cy="1676160"/>
          </a:xfrm>
        </p:grpSpPr>
        <p:sp>
          <p:nvSpPr>
            <p:cNvPr id="3074" name=""/>
            <p:cNvSpPr/>
            <p:nvPr/>
          </p:nvSpPr>
          <p:spPr>
            <a:xfrm>
              <a:off x="577728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1008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6" name=""/>
          <p:cNvGrpSpPr/>
          <p:nvPr/>
        </p:nvGrpSpPr>
        <p:grpSpPr>
          <a:xfrm>
            <a:off x="6705720" y="2057400"/>
            <a:ext cx="838080" cy="1676160"/>
            <a:chOff x="6705720" y="2057400"/>
            <a:chExt cx="838080" cy="1676160"/>
          </a:xfrm>
        </p:grpSpPr>
        <p:sp>
          <p:nvSpPr>
            <p:cNvPr id="3077" name=""/>
            <p:cNvSpPr/>
            <p:nvPr/>
          </p:nvSpPr>
          <p:spPr>
            <a:xfrm>
              <a:off x="707292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70572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9" name=""/>
          <p:cNvSpPr/>
          <p:nvPr/>
        </p:nvSpPr>
        <p:spPr>
          <a:xfrm>
            <a:off x="914400" y="22096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236232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365760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495288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624852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590920" y="220968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3809880" y="220968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5105520" y="220968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6400800" y="220968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7772400" y="220968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 flipH="1">
            <a:off x="7543440" y="22096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3787560" y="472428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ογική συνάρτη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2133720" y="4572000"/>
            <a:ext cx="601956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υκλώματα πεπερασμένης μνήμ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3" name=""/>
          <p:cNvGrpSpPr/>
          <p:nvPr/>
        </p:nvGrpSpPr>
        <p:grpSpPr>
          <a:xfrm>
            <a:off x="1523880" y="2057400"/>
            <a:ext cx="838080" cy="1676160"/>
            <a:chOff x="1523880" y="2057400"/>
            <a:chExt cx="838080" cy="1676160"/>
          </a:xfrm>
        </p:grpSpPr>
        <p:sp>
          <p:nvSpPr>
            <p:cNvPr id="3094" name=""/>
            <p:cNvSpPr/>
            <p:nvPr/>
          </p:nvSpPr>
          <p:spPr>
            <a:xfrm>
              <a:off x="189108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52388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6" name=""/>
          <p:cNvGrpSpPr/>
          <p:nvPr/>
        </p:nvGrpSpPr>
        <p:grpSpPr>
          <a:xfrm>
            <a:off x="2819520" y="2057400"/>
            <a:ext cx="838080" cy="1676160"/>
            <a:chOff x="2819520" y="2057400"/>
            <a:chExt cx="838080" cy="1676160"/>
          </a:xfrm>
        </p:grpSpPr>
        <p:sp>
          <p:nvSpPr>
            <p:cNvPr id="3097" name=""/>
            <p:cNvSpPr/>
            <p:nvPr/>
          </p:nvSpPr>
          <p:spPr>
            <a:xfrm>
              <a:off x="318672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81952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9" name=""/>
          <p:cNvGrpSpPr/>
          <p:nvPr/>
        </p:nvGrpSpPr>
        <p:grpSpPr>
          <a:xfrm>
            <a:off x="4114800" y="2057400"/>
            <a:ext cx="838080" cy="1676160"/>
            <a:chOff x="4114800" y="2057400"/>
            <a:chExt cx="838080" cy="1676160"/>
          </a:xfrm>
        </p:grpSpPr>
        <p:sp>
          <p:nvSpPr>
            <p:cNvPr id="3100" name=""/>
            <p:cNvSpPr/>
            <p:nvPr/>
          </p:nvSpPr>
          <p:spPr>
            <a:xfrm>
              <a:off x="448200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11480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2" name=""/>
          <p:cNvGrpSpPr/>
          <p:nvPr/>
        </p:nvGrpSpPr>
        <p:grpSpPr>
          <a:xfrm>
            <a:off x="5410080" y="2057400"/>
            <a:ext cx="838080" cy="1676160"/>
            <a:chOff x="5410080" y="2057400"/>
            <a:chExt cx="838080" cy="1676160"/>
          </a:xfrm>
        </p:grpSpPr>
        <p:sp>
          <p:nvSpPr>
            <p:cNvPr id="3103" name=""/>
            <p:cNvSpPr/>
            <p:nvPr/>
          </p:nvSpPr>
          <p:spPr>
            <a:xfrm>
              <a:off x="577728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41008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5" name=""/>
          <p:cNvGrpSpPr/>
          <p:nvPr/>
        </p:nvGrpSpPr>
        <p:grpSpPr>
          <a:xfrm>
            <a:off x="6705720" y="2057400"/>
            <a:ext cx="838080" cy="1676160"/>
            <a:chOff x="6705720" y="2057400"/>
            <a:chExt cx="838080" cy="1676160"/>
          </a:xfrm>
        </p:grpSpPr>
        <p:sp>
          <p:nvSpPr>
            <p:cNvPr id="3106" name=""/>
            <p:cNvSpPr/>
            <p:nvPr/>
          </p:nvSpPr>
          <p:spPr>
            <a:xfrm>
              <a:off x="707292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705720" y="205740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8" name=""/>
          <p:cNvSpPr/>
          <p:nvPr/>
        </p:nvSpPr>
        <p:spPr>
          <a:xfrm>
            <a:off x="914400" y="22096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236232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65760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495288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6248520" y="22096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590920" y="220968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3809880" y="220968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5105520" y="2209680"/>
            <a:ext cx="0" cy="2819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6400800" y="220968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7772400" y="2209680"/>
            <a:ext cx="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 flipH="1">
            <a:off x="7543440" y="22096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 flipV="1">
            <a:off x="1676880" y="3961080"/>
            <a:ext cx="6247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H="1" flipV="1">
            <a:off x="2286000" y="3961440"/>
            <a:ext cx="6247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 flipH="1" flipV="1">
            <a:off x="2286000" y="3427920"/>
            <a:ext cx="563832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 flipV="1">
            <a:off x="2286720" y="3427560"/>
            <a:ext cx="563760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5029200" y="556272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105520" y="57150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ιαγράμματα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762120" y="167652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1298520" y="17175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ΑΡΞ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 flipH="1">
            <a:off x="1447560" y="2743200"/>
            <a:ext cx="53316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1981080" y="274320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 flipH="1" flipV="1">
            <a:off x="1447560" y="327636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 flipV="1">
            <a:off x="1981080" y="327636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2971800" y="4191120"/>
            <a:ext cx="1828800" cy="685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3886200" y="32767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514600" y="32767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762120" y="601992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 flipH="1">
            <a:off x="2666520" y="53341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2666880" y="5334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457200" y="32767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1371600" y="5334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57200" y="327672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57200" y="5334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17654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3351600" y="430848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522800" y="609588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288144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7639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823680" y="1219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763560" y="5562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576520" y="1184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712960" y="5562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ιαγράμματα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762120" y="167652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1298520" y="17175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ΑΡΞ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1447560" y="2743200"/>
            <a:ext cx="53316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1981080" y="274320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 flipV="1">
            <a:off x="1447560" y="327636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1981080" y="327636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2971800" y="4191120"/>
            <a:ext cx="1828800" cy="685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3886200" y="32767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2514600" y="32767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762120" y="601992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2666520" y="53341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2666880" y="5334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457200" y="32767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1371600" y="5334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457200" y="327672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457200" y="5334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17654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3351600" y="430848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1522800" y="609588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288144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7639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823680" y="1219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763560" y="5562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2576520" y="1184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2712960" y="5562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457200" y="990720"/>
            <a:ext cx="2971800" cy="1752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457200" y="5562720"/>
            <a:ext cx="297180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H="1" flipV="1">
            <a:off x="3428640" y="1904760"/>
            <a:ext cx="24382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 flipH="1">
            <a:off x="3428640" y="3809880"/>
            <a:ext cx="243828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5981040" y="321624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Black"/>
              </a:rPr>
              <a:t>Περιγραφ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Black"/>
              </a:rPr>
              <a:t>κατάστα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ιαγράμματα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762120" y="167652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1298520" y="17175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ΑΡΞ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1447560" y="2743200"/>
            <a:ext cx="53316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1981080" y="274320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 flipV="1">
            <a:off x="1447560" y="327636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V="1">
            <a:off x="1981080" y="327636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2971800" y="4191120"/>
            <a:ext cx="1828800" cy="685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3886200" y="32767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2514600" y="32767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762120" y="601992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2666520" y="53341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666880" y="5334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457200" y="32767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1371600" y="5334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57200" y="327672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457200" y="5334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17654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3351600" y="430848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522800" y="609588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88144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7639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823680" y="1219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763560" y="5562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2576520" y="1184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712960" y="5562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6046200" y="3216240"/>
            <a:ext cx="17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Black"/>
              </a:rPr>
              <a:t>Περιγραφ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Black"/>
              </a:rPr>
              <a:t>συνθήκη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Black"/>
              </a:rPr>
              <a:t>ελέγχ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990720" y="2286000"/>
            <a:ext cx="198108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 flipH="1" flipV="1">
            <a:off x="2971800" y="3276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ιαγράμματα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762120" y="167652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1298520" y="17175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ΑΡΞ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 flipH="1">
            <a:off x="1447560" y="2743200"/>
            <a:ext cx="53316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1981080" y="274320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 flipH="1" flipV="1">
            <a:off x="1447560" y="327636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 flipV="1">
            <a:off x="1981080" y="327636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2971800" y="4191120"/>
            <a:ext cx="1828800" cy="685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3886200" y="327672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514600" y="32767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762120" y="601992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 flipH="1">
            <a:off x="2666520" y="53341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2666880" y="5334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 flipH="1">
            <a:off x="457200" y="327672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1371600" y="53341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457200" y="327672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457200" y="53341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17654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3351600" y="430848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522800" y="609588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288144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7639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823680" y="1219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763560" y="5562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2576520" y="1184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712960" y="5562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163560" y="3216240"/>
            <a:ext cx="15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Black"/>
              </a:rPr>
              <a:t>Ενέργει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Black"/>
              </a:rPr>
              <a:t>μετά απ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Black"/>
              </a:rPr>
              <a:t>έλεγχ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2666880" y="3352680"/>
            <a:ext cx="2438640" cy="2438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flipH="1">
            <a:off x="5105520" y="41148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"/>
          <p:cNvSpPr/>
          <p:nvPr/>
        </p:nvSpPr>
        <p:spPr>
          <a:xfrm>
            <a:off x="8229600" y="6172200"/>
            <a:ext cx="7621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ιαγράμματα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3276720" y="148284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3733200" y="15238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4495680" y="2133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H="1">
            <a:off x="3962160" y="236232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495680" y="2362320"/>
            <a:ext cx="53352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 flipV="1">
            <a:off x="3962160" y="2895480"/>
            <a:ext cx="53316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4495680" y="289548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486400" y="3809880"/>
            <a:ext cx="1828800" cy="685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6400800" y="28954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029200" y="28954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04920" y="594360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 flipH="1">
            <a:off x="2971800" y="2895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1523880" y="388620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4280040" y="2666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5774040" y="392760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39604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32785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3338280" y="1025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3063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5091120" y="990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2255760" y="5486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 flipH="1">
            <a:off x="2438280" y="335268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2971800" y="335268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H="1" flipV="1">
            <a:off x="2438280" y="388620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2971800" y="3886200"/>
            <a:ext cx="53352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275616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2971800" y="2895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3276720" y="594360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4495680" y="388620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278160" y="54864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5227560" y="5486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1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6248520" y="5943600"/>
            <a:ext cx="243828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7467480" y="52578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6249960" y="54864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8199360" y="5486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3505320" y="388620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15238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6400800" y="52578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39481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8306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/>
          <p:nvPr/>
        </p:nvSpPr>
        <p:spPr>
          <a:xfrm>
            <a:off x="8229600" y="6172200"/>
            <a:ext cx="7621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3276720" y="1482840"/>
            <a:ext cx="2438280" cy="6094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3733200" y="15238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99ff"/>
                </a:solidFill>
                <a:latin typeface="Times New Roman"/>
              </a:rPr>
              <a:t>Α </a:t>
            </a:r>
            <a:r>
              <a:rPr b="0" lang="en-US" sz="2400" spc="-1" strike="noStrike">
                <a:solidFill>
                  <a:srgbClr val="6699ff"/>
                </a:solidFill>
                <a:latin typeface="Wingdings"/>
                <a:ea typeface="Wingdings"/>
              </a:rPr>
              <a:t></a:t>
            </a:r>
            <a:r>
              <a:rPr b="0" lang="el-GR" sz="2400" spc="-1" strike="noStrike">
                <a:solidFill>
                  <a:srgbClr val="6699ff"/>
                </a:solidFill>
                <a:latin typeface="Times New Roman"/>
              </a:rPr>
              <a:t> Α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495680" y="2133720"/>
            <a:ext cx="0" cy="2286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 flipH="1">
            <a:off x="3962160" y="2362320"/>
            <a:ext cx="533160" cy="53316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4495680" y="2362320"/>
            <a:ext cx="533520" cy="53316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flipH="1" flipV="1">
            <a:off x="3962160" y="2895480"/>
            <a:ext cx="533160" cy="53352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V="1">
            <a:off x="4495680" y="2895480"/>
            <a:ext cx="533520" cy="53352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486400" y="3809880"/>
            <a:ext cx="1828800" cy="685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6400800" y="2895480"/>
            <a:ext cx="0" cy="9144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029200" y="289548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04920" y="5943600"/>
            <a:ext cx="2438280" cy="6094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H="1">
            <a:off x="2971800" y="2895480"/>
            <a:ext cx="99072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523880" y="3886200"/>
            <a:ext cx="0" cy="20574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4280040" y="2666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99ff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5774040" y="392760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6699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539604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32785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3338280" y="1025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30636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091120" y="990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255760" y="5486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 flipH="1">
            <a:off x="2438280" y="3352680"/>
            <a:ext cx="533520" cy="53352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971800" y="3352680"/>
            <a:ext cx="533520" cy="53352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 flipH="1" flipV="1">
            <a:off x="2438280" y="3886200"/>
            <a:ext cx="533520" cy="53352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 flipV="1">
            <a:off x="2971800" y="3886200"/>
            <a:ext cx="533520" cy="53352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75616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971800" y="2895480"/>
            <a:ext cx="0" cy="4572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3276720" y="5943600"/>
            <a:ext cx="2438280" cy="6094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4495680" y="3886200"/>
            <a:ext cx="0" cy="20574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3278160" y="54864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</a:t>
            </a:r>
            <a:r>
              <a:rPr b="0" lang="el-GR" sz="2400" spc="-1" strike="noStrike">
                <a:solidFill>
                  <a:srgbClr val="6699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5227560" y="5486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01</a:t>
            </a:r>
            <a:r>
              <a:rPr b="0" lang="el-GR" sz="2400" spc="-1" strike="noStrike">
                <a:solidFill>
                  <a:srgbClr val="6699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248520" y="5943600"/>
            <a:ext cx="2438280" cy="6094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7467480" y="5257800"/>
            <a:ext cx="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6249960" y="54864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</a:t>
            </a:r>
            <a:r>
              <a:rPr b="0" lang="el-GR" sz="2400" spc="-1" strike="noStrike">
                <a:solidFill>
                  <a:srgbClr val="6699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8199360" y="5486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99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505320" y="3886200"/>
            <a:ext cx="9903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H="1">
            <a:off x="1523880" y="3886200"/>
            <a:ext cx="91440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6400800" y="5257800"/>
            <a:ext cx="106668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39481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18306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Διαγράμματα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34" name=""/>
          <p:cNvGrpSpPr/>
          <p:nvPr/>
        </p:nvGrpSpPr>
        <p:grpSpPr>
          <a:xfrm>
            <a:off x="3733920" y="1752480"/>
            <a:ext cx="1143000" cy="1143000"/>
            <a:chOff x="3733920" y="1752480"/>
            <a:chExt cx="1143000" cy="1143000"/>
          </a:xfrm>
        </p:grpSpPr>
        <p:sp>
          <p:nvSpPr>
            <p:cNvPr id="3335" name=""/>
            <p:cNvSpPr/>
            <p:nvPr/>
          </p:nvSpPr>
          <p:spPr>
            <a:xfrm>
              <a:off x="3733920" y="17524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008600" y="2133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7" name=""/>
          <p:cNvGrpSpPr/>
          <p:nvPr/>
        </p:nvGrpSpPr>
        <p:grpSpPr>
          <a:xfrm>
            <a:off x="990720" y="4648320"/>
            <a:ext cx="1143000" cy="1143000"/>
            <a:chOff x="990720" y="4648320"/>
            <a:chExt cx="1143000" cy="1143000"/>
          </a:xfrm>
        </p:grpSpPr>
        <p:sp>
          <p:nvSpPr>
            <p:cNvPr id="3338" name=""/>
            <p:cNvSpPr/>
            <p:nvPr/>
          </p:nvSpPr>
          <p:spPr>
            <a:xfrm>
              <a:off x="990720" y="46483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265400" y="50295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0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0" name=""/>
          <p:cNvGrpSpPr/>
          <p:nvPr/>
        </p:nvGrpSpPr>
        <p:grpSpPr>
          <a:xfrm>
            <a:off x="3733920" y="4572000"/>
            <a:ext cx="1143000" cy="1143000"/>
            <a:chOff x="3733920" y="4572000"/>
            <a:chExt cx="1143000" cy="1143000"/>
          </a:xfrm>
        </p:grpSpPr>
        <p:sp>
          <p:nvSpPr>
            <p:cNvPr id="3341" name=""/>
            <p:cNvSpPr/>
            <p:nvPr/>
          </p:nvSpPr>
          <p:spPr>
            <a:xfrm>
              <a:off x="3733920" y="457200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008600" y="4953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0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3" name=""/>
          <p:cNvGrpSpPr/>
          <p:nvPr/>
        </p:nvGrpSpPr>
        <p:grpSpPr>
          <a:xfrm>
            <a:off x="6324480" y="4572000"/>
            <a:ext cx="1143000" cy="1143000"/>
            <a:chOff x="6324480" y="4572000"/>
            <a:chExt cx="1143000" cy="1143000"/>
          </a:xfrm>
        </p:grpSpPr>
        <p:sp>
          <p:nvSpPr>
            <p:cNvPr id="3344" name=""/>
            <p:cNvSpPr/>
            <p:nvPr/>
          </p:nvSpPr>
          <p:spPr>
            <a:xfrm>
              <a:off x="6324480" y="457200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599160" y="4953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6" name=""/>
          <p:cNvSpPr/>
          <p:nvPr/>
        </p:nvSpPr>
        <p:spPr>
          <a:xfrm flipH="1">
            <a:off x="1904760" y="2743200"/>
            <a:ext cx="2057400" cy="2057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4267080" y="2895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4724280" y="2743200"/>
            <a:ext cx="1828800" cy="1905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1509480" y="34290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 = 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3176280" y="3546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 = 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5792400" y="34290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αταχωρητές ολίσθ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3048120"/>
            <a:ext cx="838080" cy="1676160"/>
            <a:chOff x="2057400" y="3048120"/>
            <a:chExt cx="838080" cy="1676160"/>
          </a:xfrm>
        </p:grpSpPr>
        <p:sp>
          <p:nvSpPr>
            <p:cNvPr id="164" name=""/>
            <p:cNvSpPr/>
            <p:nvPr/>
          </p:nvSpPr>
          <p:spPr>
            <a:xfrm>
              <a:off x="24246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352680" y="3048120"/>
            <a:ext cx="838080" cy="1676160"/>
            <a:chOff x="3352680" y="3048120"/>
            <a:chExt cx="838080" cy="1676160"/>
          </a:xfrm>
        </p:grpSpPr>
        <p:sp>
          <p:nvSpPr>
            <p:cNvPr id="167" name=""/>
            <p:cNvSpPr/>
            <p:nvPr/>
          </p:nvSpPr>
          <p:spPr>
            <a:xfrm>
              <a:off x="371988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5268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648320" y="3048120"/>
            <a:ext cx="838080" cy="1676160"/>
            <a:chOff x="4648320" y="3048120"/>
            <a:chExt cx="838080" cy="1676160"/>
          </a:xfrm>
        </p:grpSpPr>
        <p:sp>
          <p:nvSpPr>
            <p:cNvPr id="170" name=""/>
            <p:cNvSpPr/>
            <p:nvPr/>
          </p:nvSpPr>
          <p:spPr>
            <a:xfrm>
              <a:off x="501552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943600" y="3048120"/>
            <a:ext cx="838080" cy="1676160"/>
            <a:chOff x="5943600" y="3048120"/>
            <a:chExt cx="838080" cy="1676160"/>
          </a:xfrm>
        </p:grpSpPr>
        <p:sp>
          <p:nvSpPr>
            <p:cNvPr id="173" name=""/>
            <p:cNvSpPr/>
            <p:nvPr/>
          </p:nvSpPr>
          <p:spPr>
            <a:xfrm>
              <a:off x="63108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436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2388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0574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380988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352680" y="38862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9436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8284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2372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1936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7146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334120"/>
            <a:ext cx="47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53000" y="4842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97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5776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372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45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361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αταχωρητές ολίσθ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57400" y="3048120"/>
            <a:ext cx="838080" cy="1676160"/>
            <a:chOff x="2057400" y="3048120"/>
            <a:chExt cx="838080" cy="1676160"/>
          </a:xfrm>
        </p:grpSpPr>
        <p:sp>
          <p:nvSpPr>
            <p:cNvPr id="205" name=""/>
            <p:cNvSpPr/>
            <p:nvPr/>
          </p:nvSpPr>
          <p:spPr>
            <a:xfrm>
              <a:off x="24246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352680" y="3048120"/>
            <a:ext cx="838080" cy="1676160"/>
            <a:chOff x="3352680" y="3048120"/>
            <a:chExt cx="838080" cy="1676160"/>
          </a:xfrm>
        </p:grpSpPr>
        <p:sp>
          <p:nvSpPr>
            <p:cNvPr id="208" name=""/>
            <p:cNvSpPr/>
            <p:nvPr/>
          </p:nvSpPr>
          <p:spPr>
            <a:xfrm>
              <a:off x="371988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5268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648320" y="3048120"/>
            <a:ext cx="838080" cy="1676160"/>
            <a:chOff x="4648320" y="3048120"/>
            <a:chExt cx="838080" cy="1676160"/>
          </a:xfrm>
        </p:grpSpPr>
        <p:sp>
          <p:nvSpPr>
            <p:cNvPr id="211" name=""/>
            <p:cNvSpPr/>
            <p:nvPr/>
          </p:nvSpPr>
          <p:spPr>
            <a:xfrm>
              <a:off x="501552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832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943600" y="3048120"/>
            <a:ext cx="838080" cy="1676160"/>
            <a:chOff x="5943600" y="3048120"/>
            <a:chExt cx="838080" cy="1676160"/>
          </a:xfrm>
        </p:grpSpPr>
        <p:sp>
          <p:nvSpPr>
            <p:cNvPr id="214" name=""/>
            <p:cNvSpPr/>
            <p:nvPr/>
          </p:nvSpPr>
          <p:spPr>
            <a:xfrm>
              <a:off x="63108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36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52388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0574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380988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52680" y="38862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64832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284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12372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41936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7146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5334120"/>
            <a:ext cx="47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53000" y="4842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97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5776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372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645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61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αταχωρητές ολίσθ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57400" y="3048120"/>
            <a:ext cx="838080" cy="1676160"/>
            <a:chOff x="2057400" y="3048120"/>
            <a:chExt cx="838080" cy="1676160"/>
          </a:xfrm>
        </p:grpSpPr>
        <p:sp>
          <p:nvSpPr>
            <p:cNvPr id="246" name=""/>
            <p:cNvSpPr/>
            <p:nvPr/>
          </p:nvSpPr>
          <p:spPr>
            <a:xfrm>
              <a:off x="24246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352680" y="3048120"/>
            <a:ext cx="838080" cy="1676160"/>
            <a:chOff x="3352680" y="3048120"/>
            <a:chExt cx="838080" cy="1676160"/>
          </a:xfrm>
        </p:grpSpPr>
        <p:sp>
          <p:nvSpPr>
            <p:cNvPr id="249" name=""/>
            <p:cNvSpPr/>
            <p:nvPr/>
          </p:nvSpPr>
          <p:spPr>
            <a:xfrm>
              <a:off x="371988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648320" y="3048120"/>
            <a:ext cx="838080" cy="1676160"/>
            <a:chOff x="4648320" y="3048120"/>
            <a:chExt cx="838080" cy="1676160"/>
          </a:xfrm>
        </p:grpSpPr>
        <p:sp>
          <p:nvSpPr>
            <p:cNvPr id="252" name=""/>
            <p:cNvSpPr/>
            <p:nvPr/>
          </p:nvSpPr>
          <p:spPr>
            <a:xfrm>
              <a:off x="501552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943600" y="3048120"/>
            <a:ext cx="838080" cy="1676160"/>
            <a:chOff x="5943600" y="3048120"/>
            <a:chExt cx="838080" cy="1676160"/>
          </a:xfrm>
        </p:grpSpPr>
        <p:sp>
          <p:nvSpPr>
            <p:cNvPr id="255" name=""/>
            <p:cNvSpPr/>
            <p:nvPr/>
          </p:nvSpPr>
          <p:spPr>
            <a:xfrm>
              <a:off x="63108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436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52388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74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0574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80988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352680" y="38862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64832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9436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8284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2372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1936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7146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5334120"/>
            <a:ext cx="47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53000" y="4842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97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5776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372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45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61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Καταχωρητές ολίσθηση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057400" y="3048120"/>
            <a:ext cx="838080" cy="1676160"/>
            <a:chOff x="2057400" y="3048120"/>
            <a:chExt cx="838080" cy="1676160"/>
          </a:xfrm>
        </p:grpSpPr>
        <p:sp>
          <p:nvSpPr>
            <p:cNvPr id="287" name=""/>
            <p:cNvSpPr/>
            <p:nvPr/>
          </p:nvSpPr>
          <p:spPr>
            <a:xfrm>
              <a:off x="24246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52680" y="3048120"/>
            <a:ext cx="838080" cy="1676160"/>
            <a:chOff x="3352680" y="3048120"/>
            <a:chExt cx="838080" cy="1676160"/>
          </a:xfrm>
        </p:grpSpPr>
        <p:sp>
          <p:nvSpPr>
            <p:cNvPr id="290" name=""/>
            <p:cNvSpPr/>
            <p:nvPr/>
          </p:nvSpPr>
          <p:spPr>
            <a:xfrm>
              <a:off x="371988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5268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648320" y="3048120"/>
            <a:ext cx="838080" cy="1676160"/>
            <a:chOff x="4648320" y="3048120"/>
            <a:chExt cx="838080" cy="1676160"/>
          </a:xfrm>
        </p:grpSpPr>
        <p:sp>
          <p:nvSpPr>
            <p:cNvPr id="293" name=""/>
            <p:cNvSpPr/>
            <p:nvPr/>
          </p:nvSpPr>
          <p:spPr>
            <a:xfrm>
              <a:off x="501552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943600" y="3048120"/>
            <a:ext cx="838080" cy="1676160"/>
            <a:chOff x="5943600" y="3048120"/>
            <a:chExt cx="838080" cy="1676160"/>
          </a:xfrm>
        </p:grpSpPr>
        <p:sp>
          <p:nvSpPr>
            <p:cNvPr id="296" name=""/>
            <p:cNvSpPr/>
            <p:nvPr/>
          </p:nvSpPr>
          <p:spPr>
            <a:xfrm>
              <a:off x="6310800" y="3165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43600" y="304812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523880" y="32004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112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200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0574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380988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352680" y="38862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64832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43600" y="380988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943600" y="3886200"/>
            <a:ext cx="15228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8284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12372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41936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71464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334120"/>
            <a:ext cx="47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8862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53000" y="4842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97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5776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372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45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Μετρητής ριπής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523880" y="3352680"/>
            <a:ext cx="838080" cy="1676160"/>
            <a:chOff x="1523880" y="3352680"/>
            <a:chExt cx="838080" cy="1676160"/>
          </a:xfrm>
        </p:grpSpPr>
        <p:sp>
          <p:nvSpPr>
            <p:cNvPr id="328" name=""/>
            <p:cNvSpPr/>
            <p:nvPr/>
          </p:nvSpPr>
          <p:spPr>
            <a:xfrm>
              <a:off x="1890720" y="34700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335268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124080" y="3352680"/>
            <a:ext cx="838080" cy="1676160"/>
            <a:chOff x="3124080" y="3352680"/>
            <a:chExt cx="838080" cy="1676160"/>
          </a:xfrm>
        </p:grpSpPr>
        <p:sp>
          <p:nvSpPr>
            <p:cNvPr id="331" name=""/>
            <p:cNvSpPr/>
            <p:nvPr/>
          </p:nvSpPr>
          <p:spPr>
            <a:xfrm>
              <a:off x="3490920" y="34700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24080" y="335268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724280" y="3352680"/>
            <a:ext cx="838080" cy="1676160"/>
            <a:chOff x="4724280" y="3352680"/>
            <a:chExt cx="838080" cy="1676160"/>
          </a:xfrm>
        </p:grpSpPr>
        <p:sp>
          <p:nvSpPr>
            <p:cNvPr id="334" name=""/>
            <p:cNvSpPr/>
            <p:nvPr/>
          </p:nvSpPr>
          <p:spPr>
            <a:xfrm>
              <a:off x="5091120" y="34700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24280" y="335268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324480" y="3352680"/>
            <a:ext cx="838080" cy="1676160"/>
            <a:chOff x="6324480" y="3352680"/>
            <a:chExt cx="838080" cy="1676160"/>
          </a:xfrm>
        </p:grpSpPr>
        <p:sp>
          <p:nvSpPr>
            <p:cNvPr id="337" name=""/>
            <p:cNvSpPr/>
            <p:nvPr/>
          </p:nvSpPr>
          <p:spPr>
            <a:xfrm>
              <a:off x="6691320" y="34700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4480" y="3352680"/>
              <a:ext cx="838080" cy="1676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89144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748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8392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788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010280" y="41148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7010280" y="4190760"/>
            <a:ext cx="152640" cy="75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410080" y="41148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410080" y="4190760"/>
            <a:ext cx="152640" cy="75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09880" y="41148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3809880" y="4190760"/>
            <a:ext cx="152640" cy="75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209680" y="4114800"/>
            <a:ext cx="152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2209680" y="4190760"/>
            <a:ext cx="152640" cy="75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2920" y="36576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4724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6128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612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4724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6108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61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36576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088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60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36576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62320" y="4724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6068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606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4162320"/>
            <a:ext cx="75960" cy="763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4162320"/>
            <a:ext cx="75960" cy="763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4162320"/>
            <a:ext cx="75960" cy="763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4162320"/>
            <a:ext cx="75960" cy="763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388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6386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0384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438280" y="4191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095520" y="36576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095880" y="297144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495320" y="36576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495680" y="297144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95120" y="36576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895480" y="297144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143000" y="3657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53600" y="2514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53400" y="2514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3080" y="2514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16560" y="2514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637080" cy="13586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H="1">
            <a:off x="80773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077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6957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696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73152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315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93432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934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552720" y="28195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553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17220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172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7913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791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4097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410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0292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029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64832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648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266720" y="28195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267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88620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886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053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505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1237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124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74320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743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36232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362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980720" y="28195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981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600200" y="23623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60020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219320" y="2819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21932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37720" y="2362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838080" y="2362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69572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69608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934320" y="31240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93432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17184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17220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409720" y="31240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41008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648320" y="35812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64832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885840" y="31240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88620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12408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362320" y="31240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36232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59984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0020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837720" y="31240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838080" y="3124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933960" y="434340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6934320" y="38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410080" y="38862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410080" y="38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885840" y="434340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886200" y="38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61960" y="388620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362320" y="38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38080" y="43434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409720" y="510552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410080" y="4648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62320" y="4648320"/>
            <a:ext cx="304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362320" y="46483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838080" y="510552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361960" y="5867280"/>
            <a:ext cx="6095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362320" y="5410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838080" y="54100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39600" y="3165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155440" y="396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55440" y="4724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5440" y="548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77240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10280" y="34290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86400" y="41911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95288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1028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24852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8640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43828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7652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25909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34290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34290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86400" y="34290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41911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0" y="0"/>
                </a:moveTo>
                <a:cubicBezTo>
                  <a:pt x="72" y="108"/>
                  <a:pt x="144" y="216"/>
                  <a:pt x="144" y="288"/>
                </a:cubicBezTo>
                <a:cubicBezTo>
                  <a:pt x="144" y="360"/>
                  <a:pt x="72" y="396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20:30:01Z</dcterms:created>
  <dc:creator>george stamoulis</dc:creator>
  <dc:description/>
  <dc:language>en-US</dc:language>
  <cp:lastModifiedBy>georges</cp:lastModifiedBy>
  <dcterms:modified xsi:type="dcterms:W3CDTF">2007-12-05T12:57:35Z</dcterms:modified>
  <cp:revision>142</cp:revision>
  <dc:subject/>
  <dc:title>No Slide Title</dc:title>
</cp:coreProperties>
</file>