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920360" y="6243480"/>
            <a:ext cx="9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9-</a:t>
            </a:r>
            <a:fld id="{A32B8409-064F-45C6-B1AC-15DF32E1AE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Μετρητέ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4086360" y="1676520"/>
            <a:ext cx="728640" cy="728640"/>
            <a:chOff x="4086360" y="1676520"/>
            <a:chExt cx="728640" cy="728640"/>
          </a:xfrm>
        </p:grpSpPr>
        <p:sp>
          <p:nvSpPr>
            <p:cNvPr id="41" name=""/>
            <p:cNvSpPr/>
            <p:nvPr/>
          </p:nvSpPr>
          <p:spPr>
            <a:xfrm>
              <a:off x="4086360" y="1676520"/>
              <a:ext cx="728640" cy="728640"/>
            </a:xfrm>
            <a:prstGeom prst="ellipse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254120" y="1895400"/>
              <a:ext cx="412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 Black"/>
                </a:rPr>
                <a:t>111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" name=""/>
          <p:cNvGrpSpPr/>
          <p:nvPr/>
        </p:nvGrpSpPr>
        <p:grpSpPr>
          <a:xfrm>
            <a:off x="5791320" y="2243160"/>
            <a:ext cx="728640" cy="728640"/>
            <a:chOff x="5791320" y="2243160"/>
            <a:chExt cx="728640" cy="728640"/>
          </a:xfrm>
        </p:grpSpPr>
        <p:sp>
          <p:nvSpPr>
            <p:cNvPr id="44" name=""/>
            <p:cNvSpPr/>
            <p:nvPr/>
          </p:nvSpPr>
          <p:spPr>
            <a:xfrm>
              <a:off x="5791320" y="2243160"/>
              <a:ext cx="728640" cy="728640"/>
            </a:xfrm>
            <a:prstGeom prst="ellipse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959080" y="2462040"/>
              <a:ext cx="412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 Black"/>
                </a:rPr>
                <a:t>11</a:t>
              </a:r>
              <a:r>
                <a:rPr b="0" lang="el-GR" sz="1900" spc="-1" strike="noStrike">
                  <a:solidFill>
                    <a:srgbClr val="ffffff"/>
                  </a:solidFill>
                  <a:latin typeface="Arial Black"/>
                </a:rPr>
                <a:t>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6248520" y="3691080"/>
            <a:ext cx="728640" cy="728640"/>
            <a:chOff x="6248520" y="3691080"/>
            <a:chExt cx="728640" cy="728640"/>
          </a:xfrm>
        </p:grpSpPr>
        <p:sp>
          <p:nvSpPr>
            <p:cNvPr id="47" name=""/>
            <p:cNvSpPr/>
            <p:nvPr/>
          </p:nvSpPr>
          <p:spPr>
            <a:xfrm>
              <a:off x="6248520" y="3691080"/>
              <a:ext cx="728640" cy="728640"/>
            </a:xfrm>
            <a:prstGeom prst="ellipse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416280" y="3909960"/>
              <a:ext cx="412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r>
                <a:rPr b="0" lang="el-GR" sz="1900" spc="-1" strike="noStrike">
                  <a:solidFill>
                    <a:srgbClr val="ffffff"/>
                  </a:solidFill>
                  <a:latin typeface="Arial Black"/>
                </a:rPr>
                <a:t>0</a:t>
              </a:r>
              <a:r>
                <a:rPr b="0" lang="en-US" sz="19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5672160" y="5214960"/>
            <a:ext cx="728640" cy="728640"/>
            <a:chOff x="5672160" y="5214960"/>
            <a:chExt cx="728640" cy="728640"/>
          </a:xfrm>
        </p:grpSpPr>
        <p:sp>
          <p:nvSpPr>
            <p:cNvPr id="50" name=""/>
            <p:cNvSpPr/>
            <p:nvPr/>
          </p:nvSpPr>
          <p:spPr>
            <a:xfrm>
              <a:off x="5672160" y="5214960"/>
              <a:ext cx="728640" cy="728640"/>
            </a:xfrm>
            <a:prstGeom prst="ellipse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839920" y="5433840"/>
              <a:ext cx="412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r>
                <a:rPr b="0" lang="el-GR" sz="1900" spc="-1" strike="noStrike">
                  <a:solidFill>
                    <a:srgbClr val="ffffff"/>
                  </a:solidFill>
                  <a:latin typeface="Arial Black"/>
                </a:rPr>
                <a:t>0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114800" y="5867280"/>
            <a:ext cx="728640" cy="728640"/>
            <a:chOff x="4114800" y="5867280"/>
            <a:chExt cx="728640" cy="728640"/>
          </a:xfrm>
        </p:grpSpPr>
        <p:sp>
          <p:nvSpPr>
            <p:cNvPr id="53" name=""/>
            <p:cNvSpPr/>
            <p:nvPr/>
          </p:nvSpPr>
          <p:spPr>
            <a:xfrm>
              <a:off x="4114800" y="5867280"/>
              <a:ext cx="728640" cy="728640"/>
            </a:xfrm>
            <a:prstGeom prst="ellipse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282560" y="6086160"/>
              <a:ext cx="412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900" spc="-1" strike="noStrike">
                  <a:solidFill>
                    <a:srgbClr val="ffffff"/>
                  </a:solidFill>
                  <a:latin typeface="Arial Black"/>
                </a:rPr>
                <a:t>011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514600" y="5257800"/>
            <a:ext cx="728640" cy="728640"/>
            <a:chOff x="2514600" y="5257800"/>
            <a:chExt cx="728640" cy="728640"/>
          </a:xfrm>
        </p:grpSpPr>
        <p:sp>
          <p:nvSpPr>
            <p:cNvPr id="56" name=""/>
            <p:cNvSpPr/>
            <p:nvPr/>
          </p:nvSpPr>
          <p:spPr>
            <a:xfrm>
              <a:off x="2514600" y="5257800"/>
              <a:ext cx="728640" cy="728640"/>
            </a:xfrm>
            <a:prstGeom prst="ellipse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82360" y="5476680"/>
              <a:ext cx="412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900" spc="-1" strike="noStrike">
                  <a:solidFill>
                    <a:srgbClr val="ffffff"/>
                  </a:solidFill>
                  <a:latin typeface="Arial Black"/>
                </a:rPr>
                <a:t>01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862280" y="3809880"/>
            <a:ext cx="728640" cy="728640"/>
            <a:chOff x="1862280" y="3809880"/>
            <a:chExt cx="728640" cy="728640"/>
          </a:xfrm>
        </p:grpSpPr>
        <p:sp>
          <p:nvSpPr>
            <p:cNvPr id="59" name=""/>
            <p:cNvSpPr/>
            <p:nvPr/>
          </p:nvSpPr>
          <p:spPr>
            <a:xfrm>
              <a:off x="1862280" y="3809880"/>
              <a:ext cx="728640" cy="728640"/>
            </a:xfrm>
            <a:prstGeom prst="ellipse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30040" y="4028760"/>
              <a:ext cx="412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900" spc="-1" strike="noStrike">
                  <a:solidFill>
                    <a:srgbClr val="ffffff"/>
                  </a:solidFill>
                  <a:latin typeface="Arial Black"/>
                </a:rPr>
                <a:t>00</a:t>
              </a:r>
              <a:r>
                <a:rPr b="0" lang="en-US" sz="19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514600" y="2243160"/>
            <a:ext cx="728640" cy="728640"/>
            <a:chOff x="2514600" y="2243160"/>
            <a:chExt cx="728640" cy="728640"/>
          </a:xfrm>
        </p:grpSpPr>
        <p:sp>
          <p:nvSpPr>
            <p:cNvPr id="62" name=""/>
            <p:cNvSpPr/>
            <p:nvPr/>
          </p:nvSpPr>
          <p:spPr>
            <a:xfrm>
              <a:off x="2514600" y="2243160"/>
              <a:ext cx="728640" cy="728640"/>
            </a:xfrm>
            <a:prstGeom prst="ellipse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82360" y="2462040"/>
              <a:ext cx="412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900" spc="-1" strike="noStrike">
                  <a:solidFill>
                    <a:srgbClr val="ffffff"/>
                  </a:solidFill>
                  <a:latin typeface="Arial Black"/>
                </a:rPr>
                <a:t>00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 flipH="1">
            <a:off x="2286000" y="2895480"/>
            <a:ext cx="3808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0" y="4572000"/>
            <a:ext cx="4572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5791320"/>
            <a:ext cx="91440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876920" y="5866920"/>
            <a:ext cx="83808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248520" y="4419720"/>
            <a:ext cx="38088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6248520" y="2971440"/>
            <a:ext cx="38088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4800600" y="2057400"/>
            <a:ext cx="99072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124080" y="2057400"/>
            <a:ext cx="91440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1523880" y="762120"/>
          <a:ext cx="6019920" cy="5138640"/>
        </p:xfrm>
        <a:graphic>
          <a:graphicData uri="http://schemas.openxmlformats.org/drawingml/2006/table">
            <a:tbl>
              <a:tblPr/>
              <a:tblGrid>
                <a:gridCol w="2006640"/>
                <a:gridCol w="2006640"/>
                <a:gridCol w="200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 st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=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=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912960" y="5027760"/>
            <a:ext cx="7543800" cy="10652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1523880" y="762120"/>
          <a:ext cx="6019920" cy="5138640"/>
        </p:xfrm>
        <a:graphic>
          <a:graphicData uri="http://schemas.openxmlformats.org/drawingml/2006/table">
            <a:tbl>
              <a:tblPr/>
              <a:tblGrid>
                <a:gridCol w="2006640"/>
                <a:gridCol w="2006640"/>
                <a:gridCol w="200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 st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=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=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1523880" y="5715000"/>
            <a:ext cx="60199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2200" y="3048120"/>
            <a:ext cx="762120" cy="9144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1523880" y="762120"/>
          <a:ext cx="6019920" cy="5138640"/>
        </p:xfrm>
        <a:graphic>
          <a:graphicData uri="http://schemas.openxmlformats.org/drawingml/2006/table">
            <a:tbl>
              <a:tblPr/>
              <a:tblGrid>
                <a:gridCol w="2006640"/>
                <a:gridCol w="2006640"/>
                <a:gridCol w="200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 st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=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=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0" name=""/>
          <p:cNvSpPr/>
          <p:nvPr/>
        </p:nvSpPr>
        <p:spPr>
          <a:xfrm>
            <a:off x="1523880" y="5715000"/>
            <a:ext cx="60199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"/>
          <p:cNvGraphicFramePr/>
          <p:nvPr/>
        </p:nvGraphicFramePr>
        <p:xfrm>
          <a:off x="1523880" y="762120"/>
          <a:ext cx="6019920" cy="5138640"/>
        </p:xfrm>
        <a:graphic>
          <a:graphicData uri="http://schemas.openxmlformats.org/drawingml/2006/table">
            <a:tbl>
              <a:tblPr/>
              <a:tblGrid>
                <a:gridCol w="2006640"/>
                <a:gridCol w="2006640"/>
                <a:gridCol w="200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 st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=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=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2" name=""/>
          <p:cNvSpPr/>
          <p:nvPr/>
        </p:nvSpPr>
        <p:spPr>
          <a:xfrm>
            <a:off x="1523880" y="5715000"/>
            <a:ext cx="60199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43000" y="2743200"/>
            <a:ext cx="6858000" cy="3808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43000" y="3505320"/>
            <a:ext cx="6858000" cy="3808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1523880" y="762120"/>
          <a:ext cx="6019920" cy="5138640"/>
        </p:xfrm>
        <a:graphic>
          <a:graphicData uri="http://schemas.openxmlformats.org/drawingml/2006/table">
            <a:tbl>
              <a:tblPr/>
              <a:tblGrid>
                <a:gridCol w="2006640"/>
                <a:gridCol w="2006640"/>
                <a:gridCol w="200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 st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=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=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"/>
          <p:cNvSpPr/>
          <p:nvPr/>
        </p:nvSpPr>
        <p:spPr>
          <a:xfrm>
            <a:off x="1523880" y="5715000"/>
            <a:ext cx="60199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523880" y="3733920"/>
            <a:ext cx="60199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48520" y="1905120"/>
            <a:ext cx="533160" cy="457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1523880" y="762120"/>
          <a:ext cx="6019920" cy="5138640"/>
        </p:xfrm>
        <a:graphic>
          <a:graphicData uri="http://schemas.openxmlformats.org/drawingml/2006/table">
            <a:tbl>
              <a:tblPr/>
              <a:tblGrid>
                <a:gridCol w="2006640"/>
                <a:gridCol w="2006640"/>
                <a:gridCol w="200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 st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=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=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0" name=""/>
          <p:cNvSpPr/>
          <p:nvPr/>
        </p:nvSpPr>
        <p:spPr>
          <a:xfrm>
            <a:off x="1523880" y="5715000"/>
            <a:ext cx="60199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23880" y="3733920"/>
            <a:ext cx="60199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1523880" y="762120"/>
          <a:ext cx="6019920" cy="4348080"/>
        </p:xfrm>
        <a:graphic>
          <a:graphicData uri="http://schemas.openxmlformats.org/drawingml/2006/table">
            <a:tbl>
              <a:tblPr/>
              <a:tblGrid>
                <a:gridCol w="2006640"/>
                <a:gridCol w="2006640"/>
                <a:gridCol w="200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 st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=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=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"/>
          <p:cNvSpPr/>
          <p:nvPr/>
        </p:nvSpPr>
        <p:spPr>
          <a:xfrm>
            <a:off x="1523880" y="4724280"/>
            <a:ext cx="60199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"/>
          <p:cNvGraphicFramePr/>
          <p:nvPr/>
        </p:nvGraphicFramePr>
        <p:xfrm>
          <a:off x="685800" y="304920"/>
          <a:ext cx="7772400" cy="602892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  <a:gridCol w="863640"/>
                <a:gridCol w="863640"/>
              </a:tblGrid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5" name=""/>
          <p:cNvSpPr/>
          <p:nvPr/>
        </p:nvSpPr>
        <p:spPr>
          <a:xfrm>
            <a:off x="1523880" y="304920"/>
            <a:ext cx="69343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438280" y="990720"/>
            <a:ext cx="6019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6720" y="1676520"/>
            <a:ext cx="52578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14800" y="2286000"/>
            <a:ext cx="4572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029200" y="2971800"/>
            <a:ext cx="358128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67280" y="3657600"/>
            <a:ext cx="266724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781680" y="4343400"/>
            <a:ext cx="175284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620120" y="4952880"/>
            <a:ext cx="99036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438280" y="304560"/>
            <a:ext cx="0" cy="68580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276720" y="304920"/>
            <a:ext cx="0" cy="129528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114800" y="304560"/>
            <a:ext cx="0" cy="198108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029200" y="304920"/>
            <a:ext cx="0" cy="266688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867280" y="228240"/>
            <a:ext cx="0" cy="342900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6705720" y="152280"/>
            <a:ext cx="0" cy="411480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7620120" y="228240"/>
            <a:ext cx="0" cy="472428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8458200" y="228600"/>
            <a:ext cx="0" cy="541008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685800" y="304920"/>
          <a:ext cx="7772400" cy="602928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  <a:gridCol w="863640"/>
                <a:gridCol w="863640"/>
              </a:tblGrid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– 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– 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–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–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–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–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–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–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1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1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"/>
          <p:cNvSpPr/>
          <p:nvPr/>
        </p:nvSpPr>
        <p:spPr>
          <a:xfrm>
            <a:off x="1523880" y="304920"/>
            <a:ext cx="69343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438280" y="990720"/>
            <a:ext cx="6019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76720" y="1676520"/>
            <a:ext cx="52578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14800" y="2286000"/>
            <a:ext cx="4572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029200" y="2971800"/>
            <a:ext cx="358128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867280" y="3657600"/>
            <a:ext cx="266724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781680" y="4343400"/>
            <a:ext cx="175284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0120" y="4952880"/>
            <a:ext cx="99036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2438280" y="304560"/>
            <a:ext cx="0" cy="68580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276720" y="304920"/>
            <a:ext cx="0" cy="129528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4114800" y="304560"/>
            <a:ext cx="0" cy="198108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5029200" y="304920"/>
            <a:ext cx="0" cy="266688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867280" y="228240"/>
            <a:ext cx="0" cy="342900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6705720" y="152280"/>
            <a:ext cx="0" cy="411480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7620120" y="228240"/>
            <a:ext cx="0" cy="472428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8458200" y="228600"/>
            <a:ext cx="0" cy="541008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98720" y="345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98720" y="106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9872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1456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1456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456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7760" y="441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776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1456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8452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9892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71332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8308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38948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25960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4232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935760" y="6324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850160" y="6324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"/>
          <p:cNvGraphicFramePr/>
          <p:nvPr/>
        </p:nvGraphicFramePr>
        <p:xfrm>
          <a:off x="685800" y="304920"/>
          <a:ext cx="7772400" cy="602928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  <a:gridCol w="863640"/>
                <a:gridCol w="863640"/>
              </a:tblGrid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– 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– 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–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–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–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–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–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–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1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1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7" name=""/>
          <p:cNvSpPr/>
          <p:nvPr/>
        </p:nvSpPr>
        <p:spPr>
          <a:xfrm>
            <a:off x="1523880" y="304920"/>
            <a:ext cx="69343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438280" y="990720"/>
            <a:ext cx="6019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276720" y="1676520"/>
            <a:ext cx="52578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2286000"/>
            <a:ext cx="4572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2971800"/>
            <a:ext cx="358128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867280" y="3657600"/>
            <a:ext cx="266724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781680" y="4343400"/>
            <a:ext cx="175284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20120" y="4952880"/>
            <a:ext cx="99036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438280" y="304560"/>
            <a:ext cx="0" cy="68580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276720" y="304920"/>
            <a:ext cx="0" cy="129528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4114800" y="304560"/>
            <a:ext cx="0" cy="198108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029200" y="304920"/>
            <a:ext cx="0" cy="266688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5867280" y="228240"/>
            <a:ext cx="0" cy="342900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6705720" y="152280"/>
            <a:ext cx="0" cy="411480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7620120" y="228240"/>
            <a:ext cx="0" cy="472428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8458200" y="228600"/>
            <a:ext cx="0" cy="541008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8720" y="345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8720" y="106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72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1456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1456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1456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7760" y="441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776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1456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8452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79892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71332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8308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38948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5960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14232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935760" y="6324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850160" y="6324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685800" y="5714640"/>
            <a:ext cx="838080" cy="609840"/>
            <a:chOff x="685800" y="5714640"/>
            <a:chExt cx="838080" cy="609840"/>
          </a:xfrm>
        </p:grpSpPr>
        <p:sp>
          <p:nvSpPr>
            <p:cNvPr id="482" name=""/>
            <p:cNvSpPr/>
            <p:nvPr/>
          </p:nvSpPr>
          <p:spPr>
            <a:xfrm flipV="1">
              <a:off x="685800" y="57146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5800" y="57150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1523880" y="5714640"/>
            <a:ext cx="838080" cy="609840"/>
            <a:chOff x="1523880" y="5714640"/>
            <a:chExt cx="838080" cy="609840"/>
          </a:xfrm>
        </p:grpSpPr>
        <p:sp>
          <p:nvSpPr>
            <p:cNvPr id="485" name=""/>
            <p:cNvSpPr/>
            <p:nvPr/>
          </p:nvSpPr>
          <p:spPr>
            <a:xfrm flipV="1">
              <a:off x="1523880" y="57146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523880" y="57150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2438280" y="5714640"/>
            <a:ext cx="838080" cy="609840"/>
            <a:chOff x="2438280" y="5714640"/>
            <a:chExt cx="838080" cy="609840"/>
          </a:xfrm>
        </p:grpSpPr>
        <p:sp>
          <p:nvSpPr>
            <p:cNvPr id="488" name=""/>
            <p:cNvSpPr/>
            <p:nvPr/>
          </p:nvSpPr>
          <p:spPr>
            <a:xfrm flipV="1">
              <a:off x="2438280" y="57146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438280" y="57150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3276720" y="5714640"/>
            <a:ext cx="838080" cy="609840"/>
            <a:chOff x="3276720" y="5714640"/>
            <a:chExt cx="838080" cy="609840"/>
          </a:xfrm>
        </p:grpSpPr>
        <p:sp>
          <p:nvSpPr>
            <p:cNvPr id="491" name=""/>
            <p:cNvSpPr/>
            <p:nvPr/>
          </p:nvSpPr>
          <p:spPr>
            <a:xfrm flipV="1">
              <a:off x="3276720" y="57146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276720" y="57150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4191120" y="5714640"/>
            <a:ext cx="838080" cy="609840"/>
            <a:chOff x="4191120" y="5714640"/>
            <a:chExt cx="838080" cy="609840"/>
          </a:xfrm>
        </p:grpSpPr>
        <p:sp>
          <p:nvSpPr>
            <p:cNvPr id="494" name=""/>
            <p:cNvSpPr/>
            <p:nvPr/>
          </p:nvSpPr>
          <p:spPr>
            <a:xfrm flipV="1">
              <a:off x="4191120" y="57146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191120" y="57150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5029200" y="5714640"/>
            <a:ext cx="838080" cy="609840"/>
            <a:chOff x="5029200" y="5714640"/>
            <a:chExt cx="838080" cy="609840"/>
          </a:xfrm>
        </p:grpSpPr>
        <p:sp>
          <p:nvSpPr>
            <p:cNvPr id="497" name=""/>
            <p:cNvSpPr/>
            <p:nvPr/>
          </p:nvSpPr>
          <p:spPr>
            <a:xfrm flipV="1">
              <a:off x="5029200" y="57146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029200" y="57150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5867280" y="5714640"/>
            <a:ext cx="838080" cy="609840"/>
            <a:chOff x="5867280" y="5714640"/>
            <a:chExt cx="838080" cy="609840"/>
          </a:xfrm>
        </p:grpSpPr>
        <p:sp>
          <p:nvSpPr>
            <p:cNvPr id="500" name=""/>
            <p:cNvSpPr/>
            <p:nvPr/>
          </p:nvSpPr>
          <p:spPr>
            <a:xfrm flipV="1">
              <a:off x="5867280" y="57146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867280" y="57150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6781680" y="5714640"/>
            <a:ext cx="838080" cy="609840"/>
            <a:chOff x="6781680" y="5714640"/>
            <a:chExt cx="838080" cy="609840"/>
          </a:xfrm>
        </p:grpSpPr>
        <p:sp>
          <p:nvSpPr>
            <p:cNvPr id="503" name=""/>
            <p:cNvSpPr/>
            <p:nvPr/>
          </p:nvSpPr>
          <p:spPr>
            <a:xfrm flipV="1">
              <a:off x="6781680" y="57146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781680" y="57150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7620120" y="5714640"/>
            <a:ext cx="838080" cy="609840"/>
            <a:chOff x="7620120" y="5714640"/>
            <a:chExt cx="838080" cy="609840"/>
          </a:xfrm>
        </p:grpSpPr>
        <p:sp>
          <p:nvSpPr>
            <p:cNvPr id="506" name=""/>
            <p:cNvSpPr/>
            <p:nvPr/>
          </p:nvSpPr>
          <p:spPr>
            <a:xfrm flipV="1">
              <a:off x="7620120" y="57146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620120" y="57150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4100760" y="498600"/>
            <a:ext cx="369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ιώχνουμε την κατάσταση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Μετρητέ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9" name=""/>
          <p:cNvGraphicFramePr/>
          <p:nvPr/>
        </p:nvGraphicFramePr>
        <p:xfrm>
          <a:off x="685800" y="304920"/>
          <a:ext cx="7772400" cy="602928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  <a:gridCol w="863640"/>
                <a:gridCol w="863640"/>
              </a:tblGrid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– 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– 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–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–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–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–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–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–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1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1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0" name=""/>
          <p:cNvSpPr/>
          <p:nvPr/>
        </p:nvSpPr>
        <p:spPr>
          <a:xfrm>
            <a:off x="1523880" y="304920"/>
            <a:ext cx="69343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438280" y="990720"/>
            <a:ext cx="6019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276720" y="1676520"/>
            <a:ext cx="52578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114800" y="2286000"/>
            <a:ext cx="4572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029200" y="2971800"/>
            <a:ext cx="358128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867280" y="3657600"/>
            <a:ext cx="266724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781680" y="4343400"/>
            <a:ext cx="175284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620120" y="4952880"/>
            <a:ext cx="99036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2438280" y="304560"/>
            <a:ext cx="0" cy="68580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3276720" y="304920"/>
            <a:ext cx="0" cy="129528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4114800" y="304560"/>
            <a:ext cx="0" cy="198108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5029200" y="304920"/>
            <a:ext cx="0" cy="266688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5867280" y="228240"/>
            <a:ext cx="0" cy="342900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6705720" y="152280"/>
            <a:ext cx="0" cy="411480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7620120" y="228240"/>
            <a:ext cx="0" cy="472428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8458200" y="228600"/>
            <a:ext cx="0" cy="541008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720" y="345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8720" y="106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72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1456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1456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1456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7760" y="441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776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1456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8452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79892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71332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58308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38948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25960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14232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935760" y="6324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850160" y="6324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685800" y="5714640"/>
            <a:ext cx="838080" cy="609840"/>
            <a:chOff x="685800" y="5714640"/>
            <a:chExt cx="838080" cy="609840"/>
          </a:xfrm>
        </p:grpSpPr>
        <p:sp>
          <p:nvSpPr>
            <p:cNvPr id="545" name=""/>
            <p:cNvSpPr/>
            <p:nvPr/>
          </p:nvSpPr>
          <p:spPr>
            <a:xfrm flipV="1">
              <a:off x="685800" y="57146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85800" y="57150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1523880" y="5714640"/>
            <a:ext cx="838080" cy="609840"/>
            <a:chOff x="1523880" y="5714640"/>
            <a:chExt cx="838080" cy="609840"/>
          </a:xfrm>
        </p:grpSpPr>
        <p:sp>
          <p:nvSpPr>
            <p:cNvPr id="548" name=""/>
            <p:cNvSpPr/>
            <p:nvPr/>
          </p:nvSpPr>
          <p:spPr>
            <a:xfrm flipV="1">
              <a:off x="1523880" y="57146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523880" y="57150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2438280" y="5714640"/>
            <a:ext cx="838080" cy="609840"/>
            <a:chOff x="2438280" y="5714640"/>
            <a:chExt cx="838080" cy="609840"/>
          </a:xfrm>
        </p:grpSpPr>
        <p:sp>
          <p:nvSpPr>
            <p:cNvPr id="551" name=""/>
            <p:cNvSpPr/>
            <p:nvPr/>
          </p:nvSpPr>
          <p:spPr>
            <a:xfrm flipV="1">
              <a:off x="2438280" y="57146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438280" y="57150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3276720" y="5714640"/>
            <a:ext cx="838080" cy="609840"/>
            <a:chOff x="3276720" y="5714640"/>
            <a:chExt cx="838080" cy="609840"/>
          </a:xfrm>
        </p:grpSpPr>
        <p:sp>
          <p:nvSpPr>
            <p:cNvPr id="554" name=""/>
            <p:cNvSpPr/>
            <p:nvPr/>
          </p:nvSpPr>
          <p:spPr>
            <a:xfrm flipV="1">
              <a:off x="3276720" y="57146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76720" y="57150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191120" y="5714640"/>
            <a:ext cx="838080" cy="609840"/>
            <a:chOff x="4191120" y="5714640"/>
            <a:chExt cx="838080" cy="609840"/>
          </a:xfrm>
        </p:grpSpPr>
        <p:sp>
          <p:nvSpPr>
            <p:cNvPr id="557" name=""/>
            <p:cNvSpPr/>
            <p:nvPr/>
          </p:nvSpPr>
          <p:spPr>
            <a:xfrm flipV="1">
              <a:off x="4191120" y="57146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191120" y="57150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5029200" y="5714640"/>
            <a:ext cx="838080" cy="609840"/>
            <a:chOff x="5029200" y="5714640"/>
            <a:chExt cx="838080" cy="609840"/>
          </a:xfrm>
        </p:grpSpPr>
        <p:sp>
          <p:nvSpPr>
            <p:cNvPr id="560" name=""/>
            <p:cNvSpPr/>
            <p:nvPr/>
          </p:nvSpPr>
          <p:spPr>
            <a:xfrm flipV="1">
              <a:off x="5029200" y="57146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029200" y="57150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5867280" y="5714640"/>
            <a:ext cx="838080" cy="609840"/>
            <a:chOff x="5867280" y="5714640"/>
            <a:chExt cx="838080" cy="609840"/>
          </a:xfrm>
        </p:grpSpPr>
        <p:sp>
          <p:nvSpPr>
            <p:cNvPr id="563" name=""/>
            <p:cNvSpPr/>
            <p:nvPr/>
          </p:nvSpPr>
          <p:spPr>
            <a:xfrm flipV="1">
              <a:off x="5867280" y="57146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67280" y="57150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781680" y="5714640"/>
            <a:ext cx="838080" cy="609840"/>
            <a:chOff x="6781680" y="5714640"/>
            <a:chExt cx="838080" cy="609840"/>
          </a:xfrm>
        </p:grpSpPr>
        <p:sp>
          <p:nvSpPr>
            <p:cNvPr id="566" name=""/>
            <p:cNvSpPr/>
            <p:nvPr/>
          </p:nvSpPr>
          <p:spPr>
            <a:xfrm flipV="1">
              <a:off x="6781680" y="57146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781680" y="57150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7620120" y="5714640"/>
            <a:ext cx="838080" cy="609840"/>
            <a:chOff x="7620120" y="5714640"/>
            <a:chExt cx="838080" cy="609840"/>
          </a:xfrm>
        </p:grpSpPr>
        <p:sp>
          <p:nvSpPr>
            <p:cNvPr id="569" name=""/>
            <p:cNvSpPr/>
            <p:nvPr/>
          </p:nvSpPr>
          <p:spPr>
            <a:xfrm flipV="1">
              <a:off x="7620120" y="57146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620120" y="57150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3276720" y="5028840"/>
            <a:ext cx="838080" cy="609840"/>
            <a:chOff x="3276720" y="5028840"/>
            <a:chExt cx="838080" cy="609840"/>
          </a:xfrm>
        </p:grpSpPr>
        <p:sp>
          <p:nvSpPr>
            <p:cNvPr id="572" name=""/>
            <p:cNvSpPr/>
            <p:nvPr/>
          </p:nvSpPr>
          <p:spPr>
            <a:xfrm flipV="1">
              <a:off x="3276720" y="50288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276720" y="50292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3276720" y="4343040"/>
            <a:ext cx="838080" cy="609840"/>
            <a:chOff x="3276720" y="4343040"/>
            <a:chExt cx="838080" cy="609840"/>
          </a:xfrm>
        </p:grpSpPr>
        <p:sp>
          <p:nvSpPr>
            <p:cNvPr id="575" name=""/>
            <p:cNvSpPr/>
            <p:nvPr/>
          </p:nvSpPr>
          <p:spPr>
            <a:xfrm flipV="1">
              <a:off x="3276720" y="43430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276720" y="43434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276720" y="3657240"/>
            <a:ext cx="838080" cy="609840"/>
            <a:chOff x="3276720" y="3657240"/>
            <a:chExt cx="838080" cy="609840"/>
          </a:xfrm>
        </p:grpSpPr>
        <p:sp>
          <p:nvSpPr>
            <p:cNvPr id="578" name=""/>
            <p:cNvSpPr/>
            <p:nvPr/>
          </p:nvSpPr>
          <p:spPr>
            <a:xfrm flipV="1">
              <a:off x="3276720" y="36572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36576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276720" y="3047760"/>
            <a:ext cx="838080" cy="609840"/>
            <a:chOff x="3276720" y="3047760"/>
            <a:chExt cx="838080" cy="609840"/>
          </a:xfrm>
        </p:grpSpPr>
        <p:sp>
          <p:nvSpPr>
            <p:cNvPr id="581" name=""/>
            <p:cNvSpPr/>
            <p:nvPr/>
          </p:nvSpPr>
          <p:spPr>
            <a:xfrm flipV="1">
              <a:off x="3276720" y="304776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276720" y="304812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276720" y="2361960"/>
            <a:ext cx="838080" cy="609840"/>
            <a:chOff x="3276720" y="2361960"/>
            <a:chExt cx="838080" cy="609840"/>
          </a:xfrm>
        </p:grpSpPr>
        <p:sp>
          <p:nvSpPr>
            <p:cNvPr id="584" name=""/>
            <p:cNvSpPr/>
            <p:nvPr/>
          </p:nvSpPr>
          <p:spPr>
            <a:xfrm flipV="1">
              <a:off x="3276720" y="236196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276720" y="236232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2438280" y="1676160"/>
            <a:ext cx="838080" cy="609840"/>
            <a:chOff x="2438280" y="1676160"/>
            <a:chExt cx="838080" cy="609840"/>
          </a:xfrm>
        </p:grpSpPr>
        <p:sp>
          <p:nvSpPr>
            <p:cNvPr id="587" name=""/>
            <p:cNvSpPr/>
            <p:nvPr/>
          </p:nvSpPr>
          <p:spPr>
            <a:xfrm flipV="1">
              <a:off x="2438280" y="167616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438280" y="167652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1523880" y="1676160"/>
            <a:ext cx="838080" cy="609840"/>
            <a:chOff x="1523880" y="1676160"/>
            <a:chExt cx="838080" cy="609840"/>
          </a:xfrm>
        </p:grpSpPr>
        <p:sp>
          <p:nvSpPr>
            <p:cNvPr id="590" name=""/>
            <p:cNvSpPr/>
            <p:nvPr/>
          </p:nvSpPr>
          <p:spPr>
            <a:xfrm flipV="1">
              <a:off x="1523880" y="167616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523880" y="167652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685800" y="1676160"/>
            <a:ext cx="838080" cy="609840"/>
            <a:chOff x="685800" y="1676160"/>
            <a:chExt cx="838080" cy="609840"/>
          </a:xfrm>
        </p:grpSpPr>
        <p:sp>
          <p:nvSpPr>
            <p:cNvPr id="593" name=""/>
            <p:cNvSpPr/>
            <p:nvPr/>
          </p:nvSpPr>
          <p:spPr>
            <a:xfrm flipV="1">
              <a:off x="685800" y="167616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85800" y="167652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4330800" y="345960"/>
            <a:ext cx="364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ιαγράφουμε όπου υπάρχε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η 9 σαν επόμενη κατάστασ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6" name=""/>
          <p:cNvGraphicFramePr/>
          <p:nvPr/>
        </p:nvGraphicFramePr>
        <p:xfrm>
          <a:off x="685800" y="304920"/>
          <a:ext cx="7772400" cy="602928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  <a:gridCol w="863640"/>
                <a:gridCol w="863640"/>
              </a:tblGrid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– 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– 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–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–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–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–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–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–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1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1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7" name=""/>
          <p:cNvSpPr/>
          <p:nvPr/>
        </p:nvSpPr>
        <p:spPr>
          <a:xfrm>
            <a:off x="1523880" y="304920"/>
            <a:ext cx="69343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438280" y="990720"/>
            <a:ext cx="6019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276720" y="1676520"/>
            <a:ext cx="52578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114800" y="2286000"/>
            <a:ext cx="4572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029200" y="2971800"/>
            <a:ext cx="358128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867280" y="3657600"/>
            <a:ext cx="266724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781680" y="4343400"/>
            <a:ext cx="175284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620120" y="4952880"/>
            <a:ext cx="99036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2438280" y="304560"/>
            <a:ext cx="0" cy="68580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3276720" y="304920"/>
            <a:ext cx="0" cy="129528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4114800" y="304560"/>
            <a:ext cx="0" cy="198108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5029200" y="304920"/>
            <a:ext cx="0" cy="266688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5867280" y="228240"/>
            <a:ext cx="0" cy="342900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6705720" y="152280"/>
            <a:ext cx="0" cy="411480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7620120" y="228240"/>
            <a:ext cx="0" cy="472428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8458200" y="228600"/>
            <a:ext cx="0" cy="541008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98720" y="345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8720" y="106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9872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1456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1456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1456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7760" y="441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776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1456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8452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79892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71332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58308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38948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25960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14232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935760" y="6324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850160" y="6324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85800" y="5714640"/>
            <a:ext cx="838080" cy="609840"/>
            <a:chOff x="685800" y="5714640"/>
            <a:chExt cx="838080" cy="609840"/>
          </a:xfrm>
        </p:grpSpPr>
        <p:sp>
          <p:nvSpPr>
            <p:cNvPr id="632" name=""/>
            <p:cNvSpPr/>
            <p:nvPr/>
          </p:nvSpPr>
          <p:spPr>
            <a:xfrm flipV="1">
              <a:off x="685800" y="57146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85800" y="57150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1523880" y="5714640"/>
            <a:ext cx="838080" cy="609840"/>
            <a:chOff x="1523880" y="5714640"/>
            <a:chExt cx="838080" cy="609840"/>
          </a:xfrm>
        </p:grpSpPr>
        <p:sp>
          <p:nvSpPr>
            <p:cNvPr id="635" name=""/>
            <p:cNvSpPr/>
            <p:nvPr/>
          </p:nvSpPr>
          <p:spPr>
            <a:xfrm flipV="1">
              <a:off x="1523880" y="57146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523880" y="57150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2438280" y="5714640"/>
            <a:ext cx="838080" cy="609840"/>
            <a:chOff x="2438280" y="5714640"/>
            <a:chExt cx="838080" cy="609840"/>
          </a:xfrm>
        </p:grpSpPr>
        <p:sp>
          <p:nvSpPr>
            <p:cNvPr id="638" name=""/>
            <p:cNvSpPr/>
            <p:nvPr/>
          </p:nvSpPr>
          <p:spPr>
            <a:xfrm flipV="1">
              <a:off x="2438280" y="57146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438280" y="57150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3276720" y="5714640"/>
            <a:ext cx="838080" cy="609840"/>
            <a:chOff x="3276720" y="5714640"/>
            <a:chExt cx="838080" cy="609840"/>
          </a:xfrm>
        </p:grpSpPr>
        <p:sp>
          <p:nvSpPr>
            <p:cNvPr id="641" name=""/>
            <p:cNvSpPr/>
            <p:nvPr/>
          </p:nvSpPr>
          <p:spPr>
            <a:xfrm flipV="1">
              <a:off x="3276720" y="57146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276720" y="57150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4191120" y="5714640"/>
            <a:ext cx="838080" cy="609840"/>
            <a:chOff x="4191120" y="5714640"/>
            <a:chExt cx="838080" cy="609840"/>
          </a:xfrm>
        </p:grpSpPr>
        <p:sp>
          <p:nvSpPr>
            <p:cNvPr id="644" name=""/>
            <p:cNvSpPr/>
            <p:nvPr/>
          </p:nvSpPr>
          <p:spPr>
            <a:xfrm flipV="1">
              <a:off x="4191120" y="57146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191120" y="57150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5029200" y="5714640"/>
            <a:ext cx="838080" cy="609840"/>
            <a:chOff x="5029200" y="5714640"/>
            <a:chExt cx="838080" cy="609840"/>
          </a:xfrm>
        </p:grpSpPr>
        <p:sp>
          <p:nvSpPr>
            <p:cNvPr id="647" name=""/>
            <p:cNvSpPr/>
            <p:nvPr/>
          </p:nvSpPr>
          <p:spPr>
            <a:xfrm flipV="1">
              <a:off x="5029200" y="57146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029200" y="57150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5867280" y="5714640"/>
            <a:ext cx="838080" cy="609840"/>
            <a:chOff x="5867280" y="5714640"/>
            <a:chExt cx="838080" cy="609840"/>
          </a:xfrm>
        </p:grpSpPr>
        <p:sp>
          <p:nvSpPr>
            <p:cNvPr id="650" name=""/>
            <p:cNvSpPr/>
            <p:nvPr/>
          </p:nvSpPr>
          <p:spPr>
            <a:xfrm flipV="1">
              <a:off x="5867280" y="57146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867280" y="57150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781680" y="5714640"/>
            <a:ext cx="838080" cy="609840"/>
            <a:chOff x="6781680" y="5714640"/>
            <a:chExt cx="838080" cy="609840"/>
          </a:xfrm>
        </p:grpSpPr>
        <p:sp>
          <p:nvSpPr>
            <p:cNvPr id="653" name=""/>
            <p:cNvSpPr/>
            <p:nvPr/>
          </p:nvSpPr>
          <p:spPr>
            <a:xfrm flipV="1">
              <a:off x="6781680" y="57146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781680" y="57150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7620120" y="5714640"/>
            <a:ext cx="838080" cy="609840"/>
            <a:chOff x="7620120" y="5714640"/>
            <a:chExt cx="838080" cy="609840"/>
          </a:xfrm>
        </p:grpSpPr>
        <p:sp>
          <p:nvSpPr>
            <p:cNvPr id="656" name=""/>
            <p:cNvSpPr/>
            <p:nvPr/>
          </p:nvSpPr>
          <p:spPr>
            <a:xfrm flipV="1">
              <a:off x="7620120" y="57146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620120" y="57150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3276720" y="5028840"/>
            <a:ext cx="838080" cy="609840"/>
            <a:chOff x="3276720" y="5028840"/>
            <a:chExt cx="838080" cy="609840"/>
          </a:xfrm>
        </p:grpSpPr>
        <p:sp>
          <p:nvSpPr>
            <p:cNvPr id="659" name=""/>
            <p:cNvSpPr/>
            <p:nvPr/>
          </p:nvSpPr>
          <p:spPr>
            <a:xfrm flipV="1">
              <a:off x="3276720" y="50288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76720" y="50292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3276720" y="4343040"/>
            <a:ext cx="838080" cy="609840"/>
            <a:chOff x="3276720" y="4343040"/>
            <a:chExt cx="838080" cy="609840"/>
          </a:xfrm>
        </p:grpSpPr>
        <p:sp>
          <p:nvSpPr>
            <p:cNvPr id="662" name=""/>
            <p:cNvSpPr/>
            <p:nvPr/>
          </p:nvSpPr>
          <p:spPr>
            <a:xfrm flipV="1">
              <a:off x="3276720" y="43430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276720" y="43434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3276720" y="3657240"/>
            <a:ext cx="838080" cy="609840"/>
            <a:chOff x="3276720" y="3657240"/>
            <a:chExt cx="838080" cy="609840"/>
          </a:xfrm>
        </p:grpSpPr>
        <p:sp>
          <p:nvSpPr>
            <p:cNvPr id="665" name=""/>
            <p:cNvSpPr/>
            <p:nvPr/>
          </p:nvSpPr>
          <p:spPr>
            <a:xfrm flipV="1">
              <a:off x="3276720" y="36572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276720" y="36576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276720" y="3047760"/>
            <a:ext cx="838080" cy="609840"/>
            <a:chOff x="3276720" y="3047760"/>
            <a:chExt cx="838080" cy="609840"/>
          </a:xfrm>
        </p:grpSpPr>
        <p:sp>
          <p:nvSpPr>
            <p:cNvPr id="668" name=""/>
            <p:cNvSpPr/>
            <p:nvPr/>
          </p:nvSpPr>
          <p:spPr>
            <a:xfrm flipV="1">
              <a:off x="3276720" y="304776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276720" y="304812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3276720" y="2361960"/>
            <a:ext cx="838080" cy="609840"/>
            <a:chOff x="3276720" y="2361960"/>
            <a:chExt cx="838080" cy="609840"/>
          </a:xfrm>
        </p:grpSpPr>
        <p:sp>
          <p:nvSpPr>
            <p:cNvPr id="671" name=""/>
            <p:cNvSpPr/>
            <p:nvPr/>
          </p:nvSpPr>
          <p:spPr>
            <a:xfrm flipV="1">
              <a:off x="3276720" y="236196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276720" y="236232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2438280" y="1676160"/>
            <a:ext cx="838080" cy="609840"/>
            <a:chOff x="2438280" y="1676160"/>
            <a:chExt cx="838080" cy="609840"/>
          </a:xfrm>
        </p:grpSpPr>
        <p:sp>
          <p:nvSpPr>
            <p:cNvPr id="674" name=""/>
            <p:cNvSpPr/>
            <p:nvPr/>
          </p:nvSpPr>
          <p:spPr>
            <a:xfrm flipV="1">
              <a:off x="2438280" y="167616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438280" y="167652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1523880" y="1676160"/>
            <a:ext cx="838080" cy="609840"/>
            <a:chOff x="1523880" y="1676160"/>
            <a:chExt cx="838080" cy="609840"/>
          </a:xfrm>
        </p:grpSpPr>
        <p:sp>
          <p:nvSpPr>
            <p:cNvPr id="677" name=""/>
            <p:cNvSpPr/>
            <p:nvPr/>
          </p:nvSpPr>
          <p:spPr>
            <a:xfrm flipV="1">
              <a:off x="1523880" y="167616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523880" y="167652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685800" y="1676160"/>
            <a:ext cx="838080" cy="609840"/>
            <a:chOff x="685800" y="1676160"/>
            <a:chExt cx="838080" cy="609840"/>
          </a:xfrm>
        </p:grpSpPr>
        <p:sp>
          <p:nvSpPr>
            <p:cNvPr id="680" name=""/>
            <p:cNvSpPr/>
            <p:nvPr/>
          </p:nvSpPr>
          <p:spPr>
            <a:xfrm flipV="1">
              <a:off x="685800" y="167616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85800" y="167652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330800" y="345960"/>
            <a:ext cx="364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ιαγράφουμε όπου υπάρχε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η 4 σαν επόμενη κατάστασ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85800" y="304560"/>
            <a:ext cx="838080" cy="609840"/>
            <a:chOff x="685800" y="304560"/>
            <a:chExt cx="838080" cy="609840"/>
          </a:xfrm>
        </p:grpSpPr>
        <p:sp>
          <p:nvSpPr>
            <p:cNvPr id="684" name=""/>
            <p:cNvSpPr/>
            <p:nvPr/>
          </p:nvSpPr>
          <p:spPr>
            <a:xfrm flipV="1">
              <a:off x="685800" y="30456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85800" y="30492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1523880" y="990360"/>
            <a:ext cx="838080" cy="609840"/>
            <a:chOff x="1523880" y="990360"/>
            <a:chExt cx="838080" cy="609840"/>
          </a:xfrm>
        </p:grpSpPr>
        <p:sp>
          <p:nvSpPr>
            <p:cNvPr id="687" name=""/>
            <p:cNvSpPr/>
            <p:nvPr/>
          </p:nvSpPr>
          <p:spPr>
            <a:xfrm flipV="1">
              <a:off x="1523880" y="99036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523880" y="99072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1523880" y="2361960"/>
            <a:ext cx="838080" cy="609840"/>
            <a:chOff x="1523880" y="2361960"/>
            <a:chExt cx="838080" cy="609840"/>
          </a:xfrm>
        </p:grpSpPr>
        <p:sp>
          <p:nvSpPr>
            <p:cNvPr id="690" name=""/>
            <p:cNvSpPr/>
            <p:nvPr/>
          </p:nvSpPr>
          <p:spPr>
            <a:xfrm flipV="1">
              <a:off x="1523880" y="236196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523880" y="236232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685800" y="3047760"/>
            <a:ext cx="838080" cy="609840"/>
            <a:chOff x="685800" y="3047760"/>
            <a:chExt cx="838080" cy="609840"/>
          </a:xfrm>
        </p:grpSpPr>
        <p:sp>
          <p:nvSpPr>
            <p:cNvPr id="693" name=""/>
            <p:cNvSpPr/>
            <p:nvPr/>
          </p:nvSpPr>
          <p:spPr>
            <a:xfrm flipV="1">
              <a:off x="685800" y="304776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85800" y="304812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1523880" y="3657240"/>
            <a:ext cx="838080" cy="609840"/>
            <a:chOff x="1523880" y="3657240"/>
            <a:chExt cx="838080" cy="609840"/>
          </a:xfrm>
        </p:grpSpPr>
        <p:sp>
          <p:nvSpPr>
            <p:cNvPr id="696" name=""/>
            <p:cNvSpPr/>
            <p:nvPr/>
          </p:nvSpPr>
          <p:spPr>
            <a:xfrm flipV="1">
              <a:off x="1523880" y="36572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523880" y="36576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2438280" y="3047760"/>
            <a:ext cx="838080" cy="609840"/>
            <a:chOff x="2438280" y="3047760"/>
            <a:chExt cx="838080" cy="609840"/>
          </a:xfrm>
        </p:grpSpPr>
        <p:sp>
          <p:nvSpPr>
            <p:cNvPr id="699" name=""/>
            <p:cNvSpPr/>
            <p:nvPr/>
          </p:nvSpPr>
          <p:spPr>
            <a:xfrm flipV="1">
              <a:off x="2438280" y="304776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438280" y="304812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2438280" y="4343040"/>
            <a:ext cx="838080" cy="609840"/>
            <a:chOff x="2438280" y="4343040"/>
            <a:chExt cx="838080" cy="609840"/>
          </a:xfrm>
        </p:grpSpPr>
        <p:sp>
          <p:nvSpPr>
            <p:cNvPr id="702" name=""/>
            <p:cNvSpPr/>
            <p:nvPr/>
          </p:nvSpPr>
          <p:spPr>
            <a:xfrm flipV="1">
              <a:off x="2438280" y="43430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38280" y="43434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4191120" y="3047760"/>
            <a:ext cx="838080" cy="609840"/>
            <a:chOff x="4191120" y="3047760"/>
            <a:chExt cx="838080" cy="609840"/>
          </a:xfrm>
        </p:grpSpPr>
        <p:sp>
          <p:nvSpPr>
            <p:cNvPr id="705" name=""/>
            <p:cNvSpPr/>
            <p:nvPr/>
          </p:nvSpPr>
          <p:spPr>
            <a:xfrm flipV="1">
              <a:off x="4191120" y="304776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191120" y="304812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5029200" y="3657240"/>
            <a:ext cx="838080" cy="609840"/>
            <a:chOff x="5029200" y="3657240"/>
            <a:chExt cx="838080" cy="609840"/>
          </a:xfrm>
        </p:grpSpPr>
        <p:sp>
          <p:nvSpPr>
            <p:cNvPr id="708" name=""/>
            <p:cNvSpPr/>
            <p:nvPr/>
          </p:nvSpPr>
          <p:spPr>
            <a:xfrm flipV="1">
              <a:off x="5029200" y="36572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029200" y="36576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1523880" y="5028840"/>
            <a:ext cx="838080" cy="609840"/>
            <a:chOff x="1523880" y="5028840"/>
            <a:chExt cx="838080" cy="609840"/>
          </a:xfrm>
        </p:grpSpPr>
        <p:sp>
          <p:nvSpPr>
            <p:cNvPr id="711" name=""/>
            <p:cNvSpPr/>
            <p:nvPr/>
          </p:nvSpPr>
          <p:spPr>
            <a:xfrm flipV="1">
              <a:off x="1523880" y="50288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23880" y="50292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685800" y="4343040"/>
            <a:ext cx="838080" cy="609840"/>
            <a:chOff x="685800" y="4343040"/>
            <a:chExt cx="838080" cy="609840"/>
          </a:xfrm>
        </p:grpSpPr>
        <p:sp>
          <p:nvSpPr>
            <p:cNvPr id="714" name=""/>
            <p:cNvSpPr/>
            <p:nvPr/>
          </p:nvSpPr>
          <p:spPr>
            <a:xfrm flipV="1">
              <a:off x="685800" y="43430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85800" y="43434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4191120" y="4343040"/>
            <a:ext cx="838080" cy="609840"/>
            <a:chOff x="4191120" y="4343040"/>
            <a:chExt cx="838080" cy="609840"/>
          </a:xfrm>
        </p:grpSpPr>
        <p:sp>
          <p:nvSpPr>
            <p:cNvPr id="717" name=""/>
            <p:cNvSpPr/>
            <p:nvPr/>
          </p:nvSpPr>
          <p:spPr>
            <a:xfrm flipV="1">
              <a:off x="4191120" y="43430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191120" y="43434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5029200" y="5028840"/>
            <a:ext cx="838080" cy="609840"/>
            <a:chOff x="5029200" y="5028840"/>
            <a:chExt cx="838080" cy="609840"/>
          </a:xfrm>
        </p:grpSpPr>
        <p:sp>
          <p:nvSpPr>
            <p:cNvPr id="720" name=""/>
            <p:cNvSpPr/>
            <p:nvPr/>
          </p:nvSpPr>
          <p:spPr>
            <a:xfrm flipV="1">
              <a:off x="5029200" y="50288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029200" y="50292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6781680" y="5028840"/>
            <a:ext cx="838080" cy="609840"/>
            <a:chOff x="6781680" y="5028840"/>
            <a:chExt cx="838080" cy="609840"/>
          </a:xfrm>
        </p:grpSpPr>
        <p:sp>
          <p:nvSpPr>
            <p:cNvPr id="723" name=""/>
            <p:cNvSpPr/>
            <p:nvPr/>
          </p:nvSpPr>
          <p:spPr>
            <a:xfrm flipV="1">
              <a:off x="6781680" y="50288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781680" y="50292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5867280" y="4343040"/>
            <a:ext cx="838080" cy="609840"/>
            <a:chOff x="5867280" y="4343040"/>
            <a:chExt cx="838080" cy="609840"/>
          </a:xfrm>
        </p:grpSpPr>
        <p:sp>
          <p:nvSpPr>
            <p:cNvPr id="726" name=""/>
            <p:cNvSpPr/>
            <p:nvPr/>
          </p:nvSpPr>
          <p:spPr>
            <a:xfrm flipV="1">
              <a:off x="5867280" y="43430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867280" y="43434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8" name=""/>
          <p:cNvGraphicFramePr/>
          <p:nvPr/>
        </p:nvGraphicFramePr>
        <p:xfrm>
          <a:off x="685800" y="304920"/>
          <a:ext cx="7772400" cy="602928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  <a:gridCol w="863640"/>
                <a:gridCol w="863640"/>
              </a:tblGrid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– 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– 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–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–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–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–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–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–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1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1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9" name=""/>
          <p:cNvSpPr/>
          <p:nvPr/>
        </p:nvSpPr>
        <p:spPr>
          <a:xfrm>
            <a:off x="1523880" y="304920"/>
            <a:ext cx="69343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438280" y="990720"/>
            <a:ext cx="6019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276720" y="1676520"/>
            <a:ext cx="52578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114800" y="2286000"/>
            <a:ext cx="4572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029200" y="2971800"/>
            <a:ext cx="358128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867280" y="3657600"/>
            <a:ext cx="266724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81680" y="4343400"/>
            <a:ext cx="175284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620120" y="4952880"/>
            <a:ext cx="99036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2438280" y="304560"/>
            <a:ext cx="0" cy="68580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3276720" y="304920"/>
            <a:ext cx="0" cy="129528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4114800" y="304560"/>
            <a:ext cx="0" cy="198108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5029200" y="304920"/>
            <a:ext cx="0" cy="266688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5867280" y="228240"/>
            <a:ext cx="0" cy="342900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6705720" y="152280"/>
            <a:ext cx="0" cy="411480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7620120" y="228240"/>
            <a:ext cx="0" cy="472428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8458200" y="228600"/>
            <a:ext cx="0" cy="541008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98720" y="345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98720" y="106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9872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1456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1456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1456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7760" y="441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776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1456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8452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79892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71332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58308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38948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25960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14232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935760" y="6324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850160" y="6324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685800" y="5714640"/>
            <a:ext cx="838080" cy="609840"/>
            <a:chOff x="685800" y="5714640"/>
            <a:chExt cx="838080" cy="609840"/>
          </a:xfrm>
        </p:grpSpPr>
        <p:sp>
          <p:nvSpPr>
            <p:cNvPr id="764" name=""/>
            <p:cNvSpPr/>
            <p:nvPr/>
          </p:nvSpPr>
          <p:spPr>
            <a:xfrm flipV="1">
              <a:off x="685800" y="57146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85800" y="57150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1523880" y="5714640"/>
            <a:ext cx="838080" cy="609840"/>
            <a:chOff x="1523880" y="5714640"/>
            <a:chExt cx="838080" cy="609840"/>
          </a:xfrm>
        </p:grpSpPr>
        <p:sp>
          <p:nvSpPr>
            <p:cNvPr id="767" name=""/>
            <p:cNvSpPr/>
            <p:nvPr/>
          </p:nvSpPr>
          <p:spPr>
            <a:xfrm flipV="1">
              <a:off x="1523880" y="57146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523880" y="57150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2438280" y="5714640"/>
            <a:ext cx="838080" cy="609840"/>
            <a:chOff x="2438280" y="5714640"/>
            <a:chExt cx="838080" cy="609840"/>
          </a:xfrm>
        </p:grpSpPr>
        <p:sp>
          <p:nvSpPr>
            <p:cNvPr id="770" name=""/>
            <p:cNvSpPr/>
            <p:nvPr/>
          </p:nvSpPr>
          <p:spPr>
            <a:xfrm flipV="1">
              <a:off x="2438280" y="57146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438280" y="57150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3276720" y="5714640"/>
            <a:ext cx="838080" cy="609840"/>
            <a:chOff x="3276720" y="5714640"/>
            <a:chExt cx="838080" cy="609840"/>
          </a:xfrm>
        </p:grpSpPr>
        <p:sp>
          <p:nvSpPr>
            <p:cNvPr id="773" name=""/>
            <p:cNvSpPr/>
            <p:nvPr/>
          </p:nvSpPr>
          <p:spPr>
            <a:xfrm flipV="1">
              <a:off x="3276720" y="57146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276720" y="57150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4191120" y="5714640"/>
            <a:ext cx="838080" cy="609840"/>
            <a:chOff x="4191120" y="5714640"/>
            <a:chExt cx="838080" cy="609840"/>
          </a:xfrm>
        </p:grpSpPr>
        <p:sp>
          <p:nvSpPr>
            <p:cNvPr id="776" name=""/>
            <p:cNvSpPr/>
            <p:nvPr/>
          </p:nvSpPr>
          <p:spPr>
            <a:xfrm flipV="1">
              <a:off x="4191120" y="57146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191120" y="57150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5029200" y="5714640"/>
            <a:ext cx="838080" cy="609840"/>
            <a:chOff x="5029200" y="5714640"/>
            <a:chExt cx="838080" cy="609840"/>
          </a:xfrm>
        </p:grpSpPr>
        <p:sp>
          <p:nvSpPr>
            <p:cNvPr id="779" name=""/>
            <p:cNvSpPr/>
            <p:nvPr/>
          </p:nvSpPr>
          <p:spPr>
            <a:xfrm flipV="1">
              <a:off x="5029200" y="57146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029200" y="57150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867280" y="5714640"/>
            <a:ext cx="838080" cy="609840"/>
            <a:chOff x="5867280" y="5714640"/>
            <a:chExt cx="838080" cy="609840"/>
          </a:xfrm>
        </p:grpSpPr>
        <p:sp>
          <p:nvSpPr>
            <p:cNvPr id="782" name=""/>
            <p:cNvSpPr/>
            <p:nvPr/>
          </p:nvSpPr>
          <p:spPr>
            <a:xfrm flipV="1">
              <a:off x="5867280" y="57146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867280" y="57150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6781680" y="5714640"/>
            <a:ext cx="838080" cy="609840"/>
            <a:chOff x="6781680" y="5714640"/>
            <a:chExt cx="838080" cy="609840"/>
          </a:xfrm>
        </p:grpSpPr>
        <p:sp>
          <p:nvSpPr>
            <p:cNvPr id="785" name=""/>
            <p:cNvSpPr/>
            <p:nvPr/>
          </p:nvSpPr>
          <p:spPr>
            <a:xfrm flipV="1">
              <a:off x="6781680" y="57146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781680" y="57150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7620120" y="5714640"/>
            <a:ext cx="838080" cy="609840"/>
            <a:chOff x="7620120" y="5714640"/>
            <a:chExt cx="838080" cy="609840"/>
          </a:xfrm>
        </p:grpSpPr>
        <p:sp>
          <p:nvSpPr>
            <p:cNvPr id="788" name=""/>
            <p:cNvSpPr/>
            <p:nvPr/>
          </p:nvSpPr>
          <p:spPr>
            <a:xfrm flipV="1">
              <a:off x="7620120" y="57146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620120" y="57150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3276720" y="5028840"/>
            <a:ext cx="838080" cy="609840"/>
            <a:chOff x="3276720" y="5028840"/>
            <a:chExt cx="838080" cy="609840"/>
          </a:xfrm>
        </p:grpSpPr>
        <p:sp>
          <p:nvSpPr>
            <p:cNvPr id="791" name=""/>
            <p:cNvSpPr/>
            <p:nvPr/>
          </p:nvSpPr>
          <p:spPr>
            <a:xfrm flipV="1">
              <a:off x="3276720" y="50288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276720" y="50292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3276720" y="4343040"/>
            <a:ext cx="838080" cy="609840"/>
            <a:chOff x="3276720" y="4343040"/>
            <a:chExt cx="838080" cy="609840"/>
          </a:xfrm>
        </p:grpSpPr>
        <p:sp>
          <p:nvSpPr>
            <p:cNvPr id="794" name=""/>
            <p:cNvSpPr/>
            <p:nvPr/>
          </p:nvSpPr>
          <p:spPr>
            <a:xfrm flipV="1">
              <a:off x="3276720" y="43430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276720" y="43434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3276720" y="3657240"/>
            <a:ext cx="838080" cy="609840"/>
            <a:chOff x="3276720" y="3657240"/>
            <a:chExt cx="838080" cy="609840"/>
          </a:xfrm>
        </p:grpSpPr>
        <p:sp>
          <p:nvSpPr>
            <p:cNvPr id="797" name=""/>
            <p:cNvSpPr/>
            <p:nvPr/>
          </p:nvSpPr>
          <p:spPr>
            <a:xfrm flipV="1">
              <a:off x="3276720" y="36572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276720" y="36576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3276720" y="3047760"/>
            <a:ext cx="838080" cy="609840"/>
            <a:chOff x="3276720" y="3047760"/>
            <a:chExt cx="838080" cy="609840"/>
          </a:xfrm>
        </p:grpSpPr>
        <p:sp>
          <p:nvSpPr>
            <p:cNvPr id="800" name=""/>
            <p:cNvSpPr/>
            <p:nvPr/>
          </p:nvSpPr>
          <p:spPr>
            <a:xfrm flipV="1">
              <a:off x="3276720" y="304776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276720" y="304812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276720" y="2361960"/>
            <a:ext cx="838080" cy="609840"/>
            <a:chOff x="3276720" y="2361960"/>
            <a:chExt cx="838080" cy="609840"/>
          </a:xfrm>
        </p:grpSpPr>
        <p:sp>
          <p:nvSpPr>
            <p:cNvPr id="803" name=""/>
            <p:cNvSpPr/>
            <p:nvPr/>
          </p:nvSpPr>
          <p:spPr>
            <a:xfrm flipV="1">
              <a:off x="3276720" y="236196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276720" y="236232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2438280" y="1676160"/>
            <a:ext cx="838080" cy="609840"/>
            <a:chOff x="2438280" y="1676160"/>
            <a:chExt cx="838080" cy="609840"/>
          </a:xfrm>
        </p:grpSpPr>
        <p:sp>
          <p:nvSpPr>
            <p:cNvPr id="806" name=""/>
            <p:cNvSpPr/>
            <p:nvPr/>
          </p:nvSpPr>
          <p:spPr>
            <a:xfrm flipV="1">
              <a:off x="2438280" y="167616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438280" y="167652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1523880" y="1676160"/>
            <a:ext cx="838080" cy="609840"/>
            <a:chOff x="1523880" y="1676160"/>
            <a:chExt cx="838080" cy="609840"/>
          </a:xfrm>
        </p:grpSpPr>
        <p:sp>
          <p:nvSpPr>
            <p:cNvPr id="809" name=""/>
            <p:cNvSpPr/>
            <p:nvPr/>
          </p:nvSpPr>
          <p:spPr>
            <a:xfrm flipV="1">
              <a:off x="1523880" y="167616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523880" y="167652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685800" y="1676160"/>
            <a:ext cx="838080" cy="609840"/>
            <a:chOff x="685800" y="1676160"/>
            <a:chExt cx="838080" cy="609840"/>
          </a:xfrm>
        </p:grpSpPr>
        <p:sp>
          <p:nvSpPr>
            <p:cNvPr id="812" name=""/>
            <p:cNvSpPr/>
            <p:nvPr/>
          </p:nvSpPr>
          <p:spPr>
            <a:xfrm flipV="1">
              <a:off x="685800" y="167616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85800" y="167652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4" name=""/>
          <p:cNvSpPr/>
          <p:nvPr/>
        </p:nvSpPr>
        <p:spPr>
          <a:xfrm>
            <a:off x="4330800" y="345960"/>
            <a:ext cx="395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ιαγράφουμε τις υπόλοιπες μ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υμβατές καταστάσει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685800" y="304560"/>
            <a:ext cx="838080" cy="609840"/>
            <a:chOff x="685800" y="304560"/>
            <a:chExt cx="838080" cy="609840"/>
          </a:xfrm>
        </p:grpSpPr>
        <p:sp>
          <p:nvSpPr>
            <p:cNvPr id="816" name=""/>
            <p:cNvSpPr/>
            <p:nvPr/>
          </p:nvSpPr>
          <p:spPr>
            <a:xfrm flipV="1">
              <a:off x="685800" y="30456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85800" y="30492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1523880" y="990360"/>
            <a:ext cx="838080" cy="609840"/>
            <a:chOff x="1523880" y="990360"/>
            <a:chExt cx="838080" cy="609840"/>
          </a:xfrm>
        </p:grpSpPr>
        <p:sp>
          <p:nvSpPr>
            <p:cNvPr id="819" name=""/>
            <p:cNvSpPr/>
            <p:nvPr/>
          </p:nvSpPr>
          <p:spPr>
            <a:xfrm flipV="1">
              <a:off x="1523880" y="99036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523880" y="99072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1523880" y="2361960"/>
            <a:ext cx="838080" cy="609840"/>
            <a:chOff x="1523880" y="2361960"/>
            <a:chExt cx="838080" cy="609840"/>
          </a:xfrm>
        </p:grpSpPr>
        <p:sp>
          <p:nvSpPr>
            <p:cNvPr id="822" name=""/>
            <p:cNvSpPr/>
            <p:nvPr/>
          </p:nvSpPr>
          <p:spPr>
            <a:xfrm flipV="1">
              <a:off x="1523880" y="236196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523880" y="236232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685800" y="3047760"/>
            <a:ext cx="838080" cy="609840"/>
            <a:chOff x="685800" y="3047760"/>
            <a:chExt cx="838080" cy="609840"/>
          </a:xfrm>
        </p:grpSpPr>
        <p:sp>
          <p:nvSpPr>
            <p:cNvPr id="825" name=""/>
            <p:cNvSpPr/>
            <p:nvPr/>
          </p:nvSpPr>
          <p:spPr>
            <a:xfrm flipV="1">
              <a:off x="685800" y="304776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85800" y="304812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1523880" y="3657240"/>
            <a:ext cx="838080" cy="609840"/>
            <a:chOff x="1523880" y="3657240"/>
            <a:chExt cx="838080" cy="609840"/>
          </a:xfrm>
        </p:grpSpPr>
        <p:sp>
          <p:nvSpPr>
            <p:cNvPr id="828" name=""/>
            <p:cNvSpPr/>
            <p:nvPr/>
          </p:nvSpPr>
          <p:spPr>
            <a:xfrm flipV="1">
              <a:off x="1523880" y="36572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523880" y="36576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2438280" y="3047760"/>
            <a:ext cx="838080" cy="609840"/>
            <a:chOff x="2438280" y="3047760"/>
            <a:chExt cx="838080" cy="609840"/>
          </a:xfrm>
        </p:grpSpPr>
        <p:sp>
          <p:nvSpPr>
            <p:cNvPr id="831" name=""/>
            <p:cNvSpPr/>
            <p:nvPr/>
          </p:nvSpPr>
          <p:spPr>
            <a:xfrm flipV="1">
              <a:off x="2438280" y="304776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438280" y="304812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2438280" y="4343040"/>
            <a:ext cx="838080" cy="609840"/>
            <a:chOff x="2438280" y="4343040"/>
            <a:chExt cx="838080" cy="609840"/>
          </a:xfrm>
        </p:grpSpPr>
        <p:sp>
          <p:nvSpPr>
            <p:cNvPr id="834" name=""/>
            <p:cNvSpPr/>
            <p:nvPr/>
          </p:nvSpPr>
          <p:spPr>
            <a:xfrm flipV="1">
              <a:off x="2438280" y="43430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438280" y="43434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4191120" y="3047760"/>
            <a:ext cx="838080" cy="609840"/>
            <a:chOff x="4191120" y="3047760"/>
            <a:chExt cx="838080" cy="609840"/>
          </a:xfrm>
        </p:grpSpPr>
        <p:sp>
          <p:nvSpPr>
            <p:cNvPr id="837" name=""/>
            <p:cNvSpPr/>
            <p:nvPr/>
          </p:nvSpPr>
          <p:spPr>
            <a:xfrm flipV="1">
              <a:off x="4191120" y="304776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191120" y="304812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5029200" y="3657240"/>
            <a:ext cx="838080" cy="609840"/>
            <a:chOff x="5029200" y="3657240"/>
            <a:chExt cx="838080" cy="609840"/>
          </a:xfrm>
        </p:grpSpPr>
        <p:sp>
          <p:nvSpPr>
            <p:cNvPr id="840" name=""/>
            <p:cNvSpPr/>
            <p:nvPr/>
          </p:nvSpPr>
          <p:spPr>
            <a:xfrm flipV="1">
              <a:off x="5029200" y="36572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029200" y="36576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1523880" y="5028840"/>
            <a:ext cx="838080" cy="609840"/>
            <a:chOff x="1523880" y="5028840"/>
            <a:chExt cx="838080" cy="609840"/>
          </a:xfrm>
        </p:grpSpPr>
        <p:sp>
          <p:nvSpPr>
            <p:cNvPr id="843" name=""/>
            <p:cNvSpPr/>
            <p:nvPr/>
          </p:nvSpPr>
          <p:spPr>
            <a:xfrm flipV="1">
              <a:off x="1523880" y="50288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523880" y="50292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685800" y="4343040"/>
            <a:ext cx="838080" cy="609840"/>
            <a:chOff x="685800" y="4343040"/>
            <a:chExt cx="838080" cy="609840"/>
          </a:xfrm>
        </p:grpSpPr>
        <p:sp>
          <p:nvSpPr>
            <p:cNvPr id="846" name=""/>
            <p:cNvSpPr/>
            <p:nvPr/>
          </p:nvSpPr>
          <p:spPr>
            <a:xfrm flipV="1">
              <a:off x="685800" y="43430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85800" y="43434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4191120" y="4343040"/>
            <a:ext cx="838080" cy="609840"/>
            <a:chOff x="4191120" y="4343040"/>
            <a:chExt cx="838080" cy="609840"/>
          </a:xfrm>
        </p:grpSpPr>
        <p:sp>
          <p:nvSpPr>
            <p:cNvPr id="849" name=""/>
            <p:cNvSpPr/>
            <p:nvPr/>
          </p:nvSpPr>
          <p:spPr>
            <a:xfrm flipV="1">
              <a:off x="4191120" y="43430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91120" y="43434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029200" y="5028840"/>
            <a:ext cx="838080" cy="609840"/>
            <a:chOff x="5029200" y="5028840"/>
            <a:chExt cx="838080" cy="609840"/>
          </a:xfrm>
        </p:grpSpPr>
        <p:sp>
          <p:nvSpPr>
            <p:cNvPr id="852" name=""/>
            <p:cNvSpPr/>
            <p:nvPr/>
          </p:nvSpPr>
          <p:spPr>
            <a:xfrm flipV="1">
              <a:off x="5029200" y="50288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029200" y="50292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6781680" y="5028840"/>
            <a:ext cx="838080" cy="609840"/>
            <a:chOff x="6781680" y="5028840"/>
            <a:chExt cx="838080" cy="609840"/>
          </a:xfrm>
        </p:grpSpPr>
        <p:sp>
          <p:nvSpPr>
            <p:cNvPr id="855" name=""/>
            <p:cNvSpPr/>
            <p:nvPr/>
          </p:nvSpPr>
          <p:spPr>
            <a:xfrm flipV="1">
              <a:off x="6781680" y="50288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781680" y="50292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5867280" y="4343040"/>
            <a:ext cx="838080" cy="609840"/>
            <a:chOff x="5867280" y="4343040"/>
            <a:chExt cx="838080" cy="609840"/>
          </a:xfrm>
        </p:grpSpPr>
        <p:sp>
          <p:nvSpPr>
            <p:cNvPr id="858" name=""/>
            <p:cNvSpPr/>
            <p:nvPr/>
          </p:nvSpPr>
          <p:spPr>
            <a:xfrm flipV="1">
              <a:off x="5867280" y="434304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867280" y="4343400"/>
              <a:ext cx="83808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5867280" y="5028840"/>
            <a:ext cx="838080" cy="609840"/>
            <a:chOff x="5867280" y="5028840"/>
            <a:chExt cx="838080" cy="609840"/>
          </a:xfrm>
        </p:grpSpPr>
        <p:sp>
          <p:nvSpPr>
            <p:cNvPr id="861" name=""/>
            <p:cNvSpPr/>
            <p:nvPr/>
          </p:nvSpPr>
          <p:spPr>
            <a:xfrm flipV="1">
              <a:off x="5867280" y="5028840"/>
              <a:ext cx="838080" cy="6094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867280" y="5029200"/>
              <a:ext cx="838080" cy="6094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4191120" y="3657240"/>
            <a:ext cx="838080" cy="609840"/>
            <a:chOff x="4191120" y="3657240"/>
            <a:chExt cx="838080" cy="609840"/>
          </a:xfrm>
        </p:grpSpPr>
        <p:sp>
          <p:nvSpPr>
            <p:cNvPr id="864" name=""/>
            <p:cNvSpPr/>
            <p:nvPr/>
          </p:nvSpPr>
          <p:spPr>
            <a:xfrm flipV="1">
              <a:off x="4191120" y="3657240"/>
              <a:ext cx="838080" cy="6094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191120" y="3657600"/>
              <a:ext cx="838080" cy="6094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2438280" y="3657240"/>
            <a:ext cx="838080" cy="609840"/>
            <a:chOff x="2438280" y="3657240"/>
            <a:chExt cx="838080" cy="609840"/>
          </a:xfrm>
        </p:grpSpPr>
        <p:sp>
          <p:nvSpPr>
            <p:cNvPr id="867" name=""/>
            <p:cNvSpPr/>
            <p:nvPr/>
          </p:nvSpPr>
          <p:spPr>
            <a:xfrm flipV="1">
              <a:off x="2438280" y="3657240"/>
              <a:ext cx="838080" cy="6094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438280" y="3657600"/>
              <a:ext cx="838080" cy="6094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685800" y="3657240"/>
            <a:ext cx="838080" cy="609840"/>
            <a:chOff x="685800" y="3657240"/>
            <a:chExt cx="838080" cy="609840"/>
          </a:xfrm>
        </p:grpSpPr>
        <p:sp>
          <p:nvSpPr>
            <p:cNvPr id="870" name=""/>
            <p:cNvSpPr/>
            <p:nvPr/>
          </p:nvSpPr>
          <p:spPr>
            <a:xfrm flipV="1">
              <a:off x="685800" y="3657240"/>
              <a:ext cx="838080" cy="6094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5800" y="3657600"/>
              <a:ext cx="838080" cy="6094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Ελέγχουμε τις στήλες και έχουμ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9) (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9) (11) (1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9) (11) (10) (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9) (11)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(6,10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9)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(5,11) (6,10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9)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(5,11) (6,10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8) (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9)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(3,5,11) (6,10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8) (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9)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(3,5,11) (2,6,10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8) (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9)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(1,3,5,11) (2,6,10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8) (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3" name=""/>
          <p:cNvGraphicFramePr/>
          <p:nvPr/>
        </p:nvGraphicFramePr>
        <p:xfrm>
          <a:off x="1523880" y="1994040"/>
          <a:ext cx="6019920" cy="2371680"/>
        </p:xfrm>
        <a:graphic>
          <a:graphicData uri="http://schemas.openxmlformats.org/drawingml/2006/table">
            <a:tbl>
              <a:tblPr/>
              <a:tblGrid>
                <a:gridCol w="2006640"/>
                <a:gridCol w="2006640"/>
                <a:gridCol w="200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 st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=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=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4" name=""/>
          <p:cNvSpPr/>
          <p:nvPr/>
        </p:nvSpPr>
        <p:spPr>
          <a:xfrm>
            <a:off x="1523880" y="3940200"/>
            <a:ext cx="60199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Μετρητέ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838080" y="2287440"/>
            <a:ext cx="838080" cy="838440"/>
            <a:chOff x="838080" y="2287440"/>
            <a:chExt cx="838080" cy="838440"/>
          </a:xfrm>
        </p:grpSpPr>
        <p:sp>
          <p:nvSpPr>
            <p:cNvPr id="76" name=""/>
            <p:cNvSpPr/>
            <p:nvPr/>
          </p:nvSpPr>
          <p:spPr>
            <a:xfrm>
              <a:off x="838080" y="22874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92160" y="251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676520" y="2287440"/>
            <a:ext cx="838080" cy="838440"/>
            <a:chOff x="1676520" y="2287440"/>
            <a:chExt cx="838080" cy="838440"/>
          </a:xfrm>
        </p:grpSpPr>
        <p:sp>
          <p:nvSpPr>
            <p:cNvPr id="79" name=""/>
            <p:cNvSpPr/>
            <p:nvPr/>
          </p:nvSpPr>
          <p:spPr>
            <a:xfrm>
              <a:off x="1676520" y="22874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30600" y="251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676520" y="3125880"/>
            <a:ext cx="838080" cy="838080"/>
            <a:chOff x="1676520" y="3125880"/>
            <a:chExt cx="838080" cy="838080"/>
          </a:xfrm>
        </p:grpSpPr>
        <p:sp>
          <p:nvSpPr>
            <p:cNvPr id="82" name=""/>
            <p:cNvSpPr/>
            <p:nvPr/>
          </p:nvSpPr>
          <p:spPr>
            <a:xfrm>
              <a:off x="1676520" y="31258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830600" y="335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838080" y="3125880"/>
            <a:ext cx="838080" cy="838080"/>
            <a:chOff x="838080" y="3125880"/>
            <a:chExt cx="838080" cy="838080"/>
          </a:xfrm>
        </p:grpSpPr>
        <p:sp>
          <p:nvSpPr>
            <p:cNvPr id="85" name=""/>
            <p:cNvSpPr/>
            <p:nvPr/>
          </p:nvSpPr>
          <p:spPr>
            <a:xfrm>
              <a:off x="838080" y="31258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92160" y="335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 flipH="1" flipV="1">
            <a:off x="304560" y="1753920"/>
            <a:ext cx="53316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9720" y="15238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672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2880" y="1754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30960" y="1754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9000" y="2440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9000" y="3354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514600" y="2287440"/>
            <a:ext cx="838080" cy="838440"/>
            <a:chOff x="2514600" y="2287440"/>
            <a:chExt cx="838080" cy="838440"/>
          </a:xfrm>
        </p:grpSpPr>
        <p:sp>
          <p:nvSpPr>
            <p:cNvPr id="95" name=""/>
            <p:cNvSpPr/>
            <p:nvPr/>
          </p:nvSpPr>
          <p:spPr>
            <a:xfrm>
              <a:off x="2514600" y="22874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668680" y="251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352680" y="2287440"/>
            <a:ext cx="838080" cy="838440"/>
            <a:chOff x="3352680" y="2287440"/>
            <a:chExt cx="838080" cy="838440"/>
          </a:xfrm>
        </p:grpSpPr>
        <p:sp>
          <p:nvSpPr>
            <p:cNvPr id="98" name=""/>
            <p:cNvSpPr/>
            <p:nvPr/>
          </p:nvSpPr>
          <p:spPr>
            <a:xfrm>
              <a:off x="3352680" y="22874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06760" y="251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352680" y="3125880"/>
            <a:ext cx="838080" cy="838080"/>
            <a:chOff x="3352680" y="3125880"/>
            <a:chExt cx="838080" cy="838080"/>
          </a:xfrm>
        </p:grpSpPr>
        <p:sp>
          <p:nvSpPr>
            <p:cNvPr id="101" name=""/>
            <p:cNvSpPr/>
            <p:nvPr/>
          </p:nvSpPr>
          <p:spPr>
            <a:xfrm>
              <a:off x="3352680" y="31258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6760" y="335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514600" y="3125880"/>
            <a:ext cx="838080" cy="838080"/>
            <a:chOff x="2514600" y="3125880"/>
            <a:chExt cx="838080" cy="838080"/>
          </a:xfrm>
        </p:grpSpPr>
        <p:sp>
          <p:nvSpPr>
            <p:cNvPr id="104" name=""/>
            <p:cNvSpPr/>
            <p:nvPr/>
          </p:nvSpPr>
          <p:spPr>
            <a:xfrm>
              <a:off x="2514600" y="31258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68680" y="335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678760" y="1754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16840" y="1754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334120" y="2287440"/>
            <a:ext cx="838080" cy="838440"/>
            <a:chOff x="5334120" y="2287440"/>
            <a:chExt cx="838080" cy="838440"/>
          </a:xfrm>
        </p:grpSpPr>
        <p:sp>
          <p:nvSpPr>
            <p:cNvPr id="109" name=""/>
            <p:cNvSpPr/>
            <p:nvPr/>
          </p:nvSpPr>
          <p:spPr>
            <a:xfrm>
              <a:off x="5334120" y="22874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88200" y="251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172200" y="2287440"/>
            <a:ext cx="838080" cy="838440"/>
            <a:chOff x="6172200" y="2287440"/>
            <a:chExt cx="838080" cy="838440"/>
          </a:xfrm>
        </p:grpSpPr>
        <p:sp>
          <p:nvSpPr>
            <p:cNvPr id="112" name=""/>
            <p:cNvSpPr/>
            <p:nvPr/>
          </p:nvSpPr>
          <p:spPr>
            <a:xfrm>
              <a:off x="6172200" y="22874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26280" y="251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172200" y="3125880"/>
            <a:ext cx="838080" cy="838080"/>
            <a:chOff x="6172200" y="3125880"/>
            <a:chExt cx="838080" cy="838080"/>
          </a:xfrm>
        </p:grpSpPr>
        <p:sp>
          <p:nvSpPr>
            <p:cNvPr id="115" name=""/>
            <p:cNvSpPr/>
            <p:nvPr/>
          </p:nvSpPr>
          <p:spPr>
            <a:xfrm>
              <a:off x="6172200" y="31258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326280" y="335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334120" y="3125880"/>
            <a:ext cx="838080" cy="838080"/>
            <a:chOff x="5334120" y="3125880"/>
            <a:chExt cx="838080" cy="838080"/>
          </a:xfrm>
        </p:grpSpPr>
        <p:sp>
          <p:nvSpPr>
            <p:cNvPr id="118" name=""/>
            <p:cNvSpPr/>
            <p:nvPr/>
          </p:nvSpPr>
          <p:spPr>
            <a:xfrm>
              <a:off x="5334120" y="31258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88200" y="335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 flipH="1" flipV="1">
            <a:off x="4800600" y="1753920"/>
            <a:ext cx="53352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5400" y="15238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240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88560" y="1754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27000" y="1754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55040" y="2440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5040" y="3354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010280" y="2287440"/>
            <a:ext cx="838080" cy="838440"/>
            <a:chOff x="7010280" y="2287440"/>
            <a:chExt cx="838080" cy="838440"/>
          </a:xfrm>
        </p:grpSpPr>
        <p:sp>
          <p:nvSpPr>
            <p:cNvPr id="128" name=""/>
            <p:cNvSpPr/>
            <p:nvPr/>
          </p:nvSpPr>
          <p:spPr>
            <a:xfrm>
              <a:off x="7010280" y="22874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64360" y="251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7848720" y="2287440"/>
            <a:ext cx="838080" cy="838440"/>
            <a:chOff x="7848720" y="2287440"/>
            <a:chExt cx="838080" cy="838440"/>
          </a:xfrm>
        </p:grpSpPr>
        <p:sp>
          <p:nvSpPr>
            <p:cNvPr id="131" name=""/>
            <p:cNvSpPr/>
            <p:nvPr/>
          </p:nvSpPr>
          <p:spPr>
            <a:xfrm>
              <a:off x="7848720" y="22874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02800" y="251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7848720" y="3125880"/>
            <a:ext cx="838080" cy="838080"/>
            <a:chOff x="7848720" y="3125880"/>
            <a:chExt cx="838080" cy="838080"/>
          </a:xfrm>
        </p:grpSpPr>
        <p:sp>
          <p:nvSpPr>
            <p:cNvPr id="134" name=""/>
            <p:cNvSpPr/>
            <p:nvPr/>
          </p:nvSpPr>
          <p:spPr>
            <a:xfrm>
              <a:off x="7848720" y="31258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002800" y="335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7010280" y="3125880"/>
            <a:ext cx="838080" cy="838080"/>
            <a:chOff x="7010280" y="3125880"/>
            <a:chExt cx="838080" cy="838080"/>
          </a:xfrm>
        </p:grpSpPr>
        <p:sp>
          <p:nvSpPr>
            <p:cNvPr id="137" name=""/>
            <p:cNvSpPr/>
            <p:nvPr/>
          </p:nvSpPr>
          <p:spPr>
            <a:xfrm>
              <a:off x="7010280" y="31258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64360" y="335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7174440" y="1754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012880" y="1754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124080" y="4954680"/>
            <a:ext cx="838080" cy="838080"/>
            <a:chOff x="3124080" y="4954680"/>
            <a:chExt cx="838080" cy="838080"/>
          </a:xfrm>
        </p:grpSpPr>
        <p:sp>
          <p:nvSpPr>
            <p:cNvPr id="142" name=""/>
            <p:cNvSpPr/>
            <p:nvPr/>
          </p:nvSpPr>
          <p:spPr>
            <a:xfrm>
              <a:off x="3124080" y="49546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78160" y="518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962520" y="4954680"/>
            <a:ext cx="838080" cy="838080"/>
            <a:chOff x="3962520" y="4954680"/>
            <a:chExt cx="838080" cy="838080"/>
          </a:xfrm>
        </p:grpSpPr>
        <p:sp>
          <p:nvSpPr>
            <p:cNvPr id="145" name=""/>
            <p:cNvSpPr/>
            <p:nvPr/>
          </p:nvSpPr>
          <p:spPr>
            <a:xfrm>
              <a:off x="3962520" y="49546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16600" y="518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962520" y="5792760"/>
            <a:ext cx="838080" cy="838080"/>
            <a:chOff x="3962520" y="5792760"/>
            <a:chExt cx="838080" cy="838080"/>
          </a:xfrm>
        </p:grpSpPr>
        <p:sp>
          <p:nvSpPr>
            <p:cNvPr id="148" name=""/>
            <p:cNvSpPr/>
            <p:nvPr/>
          </p:nvSpPr>
          <p:spPr>
            <a:xfrm>
              <a:off x="3962520" y="579276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16600" y="601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124080" y="5792760"/>
            <a:ext cx="838080" cy="838080"/>
            <a:chOff x="3124080" y="5792760"/>
            <a:chExt cx="838080" cy="838080"/>
          </a:xfrm>
        </p:grpSpPr>
        <p:sp>
          <p:nvSpPr>
            <p:cNvPr id="151" name=""/>
            <p:cNvSpPr/>
            <p:nvPr/>
          </p:nvSpPr>
          <p:spPr>
            <a:xfrm>
              <a:off x="3124080" y="579276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8160" y="601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 flipH="1" flipV="1">
            <a:off x="2590560" y="4421160"/>
            <a:ext cx="53316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45720" y="41911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2720" y="4572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78880" y="4421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16960" y="4421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45000" y="5106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5000" y="602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800600" y="4954680"/>
            <a:ext cx="838080" cy="838080"/>
            <a:chOff x="4800600" y="4954680"/>
            <a:chExt cx="838080" cy="838080"/>
          </a:xfrm>
        </p:grpSpPr>
        <p:sp>
          <p:nvSpPr>
            <p:cNvPr id="161" name=""/>
            <p:cNvSpPr/>
            <p:nvPr/>
          </p:nvSpPr>
          <p:spPr>
            <a:xfrm>
              <a:off x="4800600" y="49546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54680" y="518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638680" y="4954680"/>
            <a:ext cx="838080" cy="838080"/>
            <a:chOff x="5638680" y="4954680"/>
            <a:chExt cx="838080" cy="838080"/>
          </a:xfrm>
        </p:grpSpPr>
        <p:sp>
          <p:nvSpPr>
            <p:cNvPr id="164" name=""/>
            <p:cNvSpPr/>
            <p:nvPr/>
          </p:nvSpPr>
          <p:spPr>
            <a:xfrm>
              <a:off x="5638680" y="49546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92760" y="518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680" y="5792760"/>
            <a:ext cx="838080" cy="838080"/>
            <a:chOff x="5638680" y="5792760"/>
            <a:chExt cx="838080" cy="838080"/>
          </a:xfrm>
        </p:grpSpPr>
        <p:sp>
          <p:nvSpPr>
            <p:cNvPr id="167" name=""/>
            <p:cNvSpPr/>
            <p:nvPr/>
          </p:nvSpPr>
          <p:spPr>
            <a:xfrm>
              <a:off x="5638680" y="579276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2760" y="601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800600" y="5792760"/>
            <a:ext cx="838080" cy="838080"/>
            <a:chOff x="4800600" y="5792760"/>
            <a:chExt cx="838080" cy="838080"/>
          </a:xfrm>
        </p:grpSpPr>
        <p:sp>
          <p:nvSpPr>
            <p:cNvPr id="170" name=""/>
            <p:cNvSpPr/>
            <p:nvPr/>
          </p:nvSpPr>
          <p:spPr>
            <a:xfrm>
              <a:off x="4800600" y="579276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54680" y="601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4964760" y="4421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02840" y="4421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Μετρητέ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7881840" y="1371600"/>
            <a:ext cx="728640" cy="728640"/>
            <a:chOff x="7881840" y="1371600"/>
            <a:chExt cx="728640" cy="728640"/>
          </a:xfrm>
        </p:grpSpPr>
        <p:sp>
          <p:nvSpPr>
            <p:cNvPr id="176" name=""/>
            <p:cNvSpPr/>
            <p:nvPr/>
          </p:nvSpPr>
          <p:spPr>
            <a:xfrm>
              <a:off x="7881840" y="1371600"/>
              <a:ext cx="728640" cy="728640"/>
            </a:xfrm>
            <a:prstGeom prst="ellipse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49600" y="1590480"/>
              <a:ext cx="412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 Black"/>
                </a:rPr>
                <a:t>111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7881840" y="2971800"/>
            <a:ext cx="728640" cy="728640"/>
            <a:chOff x="7881840" y="2971800"/>
            <a:chExt cx="728640" cy="728640"/>
          </a:xfrm>
        </p:grpSpPr>
        <p:sp>
          <p:nvSpPr>
            <p:cNvPr id="179" name=""/>
            <p:cNvSpPr/>
            <p:nvPr/>
          </p:nvSpPr>
          <p:spPr>
            <a:xfrm>
              <a:off x="7881840" y="2971800"/>
              <a:ext cx="728640" cy="728640"/>
            </a:xfrm>
            <a:prstGeom prst="ellipse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049600" y="3190680"/>
              <a:ext cx="412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 Black"/>
                </a:rPr>
                <a:t>11</a:t>
              </a:r>
              <a:r>
                <a:rPr b="0" lang="el-GR" sz="1900" spc="-1" strike="noStrike">
                  <a:solidFill>
                    <a:srgbClr val="ffffff"/>
                  </a:solidFill>
                  <a:latin typeface="Arial Black"/>
                </a:rPr>
                <a:t>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6129360" y="2743200"/>
            <a:ext cx="728640" cy="728640"/>
            <a:chOff x="6129360" y="2743200"/>
            <a:chExt cx="728640" cy="728640"/>
          </a:xfrm>
        </p:grpSpPr>
        <p:sp>
          <p:nvSpPr>
            <p:cNvPr id="182" name=""/>
            <p:cNvSpPr/>
            <p:nvPr/>
          </p:nvSpPr>
          <p:spPr>
            <a:xfrm>
              <a:off x="6129360" y="2743200"/>
              <a:ext cx="728640" cy="728640"/>
            </a:xfrm>
            <a:prstGeom prst="ellipse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97120" y="2962080"/>
              <a:ext cx="412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r>
                <a:rPr b="0" lang="el-GR" sz="1900" spc="-1" strike="noStrike">
                  <a:solidFill>
                    <a:srgbClr val="ffffff"/>
                  </a:solidFill>
                  <a:latin typeface="Arial Black"/>
                </a:rPr>
                <a:t>0</a:t>
              </a:r>
              <a:r>
                <a:rPr b="0" lang="en-US" sz="19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29360" y="4876920"/>
            <a:ext cx="728640" cy="728640"/>
            <a:chOff x="6129360" y="4876920"/>
            <a:chExt cx="728640" cy="728640"/>
          </a:xfrm>
        </p:grpSpPr>
        <p:sp>
          <p:nvSpPr>
            <p:cNvPr id="185" name=""/>
            <p:cNvSpPr/>
            <p:nvPr/>
          </p:nvSpPr>
          <p:spPr>
            <a:xfrm>
              <a:off x="6129360" y="4876920"/>
              <a:ext cx="728640" cy="728640"/>
            </a:xfrm>
            <a:prstGeom prst="ellipse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97120" y="5095800"/>
              <a:ext cx="412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r>
                <a:rPr b="0" lang="el-GR" sz="1900" spc="-1" strike="noStrike">
                  <a:solidFill>
                    <a:srgbClr val="ffffff"/>
                  </a:solidFill>
                  <a:latin typeface="Arial Black"/>
                </a:rPr>
                <a:t>0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114800" y="5867280"/>
            <a:ext cx="728640" cy="728640"/>
            <a:chOff x="4114800" y="5867280"/>
            <a:chExt cx="728640" cy="728640"/>
          </a:xfrm>
        </p:grpSpPr>
        <p:sp>
          <p:nvSpPr>
            <p:cNvPr id="188" name=""/>
            <p:cNvSpPr/>
            <p:nvPr/>
          </p:nvSpPr>
          <p:spPr>
            <a:xfrm>
              <a:off x="4114800" y="5867280"/>
              <a:ext cx="728640" cy="728640"/>
            </a:xfrm>
            <a:prstGeom prst="ellipse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82560" y="6086160"/>
              <a:ext cx="412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900" spc="-1" strike="noStrike">
                  <a:solidFill>
                    <a:srgbClr val="ffffff"/>
                  </a:solidFill>
                  <a:latin typeface="Arial Black"/>
                </a:rPr>
                <a:t>011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2209680" y="4724280"/>
            <a:ext cx="728640" cy="728640"/>
            <a:chOff x="2209680" y="4724280"/>
            <a:chExt cx="728640" cy="728640"/>
          </a:xfrm>
        </p:grpSpPr>
        <p:sp>
          <p:nvSpPr>
            <p:cNvPr id="191" name=""/>
            <p:cNvSpPr/>
            <p:nvPr/>
          </p:nvSpPr>
          <p:spPr>
            <a:xfrm>
              <a:off x="2209680" y="4724280"/>
              <a:ext cx="728640" cy="728640"/>
            </a:xfrm>
            <a:prstGeom prst="ellipse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77440" y="4943160"/>
              <a:ext cx="412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900" spc="-1" strike="noStrike">
                  <a:solidFill>
                    <a:srgbClr val="ffffff"/>
                  </a:solidFill>
                  <a:latin typeface="Arial Black"/>
                </a:rPr>
                <a:t>01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2286000" y="2819520"/>
            <a:ext cx="728640" cy="728640"/>
            <a:chOff x="2286000" y="2819520"/>
            <a:chExt cx="728640" cy="728640"/>
          </a:xfrm>
        </p:grpSpPr>
        <p:sp>
          <p:nvSpPr>
            <p:cNvPr id="194" name=""/>
            <p:cNvSpPr/>
            <p:nvPr/>
          </p:nvSpPr>
          <p:spPr>
            <a:xfrm>
              <a:off x="2286000" y="2819520"/>
              <a:ext cx="728640" cy="728640"/>
            </a:xfrm>
            <a:prstGeom prst="ellipse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53760" y="3038400"/>
              <a:ext cx="412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900" spc="-1" strike="noStrike">
                  <a:solidFill>
                    <a:srgbClr val="ffffff"/>
                  </a:solidFill>
                  <a:latin typeface="Arial Black"/>
                </a:rPr>
                <a:t>00</a:t>
              </a:r>
              <a:r>
                <a:rPr b="0" lang="en-US" sz="19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267080" y="1600200"/>
            <a:ext cx="728640" cy="728640"/>
            <a:chOff x="4267080" y="1600200"/>
            <a:chExt cx="728640" cy="728640"/>
          </a:xfrm>
        </p:grpSpPr>
        <p:sp>
          <p:nvSpPr>
            <p:cNvPr id="197" name=""/>
            <p:cNvSpPr/>
            <p:nvPr/>
          </p:nvSpPr>
          <p:spPr>
            <a:xfrm>
              <a:off x="4267080" y="1600200"/>
              <a:ext cx="728640" cy="728640"/>
            </a:xfrm>
            <a:prstGeom prst="ellipse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434840" y="1819080"/>
              <a:ext cx="412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900" spc="-1" strike="noStrike">
                  <a:solidFill>
                    <a:srgbClr val="ffffff"/>
                  </a:solidFill>
                  <a:latin typeface="Arial Black"/>
                </a:rPr>
                <a:t>00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 flipH="1">
            <a:off x="2742840" y="1981080"/>
            <a:ext cx="1523880" cy="838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90920" y="3581280"/>
            <a:ext cx="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19520" y="5334120"/>
            <a:ext cx="129528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876920" y="5486040"/>
            <a:ext cx="137160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510240" y="3505320"/>
            <a:ext cx="0" cy="1371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952520" y="1905120"/>
            <a:ext cx="129564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Μετρητέ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Μετρητέ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838080" y="2287440"/>
            <a:ext cx="838080" cy="838440"/>
            <a:chOff x="838080" y="2287440"/>
            <a:chExt cx="838080" cy="838440"/>
          </a:xfrm>
        </p:grpSpPr>
        <p:sp>
          <p:nvSpPr>
            <p:cNvPr id="209" name=""/>
            <p:cNvSpPr/>
            <p:nvPr/>
          </p:nvSpPr>
          <p:spPr>
            <a:xfrm>
              <a:off x="838080" y="22874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92160" y="251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676520" y="2287440"/>
            <a:ext cx="838080" cy="838440"/>
            <a:chOff x="1676520" y="2287440"/>
            <a:chExt cx="838080" cy="838440"/>
          </a:xfrm>
        </p:grpSpPr>
        <p:sp>
          <p:nvSpPr>
            <p:cNvPr id="212" name=""/>
            <p:cNvSpPr/>
            <p:nvPr/>
          </p:nvSpPr>
          <p:spPr>
            <a:xfrm>
              <a:off x="1676520" y="22874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30600" y="251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1676520" y="3125880"/>
            <a:ext cx="838080" cy="838080"/>
            <a:chOff x="1676520" y="3125880"/>
            <a:chExt cx="838080" cy="838080"/>
          </a:xfrm>
        </p:grpSpPr>
        <p:sp>
          <p:nvSpPr>
            <p:cNvPr id="215" name=""/>
            <p:cNvSpPr/>
            <p:nvPr/>
          </p:nvSpPr>
          <p:spPr>
            <a:xfrm>
              <a:off x="1676520" y="31258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30600" y="335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838080" y="3125880"/>
            <a:ext cx="838080" cy="838080"/>
            <a:chOff x="838080" y="3125880"/>
            <a:chExt cx="838080" cy="838080"/>
          </a:xfrm>
        </p:grpSpPr>
        <p:sp>
          <p:nvSpPr>
            <p:cNvPr id="218" name=""/>
            <p:cNvSpPr/>
            <p:nvPr/>
          </p:nvSpPr>
          <p:spPr>
            <a:xfrm>
              <a:off x="838080" y="31258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92160" y="335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 flipH="1" flipV="1">
            <a:off x="304560" y="1753920"/>
            <a:ext cx="53316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9720" y="15238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672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92880" y="1754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30960" y="1754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9000" y="2440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9000" y="3354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514600" y="2287440"/>
            <a:ext cx="838080" cy="838440"/>
            <a:chOff x="2514600" y="2287440"/>
            <a:chExt cx="838080" cy="838440"/>
          </a:xfrm>
        </p:grpSpPr>
        <p:sp>
          <p:nvSpPr>
            <p:cNvPr id="228" name=""/>
            <p:cNvSpPr/>
            <p:nvPr/>
          </p:nvSpPr>
          <p:spPr>
            <a:xfrm>
              <a:off x="2514600" y="22874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68680" y="251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3352680" y="2287440"/>
            <a:ext cx="838080" cy="838440"/>
            <a:chOff x="3352680" y="2287440"/>
            <a:chExt cx="838080" cy="838440"/>
          </a:xfrm>
        </p:grpSpPr>
        <p:sp>
          <p:nvSpPr>
            <p:cNvPr id="231" name=""/>
            <p:cNvSpPr/>
            <p:nvPr/>
          </p:nvSpPr>
          <p:spPr>
            <a:xfrm>
              <a:off x="3352680" y="22874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506760" y="251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352680" y="3125880"/>
            <a:ext cx="838080" cy="838080"/>
            <a:chOff x="3352680" y="3125880"/>
            <a:chExt cx="838080" cy="838080"/>
          </a:xfrm>
        </p:grpSpPr>
        <p:sp>
          <p:nvSpPr>
            <p:cNvPr id="234" name=""/>
            <p:cNvSpPr/>
            <p:nvPr/>
          </p:nvSpPr>
          <p:spPr>
            <a:xfrm>
              <a:off x="3352680" y="31258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06760" y="3352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514600" y="3125880"/>
            <a:ext cx="838080" cy="838080"/>
            <a:chOff x="2514600" y="3125880"/>
            <a:chExt cx="838080" cy="838080"/>
          </a:xfrm>
        </p:grpSpPr>
        <p:sp>
          <p:nvSpPr>
            <p:cNvPr id="237" name=""/>
            <p:cNvSpPr/>
            <p:nvPr/>
          </p:nvSpPr>
          <p:spPr>
            <a:xfrm>
              <a:off x="2514600" y="31258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68680" y="3352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678760" y="1754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16840" y="1754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334120" y="2287440"/>
            <a:ext cx="838080" cy="838440"/>
            <a:chOff x="5334120" y="2287440"/>
            <a:chExt cx="838080" cy="838440"/>
          </a:xfrm>
        </p:grpSpPr>
        <p:sp>
          <p:nvSpPr>
            <p:cNvPr id="242" name=""/>
            <p:cNvSpPr/>
            <p:nvPr/>
          </p:nvSpPr>
          <p:spPr>
            <a:xfrm>
              <a:off x="5334120" y="22874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88200" y="251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172200" y="2287440"/>
            <a:ext cx="838080" cy="838440"/>
            <a:chOff x="6172200" y="2287440"/>
            <a:chExt cx="838080" cy="838440"/>
          </a:xfrm>
        </p:grpSpPr>
        <p:sp>
          <p:nvSpPr>
            <p:cNvPr id="245" name=""/>
            <p:cNvSpPr/>
            <p:nvPr/>
          </p:nvSpPr>
          <p:spPr>
            <a:xfrm>
              <a:off x="6172200" y="22874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26280" y="251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172200" y="3125880"/>
            <a:ext cx="838080" cy="838080"/>
            <a:chOff x="6172200" y="3125880"/>
            <a:chExt cx="838080" cy="838080"/>
          </a:xfrm>
        </p:grpSpPr>
        <p:sp>
          <p:nvSpPr>
            <p:cNvPr id="248" name=""/>
            <p:cNvSpPr/>
            <p:nvPr/>
          </p:nvSpPr>
          <p:spPr>
            <a:xfrm>
              <a:off x="6172200" y="31258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26280" y="335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334120" y="3125880"/>
            <a:ext cx="838080" cy="838080"/>
            <a:chOff x="5334120" y="3125880"/>
            <a:chExt cx="838080" cy="838080"/>
          </a:xfrm>
        </p:grpSpPr>
        <p:sp>
          <p:nvSpPr>
            <p:cNvPr id="251" name=""/>
            <p:cNvSpPr/>
            <p:nvPr/>
          </p:nvSpPr>
          <p:spPr>
            <a:xfrm>
              <a:off x="5334120" y="31258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88200" y="335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 flipH="1" flipV="1">
            <a:off x="4800600" y="1753920"/>
            <a:ext cx="53352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55400" y="15238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0240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88560" y="1754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7000" y="1754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5040" y="2440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55040" y="3354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7010280" y="2287440"/>
            <a:ext cx="838080" cy="838440"/>
            <a:chOff x="7010280" y="2287440"/>
            <a:chExt cx="838080" cy="838440"/>
          </a:xfrm>
        </p:grpSpPr>
        <p:sp>
          <p:nvSpPr>
            <p:cNvPr id="261" name=""/>
            <p:cNvSpPr/>
            <p:nvPr/>
          </p:nvSpPr>
          <p:spPr>
            <a:xfrm>
              <a:off x="7010280" y="22874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64360" y="251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7848720" y="2287440"/>
            <a:ext cx="838080" cy="838440"/>
            <a:chOff x="7848720" y="2287440"/>
            <a:chExt cx="838080" cy="838440"/>
          </a:xfrm>
        </p:grpSpPr>
        <p:sp>
          <p:nvSpPr>
            <p:cNvPr id="264" name=""/>
            <p:cNvSpPr/>
            <p:nvPr/>
          </p:nvSpPr>
          <p:spPr>
            <a:xfrm>
              <a:off x="7848720" y="228744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002800" y="251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7848720" y="3125880"/>
            <a:ext cx="838080" cy="838080"/>
            <a:chOff x="7848720" y="3125880"/>
            <a:chExt cx="838080" cy="838080"/>
          </a:xfrm>
        </p:grpSpPr>
        <p:sp>
          <p:nvSpPr>
            <p:cNvPr id="267" name=""/>
            <p:cNvSpPr/>
            <p:nvPr/>
          </p:nvSpPr>
          <p:spPr>
            <a:xfrm>
              <a:off x="7848720" y="31258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02800" y="3352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7010280" y="3125880"/>
            <a:ext cx="838080" cy="838080"/>
            <a:chOff x="7010280" y="3125880"/>
            <a:chExt cx="838080" cy="838080"/>
          </a:xfrm>
        </p:grpSpPr>
        <p:sp>
          <p:nvSpPr>
            <p:cNvPr id="270" name=""/>
            <p:cNvSpPr/>
            <p:nvPr/>
          </p:nvSpPr>
          <p:spPr>
            <a:xfrm>
              <a:off x="7010280" y="31258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64360" y="3352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7174440" y="1754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012880" y="1754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124080" y="4954680"/>
            <a:ext cx="838080" cy="838080"/>
            <a:chOff x="3124080" y="4954680"/>
            <a:chExt cx="838080" cy="838080"/>
          </a:xfrm>
        </p:grpSpPr>
        <p:sp>
          <p:nvSpPr>
            <p:cNvPr id="275" name=""/>
            <p:cNvSpPr/>
            <p:nvPr/>
          </p:nvSpPr>
          <p:spPr>
            <a:xfrm>
              <a:off x="3124080" y="49546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78160" y="518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962520" y="4954680"/>
            <a:ext cx="838080" cy="838080"/>
            <a:chOff x="3962520" y="4954680"/>
            <a:chExt cx="838080" cy="838080"/>
          </a:xfrm>
        </p:grpSpPr>
        <p:sp>
          <p:nvSpPr>
            <p:cNvPr id="278" name=""/>
            <p:cNvSpPr/>
            <p:nvPr/>
          </p:nvSpPr>
          <p:spPr>
            <a:xfrm>
              <a:off x="3962520" y="49546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16600" y="518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962520" y="5792760"/>
            <a:ext cx="838080" cy="838080"/>
            <a:chOff x="3962520" y="5792760"/>
            <a:chExt cx="838080" cy="838080"/>
          </a:xfrm>
        </p:grpSpPr>
        <p:sp>
          <p:nvSpPr>
            <p:cNvPr id="281" name=""/>
            <p:cNvSpPr/>
            <p:nvPr/>
          </p:nvSpPr>
          <p:spPr>
            <a:xfrm>
              <a:off x="3962520" y="579276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6600" y="601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124080" y="5792760"/>
            <a:ext cx="838080" cy="838080"/>
            <a:chOff x="3124080" y="5792760"/>
            <a:chExt cx="838080" cy="838080"/>
          </a:xfrm>
        </p:grpSpPr>
        <p:sp>
          <p:nvSpPr>
            <p:cNvPr id="284" name=""/>
            <p:cNvSpPr/>
            <p:nvPr/>
          </p:nvSpPr>
          <p:spPr>
            <a:xfrm>
              <a:off x="3124080" y="579276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278160" y="601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 flipH="1" flipV="1">
            <a:off x="2590560" y="4421160"/>
            <a:ext cx="53316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45720" y="41911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92720" y="4572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78880" y="4421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116960" y="4421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745000" y="5106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5000" y="602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800600" y="4954680"/>
            <a:ext cx="838080" cy="838080"/>
            <a:chOff x="4800600" y="4954680"/>
            <a:chExt cx="838080" cy="838080"/>
          </a:xfrm>
        </p:grpSpPr>
        <p:sp>
          <p:nvSpPr>
            <p:cNvPr id="294" name=""/>
            <p:cNvSpPr/>
            <p:nvPr/>
          </p:nvSpPr>
          <p:spPr>
            <a:xfrm>
              <a:off x="4800600" y="49546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54680" y="518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638680" y="4954680"/>
            <a:ext cx="838080" cy="838080"/>
            <a:chOff x="5638680" y="4954680"/>
            <a:chExt cx="838080" cy="838080"/>
          </a:xfrm>
        </p:grpSpPr>
        <p:sp>
          <p:nvSpPr>
            <p:cNvPr id="297" name=""/>
            <p:cNvSpPr/>
            <p:nvPr/>
          </p:nvSpPr>
          <p:spPr>
            <a:xfrm>
              <a:off x="5638680" y="495468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92760" y="518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638680" y="5792760"/>
            <a:ext cx="838080" cy="838080"/>
            <a:chOff x="5638680" y="5792760"/>
            <a:chExt cx="838080" cy="838080"/>
          </a:xfrm>
        </p:grpSpPr>
        <p:sp>
          <p:nvSpPr>
            <p:cNvPr id="300" name=""/>
            <p:cNvSpPr/>
            <p:nvPr/>
          </p:nvSpPr>
          <p:spPr>
            <a:xfrm>
              <a:off x="5638680" y="579276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92760" y="6019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800600" y="5792760"/>
            <a:ext cx="838080" cy="838080"/>
            <a:chOff x="4800600" y="5792760"/>
            <a:chExt cx="838080" cy="838080"/>
          </a:xfrm>
        </p:grpSpPr>
        <p:sp>
          <p:nvSpPr>
            <p:cNvPr id="303" name=""/>
            <p:cNvSpPr/>
            <p:nvPr/>
          </p:nvSpPr>
          <p:spPr>
            <a:xfrm>
              <a:off x="4800600" y="579276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954680" y="6019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4964760" y="4421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02840" y="4421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Μετρητέ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7881840" y="1371600"/>
            <a:ext cx="728640" cy="728640"/>
            <a:chOff x="7881840" y="1371600"/>
            <a:chExt cx="728640" cy="728640"/>
          </a:xfrm>
        </p:grpSpPr>
        <p:sp>
          <p:nvSpPr>
            <p:cNvPr id="309" name=""/>
            <p:cNvSpPr/>
            <p:nvPr/>
          </p:nvSpPr>
          <p:spPr>
            <a:xfrm>
              <a:off x="7881840" y="1371600"/>
              <a:ext cx="728640" cy="728640"/>
            </a:xfrm>
            <a:prstGeom prst="ellipse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049600" y="1590480"/>
              <a:ext cx="412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 Black"/>
                </a:rPr>
                <a:t>111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7881840" y="2971800"/>
            <a:ext cx="728640" cy="728640"/>
            <a:chOff x="7881840" y="2971800"/>
            <a:chExt cx="728640" cy="728640"/>
          </a:xfrm>
        </p:grpSpPr>
        <p:sp>
          <p:nvSpPr>
            <p:cNvPr id="312" name=""/>
            <p:cNvSpPr/>
            <p:nvPr/>
          </p:nvSpPr>
          <p:spPr>
            <a:xfrm>
              <a:off x="7881840" y="2971800"/>
              <a:ext cx="728640" cy="728640"/>
            </a:xfrm>
            <a:prstGeom prst="ellipse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049600" y="3190680"/>
              <a:ext cx="412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 Black"/>
                </a:rPr>
                <a:t>11</a:t>
              </a:r>
              <a:r>
                <a:rPr b="0" lang="el-GR" sz="1900" spc="-1" strike="noStrike">
                  <a:solidFill>
                    <a:srgbClr val="ffffff"/>
                  </a:solidFill>
                  <a:latin typeface="Arial Black"/>
                </a:rPr>
                <a:t>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129360" y="2743200"/>
            <a:ext cx="728640" cy="728640"/>
            <a:chOff x="6129360" y="2743200"/>
            <a:chExt cx="728640" cy="728640"/>
          </a:xfrm>
        </p:grpSpPr>
        <p:sp>
          <p:nvSpPr>
            <p:cNvPr id="315" name=""/>
            <p:cNvSpPr/>
            <p:nvPr/>
          </p:nvSpPr>
          <p:spPr>
            <a:xfrm>
              <a:off x="6129360" y="2743200"/>
              <a:ext cx="728640" cy="728640"/>
            </a:xfrm>
            <a:prstGeom prst="ellipse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297120" y="2962080"/>
              <a:ext cx="412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r>
                <a:rPr b="0" lang="el-GR" sz="1900" spc="-1" strike="noStrike">
                  <a:solidFill>
                    <a:srgbClr val="ffffff"/>
                  </a:solidFill>
                  <a:latin typeface="Arial Black"/>
                </a:rPr>
                <a:t>0</a:t>
              </a:r>
              <a:r>
                <a:rPr b="0" lang="en-US" sz="19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129360" y="4876920"/>
            <a:ext cx="728640" cy="728640"/>
            <a:chOff x="6129360" y="4876920"/>
            <a:chExt cx="728640" cy="728640"/>
          </a:xfrm>
        </p:grpSpPr>
        <p:sp>
          <p:nvSpPr>
            <p:cNvPr id="318" name=""/>
            <p:cNvSpPr/>
            <p:nvPr/>
          </p:nvSpPr>
          <p:spPr>
            <a:xfrm>
              <a:off x="6129360" y="4876920"/>
              <a:ext cx="728640" cy="728640"/>
            </a:xfrm>
            <a:prstGeom prst="ellipse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297120" y="5095800"/>
              <a:ext cx="412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r>
                <a:rPr b="0" lang="el-GR" sz="1900" spc="-1" strike="noStrike">
                  <a:solidFill>
                    <a:srgbClr val="ffffff"/>
                  </a:solidFill>
                  <a:latin typeface="Arial Black"/>
                </a:rPr>
                <a:t>0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114800" y="5867280"/>
            <a:ext cx="728640" cy="728640"/>
            <a:chOff x="4114800" y="5867280"/>
            <a:chExt cx="728640" cy="728640"/>
          </a:xfrm>
        </p:grpSpPr>
        <p:sp>
          <p:nvSpPr>
            <p:cNvPr id="321" name=""/>
            <p:cNvSpPr/>
            <p:nvPr/>
          </p:nvSpPr>
          <p:spPr>
            <a:xfrm>
              <a:off x="4114800" y="5867280"/>
              <a:ext cx="728640" cy="728640"/>
            </a:xfrm>
            <a:prstGeom prst="ellipse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82560" y="6086160"/>
              <a:ext cx="412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900" spc="-1" strike="noStrike">
                  <a:solidFill>
                    <a:srgbClr val="ffffff"/>
                  </a:solidFill>
                  <a:latin typeface="Arial Black"/>
                </a:rPr>
                <a:t>011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2209680" y="4724280"/>
            <a:ext cx="728640" cy="728640"/>
            <a:chOff x="2209680" y="4724280"/>
            <a:chExt cx="728640" cy="728640"/>
          </a:xfrm>
        </p:grpSpPr>
        <p:sp>
          <p:nvSpPr>
            <p:cNvPr id="324" name=""/>
            <p:cNvSpPr/>
            <p:nvPr/>
          </p:nvSpPr>
          <p:spPr>
            <a:xfrm>
              <a:off x="2209680" y="4724280"/>
              <a:ext cx="728640" cy="728640"/>
            </a:xfrm>
            <a:prstGeom prst="ellipse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377440" y="4943160"/>
              <a:ext cx="412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900" spc="-1" strike="noStrike">
                  <a:solidFill>
                    <a:srgbClr val="ffffff"/>
                  </a:solidFill>
                  <a:latin typeface="Arial Black"/>
                </a:rPr>
                <a:t>01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2286000" y="2819520"/>
            <a:ext cx="728640" cy="728640"/>
            <a:chOff x="2286000" y="2819520"/>
            <a:chExt cx="728640" cy="728640"/>
          </a:xfrm>
        </p:grpSpPr>
        <p:sp>
          <p:nvSpPr>
            <p:cNvPr id="327" name=""/>
            <p:cNvSpPr/>
            <p:nvPr/>
          </p:nvSpPr>
          <p:spPr>
            <a:xfrm>
              <a:off x="2286000" y="2819520"/>
              <a:ext cx="728640" cy="728640"/>
            </a:xfrm>
            <a:prstGeom prst="ellipse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453760" y="3038400"/>
              <a:ext cx="412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900" spc="-1" strike="noStrike">
                  <a:solidFill>
                    <a:srgbClr val="ffffff"/>
                  </a:solidFill>
                  <a:latin typeface="Arial Black"/>
                </a:rPr>
                <a:t>00</a:t>
              </a:r>
              <a:r>
                <a:rPr b="0" lang="en-US" sz="19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4267080" y="1600200"/>
            <a:ext cx="728640" cy="728640"/>
            <a:chOff x="4267080" y="1600200"/>
            <a:chExt cx="728640" cy="728640"/>
          </a:xfrm>
        </p:grpSpPr>
        <p:sp>
          <p:nvSpPr>
            <p:cNvPr id="330" name=""/>
            <p:cNvSpPr/>
            <p:nvPr/>
          </p:nvSpPr>
          <p:spPr>
            <a:xfrm>
              <a:off x="4267080" y="1600200"/>
              <a:ext cx="728640" cy="728640"/>
            </a:xfrm>
            <a:prstGeom prst="ellipse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34840" y="1819080"/>
              <a:ext cx="412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900" spc="-1" strike="noStrike">
                  <a:solidFill>
                    <a:srgbClr val="ffffff"/>
                  </a:solidFill>
                  <a:latin typeface="Arial Black"/>
                </a:rPr>
                <a:t>00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 flipH="1">
            <a:off x="2742840" y="1981080"/>
            <a:ext cx="1523880" cy="838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90920" y="3581280"/>
            <a:ext cx="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19520" y="5334120"/>
            <a:ext cx="129528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876920" y="5486040"/>
            <a:ext cx="137160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510240" y="3505320"/>
            <a:ext cx="0" cy="1371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4952520" y="1905120"/>
            <a:ext cx="129564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5280" y="498600"/>
            <a:ext cx="228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=AC’+B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B=BC’+A’B’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C=C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Μετρητέ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7881840" y="1371600"/>
            <a:ext cx="728640" cy="728640"/>
            <a:chOff x="7881840" y="1371600"/>
            <a:chExt cx="728640" cy="728640"/>
          </a:xfrm>
        </p:grpSpPr>
        <p:sp>
          <p:nvSpPr>
            <p:cNvPr id="341" name=""/>
            <p:cNvSpPr/>
            <p:nvPr/>
          </p:nvSpPr>
          <p:spPr>
            <a:xfrm>
              <a:off x="7881840" y="1371600"/>
              <a:ext cx="728640" cy="728640"/>
            </a:xfrm>
            <a:prstGeom prst="ellipse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9600" y="1590480"/>
              <a:ext cx="412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 Black"/>
                </a:rPr>
                <a:t>111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7881840" y="2971800"/>
            <a:ext cx="728640" cy="728640"/>
            <a:chOff x="7881840" y="2971800"/>
            <a:chExt cx="728640" cy="728640"/>
          </a:xfrm>
        </p:grpSpPr>
        <p:sp>
          <p:nvSpPr>
            <p:cNvPr id="344" name=""/>
            <p:cNvSpPr/>
            <p:nvPr/>
          </p:nvSpPr>
          <p:spPr>
            <a:xfrm>
              <a:off x="7881840" y="2971800"/>
              <a:ext cx="728640" cy="728640"/>
            </a:xfrm>
            <a:prstGeom prst="ellipse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049600" y="3190680"/>
              <a:ext cx="412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 Black"/>
                </a:rPr>
                <a:t>11</a:t>
              </a:r>
              <a:r>
                <a:rPr b="0" lang="el-GR" sz="1900" spc="-1" strike="noStrike">
                  <a:solidFill>
                    <a:srgbClr val="ffffff"/>
                  </a:solidFill>
                  <a:latin typeface="Arial Black"/>
                </a:rPr>
                <a:t>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6129360" y="2743200"/>
            <a:ext cx="728640" cy="728640"/>
            <a:chOff x="6129360" y="2743200"/>
            <a:chExt cx="728640" cy="728640"/>
          </a:xfrm>
        </p:grpSpPr>
        <p:sp>
          <p:nvSpPr>
            <p:cNvPr id="347" name=""/>
            <p:cNvSpPr/>
            <p:nvPr/>
          </p:nvSpPr>
          <p:spPr>
            <a:xfrm>
              <a:off x="6129360" y="2743200"/>
              <a:ext cx="728640" cy="728640"/>
            </a:xfrm>
            <a:prstGeom prst="ellipse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97120" y="2962080"/>
              <a:ext cx="412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r>
                <a:rPr b="0" lang="el-GR" sz="1900" spc="-1" strike="noStrike">
                  <a:solidFill>
                    <a:srgbClr val="ffffff"/>
                  </a:solidFill>
                  <a:latin typeface="Arial Black"/>
                </a:rPr>
                <a:t>0</a:t>
              </a:r>
              <a:r>
                <a:rPr b="0" lang="en-US" sz="19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6129360" y="4876920"/>
            <a:ext cx="728640" cy="728640"/>
            <a:chOff x="6129360" y="4876920"/>
            <a:chExt cx="728640" cy="728640"/>
          </a:xfrm>
        </p:grpSpPr>
        <p:sp>
          <p:nvSpPr>
            <p:cNvPr id="350" name=""/>
            <p:cNvSpPr/>
            <p:nvPr/>
          </p:nvSpPr>
          <p:spPr>
            <a:xfrm>
              <a:off x="6129360" y="4876920"/>
              <a:ext cx="728640" cy="728640"/>
            </a:xfrm>
            <a:prstGeom prst="ellipse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297120" y="5095800"/>
              <a:ext cx="412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r>
                <a:rPr b="0" lang="el-GR" sz="1900" spc="-1" strike="noStrike">
                  <a:solidFill>
                    <a:srgbClr val="ffffff"/>
                  </a:solidFill>
                  <a:latin typeface="Arial Black"/>
                </a:rPr>
                <a:t>0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114800" y="5867280"/>
            <a:ext cx="728640" cy="728640"/>
            <a:chOff x="4114800" y="5867280"/>
            <a:chExt cx="728640" cy="728640"/>
          </a:xfrm>
        </p:grpSpPr>
        <p:sp>
          <p:nvSpPr>
            <p:cNvPr id="353" name=""/>
            <p:cNvSpPr/>
            <p:nvPr/>
          </p:nvSpPr>
          <p:spPr>
            <a:xfrm>
              <a:off x="4114800" y="5867280"/>
              <a:ext cx="728640" cy="728640"/>
            </a:xfrm>
            <a:prstGeom prst="ellipse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82560" y="6086160"/>
              <a:ext cx="412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900" spc="-1" strike="noStrike">
                  <a:solidFill>
                    <a:srgbClr val="ffffff"/>
                  </a:solidFill>
                  <a:latin typeface="Arial Black"/>
                </a:rPr>
                <a:t>011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209680" y="4724280"/>
            <a:ext cx="728640" cy="728640"/>
            <a:chOff x="2209680" y="4724280"/>
            <a:chExt cx="728640" cy="728640"/>
          </a:xfrm>
        </p:grpSpPr>
        <p:sp>
          <p:nvSpPr>
            <p:cNvPr id="356" name=""/>
            <p:cNvSpPr/>
            <p:nvPr/>
          </p:nvSpPr>
          <p:spPr>
            <a:xfrm>
              <a:off x="2209680" y="4724280"/>
              <a:ext cx="728640" cy="728640"/>
            </a:xfrm>
            <a:prstGeom prst="ellipse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377440" y="4943160"/>
              <a:ext cx="412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900" spc="-1" strike="noStrike">
                  <a:solidFill>
                    <a:srgbClr val="ffffff"/>
                  </a:solidFill>
                  <a:latin typeface="Arial Black"/>
                </a:rPr>
                <a:t>01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286000" y="2819520"/>
            <a:ext cx="728640" cy="728640"/>
            <a:chOff x="2286000" y="2819520"/>
            <a:chExt cx="728640" cy="728640"/>
          </a:xfrm>
        </p:grpSpPr>
        <p:sp>
          <p:nvSpPr>
            <p:cNvPr id="359" name=""/>
            <p:cNvSpPr/>
            <p:nvPr/>
          </p:nvSpPr>
          <p:spPr>
            <a:xfrm>
              <a:off x="2286000" y="2819520"/>
              <a:ext cx="728640" cy="728640"/>
            </a:xfrm>
            <a:prstGeom prst="ellipse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53760" y="3038400"/>
              <a:ext cx="412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900" spc="-1" strike="noStrike">
                  <a:solidFill>
                    <a:srgbClr val="ffffff"/>
                  </a:solidFill>
                  <a:latin typeface="Arial Black"/>
                </a:rPr>
                <a:t>00</a:t>
              </a:r>
              <a:r>
                <a:rPr b="0" lang="en-US" sz="19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267080" y="1600200"/>
            <a:ext cx="728640" cy="728640"/>
            <a:chOff x="4267080" y="1600200"/>
            <a:chExt cx="728640" cy="728640"/>
          </a:xfrm>
        </p:grpSpPr>
        <p:sp>
          <p:nvSpPr>
            <p:cNvPr id="362" name=""/>
            <p:cNvSpPr/>
            <p:nvPr/>
          </p:nvSpPr>
          <p:spPr>
            <a:xfrm>
              <a:off x="4267080" y="1600200"/>
              <a:ext cx="728640" cy="728640"/>
            </a:xfrm>
            <a:prstGeom prst="ellipse">
              <a:avLst/>
            </a:prstGeom>
            <a:noFill/>
            <a:ln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434840" y="1819080"/>
              <a:ext cx="412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900" spc="-1" strike="noStrike">
                  <a:solidFill>
                    <a:srgbClr val="ffffff"/>
                  </a:solidFill>
                  <a:latin typeface="Arial Black"/>
                </a:rPr>
                <a:t>00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 flipH="1">
            <a:off x="2742840" y="1981080"/>
            <a:ext cx="1523880" cy="838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590920" y="3581280"/>
            <a:ext cx="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819520" y="5334120"/>
            <a:ext cx="129528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4876920" y="5486040"/>
            <a:ext cx="137160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6510240" y="3505320"/>
            <a:ext cx="0" cy="1371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4952520" y="1905120"/>
            <a:ext cx="129564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5280" y="498600"/>
            <a:ext cx="228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=AC’+B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B=BC’+A’B’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C=C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8229600" y="2133720"/>
            <a:ext cx="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6629040" y="2133720"/>
            <a:ext cx="1600200" cy="2743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1523880" y="762120"/>
          <a:ext cx="6019920" cy="5138640"/>
        </p:xfrm>
        <a:graphic>
          <a:graphicData uri="http://schemas.openxmlformats.org/drawingml/2006/table">
            <a:tbl>
              <a:tblPr/>
              <a:tblGrid>
                <a:gridCol w="2006640"/>
                <a:gridCol w="2006640"/>
                <a:gridCol w="200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 st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=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=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8T20:30:01Z</dcterms:created>
  <dc:creator>george stamoulis</dc:creator>
  <dc:description/>
  <dc:language>en-US</dc:language>
  <cp:lastModifiedBy>georges</cp:lastModifiedBy>
  <dcterms:modified xsi:type="dcterms:W3CDTF">2009-02-04T12:57:41Z</dcterms:modified>
  <cp:revision>118</cp:revision>
  <dc:subject/>
  <dc:title>No Slide Title</dc:title>
</cp:coreProperties>
</file>