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360" y="6243480"/>
            <a:ext cx="9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-</a:t>
            </a:r>
            <a:fld id="{4F0C2F93-5FD7-4FD4-ACD1-DE004FA3FD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ίνακες διέγερ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227240" y="1447920"/>
            <a:ext cx="2695320" cy="19227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(t)    Q(t+1)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350680" y="1447920"/>
            <a:ext cx="2686320" cy="19227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(t)    Q(t+1)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J  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64480" y="3949560"/>
            <a:ext cx="2229120" cy="19227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(t)    Q(t+1)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78560" y="3962520"/>
            <a:ext cx="2195280" cy="19227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Q(t)    Q(t+1)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Σύνθεση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εριγραφή συμπεριφορά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άγραμμα καταστάσεω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ίνακας καταστάσεω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λαχιστοποίηση πίνακα καταστάσεω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πιλογή καταστάσεω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υναρτήσεις εισόδο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των flip-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ύκλωμ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779480" y="2098800"/>
            <a:ext cx="728640" cy="730080"/>
          </a:xfrm>
          <a:prstGeom prst="ellipse">
            <a:avLst/>
          </a:prstGeom>
          <a:noFill/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47240" y="229248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00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4160" y="1554120"/>
            <a:ext cx="728640" cy="728640"/>
          </a:xfrm>
          <a:prstGeom prst="ellipse">
            <a:avLst/>
          </a:prstGeom>
          <a:noFill/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47760" y="175248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1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33360" y="3916440"/>
            <a:ext cx="730440" cy="728640"/>
          </a:xfrm>
          <a:prstGeom prst="ellipse">
            <a:avLst/>
          </a:prstGeom>
          <a:noFill/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02560" y="412128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00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89440" y="5065560"/>
            <a:ext cx="730080" cy="728640"/>
          </a:xfrm>
          <a:prstGeom prst="ellipse">
            <a:avLst/>
          </a:prstGeom>
          <a:noFill/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58280" y="526428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0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96160" y="4641840"/>
            <a:ext cx="728640" cy="728640"/>
          </a:xfrm>
          <a:prstGeom prst="ellipse">
            <a:avLst/>
          </a:prstGeom>
          <a:noFill/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82640" y="487692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99280" y="2763720"/>
            <a:ext cx="728640" cy="730440"/>
          </a:xfrm>
          <a:prstGeom prst="ellipse">
            <a:avLst/>
          </a:prstGeom>
          <a:noFill/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3800" y="297180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10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62280" y="117144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0/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97160" y="313848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1/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84920" y="5118120"/>
            <a:ext cx="730080" cy="728640"/>
          </a:xfrm>
          <a:prstGeom prst="ellipse">
            <a:avLst/>
          </a:prstGeom>
          <a:noFill/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39720" y="533412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01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47960" y="1000080"/>
            <a:ext cx="728640" cy="728640"/>
          </a:xfrm>
          <a:prstGeom prst="ellipse">
            <a:avLst/>
          </a:prstGeom>
          <a:noFill/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15720" y="121932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11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71520" y="1465200"/>
            <a:ext cx="808200" cy="728640"/>
            <a:chOff x="1271520" y="1465200"/>
            <a:chExt cx="808200" cy="728640"/>
          </a:xfrm>
        </p:grpSpPr>
        <p:sp>
          <p:nvSpPr>
            <p:cNvPr id="248" name=""/>
            <p:cNvSpPr/>
            <p:nvPr/>
          </p:nvSpPr>
          <p:spPr>
            <a:xfrm>
              <a:off x="1271520" y="1465200"/>
              <a:ext cx="808200" cy="663480"/>
            </a:xfrm>
            <a:custGeom>
              <a:avLst/>
              <a:gdLst/>
              <a:ahLst/>
              <a:rect l="l" t="t" r="r" b="b"/>
              <a:pathLst>
                <a:path w="1018" h="835">
                  <a:moveTo>
                    <a:pt x="975" y="835"/>
                  </a:moveTo>
                  <a:lnTo>
                    <a:pt x="1018" y="824"/>
                  </a:lnTo>
                  <a:lnTo>
                    <a:pt x="979" y="686"/>
                  </a:lnTo>
                  <a:lnTo>
                    <a:pt x="942" y="555"/>
                  </a:lnTo>
                  <a:lnTo>
                    <a:pt x="924" y="492"/>
                  </a:lnTo>
                  <a:lnTo>
                    <a:pt x="905" y="430"/>
                  </a:lnTo>
                  <a:lnTo>
                    <a:pt x="885" y="371"/>
                  </a:lnTo>
                  <a:lnTo>
                    <a:pt x="865" y="315"/>
                  </a:lnTo>
                  <a:lnTo>
                    <a:pt x="843" y="264"/>
                  </a:lnTo>
                  <a:lnTo>
                    <a:pt x="821" y="214"/>
                  </a:lnTo>
                  <a:lnTo>
                    <a:pt x="797" y="170"/>
                  </a:lnTo>
                  <a:lnTo>
                    <a:pt x="773" y="129"/>
                  </a:lnTo>
                  <a:lnTo>
                    <a:pt x="767" y="122"/>
                  </a:lnTo>
                  <a:lnTo>
                    <a:pt x="741" y="87"/>
                  </a:lnTo>
                  <a:lnTo>
                    <a:pt x="716" y="59"/>
                  </a:lnTo>
                  <a:lnTo>
                    <a:pt x="688" y="35"/>
                  </a:lnTo>
                  <a:lnTo>
                    <a:pt x="680" y="30"/>
                  </a:lnTo>
                  <a:lnTo>
                    <a:pt x="651" y="13"/>
                  </a:lnTo>
                  <a:lnTo>
                    <a:pt x="634" y="7"/>
                  </a:lnTo>
                  <a:lnTo>
                    <a:pt x="616" y="4"/>
                  </a:lnTo>
                  <a:lnTo>
                    <a:pt x="609" y="2"/>
                  </a:lnTo>
                  <a:lnTo>
                    <a:pt x="588" y="0"/>
                  </a:lnTo>
                  <a:lnTo>
                    <a:pt x="568" y="0"/>
                  </a:lnTo>
                  <a:lnTo>
                    <a:pt x="524" y="4"/>
                  </a:lnTo>
                  <a:lnTo>
                    <a:pt x="515" y="6"/>
                  </a:lnTo>
                  <a:lnTo>
                    <a:pt x="467" y="17"/>
                  </a:lnTo>
                  <a:lnTo>
                    <a:pt x="415" y="33"/>
                  </a:lnTo>
                  <a:lnTo>
                    <a:pt x="362" y="54"/>
                  </a:lnTo>
                  <a:lnTo>
                    <a:pt x="310" y="79"/>
                  </a:lnTo>
                  <a:lnTo>
                    <a:pt x="258" y="107"/>
                  </a:lnTo>
                  <a:lnTo>
                    <a:pt x="207" y="138"/>
                  </a:lnTo>
                  <a:lnTo>
                    <a:pt x="199" y="142"/>
                  </a:lnTo>
                  <a:lnTo>
                    <a:pt x="153" y="175"/>
                  </a:lnTo>
                  <a:lnTo>
                    <a:pt x="111" y="208"/>
                  </a:lnTo>
                  <a:lnTo>
                    <a:pt x="74" y="243"/>
                  </a:lnTo>
                  <a:lnTo>
                    <a:pt x="59" y="260"/>
                  </a:lnTo>
                  <a:lnTo>
                    <a:pt x="45" y="278"/>
                  </a:lnTo>
                  <a:lnTo>
                    <a:pt x="32" y="295"/>
                  </a:lnTo>
                  <a:lnTo>
                    <a:pt x="28" y="302"/>
                  </a:lnTo>
                  <a:lnTo>
                    <a:pt x="19" y="319"/>
                  </a:lnTo>
                  <a:lnTo>
                    <a:pt x="10" y="334"/>
                  </a:lnTo>
                  <a:lnTo>
                    <a:pt x="6" y="350"/>
                  </a:lnTo>
                  <a:lnTo>
                    <a:pt x="4" y="358"/>
                  </a:lnTo>
                  <a:lnTo>
                    <a:pt x="0" y="372"/>
                  </a:lnTo>
                  <a:lnTo>
                    <a:pt x="0" y="389"/>
                  </a:lnTo>
                  <a:lnTo>
                    <a:pt x="6" y="409"/>
                  </a:lnTo>
                  <a:lnTo>
                    <a:pt x="8" y="417"/>
                  </a:lnTo>
                  <a:lnTo>
                    <a:pt x="19" y="441"/>
                  </a:lnTo>
                  <a:lnTo>
                    <a:pt x="24" y="448"/>
                  </a:lnTo>
                  <a:lnTo>
                    <a:pt x="41" y="472"/>
                  </a:lnTo>
                  <a:lnTo>
                    <a:pt x="65" y="498"/>
                  </a:lnTo>
                  <a:lnTo>
                    <a:pt x="93" y="524"/>
                  </a:lnTo>
                  <a:lnTo>
                    <a:pt x="126" y="551"/>
                  </a:lnTo>
                  <a:lnTo>
                    <a:pt x="161" y="579"/>
                  </a:lnTo>
                  <a:lnTo>
                    <a:pt x="199" y="608"/>
                  </a:lnTo>
                  <a:lnTo>
                    <a:pt x="242" y="636"/>
                  </a:lnTo>
                  <a:lnTo>
                    <a:pt x="249" y="642"/>
                  </a:lnTo>
                  <a:lnTo>
                    <a:pt x="292" y="669"/>
                  </a:lnTo>
                  <a:lnTo>
                    <a:pt x="380" y="726"/>
                  </a:lnTo>
                  <a:lnTo>
                    <a:pt x="469" y="782"/>
                  </a:lnTo>
                  <a:lnTo>
                    <a:pt x="511" y="807"/>
                  </a:lnTo>
                  <a:lnTo>
                    <a:pt x="550" y="830"/>
                  </a:lnTo>
                  <a:lnTo>
                    <a:pt x="572" y="793"/>
                  </a:lnTo>
                  <a:lnTo>
                    <a:pt x="528" y="767"/>
                  </a:lnTo>
                  <a:lnTo>
                    <a:pt x="485" y="741"/>
                  </a:lnTo>
                  <a:lnTo>
                    <a:pt x="397" y="686"/>
                  </a:lnTo>
                  <a:lnTo>
                    <a:pt x="308" y="629"/>
                  </a:lnTo>
                  <a:lnTo>
                    <a:pt x="266" y="601"/>
                  </a:lnTo>
                  <a:lnTo>
                    <a:pt x="257" y="621"/>
                  </a:lnTo>
                  <a:lnTo>
                    <a:pt x="273" y="605"/>
                  </a:lnTo>
                  <a:lnTo>
                    <a:pt x="231" y="577"/>
                  </a:lnTo>
                  <a:lnTo>
                    <a:pt x="192" y="548"/>
                  </a:lnTo>
                  <a:lnTo>
                    <a:pt x="157" y="520"/>
                  </a:lnTo>
                  <a:lnTo>
                    <a:pt x="124" y="492"/>
                  </a:lnTo>
                  <a:lnTo>
                    <a:pt x="96" y="466"/>
                  </a:lnTo>
                  <a:lnTo>
                    <a:pt x="72" y="441"/>
                  </a:lnTo>
                  <a:lnTo>
                    <a:pt x="56" y="417"/>
                  </a:lnTo>
                  <a:lnTo>
                    <a:pt x="39" y="431"/>
                  </a:lnTo>
                  <a:lnTo>
                    <a:pt x="59" y="424"/>
                  </a:lnTo>
                  <a:lnTo>
                    <a:pt x="48" y="400"/>
                  </a:lnTo>
                  <a:lnTo>
                    <a:pt x="28" y="409"/>
                  </a:lnTo>
                  <a:lnTo>
                    <a:pt x="50" y="409"/>
                  </a:lnTo>
                  <a:lnTo>
                    <a:pt x="45" y="385"/>
                  </a:lnTo>
                  <a:lnTo>
                    <a:pt x="45" y="372"/>
                  </a:lnTo>
                  <a:lnTo>
                    <a:pt x="48" y="358"/>
                  </a:lnTo>
                  <a:lnTo>
                    <a:pt x="26" y="358"/>
                  </a:lnTo>
                  <a:lnTo>
                    <a:pt x="46" y="367"/>
                  </a:lnTo>
                  <a:lnTo>
                    <a:pt x="50" y="350"/>
                  </a:lnTo>
                  <a:lnTo>
                    <a:pt x="59" y="336"/>
                  </a:lnTo>
                  <a:lnTo>
                    <a:pt x="69" y="319"/>
                  </a:lnTo>
                  <a:lnTo>
                    <a:pt x="48" y="310"/>
                  </a:lnTo>
                  <a:lnTo>
                    <a:pt x="63" y="326"/>
                  </a:lnTo>
                  <a:lnTo>
                    <a:pt x="76" y="310"/>
                  </a:lnTo>
                  <a:lnTo>
                    <a:pt x="91" y="291"/>
                  </a:lnTo>
                  <a:lnTo>
                    <a:pt x="105" y="275"/>
                  </a:lnTo>
                  <a:lnTo>
                    <a:pt x="142" y="240"/>
                  </a:lnTo>
                  <a:lnTo>
                    <a:pt x="185" y="207"/>
                  </a:lnTo>
                  <a:lnTo>
                    <a:pt x="231" y="173"/>
                  </a:lnTo>
                  <a:lnTo>
                    <a:pt x="216" y="159"/>
                  </a:lnTo>
                  <a:lnTo>
                    <a:pt x="223" y="179"/>
                  </a:lnTo>
                  <a:lnTo>
                    <a:pt x="275" y="148"/>
                  </a:lnTo>
                  <a:lnTo>
                    <a:pt x="327" y="120"/>
                  </a:lnTo>
                  <a:lnTo>
                    <a:pt x="378" y="94"/>
                  </a:lnTo>
                  <a:lnTo>
                    <a:pt x="432" y="74"/>
                  </a:lnTo>
                  <a:lnTo>
                    <a:pt x="483" y="57"/>
                  </a:lnTo>
                  <a:lnTo>
                    <a:pt x="531" y="46"/>
                  </a:lnTo>
                  <a:lnTo>
                    <a:pt x="524" y="26"/>
                  </a:lnTo>
                  <a:lnTo>
                    <a:pt x="524" y="48"/>
                  </a:lnTo>
                  <a:lnTo>
                    <a:pt x="568" y="44"/>
                  </a:lnTo>
                  <a:lnTo>
                    <a:pt x="588" y="44"/>
                  </a:lnTo>
                  <a:lnTo>
                    <a:pt x="609" y="46"/>
                  </a:lnTo>
                  <a:lnTo>
                    <a:pt x="609" y="24"/>
                  </a:lnTo>
                  <a:lnTo>
                    <a:pt x="599" y="44"/>
                  </a:lnTo>
                  <a:lnTo>
                    <a:pt x="618" y="48"/>
                  </a:lnTo>
                  <a:lnTo>
                    <a:pt x="633" y="54"/>
                  </a:lnTo>
                  <a:lnTo>
                    <a:pt x="664" y="70"/>
                  </a:lnTo>
                  <a:lnTo>
                    <a:pt x="671" y="50"/>
                  </a:lnTo>
                  <a:lnTo>
                    <a:pt x="657" y="66"/>
                  </a:lnTo>
                  <a:lnTo>
                    <a:pt x="684" y="90"/>
                  </a:lnTo>
                  <a:lnTo>
                    <a:pt x="710" y="118"/>
                  </a:lnTo>
                  <a:lnTo>
                    <a:pt x="736" y="153"/>
                  </a:lnTo>
                  <a:lnTo>
                    <a:pt x="752" y="138"/>
                  </a:lnTo>
                  <a:lnTo>
                    <a:pt x="732" y="146"/>
                  </a:lnTo>
                  <a:lnTo>
                    <a:pt x="756" y="186"/>
                  </a:lnTo>
                  <a:lnTo>
                    <a:pt x="780" y="230"/>
                  </a:lnTo>
                  <a:lnTo>
                    <a:pt x="802" y="280"/>
                  </a:lnTo>
                  <a:lnTo>
                    <a:pt x="824" y="332"/>
                  </a:lnTo>
                  <a:lnTo>
                    <a:pt x="845" y="387"/>
                  </a:lnTo>
                  <a:lnTo>
                    <a:pt x="865" y="446"/>
                  </a:lnTo>
                  <a:lnTo>
                    <a:pt x="883" y="509"/>
                  </a:lnTo>
                  <a:lnTo>
                    <a:pt x="902" y="571"/>
                  </a:lnTo>
                  <a:lnTo>
                    <a:pt x="939" y="702"/>
                  </a:lnTo>
                  <a:lnTo>
                    <a:pt x="975" y="8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76520" y="2043000"/>
              <a:ext cx="174600" cy="150840"/>
            </a:xfrm>
            <a:custGeom>
              <a:avLst/>
              <a:gdLst/>
              <a:ahLst/>
              <a:rect l="l" t="t" r="r" b="b"/>
              <a:pathLst>
                <a:path w="221" h="190">
                  <a:moveTo>
                    <a:pt x="0" y="170"/>
                  </a:moveTo>
                  <a:lnTo>
                    <a:pt x="221" y="190"/>
                  </a:lnTo>
                  <a:lnTo>
                    <a:pt x="107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478240" y="2670120"/>
            <a:ext cx="4432320" cy="2125800"/>
            <a:chOff x="2478240" y="2670120"/>
            <a:chExt cx="4432320" cy="2125800"/>
          </a:xfrm>
        </p:grpSpPr>
        <p:sp>
          <p:nvSpPr>
            <p:cNvPr id="251" name=""/>
            <p:cNvSpPr/>
            <p:nvPr/>
          </p:nvSpPr>
          <p:spPr>
            <a:xfrm>
              <a:off x="2478240" y="2670120"/>
              <a:ext cx="4298760" cy="2070000"/>
            </a:xfrm>
            <a:custGeom>
              <a:avLst/>
              <a:gdLst/>
              <a:ahLst/>
              <a:rect l="l" t="t" r="r" b="b"/>
              <a:pathLst>
                <a:path w="5417" h="2608">
                  <a:moveTo>
                    <a:pt x="19" y="0"/>
                  </a:moveTo>
                  <a:lnTo>
                    <a:pt x="0" y="39"/>
                  </a:lnTo>
                  <a:lnTo>
                    <a:pt x="5399" y="2608"/>
                  </a:lnTo>
                  <a:lnTo>
                    <a:pt x="5417" y="256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34160" y="4653000"/>
              <a:ext cx="176400" cy="142920"/>
            </a:xfrm>
            <a:custGeom>
              <a:avLst/>
              <a:gdLst/>
              <a:ahLst/>
              <a:rect l="l" t="t" r="r" b="b"/>
              <a:pathLst>
                <a:path w="223" h="181">
                  <a:moveTo>
                    <a:pt x="0" y="181"/>
                  </a:moveTo>
                  <a:lnTo>
                    <a:pt x="223" y="175"/>
                  </a:lnTo>
                  <a:lnTo>
                    <a:pt x="85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695600" y="2825640"/>
            <a:ext cx="392040" cy="1059120"/>
            <a:chOff x="1695600" y="2825640"/>
            <a:chExt cx="392040" cy="1059120"/>
          </a:xfrm>
        </p:grpSpPr>
        <p:sp>
          <p:nvSpPr>
            <p:cNvPr id="254" name=""/>
            <p:cNvSpPr/>
            <p:nvPr/>
          </p:nvSpPr>
          <p:spPr>
            <a:xfrm>
              <a:off x="1695600" y="2967120"/>
              <a:ext cx="333360" cy="917640"/>
            </a:xfrm>
            <a:custGeom>
              <a:avLst/>
              <a:gdLst/>
              <a:ahLst/>
              <a:rect l="l" t="t" r="r" b="b"/>
              <a:pathLst>
                <a:path w="420" h="1158">
                  <a:moveTo>
                    <a:pt x="0" y="1143"/>
                  </a:moveTo>
                  <a:lnTo>
                    <a:pt x="41" y="1158"/>
                  </a:lnTo>
                  <a:lnTo>
                    <a:pt x="420" y="15"/>
                  </a:lnTo>
                  <a:lnTo>
                    <a:pt x="380" y="0"/>
                  </a:lnTo>
                  <a:lnTo>
                    <a:pt x="0" y="114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8240" y="2825640"/>
              <a:ext cx="149400" cy="176400"/>
            </a:xfrm>
            <a:custGeom>
              <a:avLst/>
              <a:gdLst/>
              <a:ahLst/>
              <a:rect l="l" t="t" r="r" b="b"/>
              <a:pathLst>
                <a:path w="190" h="221">
                  <a:moveTo>
                    <a:pt x="190" y="221"/>
                  </a:moveTo>
                  <a:lnTo>
                    <a:pt x="157" y="0"/>
                  </a:lnTo>
                  <a:lnTo>
                    <a:pt x="0" y="159"/>
                  </a:lnTo>
                  <a:lnTo>
                    <a:pt x="190" y="2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441440" y="305280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0/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990800" y="4284720"/>
            <a:ext cx="4846680" cy="774720"/>
            <a:chOff x="1990800" y="4284720"/>
            <a:chExt cx="4846680" cy="774720"/>
          </a:xfrm>
        </p:grpSpPr>
        <p:sp>
          <p:nvSpPr>
            <p:cNvPr id="258" name=""/>
            <p:cNvSpPr/>
            <p:nvPr/>
          </p:nvSpPr>
          <p:spPr>
            <a:xfrm>
              <a:off x="1990800" y="4284720"/>
              <a:ext cx="4697280" cy="714240"/>
            </a:xfrm>
            <a:custGeom>
              <a:avLst/>
              <a:gdLst/>
              <a:ahLst/>
              <a:rect l="l" t="t" r="r" b="b"/>
              <a:pathLst>
                <a:path w="5919" h="899">
                  <a:moveTo>
                    <a:pt x="6" y="0"/>
                  </a:moveTo>
                  <a:lnTo>
                    <a:pt x="0" y="42"/>
                  </a:lnTo>
                  <a:lnTo>
                    <a:pt x="5913" y="899"/>
                  </a:lnTo>
                  <a:lnTo>
                    <a:pt x="5919" y="85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70800" y="4903920"/>
              <a:ext cx="166680" cy="155520"/>
            </a:xfrm>
            <a:custGeom>
              <a:avLst/>
              <a:gdLst/>
              <a:ahLst/>
              <a:rect l="l" t="t" r="r" b="b"/>
              <a:pathLst>
                <a:path w="210" h="197">
                  <a:moveTo>
                    <a:pt x="0" y="197"/>
                  </a:moveTo>
                  <a:lnTo>
                    <a:pt x="210" y="125"/>
                  </a:lnTo>
                  <a:lnTo>
                    <a:pt x="27" y="0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916360" y="412128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1/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851120" y="4581360"/>
            <a:ext cx="1133280" cy="717840"/>
            <a:chOff x="1851120" y="4581360"/>
            <a:chExt cx="1133280" cy="717840"/>
          </a:xfrm>
        </p:grpSpPr>
        <p:sp>
          <p:nvSpPr>
            <p:cNvPr id="262" name=""/>
            <p:cNvSpPr/>
            <p:nvPr/>
          </p:nvSpPr>
          <p:spPr>
            <a:xfrm>
              <a:off x="1973160" y="4646520"/>
              <a:ext cx="1011240" cy="652680"/>
            </a:xfrm>
            <a:custGeom>
              <a:avLst/>
              <a:gdLst/>
              <a:ahLst/>
              <a:rect l="l" t="t" r="r" b="b"/>
              <a:pathLst>
                <a:path w="1276" h="820">
                  <a:moveTo>
                    <a:pt x="1252" y="820"/>
                  </a:moveTo>
                  <a:lnTo>
                    <a:pt x="1276" y="783"/>
                  </a:lnTo>
                  <a:lnTo>
                    <a:pt x="24" y="0"/>
                  </a:lnTo>
                  <a:lnTo>
                    <a:pt x="0" y="37"/>
                  </a:lnTo>
                  <a:lnTo>
                    <a:pt x="1252" y="8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51120" y="4581360"/>
              <a:ext cx="177840" cy="152640"/>
            </a:xfrm>
            <a:custGeom>
              <a:avLst/>
              <a:gdLst/>
              <a:ahLst/>
              <a:rect l="l" t="t" r="r" b="b"/>
              <a:pathLst>
                <a:path w="223" h="192">
                  <a:moveTo>
                    <a:pt x="223" y="22"/>
                  </a:moveTo>
                  <a:lnTo>
                    <a:pt x="0" y="0"/>
                  </a:lnTo>
                  <a:lnTo>
                    <a:pt x="116" y="192"/>
                  </a:lnTo>
                  <a:lnTo>
                    <a:pt x="223" y="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098800" y="495000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0/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668760" y="3317760"/>
            <a:ext cx="3519360" cy="2051280"/>
            <a:chOff x="3668760" y="3317760"/>
            <a:chExt cx="3519360" cy="2051280"/>
          </a:xfrm>
        </p:grpSpPr>
        <p:sp>
          <p:nvSpPr>
            <p:cNvPr id="266" name=""/>
            <p:cNvSpPr/>
            <p:nvPr/>
          </p:nvSpPr>
          <p:spPr>
            <a:xfrm>
              <a:off x="3668760" y="3378240"/>
              <a:ext cx="3395520" cy="1990800"/>
            </a:xfrm>
            <a:custGeom>
              <a:avLst/>
              <a:gdLst/>
              <a:ahLst/>
              <a:rect l="l" t="t" r="r" b="b"/>
              <a:pathLst>
                <a:path w="4278" h="2507">
                  <a:moveTo>
                    <a:pt x="0" y="2470"/>
                  </a:moveTo>
                  <a:lnTo>
                    <a:pt x="22" y="2507"/>
                  </a:lnTo>
                  <a:lnTo>
                    <a:pt x="4278" y="37"/>
                  </a:lnTo>
                  <a:lnTo>
                    <a:pt x="4255" y="0"/>
                  </a:lnTo>
                  <a:lnTo>
                    <a:pt x="0" y="24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13520" y="3317760"/>
              <a:ext cx="174600" cy="147600"/>
            </a:xfrm>
            <a:custGeom>
              <a:avLst/>
              <a:gdLst/>
              <a:ahLst/>
              <a:rect l="l" t="t" r="r" b="b"/>
              <a:pathLst>
                <a:path w="221" h="186">
                  <a:moveTo>
                    <a:pt x="100" y="186"/>
                  </a:moveTo>
                  <a:lnTo>
                    <a:pt x="221" y="0"/>
                  </a:lnTo>
                  <a:lnTo>
                    <a:pt x="0" y="14"/>
                  </a:lnTo>
                  <a:lnTo>
                    <a:pt x="100" y="1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179960" y="501984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1/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569960" y="4721400"/>
            <a:ext cx="3517920" cy="1415880"/>
            <a:chOff x="1569960" y="4721400"/>
            <a:chExt cx="3517920" cy="1415880"/>
          </a:xfrm>
        </p:grpSpPr>
        <p:sp>
          <p:nvSpPr>
            <p:cNvPr id="270" name=""/>
            <p:cNvSpPr/>
            <p:nvPr/>
          </p:nvSpPr>
          <p:spPr>
            <a:xfrm>
              <a:off x="1647720" y="4840200"/>
              <a:ext cx="3440160" cy="1297080"/>
            </a:xfrm>
            <a:custGeom>
              <a:avLst/>
              <a:gdLst/>
              <a:ahLst/>
              <a:rect l="l" t="t" r="r" b="b"/>
              <a:pathLst>
                <a:path w="4333" h="1633">
                  <a:moveTo>
                    <a:pt x="4333" y="1200"/>
                  </a:moveTo>
                  <a:lnTo>
                    <a:pt x="4321" y="1158"/>
                  </a:lnTo>
                  <a:lnTo>
                    <a:pt x="3959" y="1265"/>
                  </a:lnTo>
                  <a:lnTo>
                    <a:pt x="3780" y="1316"/>
                  </a:lnTo>
                  <a:lnTo>
                    <a:pt x="3602" y="1366"/>
                  </a:lnTo>
                  <a:lnTo>
                    <a:pt x="3427" y="1412"/>
                  </a:lnTo>
                  <a:lnTo>
                    <a:pt x="3251" y="1455"/>
                  </a:lnTo>
                  <a:lnTo>
                    <a:pt x="3078" y="1493"/>
                  </a:lnTo>
                  <a:lnTo>
                    <a:pt x="3087" y="1513"/>
                  </a:lnTo>
                  <a:lnTo>
                    <a:pt x="3087" y="1491"/>
                  </a:lnTo>
                  <a:lnTo>
                    <a:pt x="2916" y="1525"/>
                  </a:lnTo>
                  <a:lnTo>
                    <a:pt x="2748" y="1550"/>
                  </a:lnTo>
                  <a:lnTo>
                    <a:pt x="2665" y="1561"/>
                  </a:lnTo>
                  <a:lnTo>
                    <a:pt x="2582" y="1571"/>
                  </a:lnTo>
                  <a:lnTo>
                    <a:pt x="2501" y="1578"/>
                  </a:lnTo>
                  <a:lnTo>
                    <a:pt x="2422" y="1584"/>
                  </a:lnTo>
                  <a:lnTo>
                    <a:pt x="2341" y="1587"/>
                  </a:lnTo>
                  <a:lnTo>
                    <a:pt x="2264" y="1589"/>
                  </a:lnTo>
                  <a:lnTo>
                    <a:pt x="2186" y="1587"/>
                  </a:lnTo>
                  <a:lnTo>
                    <a:pt x="2109" y="1584"/>
                  </a:lnTo>
                  <a:lnTo>
                    <a:pt x="2033" y="1578"/>
                  </a:lnTo>
                  <a:lnTo>
                    <a:pt x="1958" y="1571"/>
                  </a:lnTo>
                  <a:lnTo>
                    <a:pt x="1886" y="1560"/>
                  </a:lnTo>
                  <a:lnTo>
                    <a:pt x="1812" y="1545"/>
                  </a:lnTo>
                  <a:lnTo>
                    <a:pt x="1812" y="1567"/>
                  </a:lnTo>
                  <a:lnTo>
                    <a:pt x="1821" y="1547"/>
                  </a:lnTo>
                  <a:lnTo>
                    <a:pt x="1749" y="1532"/>
                  </a:lnTo>
                  <a:lnTo>
                    <a:pt x="1679" y="1512"/>
                  </a:lnTo>
                  <a:lnTo>
                    <a:pt x="1617" y="1491"/>
                  </a:lnTo>
                  <a:lnTo>
                    <a:pt x="1554" y="1467"/>
                  </a:lnTo>
                  <a:lnTo>
                    <a:pt x="1493" y="1443"/>
                  </a:lnTo>
                  <a:lnTo>
                    <a:pt x="1432" y="1414"/>
                  </a:lnTo>
                  <a:lnTo>
                    <a:pt x="1373" y="1384"/>
                  </a:lnTo>
                  <a:lnTo>
                    <a:pt x="1314" y="1353"/>
                  </a:lnTo>
                  <a:lnTo>
                    <a:pt x="1257" y="1318"/>
                  </a:lnTo>
                  <a:lnTo>
                    <a:pt x="1200" y="1281"/>
                  </a:lnTo>
                  <a:lnTo>
                    <a:pt x="1193" y="1302"/>
                  </a:lnTo>
                  <a:lnTo>
                    <a:pt x="1207" y="1287"/>
                  </a:lnTo>
                  <a:lnTo>
                    <a:pt x="1152" y="1248"/>
                  </a:lnTo>
                  <a:lnTo>
                    <a:pt x="1097" y="1208"/>
                  </a:lnTo>
                  <a:lnTo>
                    <a:pt x="990" y="1123"/>
                  </a:lnTo>
                  <a:lnTo>
                    <a:pt x="885" y="1031"/>
                  </a:lnTo>
                  <a:lnTo>
                    <a:pt x="783" y="931"/>
                  </a:lnTo>
                  <a:lnTo>
                    <a:pt x="684" y="828"/>
                  </a:lnTo>
                  <a:lnTo>
                    <a:pt x="586" y="719"/>
                  </a:lnTo>
                  <a:lnTo>
                    <a:pt x="490" y="607"/>
                  </a:lnTo>
                  <a:lnTo>
                    <a:pt x="396" y="491"/>
                  </a:lnTo>
                  <a:lnTo>
                    <a:pt x="304" y="371"/>
                  </a:lnTo>
                  <a:lnTo>
                    <a:pt x="214" y="247"/>
                  </a:lnTo>
                  <a:lnTo>
                    <a:pt x="122" y="124"/>
                  </a:lnTo>
                  <a:lnTo>
                    <a:pt x="35" y="0"/>
                  </a:lnTo>
                  <a:lnTo>
                    <a:pt x="0" y="26"/>
                  </a:lnTo>
                  <a:lnTo>
                    <a:pt x="90" y="155"/>
                  </a:lnTo>
                  <a:lnTo>
                    <a:pt x="183" y="279"/>
                  </a:lnTo>
                  <a:lnTo>
                    <a:pt x="273" y="402"/>
                  </a:lnTo>
                  <a:lnTo>
                    <a:pt x="365" y="522"/>
                  </a:lnTo>
                  <a:lnTo>
                    <a:pt x="459" y="638"/>
                  </a:lnTo>
                  <a:lnTo>
                    <a:pt x="555" y="750"/>
                  </a:lnTo>
                  <a:lnTo>
                    <a:pt x="653" y="859"/>
                  </a:lnTo>
                  <a:lnTo>
                    <a:pt x="752" y="962"/>
                  </a:lnTo>
                  <a:lnTo>
                    <a:pt x="853" y="1062"/>
                  </a:lnTo>
                  <a:lnTo>
                    <a:pt x="959" y="1154"/>
                  </a:lnTo>
                  <a:lnTo>
                    <a:pt x="1065" y="1239"/>
                  </a:lnTo>
                  <a:lnTo>
                    <a:pt x="1121" y="1279"/>
                  </a:lnTo>
                  <a:lnTo>
                    <a:pt x="1176" y="1318"/>
                  </a:lnTo>
                  <a:lnTo>
                    <a:pt x="1183" y="1322"/>
                  </a:lnTo>
                  <a:lnTo>
                    <a:pt x="1241" y="1359"/>
                  </a:lnTo>
                  <a:lnTo>
                    <a:pt x="1298" y="1394"/>
                  </a:lnTo>
                  <a:lnTo>
                    <a:pt x="1357" y="1425"/>
                  </a:lnTo>
                  <a:lnTo>
                    <a:pt x="1416" y="1455"/>
                  </a:lnTo>
                  <a:lnTo>
                    <a:pt x="1476" y="1484"/>
                  </a:lnTo>
                  <a:lnTo>
                    <a:pt x="1537" y="1508"/>
                  </a:lnTo>
                  <a:lnTo>
                    <a:pt x="1600" y="1532"/>
                  </a:lnTo>
                  <a:lnTo>
                    <a:pt x="1666" y="1554"/>
                  </a:lnTo>
                  <a:lnTo>
                    <a:pt x="1733" y="1572"/>
                  </a:lnTo>
                  <a:lnTo>
                    <a:pt x="1805" y="1587"/>
                  </a:lnTo>
                  <a:lnTo>
                    <a:pt x="1812" y="1589"/>
                  </a:lnTo>
                  <a:lnTo>
                    <a:pt x="1886" y="1604"/>
                  </a:lnTo>
                  <a:lnTo>
                    <a:pt x="1958" y="1615"/>
                  </a:lnTo>
                  <a:lnTo>
                    <a:pt x="2033" y="1622"/>
                  </a:lnTo>
                  <a:lnTo>
                    <a:pt x="2109" y="1628"/>
                  </a:lnTo>
                  <a:lnTo>
                    <a:pt x="2186" y="1631"/>
                  </a:lnTo>
                  <a:lnTo>
                    <a:pt x="2264" y="1633"/>
                  </a:lnTo>
                  <a:lnTo>
                    <a:pt x="2341" y="1631"/>
                  </a:lnTo>
                  <a:lnTo>
                    <a:pt x="2422" y="1628"/>
                  </a:lnTo>
                  <a:lnTo>
                    <a:pt x="2501" y="1622"/>
                  </a:lnTo>
                  <a:lnTo>
                    <a:pt x="2582" y="1615"/>
                  </a:lnTo>
                  <a:lnTo>
                    <a:pt x="2665" y="1606"/>
                  </a:lnTo>
                  <a:lnTo>
                    <a:pt x="2748" y="1595"/>
                  </a:lnTo>
                  <a:lnTo>
                    <a:pt x="2916" y="1569"/>
                  </a:lnTo>
                  <a:lnTo>
                    <a:pt x="3087" y="1536"/>
                  </a:lnTo>
                  <a:lnTo>
                    <a:pt x="3095" y="1534"/>
                  </a:lnTo>
                  <a:lnTo>
                    <a:pt x="3268" y="1495"/>
                  </a:lnTo>
                  <a:lnTo>
                    <a:pt x="3443" y="1453"/>
                  </a:lnTo>
                  <a:lnTo>
                    <a:pt x="3618" y="1407"/>
                  </a:lnTo>
                  <a:lnTo>
                    <a:pt x="3797" y="1357"/>
                  </a:lnTo>
                  <a:lnTo>
                    <a:pt x="3976" y="1305"/>
                  </a:lnTo>
                  <a:lnTo>
                    <a:pt x="4333" y="1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69960" y="4721400"/>
              <a:ext cx="157320" cy="176040"/>
            </a:xfrm>
            <a:custGeom>
              <a:avLst/>
              <a:gdLst/>
              <a:ahLst/>
              <a:rect l="l" t="t" r="r" b="b"/>
              <a:pathLst>
                <a:path w="198" h="221">
                  <a:moveTo>
                    <a:pt x="198" y="107"/>
                  </a:moveTo>
                  <a:lnTo>
                    <a:pt x="0" y="0"/>
                  </a:lnTo>
                  <a:lnTo>
                    <a:pt x="35" y="221"/>
                  </a:lnTo>
                  <a:lnTo>
                    <a:pt x="198" y="10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441440" y="508968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0/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632560" y="3457440"/>
            <a:ext cx="1625400" cy="1768680"/>
            <a:chOff x="5632560" y="3457440"/>
            <a:chExt cx="1625400" cy="1768680"/>
          </a:xfrm>
        </p:grpSpPr>
        <p:sp>
          <p:nvSpPr>
            <p:cNvPr id="274" name=""/>
            <p:cNvSpPr/>
            <p:nvPr/>
          </p:nvSpPr>
          <p:spPr>
            <a:xfrm>
              <a:off x="5632560" y="3559320"/>
              <a:ext cx="1536480" cy="1666800"/>
            </a:xfrm>
            <a:custGeom>
              <a:avLst/>
              <a:gdLst/>
              <a:ahLst/>
              <a:rect l="l" t="t" r="r" b="b"/>
              <a:pathLst>
                <a:path w="1937" h="2099">
                  <a:moveTo>
                    <a:pt x="0" y="2070"/>
                  </a:moveTo>
                  <a:lnTo>
                    <a:pt x="31" y="2099"/>
                  </a:lnTo>
                  <a:lnTo>
                    <a:pt x="1937" y="29"/>
                  </a:lnTo>
                  <a:lnTo>
                    <a:pt x="1906" y="0"/>
                  </a:lnTo>
                  <a:lnTo>
                    <a:pt x="0" y="20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94520" y="3457440"/>
              <a:ext cx="163440" cy="171720"/>
            </a:xfrm>
            <a:custGeom>
              <a:avLst/>
              <a:gdLst/>
              <a:ahLst/>
              <a:rect l="l" t="t" r="r" b="b"/>
              <a:pathLst>
                <a:path w="207" h="216">
                  <a:moveTo>
                    <a:pt x="148" y="216"/>
                  </a:moveTo>
                  <a:lnTo>
                    <a:pt x="207" y="0"/>
                  </a:lnTo>
                  <a:lnTo>
                    <a:pt x="0" y="82"/>
                  </a:lnTo>
                  <a:lnTo>
                    <a:pt x="148" y="2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6593040" y="412128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1/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606840" y="5337000"/>
            <a:ext cx="3517920" cy="816120"/>
            <a:chOff x="3606840" y="5337000"/>
            <a:chExt cx="3517920" cy="816120"/>
          </a:xfrm>
        </p:grpSpPr>
        <p:sp>
          <p:nvSpPr>
            <p:cNvPr id="278" name=""/>
            <p:cNvSpPr/>
            <p:nvPr/>
          </p:nvSpPr>
          <p:spPr>
            <a:xfrm>
              <a:off x="3726000" y="5337000"/>
              <a:ext cx="3398760" cy="816120"/>
            </a:xfrm>
            <a:custGeom>
              <a:avLst/>
              <a:gdLst/>
              <a:ahLst/>
              <a:rect l="l" t="t" r="r" b="b"/>
              <a:pathLst>
                <a:path w="4284" h="1027">
                  <a:moveTo>
                    <a:pt x="4284" y="40"/>
                  </a:moveTo>
                  <a:lnTo>
                    <a:pt x="4266" y="0"/>
                  </a:lnTo>
                  <a:lnTo>
                    <a:pt x="3875" y="168"/>
                  </a:lnTo>
                  <a:lnTo>
                    <a:pt x="3679" y="251"/>
                  </a:lnTo>
                  <a:lnTo>
                    <a:pt x="3486" y="332"/>
                  </a:lnTo>
                  <a:lnTo>
                    <a:pt x="3294" y="411"/>
                  </a:lnTo>
                  <a:lnTo>
                    <a:pt x="3104" y="487"/>
                  </a:lnTo>
                  <a:lnTo>
                    <a:pt x="2918" y="558"/>
                  </a:lnTo>
                  <a:lnTo>
                    <a:pt x="2736" y="628"/>
                  </a:lnTo>
                  <a:lnTo>
                    <a:pt x="2555" y="693"/>
                  </a:lnTo>
                  <a:lnTo>
                    <a:pt x="2380" y="752"/>
                  </a:lnTo>
                  <a:lnTo>
                    <a:pt x="2209" y="805"/>
                  </a:lnTo>
                  <a:lnTo>
                    <a:pt x="2041" y="853"/>
                  </a:lnTo>
                  <a:lnTo>
                    <a:pt x="1880" y="894"/>
                  </a:lnTo>
                  <a:lnTo>
                    <a:pt x="1803" y="912"/>
                  </a:lnTo>
                  <a:lnTo>
                    <a:pt x="1726" y="929"/>
                  </a:lnTo>
                  <a:lnTo>
                    <a:pt x="1735" y="949"/>
                  </a:lnTo>
                  <a:lnTo>
                    <a:pt x="1735" y="927"/>
                  </a:lnTo>
                  <a:lnTo>
                    <a:pt x="1659" y="942"/>
                  </a:lnTo>
                  <a:lnTo>
                    <a:pt x="1586" y="953"/>
                  </a:lnTo>
                  <a:lnTo>
                    <a:pt x="1514" y="964"/>
                  </a:lnTo>
                  <a:lnTo>
                    <a:pt x="1442" y="971"/>
                  </a:lnTo>
                  <a:lnTo>
                    <a:pt x="1326" y="980"/>
                  </a:lnTo>
                  <a:lnTo>
                    <a:pt x="1213" y="982"/>
                  </a:lnTo>
                  <a:lnTo>
                    <a:pt x="1104" y="979"/>
                  </a:lnTo>
                  <a:lnTo>
                    <a:pt x="1001" y="969"/>
                  </a:lnTo>
                  <a:lnTo>
                    <a:pt x="902" y="955"/>
                  </a:lnTo>
                  <a:lnTo>
                    <a:pt x="902" y="977"/>
                  </a:lnTo>
                  <a:lnTo>
                    <a:pt x="911" y="957"/>
                  </a:lnTo>
                  <a:lnTo>
                    <a:pt x="815" y="938"/>
                  </a:lnTo>
                  <a:lnTo>
                    <a:pt x="723" y="912"/>
                  </a:lnTo>
                  <a:lnTo>
                    <a:pt x="636" y="885"/>
                  </a:lnTo>
                  <a:lnTo>
                    <a:pt x="552" y="853"/>
                  </a:lnTo>
                  <a:lnTo>
                    <a:pt x="469" y="818"/>
                  </a:lnTo>
                  <a:lnTo>
                    <a:pt x="389" y="780"/>
                  </a:lnTo>
                  <a:lnTo>
                    <a:pt x="312" y="737"/>
                  </a:lnTo>
                  <a:lnTo>
                    <a:pt x="236" y="695"/>
                  </a:lnTo>
                  <a:lnTo>
                    <a:pt x="163" y="649"/>
                  </a:lnTo>
                  <a:lnTo>
                    <a:pt x="155" y="669"/>
                  </a:lnTo>
                  <a:lnTo>
                    <a:pt x="170" y="654"/>
                  </a:lnTo>
                  <a:lnTo>
                    <a:pt x="24" y="558"/>
                  </a:lnTo>
                  <a:lnTo>
                    <a:pt x="0" y="593"/>
                  </a:lnTo>
                  <a:lnTo>
                    <a:pt x="139" y="686"/>
                  </a:lnTo>
                  <a:lnTo>
                    <a:pt x="146" y="689"/>
                  </a:lnTo>
                  <a:lnTo>
                    <a:pt x="220" y="735"/>
                  </a:lnTo>
                  <a:lnTo>
                    <a:pt x="295" y="778"/>
                  </a:lnTo>
                  <a:lnTo>
                    <a:pt x="373" y="820"/>
                  </a:lnTo>
                  <a:lnTo>
                    <a:pt x="452" y="859"/>
                  </a:lnTo>
                  <a:lnTo>
                    <a:pt x="535" y="894"/>
                  </a:lnTo>
                  <a:lnTo>
                    <a:pt x="620" y="925"/>
                  </a:lnTo>
                  <a:lnTo>
                    <a:pt x="706" y="953"/>
                  </a:lnTo>
                  <a:lnTo>
                    <a:pt x="799" y="979"/>
                  </a:lnTo>
                  <a:lnTo>
                    <a:pt x="894" y="997"/>
                  </a:lnTo>
                  <a:lnTo>
                    <a:pt x="902" y="999"/>
                  </a:lnTo>
                  <a:lnTo>
                    <a:pt x="1001" y="1014"/>
                  </a:lnTo>
                  <a:lnTo>
                    <a:pt x="1104" y="1023"/>
                  </a:lnTo>
                  <a:lnTo>
                    <a:pt x="1213" y="1027"/>
                  </a:lnTo>
                  <a:lnTo>
                    <a:pt x="1326" y="1025"/>
                  </a:lnTo>
                  <a:lnTo>
                    <a:pt x="1445" y="1016"/>
                  </a:lnTo>
                  <a:lnTo>
                    <a:pt x="1514" y="1008"/>
                  </a:lnTo>
                  <a:lnTo>
                    <a:pt x="1586" y="997"/>
                  </a:lnTo>
                  <a:lnTo>
                    <a:pt x="1659" y="986"/>
                  </a:lnTo>
                  <a:lnTo>
                    <a:pt x="1735" y="971"/>
                  </a:lnTo>
                  <a:lnTo>
                    <a:pt x="1742" y="969"/>
                  </a:lnTo>
                  <a:lnTo>
                    <a:pt x="1820" y="953"/>
                  </a:lnTo>
                  <a:lnTo>
                    <a:pt x="1897" y="934"/>
                  </a:lnTo>
                  <a:lnTo>
                    <a:pt x="2057" y="894"/>
                  </a:lnTo>
                  <a:lnTo>
                    <a:pt x="2225" y="846"/>
                  </a:lnTo>
                  <a:lnTo>
                    <a:pt x="2397" y="792"/>
                  </a:lnTo>
                  <a:lnTo>
                    <a:pt x="2572" y="734"/>
                  </a:lnTo>
                  <a:lnTo>
                    <a:pt x="2752" y="669"/>
                  </a:lnTo>
                  <a:lnTo>
                    <a:pt x="2935" y="599"/>
                  </a:lnTo>
                  <a:lnTo>
                    <a:pt x="3121" y="527"/>
                  </a:lnTo>
                  <a:lnTo>
                    <a:pt x="3311" y="452"/>
                  </a:lnTo>
                  <a:lnTo>
                    <a:pt x="3502" y="372"/>
                  </a:lnTo>
                  <a:lnTo>
                    <a:pt x="3696" y="291"/>
                  </a:lnTo>
                  <a:lnTo>
                    <a:pt x="3891" y="208"/>
                  </a:lnTo>
                  <a:lnTo>
                    <a:pt x="4284" y="4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06840" y="5705640"/>
              <a:ext cx="176040" cy="155520"/>
            </a:xfrm>
            <a:custGeom>
              <a:avLst/>
              <a:gdLst/>
              <a:ahLst/>
              <a:rect l="l" t="t" r="r" b="b"/>
              <a:pathLst>
                <a:path w="221" h="197">
                  <a:moveTo>
                    <a:pt x="221" y="33"/>
                  </a:moveTo>
                  <a:lnTo>
                    <a:pt x="0" y="0"/>
                  </a:lnTo>
                  <a:lnTo>
                    <a:pt x="107" y="197"/>
                  </a:lnTo>
                  <a:lnTo>
                    <a:pt x="221" y="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381720" y="565164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0/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060960" y="2263680"/>
            <a:ext cx="1143000" cy="2395800"/>
            <a:chOff x="6060960" y="2263680"/>
            <a:chExt cx="1143000" cy="2395800"/>
          </a:xfrm>
        </p:grpSpPr>
        <p:sp>
          <p:nvSpPr>
            <p:cNvPr id="282" name=""/>
            <p:cNvSpPr/>
            <p:nvPr/>
          </p:nvSpPr>
          <p:spPr>
            <a:xfrm>
              <a:off x="6116760" y="2395440"/>
              <a:ext cx="1087200" cy="2264040"/>
            </a:xfrm>
            <a:custGeom>
              <a:avLst/>
              <a:gdLst/>
              <a:ahLst/>
              <a:rect l="l" t="t" r="r" b="b"/>
              <a:pathLst>
                <a:path w="1372" h="2852">
                  <a:moveTo>
                    <a:pt x="1331" y="2852"/>
                  </a:moveTo>
                  <a:lnTo>
                    <a:pt x="1372" y="2833"/>
                  </a:lnTo>
                  <a:lnTo>
                    <a:pt x="41" y="0"/>
                  </a:lnTo>
                  <a:lnTo>
                    <a:pt x="0" y="19"/>
                  </a:lnTo>
                  <a:lnTo>
                    <a:pt x="1331" y="285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60960" y="2263680"/>
              <a:ext cx="144720" cy="177840"/>
            </a:xfrm>
            <a:custGeom>
              <a:avLst/>
              <a:gdLst/>
              <a:ahLst/>
              <a:rect l="l" t="t" r="r" b="b"/>
              <a:pathLst>
                <a:path w="181" h="223">
                  <a:moveTo>
                    <a:pt x="181" y="139"/>
                  </a:moveTo>
                  <a:lnTo>
                    <a:pt x="4" y="0"/>
                  </a:lnTo>
                  <a:lnTo>
                    <a:pt x="0" y="223"/>
                  </a:lnTo>
                  <a:lnTo>
                    <a:pt x="181" y="1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961240" y="271620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1/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37000" y="3090960"/>
            <a:ext cx="3654360" cy="1982520"/>
            <a:chOff x="3537000" y="3090960"/>
            <a:chExt cx="3654360" cy="1982520"/>
          </a:xfrm>
        </p:grpSpPr>
        <p:sp>
          <p:nvSpPr>
            <p:cNvPr id="286" name=""/>
            <p:cNvSpPr/>
            <p:nvPr/>
          </p:nvSpPr>
          <p:spPr>
            <a:xfrm>
              <a:off x="3624120" y="3090960"/>
              <a:ext cx="3567240" cy="1876320"/>
            </a:xfrm>
            <a:custGeom>
              <a:avLst/>
              <a:gdLst/>
              <a:ahLst/>
              <a:rect l="l" t="t" r="r" b="b"/>
              <a:pathLst>
                <a:path w="4494" h="2365">
                  <a:moveTo>
                    <a:pt x="4494" y="42"/>
                  </a:moveTo>
                  <a:lnTo>
                    <a:pt x="4487" y="0"/>
                  </a:lnTo>
                  <a:lnTo>
                    <a:pt x="4136" y="53"/>
                  </a:lnTo>
                  <a:lnTo>
                    <a:pt x="3786" y="112"/>
                  </a:lnTo>
                  <a:lnTo>
                    <a:pt x="3611" y="144"/>
                  </a:lnTo>
                  <a:lnTo>
                    <a:pt x="3438" y="179"/>
                  </a:lnTo>
                  <a:lnTo>
                    <a:pt x="3430" y="180"/>
                  </a:lnTo>
                  <a:lnTo>
                    <a:pt x="3259" y="215"/>
                  </a:lnTo>
                  <a:lnTo>
                    <a:pt x="3089" y="254"/>
                  </a:lnTo>
                  <a:lnTo>
                    <a:pt x="2922" y="297"/>
                  </a:lnTo>
                  <a:lnTo>
                    <a:pt x="2756" y="341"/>
                  </a:lnTo>
                  <a:lnTo>
                    <a:pt x="2594" y="391"/>
                  </a:lnTo>
                  <a:lnTo>
                    <a:pt x="2433" y="444"/>
                  </a:lnTo>
                  <a:lnTo>
                    <a:pt x="2277" y="501"/>
                  </a:lnTo>
                  <a:lnTo>
                    <a:pt x="2124" y="566"/>
                  </a:lnTo>
                  <a:lnTo>
                    <a:pt x="1974" y="634"/>
                  </a:lnTo>
                  <a:lnTo>
                    <a:pt x="1827" y="709"/>
                  </a:lnTo>
                  <a:lnTo>
                    <a:pt x="1696" y="781"/>
                  </a:lnTo>
                  <a:lnTo>
                    <a:pt x="1569" y="861"/>
                  </a:lnTo>
                  <a:lnTo>
                    <a:pt x="1443" y="945"/>
                  </a:lnTo>
                  <a:lnTo>
                    <a:pt x="1436" y="949"/>
                  </a:lnTo>
                  <a:lnTo>
                    <a:pt x="1313" y="1038"/>
                  </a:lnTo>
                  <a:lnTo>
                    <a:pt x="1193" y="1132"/>
                  </a:lnTo>
                  <a:lnTo>
                    <a:pt x="1077" y="1227"/>
                  </a:lnTo>
                  <a:lnTo>
                    <a:pt x="962" y="1327"/>
                  </a:lnTo>
                  <a:lnTo>
                    <a:pt x="850" y="1430"/>
                  </a:lnTo>
                  <a:lnTo>
                    <a:pt x="739" y="1537"/>
                  </a:lnTo>
                  <a:lnTo>
                    <a:pt x="631" y="1646"/>
                  </a:lnTo>
                  <a:lnTo>
                    <a:pt x="522" y="1756"/>
                  </a:lnTo>
                  <a:lnTo>
                    <a:pt x="417" y="1869"/>
                  </a:lnTo>
                  <a:lnTo>
                    <a:pt x="207" y="2099"/>
                  </a:lnTo>
                  <a:lnTo>
                    <a:pt x="0" y="2335"/>
                  </a:lnTo>
                  <a:lnTo>
                    <a:pt x="33" y="2365"/>
                  </a:lnTo>
                  <a:lnTo>
                    <a:pt x="238" y="2131"/>
                  </a:lnTo>
                  <a:lnTo>
                    <a:pt x="448" y="1900"/>
                  </a:lnTo>
                  <a:lnTo>
                    <a:pt x="553" y="1788"/>
                  </a:lnTo>
                  <a:lnTo>
                    <a:pt x="662" y="1677"/>
                  </a:lnTo>
                  <a:lnTo>
                    <a:pt x="771" y="1568"/>
                  </a:lnTo>
                  <a:lnTo>
                    <a:pt x="881" y="1461"/>
                  </a:lnTo>
                  <a:lnTo>
                    <a:pt x="994" y="1358"/>
                  </a:lnTo>
                  <a:lnTo>
                    <a:pt x="1108" y="1259"/>
                  </a:lnTo>
                  <a:lnTo>
                    <a:pt x="1224" y="1163"/>
                  </a:lnTo>
                  <a:lnTo>
                    <a:pt x="1344" y="1069"/>
                  </a:lnTo>
                  <a:lnTo>
                    <a:pt x="1467" y="980"/>
                  </a:lnTo>
                  <a:lnTo>
                    <a:pt x="1451" y="966"/>
                  </a:lnTo>
                  <a:lnTo>
                    <a:pt x="1460" y="986"/>
                  </a:lnTo>
                  <a:lnTo>
                    <a:pt x="1585" y="901"/>
                  </a:lnTo>
                  <a:lnTo>
                    <a:pt x="1713" y="822"/>
                  </a:lnTo>
                  <a:lnTo>
                    <a:pt x="1847" y="748"/>
                  </a:lnTo>
                  <a:lnTo>
                    <a:pt x="1991" y="674"/>
                  </a:lnTo>
                  <a:lnTo>
                    <a:pt x="2140" y="606"/>
                  </a:lnTo>
                  <a:lnTo>
                    <a:pt x="2293" y="542"/>
                  </a:lnTo>
                  <a:lnTo>
                    <a:pt x="2450" y="485"/>
                  </a:lnTo>
                  <a:lnTo>
                    <a:pt x="2610" y="431"/>
                  </a:lnTo>
                  <a:lnTo>
                    <a:pt x="2772" y="381"/>
                  </a:lnTo>
                  <a:lnTo>
                    <a:pt x="2938" y="337"/>
                  </a:lnTo>
                  <a:lnTo>
                    <a:pt x="3106" y="295"/>
                  </a:lnTo>
                  <a:lnTo>
                    <a:pt x="3276" y="256"/>
                  </a:lnTo>
                  <a:lnTo>
                    <a:pt x="3447" y="221"/>
                  </a:lnTo>
                  <a:lnTo>
                    <a:pt x="3438" y="201"/>
                  </a:lnTo>
                  <a:lnTo>
                    <a:pt x="3438" y="223"/>
                  </a:lnTo>
                  <a:lnTo>
                    <a:pt x="3611" y="188"/>
                  </a:lnTo>
                  <a:lnTo>
                    <a:pt x="3786" y="157"/>
                  </a:lnTo>
                  <a:lnTo>
                    <a:pt x="4136" y="98"/>
                  </a:lnTo>
                  <a:lnTo>
                    <a:pt x="4494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37000" y="4902120"/>
              <a:ext cx="163440" cy="171360"/>
            </a:xfrm>
            <a:custGeom>
              <a:avLst/>
              <a:gdLst/>
              <a:ahLst/>
              <a:rect l="l" t="t" r="r" b="b"/>
              <a:pathLst>
                <a:path w="206" h="215">
                  <a:moveTo>
                    <a:pt x="55" y="0"/>
                  </a:moveTo>
                  <a:lnTo>
                    <a:pt x="0" y="215"/>
                  </a:lnTo>
                  <a:lnTo>
                    <a:pt x="206" y="13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881600" y="327816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0/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205680" y="2193840"/>
            <a:ext cx="1131840" cy="647640"/>
            <a:chOff x="6205680" y="2193840"/>
            <a:chExt cx="1131840" cy="647640"/>
          </a:xfrm>
        </p:grpSpPr>
        <p:sp>
          <p:nvSpPr>
            <p:cNvPr id="290" name=""/>
            <p:cNvSpPr/>
            <p:nvPr/>
          </p:nvSpPr>
          <p:spPr>
            <a:xfrm>
              <a:off x="6329520" y="2252520"/>
              <a:ext cx="1008000" cy="588960"/>
            </a:xfrm>
            <a:custGeom>
              <a:avLst/>
              <a:gdLst/>
              <a:ahLst/>
              <a:rect l="l" t="t" r="r" b="b"/>
              <a:pathLst>
                <a:path w="1270" h="743">
                  <a:moveTo>
                    <a:pt x="1248" y="743"/>
                  </a:moveTo>
                  <a:lnTo>
                    <a:pt x="1270" y="704"/>
                  </a:lnTo>
                  <a:lnTo>
                    <a:pt x="22" y="0"/>
                  </a:lnTo>
                  <a:lnTo>
                    <a:pt x="0" y="38"/>
                  </a:lnTo>
                  <a:lnTo>
                    <a:pt x="1248" y="74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5680" y="2193840"/>
              <a:ext cx="176040" cy="146160"/>
            </a:xfrm>
            <a:custGeom>
              <a:avLst/>
              <a:gdLst/>
              <a:ahLst/>
              <a:rect l="l" t="t" r="r" b="b"/>
              <a:pathLst>
                <a:path w="223" h="184">
                  <a:moveTo>
                    <a:pt x="223" y="11"/>
                  </a:moveTo>
                  <a:lnTo>
                    <a:pt x="0" y="0"/>
                  </a:lnTo>
                  <a:lnTo>
                    <a:pt x="125" y="184"/>
                  </a:lnTo>
                  <a:lnTo>
                    <a:pt x="223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869160" y="222552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1/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313240" y="2260440"/>
            <a:ext cx="559080" cy="2883240"/>
            <a:chOff x="5313240" y="2260440"/>
            <a:chExt cx="559080" cy="2883240"/>
          </a:xfrm>
        </p:grpSpPr>
        <p:sp>
          <p:nvSpPr>
            <p:cNvPr id="294" name=""/>
            <p:cNvSpPr/>
            <p:nvPr/>
          </p:nvSpPr>
          <p:spPr>
            <a:xfrm>
              <a:off x="5372280" y="2260440"/>
              <a:ext cx="500040" cy="2735280"/>
            </a:xfrm>
            <a:custGeom>
              <a:avLst/>
              <a:gdLst/>
              <a:ahLst/>
              <a:rect l="l" t="t" r="r" b="b"/>
              <a:pathLst>
                <a:path w="628" h="3445">
                  <a:moveTo>
                    <a:pt x="628" y="7"/>
                  </a:moveTo>
                  <a:lnTo>
                    <a:pt x="586" y="0"/>
                  </a:lnTo>
                  <a:lnTo>
                    <a:pt x="0" y="3437"/>
                  </a:lnTo>
                  <a:lnTo>
                    <a:pt x="42" y="3445"/>
                  </a:lnTo>
                  <a:lnTo>
                    <a:pt x="62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13240" y="4975200"/>
              <a:ext cx="154080" cy="168480"/>
            </a:xfrm>
            <a:custGeom>
              <a:avLst/>
              <a:gdLst/>
              <a:ahLst/>
              <a:rect l="l" t="t" r="r" b="b"/>
              <a:pathLst>
                <a:path w="196" h="212">
                  <a:moveTo>
                    <a:pt x="0" y="0"/>
                  </a:moveTo>
                  <a:lnTo>
                    <a:pt x="63" y="212"/>
                  </a:lnTo>
                  <a:lnTo>
                    <a:pt x="19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373720" y="271620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0/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449600" y="1463760"/>
            <a:ext cx="1128960" cy="396720"/>
            <a:chOff x="4449600" y="1463760"/>
            <a:chExt cx="1128960" cy="396720"/>
          </a:xfrm>
        </p:grpSpPr>
        <p:sp>
          <p:nvSpPr>
            <p:cNvPr id="298" name=""/>
            <p:cNvSpPr/>
            <p:nvPr/>
          </p:nvSpPr>
          <p:spPr>
            <a:xfrm>
              <a:off x="4591080" y="1522440"/>
              <a:ext cx="987480" cy="338040"/>
            </a:xfrm>
            <a:custGeom>
              <a:avLst/>
              <a:gdLst/>
              <a:ahLst/>
              <a:rect l="l" t="t" r="r" b="b"/>
              <a:pathLst>
                <a:path w="1244" h="426">
                  <a:moveTo>
                    <a:pt x="1231" y="426"/>
                  </a:moveTo>
                  <a:lnTo>
                    <a:pt x="1244" y="383"/>
                  </a:lnTo>
                  <a:lnTo>
                    <a:pt x="12" y="0"/>
                  </a:lnTo>
                  <a:lnTo>
                    <a:pt x="0" y="42"/>
                  </a:lnTo>
                  <a:lnTo>
                    <a:pt x="1231" y="42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49600" y="1463760"/>
              <a:ext cx="174960" cy="150840"/>
            </a:xfrm>
            <a:custGeom>
              <a:avLst/>
              <a:gdLst/>
              <a:ahLst/>
              <a:rect l="l" t="t" r="r" b="b"/>
              <a:pathLst>
                <a:path w="221" h="190">
                  <a:moveTo>
                    <a:pt x="221" y="0"/>
                  </a:moveTo>
                  <a:lnTo>
                    <a:pt x="0" y="35"/>
                  </a:lnTo>
                  <a:lnTo>
                    <a:pt x="160" y="19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022720" y="138276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1/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772080" y="538200"/>
            <a:ext cx="714240" cy="474480"/>
            <a:chOff x="3772080" y="538200"/>
            <a:chExt cx="714240" cy="474480"/>
          </a:xfrm>
        </p:grpSpPr>
        <p:sp>
          <p:nvSpPr>
            <p:cNvPr id="302" name=""/>
            <p:cNvSpPr/>
            <p:nvPr/>
          </p:nvSpPr>
          <p:spPr>
            <a:xfrm>
              <a:off x="3772080" y="538200"/>
              <a:ext cx="714240" cy="474480"/>
            </a:xfrm>
            <a:custGeom>
              <a:avLst/>
              <a:gdLst/>
              <a:ahLst/>
              <a:rect l="l" t="t" r="r" b="b"/>
              <a:pathLst>
                <a:path w="900" h="599">
                  <a:moveTo>
                    <a:pt x="574" y="567"/>
                  </a:moveTo>
                  <a:lnTo>
                    <a:pt x="605" y="599"/>
                  </a:lnTo>
                  <a:lnTo>
                    <a:pt x="669" y="532"/>
                  </a:lnTo>
                  <a:lnTo>
                    <a:pt x="732" y="466"/>
                  </a:lnTo>
                  <a:lnTo>
                    <a:pt x="762" y="435"/>
                  </a:lnTo>
                  <a:lnTo>
                    <a:pt x="789" y="403"/>
                  </a:lnTo>
                  <a:lnTo>
                    <a:pt x="813" y="374"/>
                  </a:lnTo>
                  <a:lnTo>
                    <a:pt x="837" y="344"/>
                  </a:lnTo>
                  <a:lnTo>
                    <a:pt x="841" y="337"/>
                  </a:lnTo>
                  <a:lnTo>
                    <a:pt x="859" y="307"/>
                  </a:lnTo>
                  <a:lnTo>
                    <a:pt x="876" y="280"/>
                  </a:lnTo>
                  <a:lnTo>
                    <a:pt x="887" y="254"/>
                  </a:lnTo>
                  <a:lnTo>
                    <a:pt x="894" y="230"/>
                  </a:lnTo>
                  <a:lnTo>
                    <a:pt x="896" y="221"/>
                  </a:lnTo>
                  <a:lnTo>
                    <a:pt x="900" y="199"/>
                  </a:lnTo>
                  <a:lnTo>
                    <a:pt x="898" y="176"/>
                  </a:lnTo>
                  <a:lnTo>
                    <a:pt x="896" y="169"/>
                  </a:lnTo>
                  <a:lnTo>
                    <a:pt x="887" y="149"/>
                  </a:lnTo>
                  <a:lnTo>
                    <a:pt x="883" y="141"/>
                  </a:lnTo>
                  <a:lnTo>
                    <a:pt x="870" y="125"/>
                  </a:lnTo>
                  <a:lnTo>
                    <a:pt x="859" y="116"/>
                  </a:lnTo>
                  <a:lnTo>
                    <a:pt x="852" y="112"/>
                  </a:lnTo>
                  <a:lnTo>
                    <a:pt x="839" y="103"/>
                  </a:lnTo>
                  <a:lnTo>
                    <a:pt x="824" y="95"/>
                  </a:lnTo>
                  <a:lnTo>
                    <a:pt x="806" y="88"/>
                  </a:lnTo>
                  <a:lnTo>
                    <a:pt x="787" y="79"/>
                  </a:lnTo>
                  <a:lnTo>
                    <a:pt x="765" y="71"/>
                  </a:lnTo>
                  <a:lnTo>
                    <a:pt x="741" y="64"/>
                  </a:lnTo>
                  <a:lnTo>
                    <a:pt x="716" y="59"/>
                  </a:lnTo>
                  <a:lnTo>
                    <a:pt x="658" y="46"/>
                  </a:lnTo>
                  <a:lnTo>
                    <a:pt x="651" y="44"/>
                  </a:lnTo>
                  <a:lnTo>
                    <a:pt x="590" y="31"/>
                  </a:lnTo>
                  <a:lnTo>
                    <a:pt x="526" y="22"/>
                  </a:lnTo>
                  <a:lnTo>
                    <a:pt x="461" y="12"/>
                  </a:lnTo>
                  <a:lnTo>
                    <a:pt x="395" y="5"/>
                  </a:lnTo>
                  <a:lnTo>
                    <a:pt x="332" y="1"/>
                  </a:lnTo>
                  <a:lnTo>
                    <a:pt x="269" y="0"/>
                  </a:lnTo>
                  <a:lnTo>
                    <a:pt x="212" y="0"/>
                  </a:lnTo>
                  <a:lnTo>
                    <a:pt x="163" y="1"/>
                  </a:lnTo>
                  <a:lnTo>
                    <a:pt x="139" y="5"/>
                  </a:lnTo>
                  <a:lnTo>
                    <a:pt x="118" y="9"/>
                  </a:lnTo>
                  <a:lnTo>
                    <a:pt x="109" y="11"/>
                  </a:lnTo>
                  <a:lnTo>
                    <a:pt x="91" y="14"/>
                  </a:lnTo>
                  <a:lnTo>
                    <a:pt x="74" y="18"/>
                  </a:lnTo>
                  <a:lnTo>
                    <a:pt x="61" y="25"/>
                  </a:lnTo>
                  <a:lnTo>
                    <a:pt x="54" y="29"/>
                  </a:lnTo>
                  <a:lnTo>
                    <a:pt x="45" y="35"/>
                  </a:lnTo>
                  <a:lnTo>
                    <a:pt x="30" y="47"/>
                  </a:lnTo>
                  <a:lnTo>
                    <a:pt x="19" y="60"/>
                  </a:lnTo>
                  <a:lnTo>
                    <a:pt x="15" y="68"/>
                  </a:lnTo>
                  <a:lnTo>
                    <a:pt x="8" y="82"/>
                  </a:lnTo>
                  <a:lnTo>
                    <a:pt x="4" y="99"/>
                  </a:lnTo>
                  <a:lnTo>
                    <a:pt x="2" y="108"/>
                  </a:lnTo>
                  <a:lnTo>
                    <a:pt x="0" y="127"/>
                  </a:lnTo>
                  <a:lnTo>
                    <a:pt x="0" y="147"/>
                  </a:lnTo>
                  <a:lnTo>
                    <a:pt x="4" y="167"/>
                  </a:lnTo>
                  <a:lnTo>
                    <a:pt x="6" y="176"/>
                  </a:lnTo>
                  <a:lnTo>
                    <a:pt x="11" y="199"/>
                  </a:lnTo>
                  <a:lnTo>
                    <a:pt x="19" y="224"/>
                  </a:lnTo>
                  <a:lnTo>
                    <a:pt x="28" y="248"/>
                  </a:lnTo>
                  <a:lnTo>
                    <a:pt x="50" y="304"/>
                  </a:lnTo>
                  <a:lnTo>
                    <a:pt x="80" y="361"/>
                  </a:lnTo>
                  <a:lnTo>
                    <a:pt x="115" y="423"/>
                  </a:lnTo>
                  <a:lnTo>
                    <a:pt x="152" y="401"/>
                  </a:lnTo>
                  <a:lnTo>
                    <a:pt x="120" y="344"/>
                  </a:lnTo>
                  <a:lnTo>
                    <a:pt x="91" y="287"/>
                  </a:lnTo>
                  <a:lnTo>
                    <a:pt x="69" y="232"/>
                  </a:lnTo>
                  <a:lnTo>
                    <a:pt x="59" y="208"/>
                  </a:lnTo>
                  <a:lnTo>
                    <a:pt x="52" y="182"/>
                  </a:lnTo>
                  <a:lnTo>
                    <a:pt x="46" y="160"/>
                  </a:lnTo>
                  <a:lnTo>
                    <a:pt x="26" y="167"/>
                  </a:lnTo>
                  <a:lnTo>
                    <a:pt x="48" y="167"/>
                  </a:lnTo>
                  <a:lnTo>
                    <a:pt x="45" y="147"/>
                  </a:lnTo>
                  <a:lnTo>
                    <a:pt x="45" y="127"/>
                  </a:lnTo>
                  <a:lnTo>
                    <a:pt x="46" y="108"/>
                  </a:lnTo>
                  <a:lnTo>
                    <a:pt x="24" y="108"/>
                  </a:lnTo>
                  <a:lnTo>
                    <a:pt x="45" y="116"/>
                  </a:lnTo>
                  <a:lnTo>
                    <a:pt x="48" y="99"/>
                  </a:lnTo>
                  <a:lnTo>
                    <a:pt x="56" y="84"/>
                  </a:lnTo>
                  <a:lnTo>
                    <a:pt x="35" y="75"/>
                  </a:lnTo>
                  <a:lnTo>
                    <a:pt x="50" y="92"/>
                  </a:lnTo>
                  <a:lnTo>
                    <a:pt x="61" y="79"/>
                  </a:lnTo>
                  <a:lnTo>
                    <a:pt x="70" y="70"/>
                  </a:lnTo>
                  <a:lnTo>
                    <a:pt x="85" y="60"/>
                  </a:lnTo>
                  <a:lnTo>
                    <a:pt x="69" y="46"/>
                  </a:lnTo>
                  <a:lnTo>
                    <a:pt x="78" y="66"/>
                  </a:lnTo>
                  <a:lnTo>
                    <a:pt x="91" y="59"/>
                  </a:lnTo>
                  <a:lnTo>
                    <a:pt x="107" y="55"/>
                  </a:lnTo>
                  <a:lnTo>
                    <a:pt x="126" y="51"/>
                  </a:lnTo>
                  <a:lnTo>
                    <a:pt x="118" y="31"/>
                  </a:lnTo>
                  <a:lnTo>
                    <a:pt x="118" y="53"/>
                  </a:lnTo>
                  <a:lnTo>
                    <a:pt x="139" y="49"/>
                  </a:lnTo>
                  <a:lnTo>
                    <a:pt x="163" y="46"/>
                  </a:lnTo>
                  <a:lnTo>
                    <a:pt x="212" y="44"/>
                  </a:lnTo>
                  <a:lnTo>
                    <a:pt x="269" y="44"/>
                  </a:lnTo>
                  <a:lnTo>
                    <a:pt x="332" y="46"/>
                  </a:lnTo>
                  <a:lnTo>
                    <a:pt x="395" y="49"/>
                  </a:lnTo>
                  <a:lnTo>
                    <a:pt x="461" y="57"/>
                  </a:lnTo>
                  <a:lnTo>
                    <a:pt x="526" y="66"/>
                  </a:lnTo>
                  <a:lnTo>
                    <a:pt x="590" y="75"/>
                  </a:lnTo>
                  <a:lnTo>
                    <a:pt x="651" y="88"/>
                  </a:lnTo>
                  <a:lnTo>
                    <a:pt x="651" y="66"/>
                  </a:lnTo>
                  <a:lnTo>
                    <a:pt x="642" y="86"/>
                  </a:lnTo>
                  <a:lnTo>
                    <a:pt x="699" y="99"/>
                  </a:lnTo>
                  <a:lnTo>
                    <a:pt x="725" y="105"/>
                  </a:lnTo>
                  <a:lnTo>
                    <a:pt x="749" y="112"/>
                  </a:lnTo>
                  <a:lnTo>
                    <a:pt x="771" y="119"/>
                  </a:lnTo>
                  <a:lnTo>
                    <a:pt x="789" y="129"/>
                  </a:lnTo>
                  <a:lnTo>
                    <a:pt x="808" y="136"/>
                  </a:lnTo>
                  <a:lnTo>
                    <a:pt x="822" y="143"/>
                  </a:lnTo>
                  <a:lnTo>
                    <a:pt x="835" y="153"/>
                  </a:lnTo>
                  <a:lnTo>
                    <a:pt x="845" y="132"/>
                  </a:lnTo>
                  <a:lnTo>
                    <a:pt x="828" y="147"/>
                  </a:lnTo>
                  <a:lnTo>
                    <a:pt x="839" y="156"/>
                  </a:lnTo>
                  <a:lnTo>
                    <a:pt x="852" y="173"/>
                  </a:lnTo>
                  <a:lnTo>
                    <a:pt x="867" y="158"/>
                  </a:lnTo>
                  <a:lnTo>
                    <a:pt x="846" y="165"/>
                  </a:lnTo>
                  <a:lnTo>
                    <a:pt x="856" y="186"/>
                  </a:lnTo>
                  <a:lnTo>
                    <a:pt x="876" y="176"/>
                  </a:lnTo>
                  <a:lnTo>
                    <a:pt x="854" y="176"/>
                  </a:lnTo>
                  <a:lnTo>
                    <a:pt x="856" y="199"/>
                  </a:lnTo>
                  <a:lnTo>
                    <a:pt x="852" y="221"/>
                  </a:lnTo>
                  <a:lnTo>
                    <a:pt x="874" y="221"/>
                  </a:lnTo>
                  <a:lnTo>
                    <a:pt x="854" y="213"/>
                  </a:lnTo>
                  <a:lnTo>
                    <a:pt x="846" y="237"/>
                  </a:lnTo>
                  <a:lnTo>
                    <a:pt x="835" y="263"/>
                  </a:lnTo>
                  <a:lnTo>
                    <a:pt x="819" y="291"/>
                  </a:lnTo>
                  <a:lnTo>
                    <a:pt x="800" y="320"/>
                  </a:lnTo>
                  <a:lnTo>
                    <a:pt x="821" y="328"/>
                  </a:lnTo>
                  <a:lnTo>
                    <a:pt x="806" y="313"/>
                  </a:lnTo>
                  <a:lnTo>
                    <a:pt x="782" y="342"/>
                  </a:lnTo>
                  <a:lnTo>
                    <a:pt x="758" y="372"/>
                  </a:lnTo>
                  <a:lnTo>
                    <a:pt x="730" y="403"/>
                  </a:lnTo>
                  <a:lnTo>
                    <a:pt x="701" y="435"/>
                  </a:lnTo>
                  <a:lnTo>
                    <a:pt x="638" y="501"/>
                  </a:lnTo>
                  <a:lnTo>
                    <a:pt x="574" y="56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9880" y="824040"/>
              <a:ext cx="147600" cy="176040"/>
            </a:xfrm>
            <a:custGeom>
              <a:avLst/>
              <a:gdLst/>
              <a:ahLst/>
              <a:rect l="l" t="t" r="r" b="b"/>
              <a:pathLst>
                <a:path w="186" h="221">
                  <a:moveTo>
                    <a:pt x="0" y="103"/>
                  </a:moveTo>
                  <a:lnTo>
                    <a:pt x="186" y="221"/>
                  </a:lnTo>
                  <a:lnTo>
                    <a:pt x="170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43640" y="52560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1/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152960" y="1698480"/>
            <a:ext cx="1031760" cy="3445200"/>
            <a:chOff x="4152960" y="1698480"/>
            <a:chExt cx="1031760" cy="3445200"/>
          </a:xfrm>
        </p:grpSpPr>
        <p:sp>
          <p:nvSpPr>
            <p:cNvPr id="306" name=""/>
            <p:cNvSpPr/>
            <p:nvPr/>
          </p:nvSpPr>
          <p:spPr>
            <a:xfrm>
              <a:off x="4152960" y="1698480"/>
              <a:ext cx="974520" cy="3303720"/>
            </a:xfrm>
            <a:custGeom>
              <a:avLst/>
              <a:gdLst/>
              <a:ahLst/>
              <a:rect l="l" t="t" r="r" b="b"/>
              <a:pathLst>
                <a:path w="1227" h="4162">
                  <a:moveTo>
                    <a:pt x="42" y="0"/>
                  </a:moveTo>
                  <a:lnTo>
                    <a:pt x="0" y="13"/>
                  </a:lnTo>
                  <a:lnTo>
                    <a:pt x="1185" y="4162"/>
                  </a:lnTo>
                  <a:lnTo>
                    <a:pt x="1227" y="414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33880" y="4970520"/>
              <a:ext cx="150840" cy="173160"/>
            </a:xfrm>
            <a:custGeom>
              <a:avLst/>
              <a:gdLst/>
              <a:ahLst/>
              <a:rect l="l" t="t" r="r" b="b"/>
              <a:pathLst>
                <a:path w="192" h="218">
                  <a:moveTo>
                    <a:pt x="0" y="54"/>
                  </a:moveTo>
                  <a:lnTo>
                    <a:pt x="150" y="218"/>
                  </a:lnTo>
                  <a:lnTo>
                    <a:pt x="192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038480" y="2646360"/>
            <a:ext cx="36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0/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οντέλα ακολουθιακών κυκλωμάτ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ι έξοδοι είναι συναρτήσεις των καταστάσεων και των εισόδω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ι έξοδοι είναι συναρτήσεις των καταστάσεων και μόν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ίνακας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Αρχική     Είσοδο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πόμεν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Έξοδο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Α  Β             Χ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Α  Β              Υ     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0             0                0   0     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0             1                0   1     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1             0                0   0          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 1             1                1   1     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 0             0                0   0          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 0             1                1   0     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 1             0                0   0          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 1             1                1   0     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Διάγραμμα καταστάσεων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525780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2666880"/>
            <a:ext cx="68580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819160" y="3200400"/>
            <a:ext cx="3352680" cy="2209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819160" y="304812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477120" y="33526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5638680"/>
            <a:ext cx="32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200400"/>
            <a:ext cx="380880" cy="2133720"/>
          </a:xfrm>
          <a:custGeom>
            <a:avLst/>
            <a:gdLst/>
            <a:ahLst/>
            <a:rect l="l" t="t" r="r" b="b"/>
            <a:pathLst>
              <a:path w="240" h="1344">
                <a:moveTo>
                  <a:pt x="240" y="0"/>
                </a:moveTo>
                <a:cubicBezTo>
                  <a:pt x="120" y="248"/>
                  <a:pt x="0" y="496"/>
                  <a:pt x="0" y="720"/>
                </a:cubicBezTo>
                <a:cubicBezTo>
                  <a:pt x="0" y="944"/>
                  <a:pt x="120" y="1144"/>
                  <a:pt x="240" y="13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327672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1296"/>
                </a:moveTo>
                <a:cubicBezTo>
                  <a:pt x="168" y="1092"/>
                  <a:pt x="336" y="888"/>
                  <a:pt x="336" y="672"/>
                </a:cubicBezTo>
                <a:cubicBezTo>
                  <a:pt x="336" y="456"/>
                  <a:pt x="168" y="22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48520" y="2057400"/>
            <a:ext cx="380880" cy="60948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52" y="192"/>
                  <a:pt x="104" y="0"/>
                  <a:pt x="144" y="0"/>
                </a:cubicBezTo>
                <a:cubicBezTo>
                  <a:pt x="184" y="0"/>
                  <a:pt x="224" y="320"/>
                  <a:pt x="240" y="3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53040" y="3697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9960" y="4114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70680" y="2590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21120" y="4038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360" y="4267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668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428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/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2156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84080" y="281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408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215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Σχεδίαση με JK latch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Αρχική     Είσοδο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πόμεν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ίσοδο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Α  Β             Χ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Α  Β        JA  KA  JB  K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0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   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1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0             1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   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0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             0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 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1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    1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   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0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0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   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1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1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   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    0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 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1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             1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   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0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432560" y="0"/>
            <a:ext cx="17114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Σχεδίαση με JK latch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Αρχική     Είσοδο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πόμεν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ίσοδο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Α  Β             Χ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Α  Β        JA  KA  JB  K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0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   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1   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0             1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   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0   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             0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   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x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    1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   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x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0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   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1   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1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   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0   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    0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 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x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             1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   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x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32560" y="0"/>
            <a:ext cx="17114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Σχεδίαση με D latch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Αρχική     Είσοδο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πόμεν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ίσοδο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Α  Β             Χ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Α  Β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DA  DB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0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0             1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             0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    1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0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1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    0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0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             1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1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4763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019320" y="1392120"/>
            <a:ext cx="838080" cy="838440"/>
            <a:chOff x="3019320" y="1392120"/>
            <a:chExt cx="838080" cy="838440"/>
          </a:xfrm>
        </p:grpSpPr>
        <p:sp>
          <p:nvSpPr>
            <p:cNvPr id="81" name=""/>
            <p:cNvSpPr/>
            <p:nvPr/>
          </p:nvSpPr>
          <p:spPr>
            <a:xfrm>
              <a:off x="3019320" y="13921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73400" y="161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57760" y="1392120"/>
            <a:ext cx="838080" cy="838440"/>
            <a:chOff x="3857760" y="1392120"/>
            <a:chExt cx="838080" cy="838440"/>
          </a:xfrm>
        </p:grpSpPr>
        <p:sp>
          <p:nvSpPr>
            <p:cNvPr id="84" name=""/>
            <p:cNvSpPr/>
            <p:nvPr/>
          </p:nvSpPr>
          <p:spPr>
            <a:xfrm>
              <a:off x="3857760" y="13921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11840" y="161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57760" y="2230560"/>
            <a:ext cx="838080" cy="838080"/>
            <a:chOff x="3857760" y="2230560"/>
            <a:chExt cx="838080" cy="838080"/>
          </a:xfrm>
        </p:grpSpPr>
        <p:sp>
          <p:nvSpPr>
            <p:cNvPr id="87" name=""/>
            <p:cNvSpPr/>
            <p:nvPr/>
          </p:nvSpPr>
          <p:spPr>
            <a:xfrm>
              <a:off x="3857760" y="22305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840" y="245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19320" y="2230560"/>
            <a:ext cx="838080" cy="838080"/>
            <a:chOff x="3019320" y="2230560"/>
            <a:chExt cx="838080" cy="838080"/>
          </a:xfrm>
        </p:grpSpPr>
        <p:sp>
          <p:nvSpPr>
            <p:cNvPr id="90" name=""/>
            <p:cNvSpPr/>
            <p:nvPr/>
          </p:nvSpPr>
          <p:spPr>
            <a:xfrm>
              <a:off x="3019320" y="22305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73400" y="245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 flipV="1">
            <a:off x="2485800" y="85860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40600" y="6285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87960" y="100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74120" y="858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12200" y="858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40240" y="1544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40240" y="245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95840" y="1392120"/>
            <a:ext cx="838080" cy="838440"/>
            <a:chOff x="4695840" y="1392120"/>
            <a:chExt cx="838080" cy="838440"/>
          </a:xfrm>
        </p:grpSpPr>
        <p:sp>
          <p:nvSpPr>
            <p:cNvPr id="100" name=""/>
            <p:cNvSpPr/>
            <p:nvPr/>
          </p:nvSpPr>
          <p:spPr>
            <a:xfrm>
              <a:off x="4695840" y="13921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49920" y="161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533920" y="1392120"/>
            <a:ext cx="838080" cy="838440"/>
            <a:chOff x="5533920" y="1392120"/>
            <a:chExt cx="838080" cy="838440"/>
          </a:xfrm>
        </p:grpSpPr>
        <p:sp>
          <p:nvSpPr>
            <p:cNvPr id="103" name=""/>
            <p:cNvSpPr/>
            <p:nvPr/>
          </p:nvSpPr>
          <p:spPr>
            <a:xfrm>
              <a:off x="5533920" y="13921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88000" y="161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533920" y="2230560"/>
            <a:ext cx="838080" cy="838080"/>
            <a:chOff x="5533920" y="2230560"/>
            <a:chExt cx="838080" cy="838080"/>
          </a:xfrm>
        </p:grpSpPr>
        <p:sp>
          <p:nvSpPr>
            <p:cNvPr id="106" name=""/>
            <p:cNvSpPr/>
            <p:nvPr/>
          </p:nvSpPr>
          <p:spPr>
            <a:xfrm>
              <a:off x="5533920" y="22305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245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695840" y="2230560"/>
            <a:ext cx="838080" cy="838080"/>
            <a:chOff x="4695840" y="2230560"/>
            <a:chExt cx="838080" cy="838080"/>
          </a:xfrm>
        </p:grpSpPr>
        <p:sp>
          <p:nvSpPr>
            <p:cNvPr id="109" name=""/>
            <p:cNvSpPr/>
            <p:nvPr/>
          </p:nvSpPr>
          <p:spPr>
            <a:xfrm>
              <a:off x="4695840" y="22305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49920" y="245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860000" y="858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98080" y="858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17880" y="4560840"/>
            <a:ext cx="838080" cy="838080"/>
            <a:chOff x="3017880" y="4560840"/>
            <a:chExt cx="838080" cy="838080"/>
          </a:xfrm>
        </p:grpSpPr>
        <p:sp>
          <p:nvSpPr>
            <p:cNvPr id="114" name=""/>
            <p:cNvSpPr/>
            <p:nvPr/>
          </p:nvSpPr>
          <p:spPr>
            <a:xfrm>
              <a:off x="3017880" y="456084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1960" y="4787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55960" y="4560840"/>
            <a:ext cx="838080" cy="838080"/>
            <a:chOff x="3855960" y="4560840"/>
            <a:chExt cx="838080" cy="838080"/>
          </a:xfrm>
        </p:grpSpPr>
        <p:sp>
          <p:nvSpPr>
            <p:cNvPr id="117" name=""/>
            <p:cNvSpPr/>
            <p:nvPr/>
          </p:nvSpPr>
          <p:spPr>
            <a:xfrm>
              <a:off x="3855960" y="456084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10040" y="4787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55960" y="5398920"/>
            <a:ext cx="838080" cy="838440"/>
            <a:chOff x="3855960" y="5398920"/>
            <a:chExt cx="838080" cy="838440"/>
          </a:xfrm>
        </p:grpSpPr>
        <p:sp>
          <p:nvSpPr>
            <p:cNvPr id="120" name=""/>
            <p:cNvSpPr/>
            <p:nvPr/>
          </p:nvSpPr>
          <p:spPr>
            <a:xfrm>
              <a:off x="3855960" y="53989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0040" y="562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017880" y="5398920"/>
            <a:ext cx="838080" cy="838440"/>
            <a:chOff x="3017880" y="5398920"/>
            <a:chExt cx="838080" cy="838440"/>
          </a:xfrm>
        </p:grpSpPr>
        <p:sp>
          <p:nvSpPr>
            <p:cNvPr id="123" name=""/>
            <p:cNvSpPr/>
            <p:nvPr/>
          </p:nvSpPr>
          <p:spPr>
            <a:xfrm>
              <a:off x="3017880" y="53989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71960" y="562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 flipV="1">
            <a:off x="2484360" y="4027320"/>
            <a:ext cx="53352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39160" y="3797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86160" y="4178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72320" y="4027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10760" y="4027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38800" y="471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38800" y="5627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694400" y="4560840"/>
            <a:ext cx="838080" cy="838080"/>
            <a:chOff x="4694400" y="4560840"/>
            <a:chExt cx="838080" cy="838080"/>
          </a:xfrm>
        </p:grpSpPr>
        <p:sp>
          <p:nvSpPr>
            <p:cNvPr id="133" name=""/>
            <p:cNvSpPr/>
            <p:nvPr/>
          </p:nvSpPr>
          <p:spPr>
            <a:xfrm>
              <a:off x="4694400" y="456084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48480" y="4787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32480" y="4560840"/>
            <a:ext cx="838080" cy="838080"/>
            <a:chOff x="5532480" y="4560840"/>
            <a:chExt cx="838080" cy="838080"/>
          </a:xfrm>
        </p:grpSpPr>
        <p:sp>
          <p:nvSpPr>
            <p:cNvPr id="136" name=""/>
            <p:cNvSpPr/>
            <p:nvPr/>
          </p:nvSpPr>
          <p:spPr>
            <a:xfrm>
              <a:off x="5532480" y="456084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86560" y="4787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532480" y="5398920"/>
            <a:ext cx="838080" cy="838440"/>
            <a:chOff x="5532480" y="5398920"/>
            <a:chExt cx="838080" cy="838440"/>
          </a:xfrm>
        </p:grpSpPr>
        <p:sp>
          <p:nvSpPr>
            <p:cNvPr id="139" name=""/>
            <p:cNvSpPr/>
            <p:nvPr/>
          </p:nvSpPr>
          <p:spPr>
            <a:xfrm>
              <a:off x="5532480" y="53989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86560" y="562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694400" y="5398920"/>
            <a:ext cx="838080" cy="838440"/>
            <a:chOff x="4694400" y="5398920"/>
            <a:chExt cx="838080" cy="838440"/>
          </a:xfrm>
        </p:grpSpPr>
        <p:sp>
          <p:nvSpPr>
            <p:cNvPr id="142" name=""/>
            <p:cNvSpPr/>
            <p:nvPr/>
          </p:nvSpPr>
          <p:spPr>
            <a:xfrm>
              <a:off x="4694400" y="53989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48480" y="562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858560" y="4027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96640" y="4027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5800" y="5666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5800" y="36194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95640" y="4724280"/>
            <a:ext cx="152388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4581360"/>
            <a:ext cx="1224000" cy="863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19320" y="1392120"/>
            <a:ext cx="838080" cy="838440"/>
            <a:chOff x="3019320" y="1392120"/>
            <a:chExt cx="838080" cy="838440"/>
          </a:xfrm>
        </p:grpSpPr>
        <p:sp>
          <p:nvSpPr>
            <p:cNvPr id="151" name=""/>
            <p:cNvSpPr/>
            <p:nvPr/>
          </p:nvSpPr>
          <p:spPr>
            <a:xfrm>
              <a:off x="3019320" y="13921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73400" y="161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57760" y="1392120"/>
            <a:ext cx="838080" cy="838440"/>
            <a:chOff x="3857760" y="1392120"/>
            <a:chExt cx="838080" cy="838440"/>
          </a:xfrm>
        </p:grpSpPr>
        <p:sp>
          <p:nvSpPr>
            <p:cNvPr id="154" name=""/>
            <p:cNvSpPr/>
            <p:nvPr/>
          </p:nvSpPr>
          <p:spPr>
            <a:xfrm>
              <a:off x="3857760" y="13921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1840" y="161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57760" y="2230560"/>
            <a:ext cx="838080" cy="838080"/>
            <a:chOff x="3857760" y="2230560"/>
            <a:chExt cx="838080" cy="838080"/>
          </a:xfrm>
        </p:grpSpPr>
        <p:sp>
          <p:nvSpPr>
            <p:cNvPr id="157" name=""/>
            <p:cNvSpPr/>
            <p:nvPr/>
          </p:nvSpPr>
          <p:spPr>
            <a:xfrm>
              <a:off x="3857760" y="22305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11840" y="245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19320" y="2230560"/>
            <a:ext cx="838080" cy="838080"/>
            <a:chOff x="3019320" y="2230560"/>
            <a:chExt cx="838080" cy="838080"/>
          </a:xfrm>
        </p:grpSpPr>
        <p:sp>
          <p:nvSpPr>
            <p:cNvPr id="160" name=""/>
            <p:cNvSpPr/>
            <p:nvPr/>
          </p:nvSpPr>
          <p:spPr>
            <a:xfrm>
              <a:off x="3019320" y="22305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73400" y="245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H="1" flipV="1">
            <a:off x="2485800" y="85860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40600" y="6285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7960" y="100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74120" y="858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12200" y="858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0240" y="1544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40240" y="245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95840" y="1392120"/>
            <a:ext cx="838080" cy="838440"/>
            <a:chOff x="4695840" y="1392120"/>
            <a:chExt cx="838080" cy="838440"/>
          </a:xfrm>
        </p:grpSpPr>
        <p:sp>
          <p:nvSpPr>
            <p:cNvPr id="170" name=""/>
            <p:cNvSpPr/>
            <p:nvPr/>
          </p:nvSpPr>
          <p:spPr>
            <a:xfrm>
              <a:off x="4695840" y="13921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49920" y="161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33920" y="1392120"/>
            <a:ext cx="838080" cy="838440"/>
            <a:chOff x="5533920" y="1392120"/>
            <a:chExt cx="838080" cy="838440"/>
          </a:xfrm>
        </p:grpSpPr>
        <p:sp>
          <p:nvSpPr>
            <p:cNvPr id="173" name=""/>
            <p:cNvSpPr/>
            <p:nvPr/>
          </p:nvSpPr>
          <p:spPr>
            <a:xfrm>
              <a:off x="5533920" y="13921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88000" y="161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33920" y="2230560"/>
            <a:ext cx="838080" cy="838080"/>
            <a:chOff x="5533920" y="2230560"/>
            <a:chExt cx="838080" cy="838080"/>
          </a:xfrm>
        </p:grpSpPr>
        <p:sp>
          <p:nvSpPr>
            <p:cNvPr id="176" name=""/>
            <p:cNvSpPr/>
            <p:nvPr/>
          </p:nvSpPr>
          <p:spPr>
            <a:xfrm>
              <a:off x="5533920" y="22305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88000" y="245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695840" y="2230560"/>
            <a:ext cx="838080" cy="838080"/>
            <a:chOff x="4695840" y="2230560"/>
            <a:chExt cx="838080" cy="838080"/>
          </a:xfrm>
        </p:grpSpPr>
        <p:sp>
          <p:nvSpPr>
            <p:cNvPr id="179" name=""/>
            <p:cNvSpPr/>
            <p:nvPr/>
          </p:nvSpPr>
          <p:spPr>
            <a:xfrm>
              <a:off x="4695840" y="223056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49920" y="245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860000" y="858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98080" y="858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017880" y="4560840"/>
            <a:ext cx="838080" cy="838080"/>
            <a:chOff x="3017880" y="4560840"/>
            <a:chExt cx="838080" cy="838080"/>
          </a:xfrm>
        </p:grpSpPr>
        <p:sp>
          <p:nvSpPr>
            <p:cNvPr id="184" name=""/>
            <p:cNvSpPr/>
            <p:nvPr/>
          </p:nvSpPr>
          <p:spPr>
            <a:xfrm>
              <a:off x="3017880" y="456084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71960" y="4787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855960" y="4560840"/>
            <a:ext cx="838080" cy="838080"/>
            <a:chOff x="3855960" y="4560840"/>
            <a:chExt cx="838080" cy="838080"/>
          </a:xfrm>
        </p:grpSpPr>
        <p:sp>
          <p:nvSpPr>
            <p:cNvPr id="187" name=""/>
            <p:cNvSpPr/>
            <p:nvPr/>
          </p:nvSpPr>
          <p:spPr>
            <a:xfrm>
              <a:off x="3855960" y="456084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10040" y="4787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855960" y="5398920"/>
            <a:ext cx="838080" cy="838440"/>
            <a:chOff x="3855960" y="5398920"/>
            <a:chExt cx="838080" cy="838440"/>
          </a:xfrm>
        </p:grpSpPr>
        <p:sp>
          <p:nvSpPr>
            <p:cNvPr id="190" name=""/>
            <p:cNvSpPr/>
            <p:nvPr/>
          </p:nvSpPr>
          <p:spPr>
            <a:xfrm>
              <a:off x="3855960" y="53989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10040" y="562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17880" y="5398920"/>
            <a:ext cx="838080" cy="838440"/>
            <a:chOff x="3017880" y="5398920"/>
            <a:chExt cx="838080" cy="838440"/>
          </a:xfrm>
        </p:grpSpPr>
        <p:sp>
          <p:nvSpPr>
            <p:cNvPr id="193" name=""/>
            <p:cNvSpPr/>
            <p:nvPr/>
          </p:nvSpPr>
          <p:spPr>
            <a:xfrm>
              <a:off x="3017880" y="53989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71960" y="562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H="1" flipV="1">
            <a:off x="2484360" y="4027320"/>
            <a:ext cx="53352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39160" y="3797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6160" y="4178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72320" y="4027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10760" y="4027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38800" y="471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38800" y="5627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694400" y="4560840"/>
            <a:ext cx="838080" cy="838080"/>
            <a:chOff x="4694400" y="4560840"/>
            <a:chExt cx="838080" cy="838080"/>
          </a:xfrm>
        </p:grpSpPr>
        <p:sp>
          <p:nvSpPr>
            <p:cNvPr id="203" name=""/>
            <p:cNvSpPr/>
            <p:nvPr/>
          </p:nvSpPr>
          <p:spPr>
            <a:xfrm>
              <a:off x="4694400" y="456084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48480" y="4787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532480" y="4560840"/>
            <a:ext cx="838080" cy="838080"/>
            <a:chOff x="5532480" y="4560840"/>
            <a:chExt cx="838080" cy="838080"/>
          </a:xfrm>
        </p:grpSpPr>
        <p:sp>
          <p:nvSpPr>
            <p:cNvPr id="206" name=""/>
            <p:cNvSpPr/>
            <p:nvPr/>
          </p:nvSpPr>
          <p:spPr>
            <a:xfrm>
              <a:off x="5532480" y="4560840"/>
              <a:ext cx="838080" cy="83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86560" y="4787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532480" y="5398920"/>
            <a:ext cx="838080" cy="838440"/>
            <a:chOff x="5532480" y="5398920"/>
            <a:chExt cx="838080" cy="838440"/>
          </a:xfrm>
        </p:grpSpPr>
        <p:sp>
          <p:nvSpPr>
            <p:cNvPr id="209" name=""/>
            <p:cNvSpPr/>
            <p:nvPr/>
          </p:nvSpPr>
          <p:spPr>
            <a:xfrm>
              <a:off x="5532480" y="53989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86560" y="562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694400" y="5398920"/>
            <a:ext cx="838080" cy="838440"/>
            <a:chOff x="4694400" y="5398920"/>
            <a:chExt cx="838080" cy="838440"/>
          </a:xfrm>
        </p:grpSpPr>
        <p:sp>
          <p:nvSpPr>
            <p:cNvPr id="212" name=""/>
            <p:cNvSpPr/>
            <p:nvPr/>
          </p:nvSpPr>
          <p:spPr>
            <a:xfrm>
              <a:off x="4694400" y="5398920"/>
              <a:ext cx="838080" cy="83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48480" y="562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858560" y="4027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6640" y="4027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05800" y="5666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5800" y="36194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1557360"/>
            <a:ext cx="152424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2421000"/>
            <a:ext cx="15238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32000" y="2349360"/>
            <a:ext cx="152424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2636640" y="5147640"/>
            <a:ext cx="152388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51640" y="4724280"/>
            <a:ext cx="152388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43640" y="4581360"/>
            <a:ext cx="1224000" cy="863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5589720"/>
            <a:ext cx="504720" cy="5331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22816">
                <a:moveTo>
                  <a:pt x="3600" y="0"/>
                </a:moveTo>
                <a:arcTo wR="3600" hR="3600" stAng="16200000" swAng="-5400000"/>
                <a:lnTo>
                  <a:pt x="0" y="19216"/>
                </a:lnTo>
                <a:arcTo wR="3600" hR="3600" stAng="10800000" swAng="-5400000"/>
                <a:lnTo>
                  <a:pt x="18000" y="22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Ανάλυση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Περιγραφή του κυκλώματο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Λογικές συναρτήσεις των flip-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υναρτήσεις επόμενης κατάσταση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ίνακας καταστάσεω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άγραμμα καταστάσεω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20:30:01Z</dcterms:created>
  <dc:creator>george stamoulis</dc:creator>
  <dc:description/>
  <dc:language>en-US</dc:language>
  <cp:lastModifiedBy>georges</cp:lastModifiedBy>
  <dcterms:modified xsi:type="dcterms:W3CDTF">2005-11-08T22:01:46Z</dcterms:modified>
  <cp:revision>101</cp:revision>
  <dc:subject/>
  <dc:title>No Slide Title</dc:title>
</cp:coreProperties>
</file>