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20360" y="6243480"/>
            <a:ext cx="9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-</a:t>
            </a:r>
            <a:fld id="{E443FFBA-130E-4656-A83D-AA0FA88BA8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SR latch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457560" y="167940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93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936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 flipV="1">
            <a:off x="457560" y="1675440"/>
            <a:ext cx="3199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1676520" y="3352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676520" y="1676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294920" y="2133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294920" y="2895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2514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676520"/>
            <a:ext cx="38088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cubicBezTo>
                  <a:pt x="240" y="176"/>
                  <a:pt x="480" y="352"/>
                  <a:pt x="480" y="528"/>
                </a:cubicBezTo>
                <a:cubicBezTo>
                  <a:pt x="480" y="704"/>
                  <a:pt x="240" y="880"/>
                  <a:pt x="0" y="105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2362320"/>
            <a:ext cx="30492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57560" y="4647600"/>
            <a:ext cx="4419000" cy="1678680"/>
            <a:chOff x="457560" y="4647600"/>
            <a:chExt cx="4419000" cy="1678680"/>
          </a:xfrm>
        </p:grpSpPr>
        <p:sp>
          <p:nvSpPr>
            <p:cNvPr id="50" name=""/>
            <p:cNvSpPr/>
            <p:nvPr/>
          </p:nvSpPr>
          <p:spPr>
            <a:xfrm>
              <a:off x="457560" y="4651200"/>
              <a:ext cx="319968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693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6936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57560" y="4647240"/>
              <a:ext cx="319968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75800" y="6324480"/>
              <a:ext cx="381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675800" y="4648320"/>
              <a:ext cx="381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294920" y="5105160"/>
              <a:ext cx="68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294920" y="5867280"/>
              <a:ext cx="68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62160" y="548604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160" y="4648320"/>
              <a:ext cx="381240" cy="1676160"/>
            </a:xfrm>
            <a:custGeom>
              <a:avLst/>
              <a:gdLst/>
              <a:ahLst/>
              <a:rect l="l" t="t" r="r" b="b"/>
              <a:pathLst>
                <a:path w="480" h="1056">
                  <a:moveTo>
                    <a:pt x="0" y="0"/>
                  </a:moveTo>
                  <a:cubicBezTo>
                    <a:pt x="240" y="176"/>
                    <a:pt x="480" y="352"/>
                    <a:pt x="480" y="528"/>
                  </a:cubicBezTo>
                  <a:cubicBezTo>
                    <a:pt x="480" y="704"/>
                    <a:pt x="240" y="880"/>
                    <a:pt x="0" y="105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57600" y="5333760"/>
              <a:ext cx="304560" cy="3045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295280" y="28954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505320"/>
            <a:ext cx="327672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44956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295280" y="2514600"/>
            <a:ext cx="327672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560" y="1692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560" y="5440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8000" y="19051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8000" y="498312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44760" y="2479680"/>
            <a:ext cx="1941120" cy="22885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    R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Q    Q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0    1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0    0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Clocked D latch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93040" y="2819520"/>
            <a:ext cx="1986840" cy="19227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Q   D    Q(t+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0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1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0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1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04920" y="2122560"/>
            <a:ext cx="60195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Clocked JK latch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36200" y="2057400"/>
            <a:ext cx="2410200" cy="33858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Q   J    K    Q(t+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0    0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1    1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0    1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1    0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1    1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5756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Clocked T latch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92680" y="2819520"/>
            <a:ext cx="1953000" cy="19227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Q   T    Q(t+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0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1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0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1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57560" y="2565360"/>
            <a:ext cx="1069920" cy="595440"/>
          </a:xfrm>
          <a:custGeom>
            <a:avLst/>
            <a:gdLst/>
            <a:ahLst/>
            <a:rect l="l" t="t" r="r" b="b"/>
            <a:pathLst>
              <a:path w="1348" h="751">
                <a:moveTo>
                  <a:pt x="0" y="0"/>
                </a:moveTo>
                <a:lnTo>
                  <a:pt x="0" y="32"/>
                </a:lnTo>
                <a:lnTo>
                  <a:pt x="68" y="33"/>
                </a:lnTo>
                <a:lnTo>
                  <a:pt x="136" y="36"/>
                </a:lnTo>
                <a:lnTo>
                  <a:pt x="203" y="40"/>
                </a:lnTo>
                <a:lnTo>
                  <a:pt x="268" y="47"/>
                </a:lnTo>
                <a:lnTo>
                  <a:pt x="333" y="55"/>
                </a:lnTo>
                <a:lnTo>
                  <a:pt x="396" y="64"/>
                </a:lnTo>
                <a:lnTo>
                  <a:pt x="458" y="74"/>
                </a:lnTo>
                <a:lnTo>
                  <a:pt x="458" y="58"/>
                </a:lnTo>
                <a:lnTo>
                  <a:pt x="452" y="73"/>
                </a:lnTo>
                <a:lnTo>
                  <a:pt x="512" y="85"/>
                </a:lnTo>
                <a:lnTo>
                  <a:pt x="572" y="99"/>
                </a:lnTo>
                <a:lnTo>
                  <a:pt x="629" y="115"/>
                </a:lnTo>
                <a:lnTo>
                  <a:pt x="684" y="131"/>
                </a:lnTo>
                <a:lnTo>
                  <a:pt x="739" y="150"/>
                </a:lnTo>
                <a:lnTo>
                  <a:pt x="791" y="170"/>
                </a:lnTo>
                <a:lnTo>
                  <a:pt x="842" y="189"/>
                </a:lnTo>
                <a:lnTo>
                  <a:pt x="889" y="212"/>
                </a:lnTo>
                <a:lnTo>
                  <a:pt x="935" y="236"/>
                </a:lnTo>
                <a:lnTo>
                  <a:pt x="980" y="259"/>
                </a:lnTo>
                <a:lnTo>
                  <a:pt x="1021" y="285"/>
                </a:lnTo>
                <a:lnTo>
                  <a:pt x="1061" y="311"/>
                </a:lnTo>
                <a:lnTo>
                  <a:pt x="1068" y="296"/>
                </a:lnTo>
                <a:lnTo>
                  <a:pt x="1056" y="307"/>
                </a:lnTo>
                <a:lnTo>
                  <a:pt x="1093" y="335"/>
                </a:lnTo>
                <a:lnTo>
                  <a:pt x="1128" y="364"/>
                </a:lnTo>
                <a:lnTo>
                  <a:pt x="1160" y="393"/>
                </a:lnTo>
                <a:lnTo>
                  <a:pt x="1189" y="422"/>
                </a:lnTo>
                <a:lnTo>
                  <a:pt x="1216" y="454"/>
                </a:lnTo>
                <a:lnTo>
                  <a:pt x="1239" y="485"/>
                </a:lnTo>
                <a:lnTo>
                  <a:pt x="1251" y="474"/>
                </a:lnTo>
                <a:lnTo>
                  <a:pt x="1237" y="480"/>
                </a:lnTo>
                <a:lnTo>
                  <a:pt x="1258" y="512"/>
                </a:lnTo>
                <a:lnTo>
                  <a:pt x="1275" y="545"/>
                </a:lnTo>
                <a:lnTo>
                  <a:pt x="1291" y="579"/>
                </a:lnTo>
                <a:lnTo>
                  <a:pt x="1302" y="614"/>
                </a:lnTo>
                <a:lnTo>
                  <a:pt x="1311" y="648"/>
                </a:lnTo>
                <a:lnTo>
                  <a:pt x="1325" y="643"/>
                </a:lnTo>
                <a:lnTo>
                  <a:pt x="1310" y="643"/>
                </a:lnTo>
                <a:lnTo>
                  <a:pt x="1315" y="678"/>
                </a:lnTo>
                <a:lnTo>
                  <a:pt x="1316" y="714"/>
                </a:lnTo>
                <a:lnTo>
                  <a:pt x="1316" y="731"/>
                </a:lnTo>
                <a:lnTo>
                  <a:pt x="1316" y="747"/>
                </a:lnTo>
                <a:lnTo>
                  <a:pt x="1347" y="751"/>
                </a:lnTo>
                <a:lnTo>
                  <a:pt x="1348" y="731"/>
                </a:lnTo>
                <a:lnTo>
                  <a:pt x="1348" y="714"/>
                </a:lnTo>
                <a:lnTo>
                  <a:pt x="1347" y="678"/>
                </a:lnTo>
                <a:lnTo>
                  <a:pt x="1341" y="643"/>
                </a:lnTo>
                <a:lnTo>
                  <a:pt x="1340" y="636"/>
                </a:lnTo>
                <a:lnTo>
                  <a:pt x="1331" y="602"/>
                </a:lnTo>
                <a:lnTo>
                  <a:pt x="1320" y="567"/>
                </a:lnTo>
                <a:lnTo>
                  <a:pt x="1304" y="533"/>
                </a:lnTo>
                <a:lnTo>
                  <a:pt x="1287" y="500"/>
                </a:lnTo>
                <a:lnTo>
                  <a:pt x="1266" y="468"/>
                </a:lnTo>
                <a:lnTo>
                  <a:pt x="1262" y="463"/>
                </a:lnTo>
                <a:lnTo>
                  <a:pt x="1238" y="431"/>
                </a:lnTo>
                <a:lnTo>
                  <a:pt x="1212" y="399"/>
                </a:lnTo>
                <a:lnTo>
                  <a:pt x="1183" y="370"/>
                </a:lnTo>
                <a:lnTo>
                  <a:pt x="1151" y="341"/>
                </a:lnTo>
                <a:lnTo>
                  <a:pt x="1115" y="312"/>
                </a:lnTo>
                <a:lnTo>
                  <a:pt x="1078" y="285"/>
                </a:lnTo>
                <a:lnTo>
                  <a:pt x="1073" y="282"/>
                </a:lnTo>
                <a:lnTo>
                  <a:pt x="1033" y="255"/>
                </a:lnTo>
                <a:lnTo>
                  <a:pt x="992" y="230"/>
                </a:lnTo>
                <a:lnTo>
                  <a:pt x="947" y="207"/>
                </a:lnTo>
                <a:lnTo>
                  <a:pt x="901" y="183"/>
                </a:lnTo>
                <a:lnTo>
                  <a:pt x="853" y="160"/>
                </a:lnTo>
                <a:lnTo>
                  <a:pt x="803" y="140"/>
                </a:lnTo>
                <a:lnTo>
                  <a:pt x="750" y="121"/>
                </a:lnTo>
                <a:lnTo>
                  <a:pt x="696" y="102"/>
                </a:lnTo>
                <a:lnTo>
                  <a:pt x="641" y="86"/>
                </a:lnTo>
                <a:lnTo>
                  <a:pt x="584" y="70"/>
                </a:lnTo>
                <a:lnTo>
                  <a:pt x="524" y="56"/>
                </a:lnTo>
                <a:lnTo>
                  <a:pt x="464" y="44"/>
                </a:lnTo>
                <a:lnTo>
                  <a:pt x="458" y="43"/>
                </a:lnTo>
                <a:lnTo>
                  <a:pt x="396" y="32"/>
                </a:lnTo>
                <a:lnTo>
                  <a:pt x="333" y="23"/>
                </a:lnTo>
                <a:lnTo>
                  <a:pt x="268" y="15"/>
                </a:lnTo>
                <a:lnTo>
                  <a:pt x="203" y="8"/>
                </a:lnTo>
                <a:lnTo>
                  <a:pt x="136" y="4"/>
                </a:lnTo>
                <a:lnTo>
                  <a:pt x="68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57560" y="3129120"/>
            <a:ext cx="1069920" cy="566640"/>
          </a:xfrm>
          <a:custGeom>
            <a:avLst/>
            <a:gdLst/>
            <a:ahLst/>
            <a:rect l="l" t="t" r="r" b="b"/>
            <a:pathLst>
              <a:path w="1348" h="714">
                <a:moveTo>
                  <a:pt x="0" y="682"/>
                </a:moveTo>
                <a:lnTo>
                  <a:pt x="0" y="714"/>
                </a:lnTo>
                <a:lnTo>
                  <a:pt x="68" y="713"/>
                </a:lnTo>
                <a:lnTo>
                  <a:pt x="136" y="710"/>
                </a:lnTo>
                <a:lnTo>
                  <a:pt x="203" y="706"/>
                </a:lnTo>
                <a:lnTo>
                  <a:pt x="268" y="700"/>
                </a:lnTo>
                <a:lnTo>
                  <a:pt x="333" y="692"/>
                </a:lnTo>
                <a:lnTo>
                  <a:pt x="396" y="682"/>
                </a:lnTo>
                <a:lnTo>
                  <a:pt x="458" y="672"/>
                </a:lnTo>
                <a:lnTo>
                  <a:pt x="464" y="670"/>
                </a:lnTo>
                <a:lnTo>
                  <a:pt x="524" y="659"/>
                </a:lnTo>
                <a:lnTo>
                  <a:pt x="584" y="644"/>
                </a:lnTo>
                <a:lnTo>
                  <a:pt x="641" y="628"/>
                </a:lnTo>
                <a:lnTo>
                  <a:pt x="696" y="612"/>
                </a:lnTo>
                <a:lnTo>
                  <a:pt x="750" y="594"/>
                </a:lnTo>
                <a:lnTo>
                  <a:pt x="803" y="574"/>
                </a:lnTo>
                <a:lnTo>
                  <a:pt x="853" y="554"/>
                </a:lnTo>
                <a:lnTo>
                  <a:pt x="901" y="532"/>
                </a:lnTo>
                <a:lnTo>
                  <a:pt x="947" y="509"/>
                </a:lnTo>
                <a:lnTo>
                  <a:pt x="992" y="484"/>
                </a:lnTo>
                <a:lnTo>
                  <a:pt x="1033" y="459"/>
                </a:lnTo>
                <a:lnTo>
                  <a:pt x="1073" y="433"/>
                </a:lnTo>
                <a:lnTo>
                  <a:pt x="1078" y="430"/>
                </a:lnTo>
                <a:lnTo>
                  <a:pt x="1115" y="402"/>
                </a:lnTo>
                <a:lnTo>
                  <a:pt x="1151" y="373"/>
                </a:lnTo>
                <a:lnTo>
                  <a:pt x="1183" y="344"/>
                </a:lnTo>
                <a:lnTo>
                  <a:pt x="1212" y="315"/>
                </a:lnTo>
                <a:lnTo>
                  <a:pt x="1238" y="283"/>
                </a:lnTo>
                <a:lnTo>
                  <a:pt x="1262" y="252"/>
                </a:lnTo>
                <a:lnTo>
                  <a:pt x="1266" y="246"/>
                </a:lnTo>
                <a:lnTo>
                  <a:pt x="1287" y="215"/>
                </a:lnTo>
                <a:lnTo>
                  <a:pt x="1304" y="181"/>
                </a:lnTo>
                <a:lnTo>
                  <a:pt x="1320" y="147"/>
                </a:lnTo>
                <a:lnTo>
                  <a:pt x="1331" y="113"/>
                </a:lnTo>
                <a:lnTo>
                  <a:pt x="1340" y="78"/>
                </a:lnTo>
                <a:lnTo>
                  <a:pt x="1341" y="72"/>
                </a:lnTo>
                <a:lnTo>
                  <a:pt x="1347" y="36"/>
                </a:lnTo>
                <a:lnTo>
                  <a:pt x="1348" y="0"/>
                </a:lnTo>
                <a:lnTo>
                  <a:pt x="1316" y="0"/>
                </a:lnTo>
                <a:lnTo>
                  <a:pt x="1315" y="36"/>
                </a:lnTo>
                <a:lnTo>
                  <a:pt x="1310" y="72"/>
                </a:lnTo>
                <a:lnTo>
                  <a:pt x="1325" y="72"/>
                </a:lnTo>
                <a:lnTo>
                  <a:pt x="1311" y="66"/>
                </a:lnTo>
                <a:lnTo>
                  <a:pt x="1302" y="101"/>
                </a:lnTo>
                <a:lnTo>
                  <a:pt x="1291" y="135"/>
                </a:lnTo>
                <a:lnTo>
                  <a:pt x="1275" y="170"/>
                </a:lnTo>
                <a:lnTo>
                  <a:pt x="1258" y="203"/>
                </a:lnTo>
                <a:lnTo>
                  <a:pt x="1237" y="234"/>
                </a:lnTo>
                <a:lnTo>
                  <a:pt x="1251" y="241"/>
                </a:lnTo>
                <a:lnTo>
                  <a:pt x="1239" y="229"/>
                </a:lnTo>
                <a:lnTo>
                  <a:pt x="1216" y="261"/>
                </a:lnTo>
                <a:lnTo>
                  <a:pt x="1189" y="292"/>
                </a:lnTo>
                <a:lnTo>
                  <a:pt x="1160" y="322"/>
                </a:lnTo>
                <a:lnTo>
                  <a:pt x="1128" y="351"/>
                </a:lnTo>
                <a:lnTo>
                  <a:pt x="1093" y="380"/>
                </a:lnTo>
                <a:lnTo>
                  <a:pt x="1056" y="407"/>
                </a:lnTo>
                <a:lnTo>
                  <a:pt x="1068" y="418"/>
                </a:lnTo>
                <a:lnTo>
                  <a:pt x="1061" y="404"/>
                </a:lnTo>
                <a:lnTo>
                  <a:pt x="1021" y="430"/>
                </a:lnTo>
                <a:lnTo>
                  <a:pt x="980" y="455"/>
                </a:lnTo>
                <a:lnTo>
                  <a:pt x="935" y="480"/>
                </a:lnTo>
                <a:lnTo>
                  <a:pt x="889" y="503"/>
                </a:lnTo>
                <a:lnTo>
                  <a:pt x="842" y="525"/>
                </a:lnTo>
                <a:lnTo>
                  <a:pt x="791" y="545"/>
                </a:lnTo>
                <a:lnTo>
                  <a:pt x="739" y="565"/>
                </a:lnTo>
                <a:lnTo>
                  <a:pt x="684" y="583"/>
                </a:lnTo>
                <a:lnTo>
                  <a:pt x="629" y="599"/>
                </a:lnTo>
                <a:lnTo>
                  <a:pt x="572" y="615"/>
                </a:lnTo>
                <a:lnTo>
                  <a:pt x="512" y="630"/>
                </a:lnTo>
                <a:lnTo>
                  <a:pt x="452" y="641"/>
                </a:lnTo>
                <a:lnTo>
                  <a:pt x="458" y="656"/>
                </a:lnTo>
                <a:lnTo>
                  <a:pt x="458" y="640"/>
                </a:lnTo>
                <a:lnTo>
                  <a:pt x="396" y="651"/>
                </a:lnTo>
                <a:lnTo>
                  <a:pt x="333" y="660"/>
                </a:lnTo>
                <a:lnTo>
                  <a:pt x="268" y="668"/>
                </a:lnTo>
                <a:lnTo>
                  <a:pt x="203" y="674"/>
                </a:lnTo>
                <a:lnTo>
                  <a:pt x="136" y="678"/>
                </a:lnTo>
                <a:lnTo>
                  <a:pt x="68" y="681"/>
                </a:lnTo>
                <a:lnTo>
                  <a:pt x="0" y="6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5200" y="3670200"/>
            <a:ext cx="25236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5200" y="2562120"/>
            <a:ext cx="25236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54280" y="2865600"/>
            <a:ext cx="45252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54280" y="3368520"/>
            <a:ext cx="45252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16480" y="3116160"/>
            <a:ext cx="604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95840" y="2568600"/>
            <a:ext cx="274680" cy="1122480"/>
          </a:xfrm>
          <a:custGeom>
            <a:avLst/>
            <a:gdLst/>
            <a:ahLst/>
            <a:rect l="l" t="t" r="r" b="b"/>
            <a:pathLst>
              <a:path w="345" h="1413">
                <a:moveTo>
                  <a:pt x="26" y="0"/>
                </a:moveTo>
                <a:lnTo>
                  <a:pt x="0" y="17"/>
                </a:lnTo>
                <a:lnTo>
                  <a:pt x="60" y="107"/>
                </a:lnTo>
                <a:lnTo>
                  <a:pt x="72" y="95"/>
                </a:lnTo>
                <a:lnTo>
                  <a:pt x="57" y="101"/>
                </a:lnTo>
                <a:lnTo>
                  <a:pt x="114" y="189"/>
                </a:lnTo>
                <a:lnTo>
                  <a:pt x="142" y="232"/>
                </a:lnTo>
                <a:lnTo>
                  <a:pt x="168" y="276"/>
                </a:lnTo>
                <a:lnTo>
                  <a:pt x="192" y="319"/>
                </a:lnTo>
                <a:lnTo>
                  <a:pt x="216" y="363"/>
                </a:lnTo>
                <a:lnTo>
                  <a:pt x="237" y="407"/>
                </a:lnTo>
                <a:lnTo>
                  <a:pt x="257" y="450"/>
                </a:lnTo>
                <a:lnTo>
                  <a:pt x="274" y="494"/>
                </a:lnTo>
                <a:lnTo>
                  <a:pt x="287" y="538"/>
                </a:lnTo>
                <a:lnTo>
                  <a:pt x="299" y="581"/>
                </a:lnTo>
                <a:lnTo>
                  <a:pt x="314" y="575"/>
                </a:lnTo>
                <a:lnTo>
                  <a:pt x="298" y="575"/>
                </a:lnTo>
                <a:lnTo>
                  <a:pt x="307" y="618"/>
                </a:lnTo>
                <a:lnTo>
                  <a:pt x="312" y="662"/>
                </a:lnTo>
                <a:lnTo>
                  <a:pt x="314" y="705"/>
                </a:lnTo>
                <a:lnTo>
                  <a:pt x="312" y="749"/>
                </a:lnTo>
                <a:lnTo>
                  <a:pt x="307" y="793"/>
                </a:lnTo>
                <a:lnTo>
                  <a:pt x="298" y="836"/>
                </a:lnTo>
                <a:lnTo>
                  <a:pt x="314" y="836"/>
                </a:lnTo>
                <a:lnTo>
                  <a:pt x="299" y="831"/>
                </a:lnTo>
                <a:lnTo>
                  <a:pt x="287" y="875"/>
                </a:lnTo>
                <a:lnTo>
                  <a:pt x="274" y="918"/>
                </a:lnTo>
                <a:lnTo>
                  <a:pt x="257" y="962"/>
                </a:lnTo>
                <a:lnTo>
                  <a:pt x="237" y="1005"/>
                </a:lnTo>
                <a:lnTo>
                  <a:pt x="216" y="1049"/>
                </a:lnTo>
                <a:lnTo>
                  <a:pt x="192" y="1093"/>
                </a:lnTo>
                <a:lnTo>
                  <a:pt x="168" y="1136"/>
                </a:lnTo>
                <a:lnTo>
                  <a:pt x="142" y="1180"/>
                </a:lnTo>
                <a:lnTo>
                  <a:pt x="114" y="1224"/>
                </a:lnTo>
                <a:lnTo>
                  <a:pt x="57" y="1311"/>
                </a:lnTo>
                <a:lnTo>
                  <a:pt x="72" y="1316"/>
                </a:lnTo>
                <a:lnTo>
                  <a:pt x="60" y="1305"/>
                </a:lnTo>
                <a:lnTo>
                  <a:pt x="0" y="1395"/>
                </a:lnTo>
                <a:lnTo>
                  <a:pt x="26" y="1413"/>
                </a:lnTo>
                <a:lnTo>
                  <a:pt x="82" y="1328"/>
                </a:lnTo>
                <a:lnTo>
                  <a:pt x="86" y="1323"/>
                </a:lnTo>
                <a:lnTo>
                  <a:pt x="143" y="1235"/>
                </a:lnTo>
                <a:lnTo>
                  <a:pt x="171" y="1192"/>
                </a:lnTo>
                <a:lnTo>
                  <a:pt x="197" y="1148"/>
                </a:lnTo>
                <a:lnTo>
                  <a:pt x="221" y="1105"/>
                </a:lnTo>
                <a:lnTo>
                  <a:pt x="245" y="1061"/>
                </a:lnTo>
                <a:lnTo>
                  <a:pt x="266" y="1017"/>
                </a:lnTo>
                <a:lnTo>
                  <a:pt x="286" y="974"/>
                </a:lnTo>
                <a:lnTo>
                  <a:pt x="303" y="930"/>
                </a:lnTo>
                <a:lnTo>
                  <a:pt x="316" y="886"/>
                </a:lnTo>
                <a:lnTo>
                  <a:pt x="328" y="843"/>
                </a:lnTo>
                <a:lnTo>
                  <a:pt x="330" y="836"/>
                </a:lnTo>
                <a:lnTo>
                  <a:pt x="330" y="836"/>
                </a:lnTo>
                <a:lnTo>
                  <a:pt x="339" y="793"/>
                </a:lnTo>
                <a:lnTo>
                  <a:pt x="344" y="749"/>
                </a:lnTo>
                <a:lnTo>
                  <a:pt x="345" y="705"/>
                </a:lnTo>
                <a:lnTo>
                  <a:pt x="344" y="662"/>
                </a:lnTo>
                <a:lnTo>
                  <a:pt x="339" y="618"/>
                </a:lnTo>
                <a:lnTo>
                  <a:pt x="330" y="575"/>
                </a:lnTo>
                <a:lnTo>
                  <a:pt x="328" y="569"/>
                </a:lnTo>
                <a:lnTo>
                  <a:pt x="316" y="526"/>
                </a:lnTo>
                <a:lnTo>
                  <a:pt x="303" y="482"/>
                </a:lnTo>
                <a:lnTo>
                  <a:pt x="286" y="438"/>
                </a:lnTo>
                <a:lnTo>
                  <a:pt x="266" y="395"/>
                </a:lnTo>
                <a:lnTo>
                  <a:pt x="245" y="351"/>
                </a:lnTo>
                <a:lnTo>
                  <a:pt x="221" y="308"/>
                </a:lnTo>
                <a:lnTo>
                  <a:pt x="197" y="264"/>
                </a:lnTo>
                <a:lnTo>
                  <a:pt x="171" y="220"/>
                </a:lnTo>
                <a:lnTo>
                  <a:pt x="143" y="177"/>
                </a:lnTo>
                <a:lnTo>
                  <a:pt x="86" y="90"/>
                </a:lnTo>
                <a:lnTo>
                  <a:pt x="82" y="84"/>
                </a:lnTo>
                <a:lnTo>
                  <a:pt x="2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14880" y="3029040"/>
            <a:ext cx="203400" cy="2016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554280" y="4525920"/>
            <a:ext cx="2367000" cy="1133640"/>
            <a:chOff x="3554280" y="4525920"/>
            <a:chExt cx="2367000" cy="1133640"/>
          </a:xfrm>
        </p:grpSpPr>
        <p:sp>
          <p:nvSpPr>
            <p:cNvPr id="327" name=""/>
            <p:cNvSpPr/>
            <p:nvPr/>
          </p:nvSpPr>
          <p:spPr>
            <a:xfrm>
              <a:off x="4057560" y="4529160"/>
              <a:ext cx="1069920" cy="595440"/>
            </a:xfrm>
            <a:custGeom>
              <a:avLst/>
              <a:gdLst/>
              <a:ahLst/>
              <a:rect l="l" t="t" r="r" b="b"/>
              <a:pathLst>
                <a:path w="1348" h="750">
                  <a:moveTo>
                    <a:pt x="0" y="0"/>
                  </a:moveTo>
                  <a:lnTo>
                    <a:pt x="0" y="31"/>
                  </a:lnTo>
                  <a:lnTo>
                    <a:pt x="68" y="33"/>
                  </a:lnTo>
                  <a:lnTo>
                    <a:pt x="136" y="35"/>
                  </a:lnTo>
                  <a:lnTo>
                    <a:pt x="203" y="39"/>
                  </a:lnTo>
                  <a:lnTo>
                    <a:pt x="268" y="46"/>
                  </a:lnTo>
                  <a:lnTo>
                    <a:pt x="333" y="54"/>
                  </a:lnTo>
                  <a:lnTo>
                    <a:pt x="396" y="63"/>
                  </a:lnTo>
                  <a:lnTo>
                    <a:pt x="458" y="74"/>
                  </a:lnTo>
                  <a:lnTo>
                    <a:pt x="458" y="58"/>
                  </a:lnTo>
                  <a:lnTo>
                    <a:pt x="452" y="72"/>
                  </a:lnTo>
                  <a:lnTo>
                    <a:pt x="512" y="84"/>
                  </a:lnTo>
                  <a:lnTo>
                    <a:pt x="572" y="99"/>
                  </a:lnTo>
                  <a:lnTo>
                    <a:pt x="629" y="115"/>
                  </a:lnTo>
                  <a:lnTo>
                    <a:pt x="684" y="130"/>
                  </a:lnTo>
                  <a:lnTo>
                    <a:pt x="739" y="149"/>
                  </a:lnTo>
                  <a:lnTo>
                    <a:pt x="791" y="169"/>
                  </a:lnTo>
                  <a:lnTo>
                    <a:pt x="842" y="189"/>
                  </a:lnTo>
                  <a:lnTo>
                    <a:pt x="889" y="211"/>
                  </a:lnTo>
                  <a:lnTo>
                    <a:pt x="935" y="235"/>
                  </a:lnTo>
                  <a:lnTo>
                    <a:pt x="980" y="259"/>
                  </a:lnTo>
                  <a:lnTo>
                    <a:pt x="1021" y="284"/>
                  </a:lnTo>
                  <a:lnTo>
                    <a:pt x="1061" y="310"/>
                  </a:lnTo>
                  <a:lnTo>
                    <a:pt x="1068" y="296"/>
                  </a:lnTo>
                  <a:lnTo>
                    <a:pt x="1056" y="306"/>
                  </a:lnTo>
                  <a:lnTo>
                    <a:pt x="1093" y="334"/>
                  </a:lnTo>
                  <a:lnTo>
                    <a:pt x="1128" y="363"/>
                  </a:lnTo>
                  <a:lnTo>
                    <a:pt x="1160" y="392"/>
                  </a:lnTo>
                  <a:lnTo>
                    <a:pt x="1189" y="421"/>
                  </a:lnTo>
                  <a:lnTo>
                    <a:pt x="1216" y="453"/>
                  </a:lnTo>
                  <a:lnTo>
                    <a:pt x="1239" y="485"/>
                  </a:lnTo>
                  <a:lnTo>
                    <a:pt x="1251" y="473"/>
                  </a:lnTo>
                  <a:lnTo>
                    <a:pt x="1237" y="479"/>
                  </a:lnTo>
                  <a:lnTo>
                    <a:pt x="1258" y="511"/>
                  </a:lnTo>
                  <a:lnTo>
                    <a:pt x="1275" y="544"/>
                  </a:lnTo>
                  <a:lnTo>
                    <a:pt x="1291" y="578"/>
                  </a:lnTo>
                  <a:lnTo>
                    <a:pt x="1302" y="613"/>
                  </a:lnTo>
                  <a:lnTo>
                    <a:pt x="1311" y="647"/>
                  </a:lnTo>
                  <a:lnTo>
                    <a:pt x="1325" y="642"/>
                  </a:lnTo>
                  <a:lnTo>
                    <a:pt x="1310" y="642"/>
                  </a:lnTo>
                  <a:lnTo>
                    <a:pt x="1315" y="678"/>
                  </a:lnTo>
                  <a:lnTo>
                    <a:pt x="1316" y="713"/>
                  </a:lnTo>
                  <a:lnTo>
                    <a:pt x="1316" y="730"/>
                  </a:lnTo>
                  <a:lnTo>
                    <a:pt x="1316" y="746"/>
                  </a:lnTo>
                  <a:lnTo>
                    <a:pt x="1347" y="750"/>
                  </a:lnTo>
                  <a:lnTo>
                    <a:pt x="1348" y="730"/>
                  </a:lnTo>
                  <a:lnTo>
                    <a:pt x="1348" y="713"/>
                  </a:lnTo>
                  <a:lnTo>
                    <a:pt x="1347" y="678"/>
                  </a:lnTo>
                  <a:lnTo>
                    <a:pt x="1341" y="642"/>
                  </a:lnTo>
                  <a:lnTo>
                    <a:pt x="1340" y="635"/>
                  </a:lnTo>
                  <a:lnTo>
                    <a:pt x="1331" y="601"/>
                  </a:lnTo>
                  <a:lnTo>
                    <a:pt x="1320" y="567"/>
                  </a:lnTo>
                  <a:lnTo>
                    <a:pt x="1304" y="532"/>
                  </a:lnTo>
                  <a:lnTo>
                    <a:pt x="1287" y="499"/>
                  </a:lnTo>
                  <a:lnTo>
                    <a:pt x="1266" y="467"/>
                  </a:lnTo>
                  <a:lnTo>
                    <a:pt x="1262" y="462"/>
                  </a:lnTo>
                  <a:lnTo>
                    <a:pt x="1238" y="430"/>
                  </a:lnTo>
                  <a:lnTo>
                    <a:pt x="1212" y="399"/>
                  </a:lnTo>
                  <a:lnTo>
                    <a:pt x="1183" y="370"/>
                  </a:lnTo>
                  <a:lnTo>
                    <a:pt x="1151" y="341"/>
                  </a:lnTo>
                  <a:lnTo>
                    <a:pt x="1115" y="311"/>
                  </a:lnTo>
                  <a:lnTo>
                    <a:pt x="1078" y="284"/>
                  </a:lnTo>
                  <a:lnTo>
                    <a:pt x="1073" y="281"/>
                  </a:lnTo>
                  <a:lnTo>
                    <a:pt x="1033" y="255"/>
                  </a:lnTo>
                  <a:lnTo>
                    <a:pt x="992" y="230"/>
                  </a:lnTo>
                  <a:lnTo>
                    <a:pt x="947" y="206"/>
                  </a:lnTo>
                  <a:lnTo>
                    <a:pt x="901" y="182"/>
                  </a:lnTo>
                  <a:lnTo>
                    <a:pt x="853" y="159"/>
                  </a:lnTo>
                  <a:lnTo>
                    <a:pt x="803" y="140"/>
                  </a:lnTo>
                  <a:lnTo>
                    <a:pt x="750" y="120"/>
                  </a:lnTo>
                  <a:lnTo>
                    <a:pt x="696" y="101"/>
                  </a:lnTo>
                  <a:lnTo>
                    <a:pt x="641" y="85"/>
                  </a:lnTo>
                  <a:lnTo>
                    <a:pt x="584" y="70"/>
                  </a:lnTo>
                  <a:lnTo>
                    <a:pt x="524" y="55"/>
                  </a:lnTo>
                  <a:lnTo>
                    <a:pt x="464" y="43"/>
                  </a:lnTo>
                  <a:lnTo>
                    <a:pt x="458" y="42"/>
                  </a:lnTo>
                  <a:lnTo>
                    <a:pt x="396" y="31"/>
                  </a:lnTo>
                  <a:lnTo>
                    <a:pt x="333" y="22"/>
                  </a:lnTo>
                  <a:lnTo>
                    <a:pt x="268" y="14"/>
                  </a:lnTo>
                  <a:lnTo>
                    <a:pt x="203" y="7"/>
                  </a:lnTo>
                  <a:lnTo>
                    <a:pt x="136" y="3"/>
                  </a:lnTo>
                  <a:lnTo>
                    <a:pt x="6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57560" y="5092560"/>
              <a:ext cx="1069920" cy="567000"/>
            </a:xfrm>
            <a:custGeom>
              <a:avLst/>
              <a:gdLst/>
              <a:ahLst/>
              <a:rect l="l" t="t" r="r" b="b"/>
              <a:pathLst>
                <a:path w="1348" h="713">
                  <a:moveTo>
                    <a:pt x="0" y="682"/>
                  </a:moveTo>
                  <a:lnTo>
                    <a:pt x="0" y="713"/>
                  </a:lnTo>
                  <a:lnTo>
                    <a:pt x="68" y="712"/>
                  </a:lnTo>
                  <a:lnTo>
                    <a:pt x="136" y="709"/>
                  </a:lnTo>
                  <a:lnTo>
                    <a:pt x="203" y="705"/>
                  </a:lnTo>
                  <a:lnTo>
                    <a:pt x="268" y="699"/>
                  </a:lnTo>
                  <a:lnTo>
                    <a:pt x="333" y="691"/>
                  </a:lnTo>
                  <a:lnTo>
                    <a:pt x="396" y="682"/>
                  </a:lnTo>
                  <a:lnTo>
                    <a:pt x="458" y="671"/>
                  </a:lnTo>
                  <a:lnTo>
                    <a:pt x="464" y="670"/>
                  </a:lnTo>
                  <a:lnTo>
                    <a:pt x="524" y="658"/>
                  </a:lnTo>
                  <a:lnTo>
                    <a:pt x="584" y="643"/>
                  </a:lnTo>
                  <a:lnTo>
                    <a:pt x="641" y="627"/>
                  </a:lnTo>
                  <a:lnTo>
                    <a:pt x="696" y="612"/>
                  </a:lnTo>
                  <a:lnTo>
                    <a:pt x="750" y="593"/>
                  </a:lnTo>
                  <a:lnTo>
                    <a:pt x="803" y="573"/>
                  </a:lnTo>
                  <a:lnTo>
                    <a:pt x="853" y="553"/>
                  </a:lnTo>
                  <a:lnTo>
                    <a:pt x="901" y="531"/>
                  </a:lnTo>
                  <a:lnTo>
                    <a:pt x="947" y="508"/>
                  </a:lnTo>
                  <a:lnTo>
                    <a:pt x="992" y="483"/>
                  </a:lnTo>
                  <a:lnTo>
                    <a:pt x="1033" y="458"/>
                  </a:lnTo>
                  <a:lnTo>
                    <a:pt x="1073" y="432"/>
                  </a:lnTo>
                  <a:lnTo>
                    <a:pt x="1078" y="429"/>
                  </a:lnTo>
                  <a:lnTo>
                    <a:pt x="1115" y="401"/>
                  </a:lnTo>
                  <a:lnTo>
                    <a:pt x="1151" y="372"/>
                  </a:lnTo>
                  <a:lnTo>
                    <a:pt x="1183" y="343"/>
                  </a:lnTo>
                  <a:lnTo>
                    <a:pt x="1212" y="314"/>
                  </a:lnTo>
                  <a:lnTo>
                    <a:pt x="1238" y="282"/>
                  </a:lnTo>
                  <a:lnTo>
                    <a:pt x="1262" y="251"/>
                  </a:lnTo>
                  <a:lnTo>
                    <a:pt x="1266" y="245"/>
                  </a:lnTo>
                  <a:lnTo>
                    <a:pt x="1287" y="214"/>
                  </a:lnTo>
                  <a:lnTo>
                    <a:pt x="1304" y="181"/>
                  </a:lnTo>
                  <a:lnTo>
                    <a:pt x="1320" y="146"/>
                  </a:lnTo>
                  <a:lnTo>
                    <a:pt x="1331" y="112"/>
                  </a:lnTo>
                  <a:lnTo>
                    <a:pt x="1340" y="78"/>
                  </a:lnTo>
                  <a:lnTo>
                    <a:pt x="1341" y="71"/>
                  </a:lnTo>
                  <a:lnTo>
                    <a:pt x="1347" y="35"/>
                  </a:lnTo>
                  <a:lnTo>
                    <a:pt x="1348" y="0"/>
                  </a:lnTo>
                  <a:lnTo>
                    <a:pt x="1316" y="0"/>
                  </a:lnTo>
                  <a:lnTo>
                    <a:pt x="1315" y="35"/>
                  </a:lnTo>
                  <a:lnTo>
                    <a:pt x="1310" y="71"/>
                  </a:lnTo>
                  <a:lnTo>
                    <a:pt x="1325" y="71"/>
                  </a:lnTo>
                  <a:lnTo>
                    <a:pt x="1311" y="66"/>
                  </a:lnTo>
                  <a:lnTo>
                    <a:pt x="1302" y="100"/>
                  </a:lnTo>
                  <a:lnTo>
                    <a:pt x="1291" y="134"/>
                  </a:lnTo>
                  <a:lnTo>
                    <a:pt x="1275" y="169"/>
                  </a:lnTo>
                  <a:lnTo>
                    <a:pt x="1258" y="202"/>
                  </a:lnTo>
                  <a:lnTo>
                    <a:pt x="1237" y="234"/>
                  </a:lnTo>
                  <a:lnTo>
                    <a:pt x="1251" y="240"/>
                  </a:lnTo>
                  <a:lnTo>
                    <a:pt x="1239" y="228"/>
                  </a:lnTo>
                  <a:lnTo>
                    <a:pt x="1216" y="260"/>
                  </a:lnTo>
                  <a:lnTo>
                    <a:pt x="1189" y="292"/>
                  </a:lnTo>
                  <a:lnTo>
                    <a:pt x="1160" y="321"/>
                  </a:lnTo>
                  <a:lnTo>
                    <a:pt x="1128" y="350"/>
                  </a:lnTo>
                  <a:lnTo>
                    <a:pt x="1093" y="379"/>
                  </a:lnTo>
                  <a:lnTo>
                    <a:pt x="1056" y="407"/>
                  </a:lnTo>
                  <a:lnTo>
                    <a:pt x="1068" y="417"/>
                  </a:lnTo>
                  <a:lnTo>
                    <a:pt x="1061" y="403"/>
                  </a:lnTo>
                  <a:lnTo>
                    <a:pt x="1021" y="429"/>
                  </a:lnTo>
                  <a:lnTo>
                    <a:pt x="980" y="454"/>
                  </a:lnTo>
                  <a:lnTo>
                    <a:pt x="935" y="479"/>
                  </a:lnTo>
                  <a:lnTo>
                    <a:pt x="889" y="502"/>
                  </a:lnTo>
                  <a:lnTo>
                    <a:pt x="842" y="524"/>
                  </a:lnTo>
                  <a:lnTo>
                    <a:pt x="791" y="544"/>
                  </a:lnTo>
                  <a:lnTo>
                    <a:pt x="739" y="564"/>
                  </a:lnTo>
                  <a:lnTo>
                    <a:pt x="684" y="582"/>
                  </a:lnTo>
                  <a:lnTo>
                    <a:pt x="629" y="598"/>
                  </a:lnTo>
                  <a:lnTo>
                    <a:pt x="572" y="614"/>
                  </a:lnTo>
                  <a:lnTo>
                    <a:pt x="512" y="629"/>
                  </a:lnTo>
                  <a:lnTo>
                    <a:pt x="452" y="641"/>
                  </a:lnTo>
                  <a:lnTo>
                    <a:pt x="458" y="655"/>
                  </a:lnTo>
                  <a:lnTo>
                    <a:pt x="458" y="639"/>
                  </a:lnTo>
                  <a:lnTo>
                    <a:pt x="396" y="650"/>
                  </a:lnTo>
                  <a:lnTo>
                    <a:pt x="333" y="659"/>
                  </a:lnTo>
                  <a:lnTo>
                    <a:pt x="268" y="667"/>
                  </a:lnTo>
                  <a:lnTo>
                    <a:pt x="203" y="674"/>
                  </a:lnTo>
                  <a:lnTo>
                    <a:pt x="136" y="678"/>
                  </a:lnTo>
                  <a:lnTo>
                    <a:pt x="68" y="680"/>
                  </a:lnTo>
                  <a:lnTo>
                    <a:pt x="0" y="6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05200" y="5634000"/>
              <a:ext cx="25236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05200" y="4525920"/>
              <a:ext cx="25236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54280" y="4829040"/>
              <a:ext cx="45252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54280" y="5332320"/>
              <a:ext cx="45252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16480" y="5079960"/>
              <a:ext cx="60480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95840" y="4532400"/>
              <a:ext cx="274680" cy="1122120"/>
            </a:xfrm>
            <a:custGeom>
              <a:avLst/>
              <a:gdLst/>
              <a:ahLst/>
              <a:rect l="l" t="t" r="r" b="b"/>
              <a:pathLst>
                <a:path w="345" h="1413">
                  <a:moveTo>
                    <a:pt x="26" y="0"/>
                  </a:moveTo>
                  <a:lnTo>
                    <a:pt x="0" y="17"/>
                  </a:lnTo>
                  <a:lnTo>
                    <a:pt x="60" y="107"/>
                  </a:lnTo>
                  <a:lnTo>
                    <a:pt x="72" y="95"/>
                  </a:lnTo>
                  <a:lnTo>
                    <a:pt x="57" y="102"/>
                  </a:lnTo>
                  <a:lnTo>
                    <a:pt x="114" y="189"/>
                  </a:lnTo>
                  <a:lnTo>
                    <a:pt x="142" y="232"/>
                  </a:lnTo>
                  <a:lnTo>
                    <a:pt x="168" y="276"/>
                  </a:lnTo>
                  <a:lnTo>
                    <a:pt x="192" y="320"/>
                  </a:lnTo>
                  <a:lnTo>
                    <a:pt x="216" y="363"/>
                  </a:lnTo>
                  <a:lnTo>
                    <a:pt x="237" y="407"/>
                  </a:lnTo>
                  <a:lnTo>
                    <a:pt x="257" y="451"/>
                  </a:lnTo>
                  <a:lnTo>
                    <a:pt x="274" y="494"/>
                  </a:lnTo>
                  <a:lnTo>
                    <a:pt x="287" y="538"/>
                  </a:lnTo>
                  <a:lnTo>
                    <a:pt x="299" y="581"/>
                  </a:lnTo>
                  <a:lnTo>
                    <a:pt x="314" y="575"/>
                  </a:lnTo>
                  <a:lnTo>
                    <a:pt x="298" y="575"/>
                  </a:lnTo>
                  <a:lnTo>
                    <a:pt x="307" y="618"/>
                  </a:lnTo>
                  <a:lnTo>
                    <a:pt x="312" y="662"/>
                  </a:lnTo>
                  <a:lnTo>
                    <a:pt x="314" y="706"/>
                  </a:lnTo>
                  <a:lnTo>
                    <a:pt x="312" y="749"/>
                  </a:lnTo>
                  <a:lnTo>
                    <a:pt x="307" y="793"/>
                  </a:lnTo>
                  <a:lnTo>
                    <a:pt x="298" y="836"/>
                  </a:lnTo>
                  <a:lnTo>
                    <a:pt x="314" y="836"/>
                  </a:lnTo>
                  <a:lnTo>
                    <a:pt x="299" y="831"/>
                  </a:lnTo>
                  <a:lnTo>
                    <a:pt x="287" y="875"/>
                  </a:lnTo>
                  <a:lnTo>
                    <a:pt x="274" y="918"/>
                  </a:lnTo>
                  <a:lnTo>
                    <a:pt x="257" y="962"/>
                  </a:lnTo>
                  <a:lnTo>
                    <a:pt x="237" y="1006"/>
                  </a:lnTo>
                  <a:lnTo>
                    <a:pt x="216" y="1049"/>
                  </a:lnTo>
                  <a:lnTo>
                    <a:pt x="192" y="1093"/>
                  </a:lnTo>
                  <a:lnTo>
                    <a:pt x="168" y="1136"/>
                  </a:lnTo>
                  <a:lnTo>
                    <a:pt x="142" y="1180"/>
                  </a:lnTo>
                  <a:lnTo>
                    <a:pt x="114" y="1224"/>
                  </a:lnTo>
                  <a:lnTo>
                    <a:pt x="57" y="1311"/>
                  </a:lnTo>
                  <a:lnTo>
                    <a:pt x="72" y="1316"/>
                  </a:lnTo>
                  <a:lnTo>
                    <a:pt x="60" y="1306"/>
                  </a:lnTo>
                  <a:lnTo>
                    <a:pt x="0" y="1396"/>
                  </a:lnTo>
                  <a:lnTo>
                    <a:pt x="26" y="1413"/>
                  </a:lnTo>
                  <a:lnTo>
                    <a:pt x="82" y="1328"/>
                  </a:lnTo>
                  <a:lnTo>
                    <a:pt x="86" y="1323"/>
                  </a:lnTo>
                  <a:lnTo>
                    <a:pt x="143" y="1236"/>
                  </a:lnTo>
                  <a:lnTo>
                    <a:pt x="171" y="1192"/>
                  </a:lnTo>
                  <a:lnTo>
                    <a:pt x="197" y="1148"/>
                  </a:lnTo>
                  <a:lnTo>
                    <a:pt x="221" y="1105"/>
                  </a:lnTo>
                  <a:lnTo>
                    <a:pt x="245" y="1061"/>
                  </a:lnTo>
                  <a:lnTo>
                    <a:pt x="266" y="1018"/>
                  </a:lnTo>
                  <a:lnTo>
                    <a:pt x="286" y="974"/>
                  </a:lnTo>
                  <a:lnTo>
                    <a:pt x="303" y="930"/>
                  </a:lnTo>
                  <a:lnTo>
                    <a:pt x="316" y="887"/>
                  </a:lnTo>
                  <a:lnTo>
                    <a:pt x="328" y="843"/>
                  </a:lnTo>
                  <a:lnTo>
                    <a:pt x="330" y="836"/>
                  </a:lnTo>
                  <a:lnTo>
                    <a:pt x="330" y="836"/>
                  </a:lnTo>
                  <a:lnTo>
                    <a:pt x="339" y="793"/>
                  </a:lnTo>
                  <a:lnTo>
                    <a:pt x="344" y="749"/>
                  </a:lnTo>
                  <a:lnTo>
                    <a:pt x="345" y="706"/>
                  </a:lnTo>
                  <a:lnTo>
                    <a:pt x="344" y="662"/>
                  </a:lnTo>
                  <a:lnTo>
                    <a:pt x="339" y="618"/>
                  </a:lnTo>
                  <a:lnTo>
                    <a:pt x="330" y="575"/>
                  </a:lnTo>
                  <a:lnTo>
                    <a:pt x="328" y="569"/>
                  </a:lnTo>
                  <a:lnTo>
                    <a:pt x="316" y="526"/>
                  </a:lnTo>
                  <a:lnTo>
                    <a:pt x="303" y="482"/>
                  </a:lnTo>
                  <a:lnTo>
                    <a:pt x="286" y="439"/>
                  </a:lnTo>
                  <a:lnTo>
                    <a:pt x="266" y="395"/>
                  </a:lnTo>
                  <a:lnTo>
                    <a:pt x="245" y="351"/>
                  </a:lnTo>
                  <a:lnTo>
                    <a:pt x="221" y="308"/>
                  </a:lnTo>
                  <a:lnTo>
                    <a:pt x="197" y="264"/>
                  </a:lnTo>
                  <a:lnTo>
                    <a:pt x="171" y="221"/>
                  </a:lnTo>
                  <a:lnTo>
                    <a:pt x="143" y="177"/>
                  </a:lnTo>
                  <a:lnTo>
                    <a:pt x="86" y="90"/>
                  </a:lnTo>
                  <a:lnTo>
                    <a:pt x="82" y="8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14880" y="4992840"/>
              <a:ext cx="203400" cy="2016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541680" y="3381480"/>
            <a:ext cx="2556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48160" y="3773520"/>
            <a:ext cx="2178000" cy="1330200"/>
          </a:xfrm>
          <a:custGeom>
            <a:avLst/>
            <a:gdLst/>
            <a:ahLst/>
            <a:rect l="l" t="t" r="r" b="b"/>
            <a:pathLst>
              <a:path w="2744" h="1676">
                <a:moveTo>
                  <a:pt x="16" y="0"/>
                </a:moveTo>
                <a:lnTo>
                  <a:pt x="0" y="26"/>
                </a:lnTo>
                <a:lnTo>
                  <a:pt x="2728" y="1676"/>
                </a:lnTo>
                <a:lnTo>
                  <a:pt x="2744" y="1649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41680" y="4438800"/>
            <a:ext cx="2556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48160" y="3119400"/>
            <a:ext cx="2178000" cy="1330200"/>
          </a:xfrm>
          <a:custGeom>
            <a:avLst/>
            <a:gdLst/>
            <a:ahLst/>
            <a:rect l="l" t="t" r="r" b="b"/>
            <a:pathLst>
              <a:path w="2744" h="1676">
                <a:moveTo>
                  <a:pt x="2744" y="27"/>
                </a:moveTo>
                <a:lnTo>
                  <a:pt x="2728" y="0"/>
                </a:lnTo>
                <a:lnTo>
                  <a:pt x="0" y="1650"/>
                </a:lnTo>
                <a:lnTo>
                  <a:pt x="16" y="1676"/>
                </a:lnTo>
                <a:lnTo>
                  <a:pt x="27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4200" y="2373480"/>
            <a:ext cx="28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4160" y="242244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21280" y="2725560"/>
            <a:ext cx="330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53040" y="277488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21280" y="4761000"/>
            <a:ext cx="405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54480" y="4809960"/>
            <a:ext cx="28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Q’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98760" y="2311560"/>
            <a:ext cx="717480" cy="566640"/>
          </a:xfrm>
          <a:custGeom>
            <a:avLst/>
            <a:gdLst/>
            <a:ahLst/>
            <a:rect l="l" t="t" r="r" b="b"/>
            <a:pathLst>
              <a:path w="905" h="714">
                <a:moveTo>
                  <a:pt x="0" y="0"/>
                </a:moveTo>
                <a:lnTo>
                  <a:pt x="0" y="32"/>
                </a:lnTo>
                <a:lnTo>
                  <a:pt x="47" y="34"/>
                </a:lnTo>
                <a:lnTo>
                  <a:pt x="92" y="36"/>
                </a:lnTo>
                <a:lnTo>
                  <a:pt x="135" y="40"/>
                </a:lnTo>
                <a:lnTo>
                  <a:pt x="179" y="47"/>
                </a:lnTo>
                <a:lnTo>
                  <a:pt x="222" y="55"/>
                </a:lnTo>
                <a:lnTo>
                  <a:pt x="222" y="39"/>
                </a:lnTo>
                <a:lnTo>
                  <a:pt x="216" y="53"/>
                </a:lnTo>
                <a:lnTo>
                  <a:pt x="258" y="63"/>
                </a:lnTo>
                <a:lnTo>
                  <a:pt x="300" y="73"/>
                </a:lnTo>
                <a:lnTo>
                  <a:pt x="340" y="85"/>
                </a:lnTo>
                <a:lnTo>
                  <a:pt x="380" y="100"/>
                </a:lnTo>
                <a:lnTo>
                  <a:pt x="418" y="115"/>
                </a:lnTo>
                <a:lnTo>
                  <a:pt x="455" y="131"/>
                </a:lnTo>
                <a:lnTo>
                  <a:pt x="491" y="150"/>
                </a:lnTo>
                <a:lnTo>
                  <a:pt x="526" y="170"/>
                </a:lnTo>
                <a:lnTo>
                  <a:pt x="560" y="189"/>
                </a:lnTo>
                <a:lnTo>
                  <a:pt x="565" y="175"/>
                </a:lnTo>
                <a:lnTo>
                  <a:pt x="554" y="187"/>
                </a:lnTo>
                <a:lnTo>
                  <a:pt x="586" y="209"/>
                </a:lnTo>
                <a:lnTo>
                  <a:pt x="618" y="232"/>
                </a:lnTo>
                <a:lnTo>
                  <a:pt x="647" y="256"/>
                </a:lnTo>
                <a:lnTo>
                  <a:pt x="675" y="282"/>
                </a:lnTo>
                <a:lnTo>
                  <a:pt x="701" y="307"/>
                </a:lnTo>
                <a:lnTo>
                  <a:pt x="726" y="335"/>
                </a:lnTo>
                <a:lnTo>
                  <a:pt x="749" y="364"/>
                </a:lnTo>
                <a:lnTo>
                  <a:pt x="770" y="393"/>
                </a:lnTo>
                <a:lnTo>
                  <a:pt x="782" y="381"/>
                </a:lnTo>
                <a:lnTo>
                  <a:pt x="767" y="388"/>
                </a:lnTo>
                <a:lnTo>
                  <a:pt x="787" y="417"/>
                </a:lnTo>
                <a:lnTo>
                  <a:pt x="804" y="449"/>
                </a:lnTo>
                <a:lnTo>
                  <a:pt x="820" y="480"/>
                </a:lnTo>
                <a:lnTo>
                  <a:pt x="834" y="512"/>
                </a:lnTo>
                <a:lnTo>
                  <a:pt x="846" y="545"/>
                </a:lnTo>
                <a:lnTo>
                  <a:pt x="856" y="579"/>
                </a:lnTo>
                <a:lnTo>
                  <a:pt x="864" y="614"/>
                </a:lnTo>
                <a:lnTo>
                  <a:pt x="878" y="608"/>
                </a:lnTo>
                <a:lnTo>
                  <a:pt x="862" y="608"/>
                </a:lnTo>
                <a:lnTo>
                  <a:pt x="869" y="643"/>
                </a:lnTo>
                <a:lnTo>
                  <a:pt x="871" y="679"/>
                </a:lnTo>
                <a:lnTo>
                  <a:pt x="873" y="714"/>
                </a:lnTo>
                <a:lnTo>
                  <a:pt x="905" y="714"/>
                </a:lnTo>
                <a:lnTo>
                  <a:pt x="903" y="679"/>
                </a:lnTo>
                <a:lnTo>
                  <a:pt x="901" y="643"/>
                </a:lnTo>
                <a:lnTo>
                  <a:pt x="894" y="608"/>
                </a:lnTo>
                <a:lnTo>
                  <a:pt x="893" y="602"/>
                </a:lnTo>
                <a:lnTo>
                  <a:pt x="885" y="567"/>
                </a:lnTo>
                <a:lnTo>
                  <a:pt x="875" y="533"/>
                </a:lnTo>
                <a:lnTo>
                  <a:pt x="864" y="500"/>
                </a:lnTo>
                <a:lnTo>
                  <a:pt x="849" y="468"/>
                </a:lnTo>
                <a:lnTo>
                  <a:pt x="833" y="437"/>
                </a:lnTo>
                <a:lnTo>
                  <a:pt x="816" y="405"/>
                </a:lnTo>
                <a:lnTo>
                  <a:pt x="796" y="376"/>
                </a:lnTo>
                <a:lnTo>
                  <a:pt x="792" y="371"/>
                </a:lnTo>
                <a:lnTo>
                  <a:pt x="771" y="341"/>
                </a:lnTo>
                <a:lnTo>
                  <a:pt x="749" y="312"/>
                </a:lnTo>
                <a:lnTo>
                  <a:pt x="723" y="285"/>
                </a:lnTo>
                <a:lnTo>
                  <a:pt x="697" y="260"/>
                </a:lnTo>
                <a:lnTo>
                  <a:pt x="669" y="233"/>
                </a:lnTo>
                <a:lnTo>
                  <a:pt x="640" y="209"/>
                </a:lnTo>
                <a:lnTo>
                  <a:pt x="608" y="187"/>
                </a:lnTo>
                <a:lnTo>
                  <a:pt x="577" y="164"/>
                </a:lnTo>
                <a:lnTo>
                  <a:pt x="571" y="160"/>
                </a:lnTo>
                <a:lnTo>
                  <a:pt x="538" y="141"/>
                </a:lnTo>
                <a:lnTo>
                  <a:pt x="503" y="121"/>
                </a:lnTo>
                <a:lnTo>
                  <a:pt x="467" y="102"/>
                </a:lnTo>
                <a:lnTo>
                  <a:pt x="430" y="86"/>
                </a:lnTo>
                <a:lnTo>
                  <a:pt x="392" y="71"/>
                </a:lnTo>
                <a:lnTo>
                  <a:pt x="352" y="56"/>
                </a:lnTo>
                <a:lnTo>
                  <a:pt x="312" y="44"/>
                </a:lnTo>
                <a:lnTo>
                  <a:pt x="270" y="34"/>
                </a:lnTo>
                <a:lnTo>
                  <a:pt x="228" y="24"/>
                </a:lnTo>
                <a:lnTo>
                  <a:pt x="222" y="23"/>
                </a:lnTo>
                <a:lnTo>
                  <a:pt x="179" y="15"/>
                </a:lnTo>
                <a:lnTo>
                  <a:pt x="135" y="8"/>
                </a:lnTo>
                <a:lnTo>
                  <a:pt x="92" y="4"/>
                </a:lnTo>
                <a:lnTo>
                  <a:pt x="47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98760" y="2878200"/>
            <a:ext cx="717480" cy="565200"/>
          </a:xfrm>
          <a:custGeom>
            <a:avLst/>
            <a:gdLst/>
            <a:ahLst/>
            <a:rect l="l" t="t" r="r" b="b"/>
            <a:pathLst>
              <a:path w="905" h="714">
                <a:moveTo>
                  <a:pt x="0" y="682"/>
                </a:moveTo>
                <a:lnTo>
                  <a:pt x="0" y="714"/>
                </a:lnTo>
                <a:lnTo>
                  <a:pt x="47" y="713"/>
                </a:lnTo>
                <a:lnTo>
                  <a:pt x="92" y="710"/>
                </a:lnTo>
                <a:lnTo>
                  <a:pt x="135" y="706"/>
                </a:lnTo>
                <a:lnTo>
                  <a:pt x="179" y="699"/>
                </a:lnTo>
                <a:lnTo>
                  <a:pt x="222" y="691"/>
                </a:lnTo>
                <a:lnTo>
                  <a:pt x="228" y="690"/>
                </a:lnTo>
                <a:lnTo>
                  <a:pt x="270" y="681"/>
                </a:lnTo>
                <a:lnTo>
                  <a:pt x="312" y="670"/>
                </a:lnTo>
                <a:lnTo>
                  <a:pt x="352" y="658"/>
                </a:lnTo>
                <a:lnTo>
                  <a:pt x="392" y="644"/>
                </a:lnTo>
                <a:lnTo>
                  <a:pt x="430" y="628"/>
                </a:lnTo>
                <a:lnTo>
                  <a:pt x="467" y="612"/>
                </a:lnTo>
                <a:lnTo>
                  <a:pt x="503" y="594"/>
                </a:lnTo>
                <a:lnTo>
                  <a:pt x="538" y="574"/>
                </a:lnTo>
                <a:lnTo>
                  <a:pt x="571" y="554"/>
                </a:lnTo>
                <a:lnTo>
                  <a:pt x="577" y="550"/>
                </a:lnTo>
                <a:lnTo>
                  <a:pt x="608" y="529"/>
                </a:lnTo>
                <a:lnTo>
                  <a:pt x="640" y="505"/>
                </a:lnTo>
                <a:lnTo>
                  <a:pt x="669" y="481"/>
                </a:lnTo>
                <a:lnTo>
                  <a:pt x="697" y="456"/>
                </a:lnTo>
                <a:lnTo>
                  <a:pt x="723" y="430"/>
                </a:lnTo>
                <a:lnTo>
                  <a:pt x="749" y="402"/>
                </a:lnTo>
                <a:lnTo>
                  <a:pt x="771" y="373"/>
                </a:lnTo>
                <a:lnTo>
                  <a:pt x="792" y="344"/>
                </a:lnTo>
                <a:lnTo>
                  <a:pt x="796" y="339"/>
                </a:lnTo>
                <a:lnTo>
                  <a:pt x="816" y="309"/>
                </a:lnTo>
                <a:lnTo>
                  <a:pt x="833" y="278"/>
                </a:lnTo>
                <a:lnTo>
                  <a:pt x="849" y="246"/>
                </a:lnTo>
                <a:lnTo>
                  <a:pt x="864" y="214"/>
                </a:lnTo>
                <a:lnTo>
                  <a:pt x="875" y="181"/>
                </a:lnTo>
                <a:lnTo>
                  <a:pt x="885" y="147"/>
                </a:lnTo>
                <a:lnTo>
                  <a:pt x="893" y="113"/>
                </a:lnTo>
                <a:lnTo>
                  <a:pt x="894" y="107"/>
                </a:lnTo>
                <a:lnTo>
                  <a:pt x="901" y="72"/>
                </a:lnTo>
                <a:lnTo>
                  <a:pt x="903" y="36"/>
                </a:lnTo>
                <a:lnTo>
                  <a:pt x="905" y="0"/>
                </a:lnTo>
                <a:lnTo>
                  <a:pt x="873" y="0"/>
                </a:lnTo>
                <a:lnTo>
                  <a:pt x="871" y="36"/>
                </a:lnTo>
                <a:lnTo>
                  <a:pt x="869" y="72"/>
                </a:lnTo>
                <a:lnTo>
                  <a:pt x="862" y="107"/>
                </a:lnTo>
                <a:lnTo>
                  <a:pt x="878" y="107"/>
                </a:lnTo>
                <a:lnTo>
                  <a:pt x="864" y="101"/>
                </a:lnTo>
                <a:lnTo>
                  <a:pt x="856" y="135"/>
                </a:lnTo>
                <a:lnTo>
                  <a:pt x="846" y="169"/>
                </a:lnTo>
                <a:lnTo>
                  <a:pt x="834" y="202"/>
                </a:lnTo>
                <a:lnTo>
                  <a:pt x="820" y="234"/>
                </a:lnTo>
                <a:lnTo>
                  <a:pt x="804" y="266"/>
                </a:lnTo>
                <a:lnTo>
                  <a:pt x="787" y="298"/>
                </a:lnTo>
                <a:lnTo>
                  <a:pt x="767" y="327"/>
                </a:lnTo>
                <a:lnTo>
                  <a:pt x="782" y="333"/>
                </a:lnTo>
                <a:lnTo>
                  <a:pt x="770" y="321"/>
                </a:lnTo>
                <a:lnTo>
                  <a:pt x="749" y="350"/>
                </a:lnTo>
                <a:lnTo>
                  <a:pt x="726" y="380"/>
                </a:lnTo>
                <a:lnTo>
                  <a:pt x="701" y="407"/>
                </a:lnTo>
                <a:lnTo>
                  <a:pt x="675" y="434"/>
                </a:lnTo>
                <a:lnTo>
                  <a:pt x="647" y="459"/>
                </a:lnTo>
                <a:lnTo>
                  <a:pt x="618" y="483"/>
                </a:lnTo>
                <a:lnTo>
                  <a:pt x="586" y="506"/>
                </a:lnTo>
                <a:lnTo>
                  <a:pt x="554" y="528"/>
                </a:lnTo>
                <a:lnTo>
                  <a:pt x="565" y="539"/>
                </a:lnTo>
                <a:lnTo>
                  <a:pt x="560" y="525"/>
                </a:lnTo>
                <a:lnTo>
                  <a:pt x="526" y="545"/>
                </a:lnTo>
                <a:lnTo>
                  <a:pt x="491" y="565"/>
                </a:lnTo>
                <a:lnTo>
                  <a:pt x="455" y="583"/>
                </a:lnTo>
                <a:lnTo>
                  <a:pt x="418" y="599"/>
                </a:lnTo>
                <a:lnTo>
                  <a:pt x="380" y="615"/>
                </a:lnTo>
                <a:lnTo>
                  <a:pt x="340" y="629"/>
                </a:lnTo>
                <a:lnTo>
                  <a:pt x="300" y="641"/>
                </a:lnTo>
                <a:lnTo>
                  <a:pt x="258" y="652"/>
                </a:lnTo>
                <a:lnTo>
                  <a:pt x="216" y="661"/>
                </a:lnTo>
                <a:lnTo>
                  <a:pt x="222" y="676"/>
                </a:lnTo>
                <a:lnTo>
                  <a:pt x="222" y="660"/>
                </a:lnTo>
                <a:lnTo>
                  <a:pt x="179" y="668"/>
                </a:lnTo>
                <a:lnTo>
                  <a:pt x="135" y="674"/>
                </a:lnTo>
                <a:lnTo>
                  <a:pt x="92" y="678"/>
                </a:lnTo>
                <a:lnTo>
                  <a:pt x="47" y="681"/>
                </a:lnTo>
                <a:lnTo>
                  <a:pt x="0" y="6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46400" y="3419640"/>
            <a:ext cx="252360" cy="2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46400" y="2311560"/>
            <a:ext cx="25236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33440" y="2324160"/>
            <a:ext cx="25560" cy="11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93880" y="2484360"/>
            <a:ext cx="45252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93880" y="3267000"/>
            <a:ext cx="45252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03640" y="2865600"/>
            <a:ext cx="755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98760" y="4778280"/>
            <a:ext cx="717480" cy="567000"/>
          </a:xfrm>
          <a:custGeom>
            <a:avLst/>
            <a:gdLst/>
            <a:ahLst/>
            <a:rect l="l" t="t" r="r" b="b"/>
            <a:pathLst>
              <a:path w="905" h="714">
                <a:moveTo>
                  <a:pt x="0" y="0"/>
                </a:moveTo>
                <a:lnTo>
                  <a:pt x="0" y="32"/>
                </a:lnTo>
                <a:lnTo>
                  <a:pt x="47" y="33"/>
                </a:lnTo>
                <a:lnTo>
                  <a:pt x="92" y="36"/>
                </a:lnTo>
                <a:lnTo>
                  <a:pt x="135" y="40"/>
                </a:lnTo>
                <a:lnTo>
                  <a:pt x="179" y="46"/>
                </a:lnTo>
                <a:lnTo>
                  <a:pt x="222" y="54"/>
                </a:lnTo>
                <a:lnTo>
                  <a:pt x="222" y="38"/>
                </a:lnTo>
                <a:lnTo>
                  <a:pt x="216" y="53"/>
                </a:lnTo>
                <a:lnTo>
                  <a:pt x="258" y="62"/>
                </a:lnTo>
                <a:lnTo>
                  <a:pt x="300" y="73"/>
                </a:lnTo>
                <a:lnTo>
                  <a:pt x="340" y="85"/>
                </a:lnTo>
                <a:lnTo>
                  <a:pt x="380" y="99"/>
                </a:lnTo>
                <a:lnTo>
                  <a:pt x="418" y="115"/>
                </a:lnTo>
                <a:lnTo>
                  <a:pt x="455" y="131"/>
                </a:lnTo>
                <a:lnTo>
                  <a:pt x="491" y="149"/>
                </a:lnTo>
                <a:lnTo>
                  <a:pt x="526" y="169"/>
                </a:lnTo>
                <a:lnTo>
                  <a:pt x="560" y="189"/>
                </a:lnTo>
                <a:lnTo>
                  <a:pt x="565" y="175"/>
                </a:lnTo>
                <a:lnTo>
                  <a:pt x="554" y="186"/>
                </a:lnTo>
                <a:lnTo>
                  <a:pt x="586" y="209"/>
                </a:lnTo>
                <a:lnTo>
                  <a:pt x="618" y="231"/>
                </a:lnTo>
                <a:lnTo>
                  <a:pt x="647" y="255"/>
                </a:lnTo>
                <a:lnTo>
                  <a:pt x="675" y="282"/>
                </a:lnTo>
                <a:lnTo>
                  <a:pt x="701" y="307"/>
                </a:lnTo>
                <a:lnTo>
                  <a:pt x="726" y="334"/>
                </a:lnTo>
                <a:lnTo>
                  <a:pt x="749" y="364"/>
                </a:lnTo>
                <a:lnTo>
                  <a:pt x="770" y="393"/>
                </a:lnTo>
                <a:lnTo>
                  <a:pt x="782" y="381"/>
                </a:lnTo>
                <a:lnTo>
                  <a:pt x="767" y="387"/>
                </a:lnTo>
                <a:lnTo>
                  <a:pt x="787" y="416"/>
                </a:lnTo>
                <a:lnTo>
                  <a:pt x="804" y="448"/>
                </a:lnTo>
                <a:lnTo>
                  <a:pt x="820" y="480"/>
                </a:lnTo>
                <a:lnTo>
                  <a:pt x="834" y="512"/>
                </a:lnTo>
                <a:lnTo>
                  <a:pt x="846" y="545"/>
                </a:lnTo>
                <a:lnTo>
                  <a:pt x="856" y="579"/>
                </a:lnTo>
                <a:lnTo>
                  <a:pt x="864" y="613"/>
                </a:lnTo>
                <a:lnTo>
                  <a:pt x="878" y="608"/>
                </a:lnTo>
                <a:lnTo>
                  <a:pt x="862" y="608"/>
                </a:lnTo>
                <a:lnTo>
                  <a:pt x="869" y="642"/>
                </a:lnTo>
                <a:lnTo>
                  <a:pt x="871" y="678"/>
                </a:lnTo>
                <a:lnTo>
                  <a:pt x="873" y="714"/>
                </a:lnTo>
                <a:lnTo>
                  <a:pt x="905" y="714"/>
                </a:lnTo>
                <a:lnTo>
                  <a:pt x="903" y="678"/>
                </a:lnTo>
                <a:lnTo>
                  <a:pt x="901" y="642"/>
                </a:lnTo>
                <a:lnTo>
                  <a:pt x="894" y="608"/>
                </a:lnTo>
                <a:lnTo>
                  <a:pt x="893" y="601"/>
                </a:lnTo>
                <a:lnTo>
                  <a:pt x="885" y="567"/>
                </a:lnTo>
                <a:lnTo>
                  <a:pt x="875" y="533"/>
                </a:lnTo>
                <a:lnTo>
                  <a:pt x="864" y="500"/>
                </a:lnTo>
                <a:lnTo>
                  <a:pt x="849" y="468"/>
                </a:lnTo>
                <a:lnTo>
                  <a:pt x="833" y="436"/>
                </a:lnTo>
                <a:lnTo>
                  <a:pt x="816" y="405"/>
                </a:lnTo>
                <a:lnTo>
                  <a:pt x="796" y="375"/>
                </a:lnTo>
                <a:lnTo>
                  <a:pt x="792" y="370"/>
                </a:lnTo>
                <a:lnTo>
                  <a:pt x="771" y="341"/>
                </a:lnTo>
                <a:lnTo>
                  <a:pt x="749" y="312"/>
                </a:lnTo>
                <a:lnTo>
                  <a:pt x="723" y="284"/>
                </a:lnTo>
                <a:lnTo>
                  <a:pt x="697" y="259"/>
                </a:lnTo>
                <a:lnTo>
                  <a:pt x="669" y="233"/>
                </a:lnTo>
                <a:lnTo>
                  <a:pt x="640" y="209"/>
                </a:lnTo>
                <a:lnTo>
                  <a:pt x="608" y="186"/>
                </a:lnTo>
                <a:lnTo>
                  <a:pt x="577" y="164"/>
                </a:lnTo>
                <a:lnTo>
                  <a:pt x="571" y="160"/>
                </a:lnTo>
                <a:lnTo>
                  <a:pt x="538" y="140"/>
                </a:lnTo>
                <a:lnTo>
                  <a:pt x="503" y="120"/>
                </a:lnTo>
                <a:lnTo>
                  <a:pt x="467" y="102"/>
                </a:lnTo>
                <a:lnTo>
                  <a:pt x="430" y="86"/>
                </a:lnTo>
                <a:lnTo>
                  <a:pt x="392" y="70"/>
                </a:lnTo>
                <a:lnTo>
                  <a:pt x="352" y="56"/>
                </a:lnTo>
                <a:lnTo>
                  <a:pt x="312" y="44"/>
                </a:lnTo>
                <a:lnTo>
                  <a:pt x="270" y="33"/>
                </a:lnTo>
                <a:lnTo>
                  <a:pt x="228" y="24"/>
                </a:lnTo>
                <a:lnTo>
                  <a:pt x="222" y="23"/>
                </a:lnTo>
                <a:lnTo>
                  <a:pt x="179" y="15"/>
                </a:lnTo>
                <a:lnTo>
                  <a:pt x="135" y="8"/>
                </a:lnTo>
                <a:lnTo>
                  <a:pt x="92" y="4"/>
                </a:lnTo>
                <a:lnTo>
                  <a:pt x="47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98760" y="5345280"/>
            <a:ext cx="717480" cy="566640"/>
          </a:xfrm>
          <a:custGeom>
            <a:avLst/>
            <a:gdLst/>
            <a:ahLst/>
            <a:rect l="l" t="t" r="r" b="b"/>
            <a:pathLst>
              <a:path w="905" h="714">
                <a:moveTo>
                  <a:pt x="0" y="682"/>
                </a:moveTo>
                <a:lnTo>
                  <a:pt x="0" y="714"/>
                </a:lnTo>
                <a:lnTo>
                  <a:pt x="47" y="712"/>
                </a:lnTo>
                <a:lnTo>
                  <a:pt x="92" y="710"/>
                </a:lnTo>
                <a:lnTo>
                  <a:pt x="135" y="706"/>
                </a:lnTo>
                <a:lnTo>
                  <a:pt x="179" y="699"/>
                </a:lnTo>
                <a:lnTo>
                  <a:pt x="222" y="691"/>
                </a:lnTo>
                <a:lnTo>
                  <a:pt x="228" y="690"/>
                </a:lnTo>
                <a:lnTo>
                  <a:pt x="270" y="680"/>
                </a:lnTo>
                <a:lnTo>
                  <a:pt x="312" y="670"/>
                </a:lnTo>
                <a:lnTo>
                  <a:pt x="352" y="658"/>
                </a:lnTo>
                <a:lnTo>
                  <a:pt x="392" y="643"/>
                </a:lnTo>
                <a:lnTo>
                  <a:pt x="430" y="628"/>
                </a:lnTo>
                <a:lnTo>
                  <a:pt x="467" y="612"/>
                </a:lnTo>
                <a:lnTo>
                  <a:pt x="503" y="593"/>
                </a:lnTo>
                <a:lnTo>
                  <a:pt x="538" y="573"/>
                </a:lnTo>
                <a:lnTo>
                  <a:pt x="571" y="554"/>
                </a:lnTo>
                <a:lnTo>
                  <a:pt x="577" y="550"/>
                </a:lnTo>
                <a:lnTo>
                  <a:pt x="608" y="528"/>
                </a:lnTo>
                <a:lnTo>
                  <a:pt x="640" y="505"/>
                </a:lnTo>
                <a:lnTo>
                  <a:pt x="669" y="481"/>
                </a:lnTo>
                <a:lnTo>
                  <a:pt x="697" y="456"/>
                </a:lnTo>
                <a:lnTo>
                  <a:pt x="723" y="429"/>
                </a:lnTo>
                <a:lnTo>
                  <a:pt x="749" y="402"/>
                </a:lnTo>
                <a:lnTo>
                  <a:pt x="771" y="373"/>
                </a:lnTo>
                <a:lnTo>
                  <a:pt x="792" y="343"/>
                </a:lnTo>
                <a:lnTo>
                  <a:pt x="796" y="338"/>
                </a:lnTo>
                <a:lnTo>
                  <a:pt x="816" y="309"/>
                </a:lnTo>
                <a:lnTo>
                  <a:pt x="833" y="277"/>
                </a:lnTo>
                <a:lnTo>
                  <a:pt x="849" y="246"/>
                </a:lnTo>
                <a:lnTo>
                  <a:pt x="864" y="214"/>
                </a:lnTo>
                <a:lnTo>
                  <a:pt x="875" y="181"/>
                </a:lnTo>
                <a:lnTo>
                  <a:pt x="885" y="147"/>
                </a:lnTo>
                <a:lnTo>
                  <a:pt x="893" y="112"/>
                </a:lnTo>
                <a:lnTo>
                  <a:pt x="894" y="107"/>
                </a:lnTo>
                <a:lnTo>
                  <a:pt x="901" y="71"/>
                </a:lnTo>
                <a:lnTo>
                  <a:pt x="903" y="35"/>
                </a:lnTo>
                <a:lnTo>
                  <a:pt x="905" y="0"/>
                </a:lnTo>
                <a:lnTo>
                  <a:pt x="873" y="0"/>
                </a:lnTo>
                <a:lnTo>
                  <a:pt x="871" y="35"/>
                </a:lnTo>
                <a:lnTo>
                  <a:pt x="869" y="71"/>
                </a:lnTo>
                <a:lnTo>
                  <a:pt x="862" y="107"/>
                </a:lnTo>
                <a:lnTo>
                  <a:pt x="878" y="107"/>
                </a:lnTo>
                <a:lnTo>
                  <a:pt x="864" y="100"/>
                </a:lnTo>
                <a:lnTo>
                  <a:pt x="856" y="135"/>
                </a:lnTo>
                <a:lnTo>
                  <a:pt x="846" y="169"/>
                </a:lnTo>
                <a:lnTo>
                  <a:pt x="834" y="202"/>
                </a:lnTo>
                <a:lnTo>
                  <a:pt x="820" y="234"/>
                </a:lnTo>
                <a:lnTo>
                  <a:pt x="804" y="265"/>
                </a:lnTo>
                <a:lnTo>
                  <a:pt x="787" y="297"/>
                </a:lnTo>
                <a:lnTo>
                  <a:pt x="767" y="326"/>
                </a:lnTo>
                <a:lnTo>
                  <a:pt x="782" y="333"/>
                </a:lnTo>
                <a:lnTo>
                  <a:pt x="770" y="321"/>
                </a:lnTo>
                <a:lnTo>
                  <a:pt x="749" y="350"/>
                </a:lnTo>
                <a:lnTo>
                  <a:pt x="726" y="379"/>
                </a:lnTo>
                <a:lnTo>
                  <a:pt x="701" y="407"/>
                </a:lnTo>
                <a:lnTo>
                  <a:pt x="675" y="433"/>
                </a:lnTo>
                <a:lnTo>
                  <a:pt x="647" y="458"/>
                </a:lnTo>
                <a:lnTo>
                  <a:pt x="618" y="482"/>
                </a:lnTo>
                <a:lnTo>
                  <a:pt x="586" y="506"/>
                </a:lnTo>
                <a:lnTo>
                  <a:pt x="554" y="527"/>
                </a:lnTo>
                <a:lnTo>
                  <a:pt x="565" y="539"/>
                </a:lnTo>
                <a:lnTo>
                  <a:pt x="560" y="525"/>
                </a:lnTo>
                <a:lnTo>
                  <a:pt x="526" y="544"/>
                </a:lnTo>
                <a:lnTo>
                  <a:pt x="491" y="564"/>
                </a:lnTo>
                <a:lnTo>
                  <a:pt x="455" y="583"/>
                </a:lnTo>
                <a:lnTo>
                  <a:pt x="418" y="599"/>
                </a:lnTo>
                <a:lnTo>
                  <a:pt x="380" y="614"/>
                </a:lnTo>
                <a:lnTo>
                  <a:pt x="340" y="629"/>
                </a:lnTo>
                <a:lnTo>
                  <a:pt x="300" y="641"/>
                </a:lnTo>
                <a:lnTo>
                  <a:pt x="258" y="651"/>
                </a:lnTo>
                <a:lnTo>
                  <a:pt x="216" y="661"/>
                </a:lnTo>
                <a:lnTo>
                  <a:pt x="222" y="675"/>
                </a:lnTo>
                <a:lnTo>
                  <a:pt x="222" y="659"/>
                </a:lnTo>
                <a:lnTo>
                  <a:pt x="179" y="667"/>
                </a:lnTo>
                <a:lnTo>
                  <a:pt x="135" y="674"/>
                </a:lnTo>
                <a:lnTo>
                  <a:pt x="92" y="678"/>
                </a:lnTo>
                <a:lnTo>
                  <a:pt x="47" y="680"/>
                </a:lnTo>
                <a:lnTo>
                  <a:pt x="0" y="6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46400" y="5886360"/>
            <a:ext cx="25236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46400" y="4778280"/>
            <a:ext cx="25236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33440" y="4791240"/>
            <a:ext cx="25560" cy="11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93880" y="4952880"/>
            <a:ext cx="45252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93880" y="5735520"/>
            <a:ext cx="45252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54400" y="5332320"/>
            <a:ext cx="7542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08520" y="1920960"/>
            <a:ext cx="25560" cy="12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93880" y="1908000"/>
            <a:ext cx="39276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781280" y="1920960"/>
            <a:ext cx="25200" cy="5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08520" y="5092560"/>
            <a:ext cx="2556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93880" y="6137280"/>
            <a:ext cx="39276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81280" y="5748480"/>
            <a:ext cx="2520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81280" y="3279600"/>
            <a:ext cx="25200" cy="16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173480"/>
            <a:ext cx="126036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2680" y="3784680"/>
            <a:ext cx="496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9120" y="383220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P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00000" y="5373720"/>
            <a:ext cx="1368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539640" y="2852640"/>
            <a:ext cx="172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900000" y="2852280"/>
            <a:ext cx="0" cy="25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Κατηγορίες ακολουθιακών στοιχεί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-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ge trigg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ip-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Με σύγχρονο/ασύγχρονο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t 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ή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Χρονισμό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826920" y="3428640"/>
            <a:ext cx="2592720" cy="1080000"/>
            <a:chOff x="826920" y="3428640"/>
            <a:chExt cx="2592720" cy="1080000"/>
          </a:xfrm>
        </p:grpSpPr>
        <p:sp>
          <p:nvSpPr>
            <p:cNvPr id="379" name=""/>
            <p:cNvSpPr/>
            <p:nvPr/>
          </p:nvSpPr>
          <p:spPr>
            <a:xfrm>
              <a:off x="826920" y="4508640"/>
              <a:ext cx="720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1547640" y="3428640"/>
              <a:ext cx="0" cy="10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47640" y="3429000"/>
              <a:ext cx="1079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27280" y="3429000"/>
              <a:ext cx="0" cy="10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27280" y="4508640"/>
              <a:ext cx="79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508720" y="3428640"/>
            <a:ext cx="2592000" cy="1080000"/>
            <a:chOff x="5508720" y="3428640"/>
            <a:chExt cx="2592000" cy="1080000"/>
          </a:xfrm>
        </p:grpSpPr>
        <p:sp>
          <p:nvSpPr>
            <p:cNvPr id="385" name=""/>
            <p:cNvSpPr/>
            <p:nvPr/>
          </p:nvSpPr>
          <p:spPr>
            <a:xfrm>
              <a:off x="5508720" y="3428640"/>
              <a:ext cx="72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29080" y="3429000"/>
              <a:ext cx="0" cy="10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229080" y="4508280"/>
              <a:ext cx="107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308720" y="3428640"/>
              <a:ext cx="0" cy="10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08720" y="3428640"/>
              <a:ext cx="79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119240" y="256536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Θετικός παλμό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582880" y="256536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ρνητικός παλμό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Χρονισμό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826920" y="3428640"/>
            <a:ext cx="2592720" cy="1080000"/>
            <a:chOff x="826920" y="3428640"/>
            <a:chExt cx="2592720" cy="1080000"/>
          </a:xfrm>
        </p:grpSpPr>
        <p:sp>
          <p:nvSpPr>
            <p:cNvPr id="394" name=""/>
            <p:cNvSpPr/>
            <p:nvPr/>
          </p:nvSpPr>
          <p:spPr>
            <a:xfrm>
              <a:off x="826920" y="4508640"/>
              <a:ext cx="720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547640" y="3428640"/>
              <a:ext cx="0" cy="10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47640" y="3429000"/>
              <a:ext cx="1079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27280" y="3429000"/>
              <a:ext cx="0" cy="10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27280" y="4508640"/>
              <a:ext cx="79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508720" y="3428640"/>
            <a:ext cx="2592000" cy="1080000"/>
            <a:chOff x="5508720" y="3428640"/>
            <a:chExt cx="2592000" cy="1080000"/>
          </a:xfrm>
        </p:grpSpPr>
        <p:sp>
          <p:nvSpPr>
            <p:cNvPr id="400" name=""/>
            <p:cNvSpPr/>
            <p:nvPr/>
          </p:nvSpPr>
          <p:spPr>
            <a:xfrm>
              <a:off x="5508720" y="3428640"/>
              <a:ext cx="72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29080" y="3429000"/>
              <a:ext cx="0" cy="10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29080" y="4508280"/>
              <a:ext cx="107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308720" y="3428640"/>
              <a:ext cx="0" cy="10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308720" y="3428640"/>
              <a:ext cx="79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119240" y="256536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Θετικός παλμό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582880" y="256536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ρνητικός παλμό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1547280" y="4149720"/>
            <a:ext cx="576360" cy="1008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916360" y="3860280"/>
            <a:ext cx="4392360" cy="1297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86160" y="532116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Θετική ακμ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Χρονισμό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826920" y="3428640"/>
            <a:ext cx="2592720" cy="1080000"/>
            <a:chOff x="826920" y="3428640"/>
            <a:chExt cx="2592720" cy="1080000"/>
          </a:xfrm>
        </p:grpSpPr>
        <p:sp>
          <p:nvSpPr>
            <p:cNvPr id="412" name=""/>
            <p:cNvSpPr/>
            <p:nvPr/>
          </p:nvSpPr>
          <p:spPr>
            <a:xfrm>
              <a:off x="826920" y="4508640"/>
              <a:ext cx="720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1547640" y="3428640"/>
              <a:ext cx="0" cy="10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47640" y="3429000"/>
              <a:ext cx="1079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27280" y="3429000"/>
              <a:ext cx="0" cy="10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27280" y="4508640"/>
              <a:ext cx="79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508720" y="3428640"/>
            <a:ext cx="2592000" cy="1080000"/>
            <a:chOff x="5508720" y="3428640"/>
            <a:chExt cx="2592000" cy="1080000"/>
          </a:xfrm>
        </p:grpSpPr>
        <p:sp>
          <p:nvSpPr>
            <p:cNvPr id="418" name=""/>
            <p:cNvSpPr/>
            <p:nvPr/>
          </p:nvSpPr>
          <p:spPr>
            <a:xfrm>
              <a:off x="5508720" y="3428640"/>
              <a:ext cx="72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29080" y="3429000"/>
              <a:ext cx="0" cy="10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29080" y="4508280"/>
              <a:ext cx="107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7308720" y="3428640"/>
              <a:ext cx="0" cy="10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308720" y="3428640"/>
              <a:ext cx="79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1119240" y="256536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Θετικός παλμό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82880" y="256536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ρνητικός παλμό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124000" y="4149720"/>
            <a:ext cx="432000" cy="1008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916360" y="3933720"/>
            <a:ext cx="3311280" cy="1224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04720" y="532116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ρνητική ακμ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01064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ίνακας καταστάσε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Αρχική     Είσοδο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Επόμεν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Έξοδο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Α  Β             Χ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Α  Β              Υ     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  0             0                0   0          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  0             1                0   1          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  1             0                0   0          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  1             1                1   1          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  0             0                0   0          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  0             1                1   0          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  1             0                0   0          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  1             1                1   0          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Διάγραμμα καταστάσε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13372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588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588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2819160" y="3200400"/>
            <a:ext cx="335268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819160" y="304812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4771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563868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28800" y="3200400"/>
            <a:ext cx="380880" cy="2133720"/>
          </a:xfrm>
          <a:custGeom>
            <a:avLst/>
            <a:gdLst/>
            <a:ahLst/>
            <a:rect l="l" t="t" r="r" b="b"/>
            <a:pathLst>
              <a:path w="240" h="1344">
                <a:moveTo>
                  <a:pt x="240" y="0"/>
                </a:moveTo>
                <a:cubicBezTo>
                  <a:pt x="120" y="248"/>
                  <a:pt x="0" y="496"/>
                  <a:pt x="0" y="720"/>
                </a:cubicBezTo>
                <a:cubicBezTo>
                  <a:pt x="0" y="944"/>
                  <a:pt x="120" y="1144"/>
                  <a:pt x="240" y="134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43200" y="3276720"/>
            <a:ext cx="533520" cy="2057400"/>
          </a:xfrm>
          <a:custGeom>
            <a:avLst/>
            <a:gdLst/>
            <a:ahLst/>
            <a:rect l="l" t="t" r="r" b="b"/>
            <a:pathLst>
              <a:path w="336" h="1296">
                <a:moveTo>
                  <a:pt x="0" y="1296"/>
                </a:moveTo>
                <a:cubicBezTo>
                  <a:pt x="168" y="1092"/>
                  <a:pt x="336" y="888"/>
                  <a:pt x="336" y="672"/>
                </a:cubicBezTo>
                <a:cubicBezTo>
                  <a:pt x="336" y="456"/>
                  <a:pt x="168" y="228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53040" y="3697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79960" y="4114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70680" y="2590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18040" y="5181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21120" y="4038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80360" y="4267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56680" y="2057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54280" y="2133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2156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18408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8408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215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SR latch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28954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505320"/>
            <a:ext cx="320040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4956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371600" y="2514600"/>
            <a:ext cx="320040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9520" y="541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1676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8000" y="19051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8000" y="498312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44760" y="2479680"/>
            <a:ext cx="1941120" cy="22885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    R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Q    Q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0    0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1    1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1676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371600" y="1675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057400" y="3352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057400" y="1676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1676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371240" y="2133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371240" y="2895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51460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46483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371600" y="46476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057400" y="6324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057400" y="4648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46483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371240" y="51055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371240" y="5867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548640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2362320"/>
            <a:ext cx="30456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5334120"/>
            <a:ext cx="30456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Διάγραμμα καταστάσε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3372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3372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588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588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2819160" y="3200400"/>
            <a:ext cx="335268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819160" y="304812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4771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19520" y="563868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28800" y="3200400"/>
            <a:ext cx="380880" cy="2133720"/>
          </a:xfrm>
          <a:custGeom>
            <a:avLst/>
            <a:gdLst/>
            <a:ahLst/>
            <a:rect l="l" t="t" r="r" b="b"/>
            <a:pathLst>
              <a:path w="240" h="1344">
                <a:moveTo>
                  <a:pt x="240" y="0"/>
                </a:moveTo>
                <a:cubicBezTo>
                  <a:pt x="120" y="248"/>
                  <a:pt x="0" y="496"/>
                  <a:pt x="0" y="720"/>
                </a:cubicBezTo>
                <a:cubicBezTo>
                  <a:pt x="0" y="944"/>
                  <a:pt x="120" y="1144"/>
                  <a:pt x="240" y="134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276720"/>
            <a:ext cx="533520" cy="2057400"/>
          </a:xfrm>
          <a:custGeom>
            <a:avLst/>
            <a:gdLst/>
            <a:ahLst/>
            <a:rect l="l" t="t" r="r" b="b"/>
            <a:pathLst>
              <a:path w="336" h="1296">
                <a:moveTo>
                  <a:pt x="0" y="1296"/>
                </a:moveTo>
                <a:cubicBezTo>
                  <a:pt x="168" y="1092"/>
                  <a:pt x="336" y="888"/>
                  <a:pt x="336" y="672"/>
                </a:cubicBezTo>
                <a:cubicBezTo>
                  <a:pt x="336" y="456"/>
                  <a:pt x="168" y="228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24852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253040" y="3697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79960" y="4114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70680" y="2590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18040" y="5181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21120" y="4038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80360" y="4267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556680" y="2057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754280" y="2133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2156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8408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8408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215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Διάγραμμα καταστάσε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3372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3372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588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588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2819160" y="3200400"/>
            <a:ext cx="335268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2819160" y="304812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4771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19520" y="563868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3200400"/>
            <a:ext cx="380880" cy="2133720"/>
          </a:xfrm>
          <a:custGeom>
            <a:avLst/>
            <a:gdLst/>
            <a:ahLst/>
            <a:rect l="l" t="t" r="r" b="b"/>
            <a:pathLst>
              <a:path w="240" h="1344">
                <a:moveTo>
                  <a:pt x="240" y="0"/>
                </a:moveTo>
                <a:cubicBezTo>
                  <a:pt x="120" y="248"/>
                  <a:pt x="0" y="496"/>
                  <a:pt x="0" y="720"/>
                </a:cubicBezTo>
                <a:cubicBezTo>
                  <a:pt x="0" y="944"/>
                  <a:pt x="120" y="1144"/>
                  <a:pt x="240" y="134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43200" y="3276720"/>
            <a:ext cx="533520" cy="2057400"/>
          </a:xfrm>
          <a:custGeom>
            <a:avLst/>
            <a:gdLst/>
            <a:ahLst/>
            <a:rect l="l" t="t" r="r" b="b"/>
            <a:pathLst>
              <a:path w="336" h="1296">
                <a:moveTo>
                  <a:pt x="0" y="1296"/>
                </a:moveTo>
                <a:cubicBezTo>
                  <a:pt x="168" y="1092"/>
                  <a:pt x="336" y="888"/>
                  <a:pt x="336" y="672"/>
                </a:cubicBezTo>
                <a:cubicBezTo>
                  <a:pt x="336" y="456"/>
                  <a:pt x="168" y="228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8600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24852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53040" y="3697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279960" y="4114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70680" y="2590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18040" y="5181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21120" y="4038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480360" y="4267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6680" y="2057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754280" y="2133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2156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18408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18408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215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Διάγραμμα καταστάσε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13372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13372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588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588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2819160" y="3200400"/>
            <a:ext cx="335268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819160" y="304812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64771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563868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3200400"/>
            <a:ext cx="380880" cy="2133720"/>
          </a:xfrm>
          <a:custGeom>
            <a:avLst/>
            <a:gdLst/>
            <a:ahLst/>
            <a:rect l="l" t="t" r="r" b="b"/>
            <a:pathLst>
              <a:path w="240" h="1344">
                <a:moveTo>
                  <a:pt x="240" y="0"/>
                </a:moveTo>
                <a:cubicBezTo>
                  <a:pt x="120" y="248"/>
                  <a:pt x="0" y="496"/>
                  <a:pt x="0" y="720"/>
                </a:cubicBezTo>
                <a:cubicBezTo>
                  <a:pt x="0" y="944"/>
                  <a:pt x="120" y="1144"/>
                  <a:pt x="240" y="134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43200" y="3276720"/>
            <a:ext cx="533520" cy="2057400"/>
          </a:xfrm>
          <a:custGeom>
            <a:avLst/>
            <a:gdLst/>
            <a:ahLst/>
            <a:rect l="l" t="t" r="r" b="b"/>
            <a:pathLst>
              <a:path w="336" h="1296">
                <a:moveTo>
                  <a:pt x="0" y="1296"/>
                </a:moveTo>
                <a:cubicBezTo>
                  <a:pt x="168" y="1092"/>
                  <a:pt x="336" y="888"/>
                  <a:pt x="336" y="672"/>
                </a:cubicBezTo>
                <a:cubicBezTo>
                  <a:pt x="336" y="456"/>
                  <a:pt x="168" y="228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8600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24852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53040" y="3697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279960" y="4114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270680" y="2590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118040" y="5181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221120" y="4038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80360" y="4267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556680" y="2057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54280" y="2133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2156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18408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8408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215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Διάγραμμα καταστάσε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13372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13372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588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588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2819160" y="3200400"/>
            <a:ext cx="335268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819160" y="304812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4771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563868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3200400"/>
            <a:ext cx="380880" cy="2133720"/>
          </a:xfrm>
          <a:custGeom>
            <a:avLst/>
            <a:gdLst/>
            <a:ahLst/>
            <a:rect l="l" t="t" r="r" b="b"/>
            <a:pathLst>
              <a:path w="240" h="1344">
                <a:moveTo>
                  <a:pt x="240" y="0"/>
                </a:moveTo>
                <a:cubicBezTo>
                  <a:pt x="120" y="248"/>
                  <a:pt x="0" y="496"/>
                  <a:pt x="0" y="720"/>
                </a:cubicBezTo>
                <a:cubicBezTo>
                  <a:pt x="0" y="944"/>
                  <a:pt x="120" y="1144"/>
                  <a:pt x="240" y="134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43200" y="3276720"/>
            <a:ext cx="533520" cy="2057400"/>
          </a:xfrm>
          <a:custGeom>
            <a:avLst/>
            <a:gdLst/>
            <a:ahLst/>
            <a:rect l="l" t="t" r="r" b="b"/>
            <a:pathLst>
              <a:path w="336" h="1296">
                <a:moveTo>
                  <a:pt x="0" y="1296"/>
                </a:moveTo>
                <a:cubicBezTo>
                  <a:pt x="168" y="1092"/>
                  <a:pt x="336" y="888"/>
                  <a:pt x="336" y="672"/>
                </a:cubicBezTo>
                <a:cubicBezTo>
                  <a:pt x="336" y="456"/>
                  <a:pt x="168" y="228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8600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624852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53040" y="3697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79960" y="4114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70680" y="2590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18040" y="5181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21120" y="4038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80360" y="4267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556680" y="2057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54280" y="2133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2156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8408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8408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215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Διάγραμμα καταστάσε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3372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3372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588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9588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2819160" y="3200400"/>
            <a:ext cx="335268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2819160" y="304812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64771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19520" y="563868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28800" y="3200400"/>
            <a:ext cx="380880" cy="2133720"/>
          </a:xfrm>
          <a:custGeom>
            <a:avLst/>
            <a:gdLst/>
            <a:ahLst/>
            <a:rect l="l" t="t" r="r" b="b"/>
            <a:pathLst>
              <a:path w="240" h="1344">
                <a:moveTo>
                  <a:pt x="240" y="0"/>
                </a:moveTo>
                <a:cubicBezTo>
                  <a:pt x="120" y="248"/>
                  <a:pt x="0" y="496"/>
                  <a:pt x="0" y="720"/>
                </a:cubicBezTo>
                <a:cubicBezTo>
                  <a:pt x="0" y="944"/>
                  <a:pt x="120" y="1144"/>
                  <a:pt x="240" y="134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3276720"/>
            <a:ext cx="533520" cy="2057400"/>
          </a:xfrm>
          <a:custGeom>
            <a:avLst/>
            <a:gdLst/>
            <a:ahLst/>
            <a:rect l="l" t="t" r="r" b="b"/>
            <a:pathLst>
              <a:path w="336" h="1296">
                <a:moveTo>
                  <a:pt x="0" y="1296"/>
                </a:moveTo>
                <a:cubicBezTo>
                  <a:pt x="168" y="1092"/>
                  <a:pt x="336" y="888"/>
                  <a:pt x="336" y="672"/>
                </a:cubicBezTo>
                <a:cubicBezTo>
                  <a:pt x="336" y="456"/>
                  <a:pt x="168" y="228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624852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253040" y="3697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79960" y="4114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270680" y="2590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118040" y="5181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21120" y="4038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80360" y="4267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556680" y="2057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754280" y="2133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2156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8408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8408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2215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Διάγραμμα καταστάσε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3372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13372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9588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588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2819160" y="3200400"/>
            <a:ext cx="335268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819160" y="304812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64771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563868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3200400"/>
            <a:ext cx="380880" cy="2133720"/>
          </a:xfrm>
          <a:custGeom>
            <a:avLst/>
            <a:gdLst/>
            <a:ahLst/>
            <a:rect l="l" t="t" r="r" b="b"/>
            <a:pathLst>
              <a:path w="240" h="1344">
                <a:moveTo>
                  <a:pt x="240" y="0"/>
                </a:moveTo>
                <a:cubicBezTo>
                  <a:pt x="120" y="248"/>
                  <a:pt x="0" y="496"/>
                  <a:pt x="0" y="720"/>
                </a:cubicBezTo>
                <a:cubicBezTo>
                  <a:pt x="0" y="944"/>
                  <a:pt x="120" y="1144"/>
                  <a:pt x="240" y="134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3200" y="3276720"/>
            <a:ext cx="533520" cy="2057400"/>
          </a:xfrm>
          <a:custGeom>
            <a:avLst/>
            <a:gdLst/>
            <a:ahLst/>
            <a:rect l="l" t="t" r="r" b="b"/>
            <a:pathLst>
              <a:path w="336" h="1296">
                <a:moveTo>
                  <a:pt x="0" y="1296"/>
                </a:moveTo>
                <a:cubicBezTo>
                  <a:pt x="168" y="1092"/>
                  <a:pt x="336" y="888"/>
                  <a:pt x="336" y="672"/>
                </a:cubicBezTo>
                <a:cubicBezTo>
                  <a:pt x="336" y="456"/>
                  <a:pt x="168" y="228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8600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24852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253040" y="3697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279960" y="4114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270680" y="2590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18040" y="5181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21120" y="4038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80360" y="4267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56680" y="2057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754280" y="2133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2156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8408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18408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215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Διάγραμμα καταστάσε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13372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13372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9588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09588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819160" y="3200400"/>
            <a:ext cx="335268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819160" y="304812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64771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19520" y="563868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828800" y="3200400"/>
            <a:ext cx="380880" cy="2133720"/>
          </a:xfrm>
          <a:custGeom>
            <a:avLst/>
            <a:gdLst/>
            <a:ahLst/>
            <a:rect l="l" t="t" r="r" b="b"/>
            <a:pathLst>
              <a:path w="240" h="1344">
                <a:moveTo>
                  <a:pt x="240" y="0"/>
                </a:moveTo>
                <a:cubicBezTo>
                  <a:pt x="120" y="248"/>
                  <a:pt x="0" y="496"/>
                  <a:pt x="0" y="720"/>
                </a:cubicBezTo>
                <a:cubicBezTo>
                  <a:pt x="0" y="944"/>
                  <a:pt x="120" y="1144"/>
                  <a:pt x="240" y="134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743200" y="3276720"/>
            <a:ext cx="533520" cy="2057400"/>
          </a:xfrm>
          <a:custGeom>
            <a:avLst/>
            <a:gdLst/>
            <a:ahLst/>
            <a:rect l="l" t="t" r="r" b="b"/>
            <a:pathLst>
              <a:path w="336" h="1296">
                <a:moveTo>
                  <a:pt x="0" y="1296"/>
                </a:moveTo>
                <a:cubicBezTo>
                  <a:pt x="168" y="1092"/>
                  <a:pt x="336" y="888"/>
                  <a:pt x="336" y="672"/>
                </a:cubicBezTo>
                <a:cubicBezTo>
                  <a:pt x="336" y="456"/>
                  <a:pt x="168" y="228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624852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53040" y="3697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79960" y="4114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70680" y="2590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5181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21120" y="4038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480360" y="4267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556680" y="2057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754280" y="2133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22156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8408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8408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2215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Διάγραμμα καταστάσε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13372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09588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588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2819160" y="3200400"/>
            <a:ext cx="335268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819160" y="304812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4771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19520" y="563868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28800" y="3200400"/>
            <a:ext cx="380880" cy="2133720"/>
          </a:xfrm>
          <a:custGeom>
            <a:avLst/>
            <a:gdLst/>
            <a:ahLst/>
            <a:rect l="l" t="t" r="r" b="b"/>
            <a:pathLst>
              <a:path w="240" h="1344">
                <a:moveTo>
                  <a:pt x="240" y="0"/>
                </a:moveTo>
                <a:cubicBezTo>
                  <a:pt x="120" y="248"/>
                  <a:pt x="0" y="496"/>
                  <a:pt x="0" y="720"/>
                </a:cubicBezTo>
                <a:cubicBezTo>
                  <a:pt x="0" y="944"/>
                  <a:pt x="120" y="1144"/>
                  <a:pt x="240" y="134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743200" y="3276720"/>
            <a:ext cx="533520" cy="2057400"/>
          </a:xfrm>
          <a:custGeom>
            <a:avLst/>
            <a:gdLst/>
            <a:ahLst/>
            <a:rect l="l" t="t" r="r" b="b"/>
            <a:pathLst>
              <a:path w="336" h="1296">
                <a:moveTo>
                  <a:pt x="0" y="1296"/>
                </a:moveTo>
                <a:cubicBezTo>
                  <a:pt x="168" y="1092"/>
                  <a:pt x="336" y="888"/>
                  <a:pt x="336" y="672"/>
                </a:cubicBezTo>
                <a:cubicBezTo>
                  <a:pt x="336" y="456"/>
                  <a:pt x="168" y="228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24852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253040" y="3697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279960" y="4114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70680" y="2590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118040" y="5181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221120" y="4038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0360" y="4267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56680" y="2057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54280" y="2133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2156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18408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18408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215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Διάγραμμα καταστάσε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13372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9588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09588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2819160" y="3200400"/>
            <a:ext cx="335268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2819160" y="304812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4771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19520" y="563868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28800" y="3200400"/>
            <a:ext cx="380880" cy="2133720"/>
          </a:xfrm>
          <a:custGeom>
            <a:avLst/>
            <a:gdLst/>
            <a:ahLst/>
            <a:rect l="l" t="t" r="r" b="b"/>
            <a:pathLst>
              <a:path w="240" h="1344">
                <a:moveTo>
                  <a:pt x="240" y="0"/>
                </a:moveTo>
                <a:cubicBezTo>
                  <a:pt x="120" y="248"/>
                  <a:pt x="0" y="496"/>
                  <a:pt x="0" y="720"/>
                </a:cubicBezTo>
                <a:cubicBezTo>
                  <a:pt x="0" y="944"/>
                  <a:pt x="120" y="1144"/>
                  <a:pt x="240" y="134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43200" y="3276720"/>
            <a:ext cx="533520" cy="2057400"/>
          </a:xfrm>
          <a:custGeom>
            <a:avLst/>
            <a:gdLst/>
            <a:ahLst/>
            <a:rect l="l" t="t" r="r" b="b"/>
            <a:pathLst>
              <a:path w="336" h="1296">
                <a:moveTo>
                  <a:pt x="0" y="1296"/>
                </a:moveTo>
                <a:cubicBezTo>
                  <a:pt x="168" y="1092"/>
                  <a:pt x="336" y="888"/>
                  <a:pt x="336" y="672"/>
                </a:cubicBezTo>
                <a:cubicBezTo>
                  <a:pt x="336" y="456"/>
                  <a:pt x="168" y="228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624852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253040" y="3697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279960" y="4114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70680" y="2590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118040" y="5181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21120" y="4038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80360" y="4267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56680" y="2057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754280" y="2133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2156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18408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8408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2215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Διάγραμμα καταστάσε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13372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13372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588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09588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819160" y="3200400"/>
            <a:ext cx="335268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819160" y="304812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64771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819520" y="563868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828800" y="3200400"/>
            <a:ext cx="380880" cy="2133720"/>
          </a:xfrm>
          <a:custGeom>
            <a:avLst/>
            <a:gdLst/>
            <a:ahLst/>
            <a:rect l="l" t="t" r="r" b="b"/>
            <a:pathLst>
              <a:path w="240" h="1344">
                <a:moveTo>
                  <a:pt x="240" y="0"/>
                </a:moveTo>
                <a:cubicBezTo>
                  <a:pt x="120" y="248"/>
                  <a:pt x="0" y="496"/>
                  <a:pt x="0" y="720"/>
                </a:cubicBezTo>
                <a:cubicBezTo>
                  <a:pt x="0" y="944"/>
                  <a:pt x="120" y="1144"/>
                  <a:pt x="240" y="134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743200" y="3276720"/>
            <a:ext cx="533520" cy="2057400"/>
          </a:xfrm>
          <a:custGeom>
            <a:avLst/>
            <a:gdLst/>
            <a:ahLst/>
            <a:rect l="l" t="t" r="r" b="b"/>
            <a:pathLst>
              <a:path w="336" h="1296">
                <a:moveTo>
                  <a:pt x="0" y="1296"/>
                </a:moveTo>
                <a:cubicBezTo>
                  <a:pt x="168" y="1092"/>
                  <a:pt x="336" y="888"/>
                  <a:pt x="336" y="672"/>
                </a:cubicBezTo>
                <a:cubicBezTo>
                  <a:pt x="336" y="456"/>
                  <a:pt x="168" y="228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28600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24852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253040" y="3697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279960" y="4114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70680" y="2590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18040" y="5181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221120" y="4038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480360" y="4267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556680" y="2057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754280" y="2133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2156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18408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8408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215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SR latch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8954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3505320"/>
            <a:ext cx="320040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44956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371600" y="2514600"/>
            <a:ext cx="320040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9520" y="541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9880" y="1676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8000" y="19051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8000" y="498312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44760" y="2479680"/>
            <a:ext cx="1941120" cy="22885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    R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Q    Q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 0    0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1    1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1676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371600" y="1675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057400" y="3352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057400" y="1676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676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371240" y="2133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371240" y="2895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251460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46483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71600" y="46476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57400" y="6324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057400" y="4648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46483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371240" y="51055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371240" y="5867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548640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2362320"/>
            <a:ext cx="30456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5334120"/>
            <a:ext cx="30456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12920" y="157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12920" y="5321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5640" y="193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5640" y="553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Διάγραμμα καταστάσε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3372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13372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09588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09588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2819160" y="3200400"/>
            <a:ext cx="335268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819160" y="304812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64771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819520" y="563868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3200400"/>
            <a:ext cx="380880" cy="2133720"/>
          </a:xfrm>
          <a:custGeom>
            <a:avLst/>
            <a:gdLst/>
            <a:ahLst/>
            <a:rect l="l" t="t" r="r" b="b"/>
            <a:pathLst>
              <a:path w="240" h="1344">
                <a:moveTo>
                  <a:pt x="240" y="0"/>
                </a:moveTo>
                <a:cubicBezTo>
                  <a:pt x="120" y="248"/>
                  <a:pt x="0" y="496"/>
                  <a:pt x="0" y="720"/>
                </a:cubicBezTo>
                <a:cubicBezTo>
                  <a:pt x="0" y="944"/>
                  <a:pt x="120" y="1144"/>
                  <a:pt x="240" y="134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743200" y="3276720"/>
            <a:ext cx="533520" cy="2057400"/>
          </a:xfrm>
          <a:custGeom>
            <a:avLst/>
            <a:gdLst/>
            <a:ahLst/>
            <a:rect l="l" t="t" r="r" b="b"/>
            <a:pathLst>
              <a:path w="336" h="1296">
                <a:moveTo>
                  <a:pt x="0" y="1296"/>
                </a:moveTo>
                <a:cubicBezTo>
                  <a:pt x="168" y="1092"/>
                  <a:pt x="336" y="888"/>
                  <a:pt x="336" y="672"/>
                </a:cubicBezTo>
                <a:cubicBezTo>
                  <a:pt x="336" y="456"/>
                  <a:pt x="168" y="228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8600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624852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53040" y="3697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279960" y="4114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70680" y="2590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118040" y="5181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221120" y="4038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80360" y="4267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56680" y="2057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754280" y="2133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2156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18408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18408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2215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Σχεδίαση με JK latch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Αρχική     Είσοδο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Επόμεν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ίσοδο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Α  Β             Χ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Α  Β        JA  KA  JB  K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  0             0                0   1         0    0     1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  0             1                0   0         0    0     0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  1             0                1   1         1    1     1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  1             1                1   0         1    0     0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  0             0                1   1         0    0     1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  0             1                1   0         0    0     0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  1             0                0   0         1    1     1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  1             1                1   1         1    0     0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SR latch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28954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505320"/>
            <a:ext cx="320040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44956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371600" y="2514600"/>
            <a:ext cx="320040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9520" y="541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9880" y="1676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8000" y="19051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78000" y="498312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44760" y="2479680"/>
            <a:ext cx="1941120" cy="22885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    R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Q    Q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0    0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 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1    1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1676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371600" y="1675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057400" y="3352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057400" y="1676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1676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371240" y="2133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371240" y="2895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251460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46483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371600" y="46476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057400" y="6324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057400" y="4648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46483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371240" y="51055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371240" y="5867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548640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2362320"/>
            <a:ext cx="30456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5334120"/>
            <a:ext cx="30456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12920" y="157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12920" y="5321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5640" y="193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5640" y="553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SR latch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28954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3505320"/>
            <a:ext cx="320040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44956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371600" y="2514600"/>
            <a:ext cx="320040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9520" y="541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9880" y="1676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8000" y="19051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8000" y="498312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4760" y="2479680"/>
            <a:ext cx="1941120" cy="22885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    R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Q    Q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0    0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 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1    1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1676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371600" y="1675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057400" y="3352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057400" y="1676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1676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371240" y="2133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371240" y="2895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9880" y="251460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46483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371600" y="46476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057400" y="6324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057400" y="4648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46483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371240" y="51055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371240" y="5867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548640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2362320"/>
            <a:ext cx="30456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5334120"/>
            <a:ext cx="30456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12920" y="157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12920" y="5321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5640" y="193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5640" y="553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SR latch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8954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3505320"/>
            <a:ext cx="320040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44956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371600" y="2514600"/>
            <a:ext cx="320040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9520" y="541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9880" y="1676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78000" y="19051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8000" y="498312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44760" y="2479680"/>
            <a:ext cx="1941120" cy="22885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    R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Q    Q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0    0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 1    1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1676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371600" y="1675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057400" y="3352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057400" y="1676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1676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371240" y="2133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371240" y="2895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251460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46483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371600" y="46476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057400" y="6324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057400" y="4648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46483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371240" y="51055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371240" y="5867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548640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362320"/>
            <a:ext cx="30456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5334120"/>
            <a:ext cx="30456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12920" y="157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12920" y="5321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5640" y="193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5640" y="553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SR latch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28954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3505320"/>
            <a:ext cx="320040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44956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371600" y="2514600"/>
            <a:ext cx="320040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9520" y="541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9880" y="1676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8000" y="19051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8000" y="498312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44760" y="2479680"/>
            <a:ext cx="1941120" cy="22885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    R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Q    Q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0    0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1    1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 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16765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371600" y="16758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057400" y="3352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057400" y="1676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6765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371240" y="2133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371240" y="2895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251460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64832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371600" y="4647600"/>
            <a:ext cx="21333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057400" y="6324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057400" y="4648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46483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371240" y="51055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371240" y="58672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548640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2362320"/>
            <a:ext cx="30456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5334120"/>
            <a:ext cx="30456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12920" y="157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12920" y="5321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65640" y="193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65640" y="553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40360" y="1846440"/>
            <a:ext cx="647640" cy="645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5446800"/>
            <a:ext cx="647640" cy="646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521360" y="106668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521360" y="106596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206800" y="2743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206800" y="1066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6800" y="10666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520640" y="1523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52064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1905120"/>
            <a:ext cx="834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Clocked SR lat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1560" y="26668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1560" y="3276720"/>
            <a:ext cx="320040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11560" y="4267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111560" y="2286000"/>
            <a:ext cx="320040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6120" y="6095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46120" y="914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17960" y="16765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17960" y="475452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12280" y="14479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112280" y="144684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79700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797000" y="14479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97360" y="14479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111200" y="1905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111200" y="2666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2286000"/>
            <a:ext cx="835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12280" y="441972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112280" y="44190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797000" y="60958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797000" y="44197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97360" y="4419720"/>
            <a:ext cx="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111200" y="48769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111200" y="5638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53080" y="5257800"/>
            <a:ext cx="835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1360" y="4800600"/>
            <a:ext cx="21326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521360" y="4799520"/>
            <a:ext cx="2132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206800" y="64771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206800" y="4800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06800" y="480060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520640" y="52578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520640" y="60199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2520" y="5638680"/>
            <a:ext cx="834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1000" y="2286000"/>
            <a:ext cx="0" cy="297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85800" y="37339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0920" y="30481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2133720"/>
            <a:ext cx="30456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5105520"/>
            <a:ext cx="30456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57600" y="5486400"/>
            <a:ext cx="30492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1752480"/>
            <a:ext cx="30492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Clocked SR latch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35840" y="2057400"/>
            <a:ext cx="2444040" cy="33858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Q   S    R    Q(t+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0    0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1    1        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0    1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1    0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1    1        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50324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20:30:01Z</dcterms:created>
  <dc:creator>george stamoulis</dc:creator>
  <dc:description/>
  <dc:language>en-US</dc:language>
  <cp:lastModifiedBy>georges</cp:lastModifiedBy>
  <dcterms:modified xsi:type="dcterms:W3CDTF">2007-11-21T14:35:27Z</dcterms:modified>
  <cp:revision>102</cp:revision>
  <dc:subject/>
  <dc:title>No Slide Title</dc:title>
</cp:coreProperties>
</file>